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9.jpeg" ContentType="image/jpeg"/>
  <Override PartName="/ppt/media/image2.wmf" ContentType="image/x-wmf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0.wmf" ContentType="image/x-wmf"/>
  <Override PartName="/ppt/media/image12.jpeg" ContentType="image/jpeg"/>
  <Override PartName="/ppt/media/image8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2D30A-E87F-4285-89E4-361610AA8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6096B-F5C6-4B83-BEF7-C2599DB5E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BFE81-25D1-4859-BCB0-D41D426F5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254EE-4F14-41F6-9767-C0593AE62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E509A-4557-476B-BCA5-309579EB7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010D1-B155-4D9F-A0CF-82EACEEBE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C251A-1897-4F0F-A4B6-2AF2E39D7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20DC6-7711-400D-A16A-3963D712C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40230-3037-40D4-9114-B4AAB7ED3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3A628-0216-4AA6-9811-6267B466B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0747A-6C29-46E1-B013-2E7916119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B4DF3-FD29-4E9B-8A55-9B3DC1A81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89D50-950E-4A76-BB66-DEFF548B6C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1523880" y="304920"/>
            <a:ext cx="5943600" cy="5821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wmf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828800" y="4114440"/>
            <a:ext cx="73152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Forte"/>
              </a:rPr>
              <a:t>- Figures &amp; Pictures-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257800" y="5562720"/>
            <a:ext cx="3505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orte"/>
              </a:rPr>
              <a:t>Presented b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orte"/>
              </a:rPr>
              <a:t>Petru Fuio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orte"/>
              </a:rPr>
              <a:t>CCO, Netcity Telecom 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181560" cy="186696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-360" y="5791320"/>
            <a:ext cx="48769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Forte"/>
              </a:rPr>
              <a:t>Don't focus on how to spend less mone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Forte"/>
              </a:rPr>
              <a:t>Focus on how to make more mone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000" spc="-1" strike="noStrike">
                <a:solidFill>
                  <a:srgbClr val="000000"/>
                </a:solidFill>
                <a:latin typeface="Forte"/>
              </a:rPr>
              <a:t>- Lyndon Forman 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91440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Forte"/>
              </a:rPr>
              <a:t>Functional loop - Etapa Initiala</a:t>
            </a:r>
            <a:br>
              <a:rPr sz="4400"/>
            </a:br>
            <a:br>
              <a:rPr sz="4400"/>
            </a:br>
            <a:r>
              <a:rPr b="0" lang="en-US" sz="3200" spc="-1" strike="noStrike">
                <a:solidFill>
                  <a:srgbClr val="000000"/>
                </a:solidFill>
                <a:latin typeface="Forte"/>
              </a:rPr>
              <a:t>- main associated infrastructure lenght: 12 km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Forte"/>
              </a:rPr>
              <a:t>- distribution to buildings length/units: 3 km/73pc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Forte"/>
              </a:rPr>
              <a:t>- manholes: 247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Forte"/>
              </a:rPr>
              <a:t>- cabinets for interconnection: 16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Forte"/>
              </a:rPr>
              <a:t>- total length of ducts: 75km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Forte"/>
              </a:rPr>
              <a:t>- theoretical max. transmission capacity: 552.96Tb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-838080" y="5790960"/>
            <a:ext cx="64008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Forte"/>
              </a:rPr>
              <a:t>We are what we repeatedly d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Forte"/>
              </a:rPr>
              <a:t>Excellence, then, is not an act, but a habi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000" spc="-1" strike="noStrike">
                <a:solidFill>
                  <a:srgbClr val="000000"/>
                </a:solidFill>
                <a:latin typeface="Forte"/>
              </a:rPr>
              <a:t>- Aristo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5867280"/>
            <a:ext cx="50292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Forte"/>
              </a:rPr>
              <a:t>"The first ape who became a man thus committed treason against his own kind."</a:t>
            </a:r>
            <a:r>
              <a:rPr b="0" lang="en-US" sz="1800" spc="-1" strike="noStrike">
                <a:solidFill>
                  <a:srgbClr val="000000"/>
                </a:solidFill>
                <a:latin typeface="Fort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orte"/>
              </a:rPr>
              <a:t>- Mikhail Turovs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990720" y="-76320"/>
            <a:ext cx="8839080" cy="563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Fort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Forte"/>
              </a:rPr>
              <a:t>Network Load, mid of May 2009</a:t>
            </a:r>
            <a:br>
              <a:rPr sz="4400"/>
            </a:br>
            <a:br>
              <a:rPr sz="4400"/>
            </a:br>
            <a:r>
              <a:rPr b="0" lang="en-US" sz="3200" spc="-1" strike="noStrike">
                <a:solidFill>
                  <a:srgbClr val="000000"/>
                </a:solidFill>
                <a:latin typeface="Forte"/>
              </a:rPr>
              <a:t>- Users for main associated infrastructure: 20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Forte"/>
              </a:rPr>
              <a:t> Users for distribution to buildings: 21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Forte"/>
              </a:rPr>
              <a:t> Total length of FO installed: 128,38km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Forte"/>
              </a:rPr>
              <a:t> Total number of branches &amp; similar: 133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Forte"/>
              </a:rPr>
              <a:t> Total no. of interconnections: 2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5867280"/>
            <a:ext cx="48769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Forte"/>
              </a:rPr>
              <a:t>"But many that are first shall be last; and the last shall be first."</a:t>
            </a:r>
            <a:r>
              <a:rPr b="0" lang="en-US" sz="2000" spc="-1" strike="noStrike">
                <a:solidFill>
                  <a:srgbClr val="000000"/>
                </a:solidFill>
                <a:latin typeface="Fort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orte"/>
              </a:rPr>
              <a:t>- Mathew   19: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990720" y="76320"/>
            <a:ext cx="807696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Fort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Forte"/>
              </a:rPr>
              <a:t>Users installation speed</a:t>
            </a:r>
            <a:br>
              <a:rPr sz="4400"/>
            </a:br>
            <a:r>
              <a:rPr b="0" lang="en-US" sz="3200" spc="-1" strike="noStrike">
                <a:solidFill>
                  <a:srgbClr val="000000"/>
                </a:solidFill>
                <a:latin typeface="Forte"/>
              </a:rPr>
              <a:t>computed from the day of microduct delivery until the light of first fiber*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Forte"/>
              </a:rPr>
              <a:t> Shortest period:</a:t>
            </a:r>
            <a:r>
              <a:rPr b="0" lang="en-US" sz="3200" spc="-1" strike="noStrike">
                <a:solidFill>
                  <a:srgbClr val="000000"/>
                </a:solidFill>
                <a:latin typeface="Forte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Forte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Forte"/>
              </a:rPr>
              <a:t>25 day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Forte"/>
              </a:rPr>
              <a:t> Longest period:</a:t>
            </a:r>
            <a:r>
              <a:rPr b="0" lang="en-US" sz="3200" spc="-1" strike="noStrike">
                <a:solidFill>
                  <a:srgbClr val="000000"/>
                </a:solidFill>
                <a:latin typeface="Forte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Forte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Forte"/>
              </a:rPr>
              <a:t>57 day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Forte"/>
              </a:rPr>
              <a:t> Average:</a:t>
            </a:r>
            <a:r>
              <a:rPr b="0" lang="en-US" sz="3200" spc="-1" strike="noStrike">
                <a:solidFill>
                  <a:srgbClr val="000000"/>
                </a:solidFill>
                <a:latin typeface="Forte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Forte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Forte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Forte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Forte"/>
              </a:rPr>
              <a:t>44 day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Forte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29520" y="5067360"/>
            <a:ext cx="304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orte"/>
              </a:rPr>
              <a:t>*according to own rec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5867280"/>
            <a:ext cx="48769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Forte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Forte"/>
              </a:rPr>
              <a:t>That which does not destroy us makes us stronger”</a:t>
            </a:r>
            <a:r>
              <a:rPr b="0" lang="en-US" sz="2000" spc="-1" strike="noStrike">
                <a:solidFill>
                  <a:srgbClr val="000000"/>
                </a:solidFill>
                <a:latin typeface="Fort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orte"/>
              </a:rPr>
              <a:t>- Friedrich Nietzsch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838080" y="304920"/>
            <a:ext cx="914400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Fort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Forte"/>
              </a:rPr>
              <a:t>Product roadmap</a:t>
            </a:r>
            <a:br>
              <a:rPr sz="44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Forte"/>
              </a:rPr>
              <a:t> TubeCity product family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Forte"/>
              </a:rPr>
              <a:t> Collocation products – environmental layer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Forte"/>
              </a:rPr>
              <a:t> Interconnection products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Forte"/>
              </a:rPr>
              <a:t> New contract type: Indefeasible Rights of Us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Forte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7668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Forte"/>
              </a:rPr>
              <a:t>Pictures – ‘the Trigger’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-76320" y="5791320"/>
            <a:ext cx="51818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000" spc="-1" strike="noStrike">
                <a:solidFill>
                  <a:srgbClr val="000000"/>
                </a:solidFill>
                <a:latin typeface="Forte"/>
              </a:rPr>
              <a:t>A falling object will always land where it can do the most dam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000" spc="-1" strike="noStrike">
                <a:solidFill>
                  <a:srgbClr val="000000"/>
                </a:solidFill>
                <a:latin typeface="Forte"/>
              </a:rPr>
              <a:t>- One of the Murphy’s La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380880" y="1523880"/>
            <a:ext cx="8305920" cy="4341960"/>
            <a:chOff x="380880" y="1523880"/>
            <a:chExt cx="8305920" cy="4341960"/>
          </a:xfrm>
        </p:grpSpPr>
        <p:pic>
          <p:nvPicPr>
            <p:cNvPr id="58" name="" descr=""/>
            <p:cNvPicPr/>
            <p:nvPr/>
          </p:nvPicPr>
          <p:blipFill>
            <a:blip r:embed="rId1"/>
            <a:stretch/>
          </p:blipFill>
          <p:spPr>
            <a:xfrm>
              <a:off x="380880" y="2286000"/>
              <a:ext cx="2743200" cy="180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" name="" descr=""/>
            <p:cNvPicPr/>
            <p:nvPr/>
          </p:nvPicPr>
          <p:blipFill>
            <a:blip r:embed="rId2"/>
            <a:stretch/>
          </p:blipFill>
          <p:spPr>
            <a:xfrm>
              <a:off x="6172200" y="2603520"/>
              <a:ext cx="2514600" cy="1650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" name="" descr=""/>
            <p:cNvPicPr/>
            <p:nvPr/>
          </p:nvPicPr>
          <p:blipFill>
            <a:blip r:embed="rId3"/>
            <a:stretch/>
          </p:blipFill>
          <p:spPr>
            <a:xfrm>
              <a:off x="2895480" y="1523880"/>
              <a:ext cx="3429000" cy="342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" name="" descr=""/>
            <p:cNvPicPr/>
            <p:nvPr/>
          </p:nvPicPr>
          <p:blipFill>
            <a:blip r:embed="rId4"/>
            <a:stretch/>
          </p:blipFill>
          <p:spPr>
            <a:xfrm>
              <a:off x="1447920" y="4114800"/>
              <a:ext cx="3352680" cy="171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" descr=""/>
            <p:cNvPicPr/>
            <p:nvPr/>
          </p:nvPicPr>
          <p:blipFill>
            <a:blip r:embed="rId5"/>
            <a:stretch/>
          </p:blipFill>
          <p:spPr>
            <a:xfrm>
              <a:off x="4800600" y="4114800"/>
              <a:ext cx="2666880" cy="1751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3429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Forte"/>
              </a:rPr>
              <a:t>Pictures –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1817640" cy="22860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4724280" y="4267080"/>
            <a:ext cx="2514600" cy="165096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0" y="6095880"/>
            <a:ext cx="51814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000" spc="-1" strike="noStrike">
                <a:solidFill>
                  <a:srgbClr val="000000"/>
                </a:solidFill>
                <a:latin typeface="Forte"/>
              </a:rPr>
              <a:t>Everything that goes up must come dow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000" spc="-1" strike="noStrike">
                <a:solidFill>
                  <a:srgbClr val="000000"/>
                </a:solidFill>
                <a:latin typeface="Forte"/>
              </a:rPr>
              <a:t>- Another Murphy’s La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3733920" y="762120"/>
            <a:ext cx="3016080" cy="9046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4"/>
          <a:stretch/>
        </p:blipFill>
        <p:spPr>
          <a:xfrm>
            <a:off x="5334120" y="1676520"/>
            <a:ext cx="3047760" cy="2286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2819520" y="2133720"/>
            <a:ext cx="2133360" cy="16002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6"/>
          <a:stretch/>
        </p:blipFill>
        <p:spPr>
          <a:xfrm>
            <a:off x="1523880" y="4038480"/>
            <a:ext cx="2514600" cy="18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990720" y="426960"/>
            <a:ext cx="4876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Forte"/>
              </a:rPr>
              <a:t>Q&amp;A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0" y="5867280"/>
            <a:ext cx="51814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Forte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Forte"/>
              </a:rPr>
              <a:t>Tragedy is when I cut my finger. Comedy is when you walk into an open sewer and die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Forte"/>
              </a:rPr>
              <a:t>– </a:t>
            </a:r>
            <a:r>
              <a:rPr b="0" i="1" lang="en-US" sz="2000" spc="-1" strike="noStrike">
                <a:solidFill>
                  <a:srgbClr val="000000"/>
                </a:solidFill>
                <a:latin typeface="Forte"/>
              </a:rPr>
              <a:t>Mel Brooks</a:t>
            </a:r>
            <a:r>
              <a:rPr b="0" lang="en-US" sz="2000" spc="-1" strike="noStrike">
                <a:solidFill>
                  <a:srgbClr val="000000"/>
                </a:solidFill>
                <a:latin typeface="Fort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7T15:05:22Z</dcterms:created>
  <dc:creator> </dc:creator>
  <dc:description/>
  <dc:language>en-US</dc:language>
  <cp:lastModifiedBy>Petru</cp:lastModifiedBy>
  <dcterms:modified xsi:type="dcterms:W3CDTF">2009-11-26T06:52:27Z</dcterms:modified>
  <cp:revision>19</cp:revision>
  <dc:subject/>
  <dc:title>Petru Fuiorea, CCO @ NetCity Telecom  presents u:</dc:title>
</cp:coreProperties>
</file>