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2A6F-AC3B-4663-A6C4-E9D4D5539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84931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5440" y="3732840"/>
            <a:ext cx="84931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2421-AAD5-4B1A-B7F9-1A33400DE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5440" y="373284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7480" y="373284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CBD9-68C6-48B3-B777-69BD5F0D2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97160" y="182232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68880" y="182232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25440" y="373284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97160" y="373284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68880" y="373284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C95E-063D-43B7-B60C-0F9DFBF34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25440" y="1822320"/>
            <a:ext cx="849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849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620640"/>
            <a:ext cx="85136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5440" y="373284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25440" y="1822320"/>
            <a:ext cx="849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3A8A-7182-42D2-ADD8-4A2147B68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7480" y="373284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5440" y="3732840"/>
            <a:ext cx="84931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84931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440" y="3732840"/>
            <a:ext cx="84931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5440" y="373284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7480" y="373284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97160" y="182232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68880" y="182232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25440" y="373284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97160" y="373284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68880" y="3732840"/>
            <a:ext cx="27345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849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0C2D-261E-4EEF-B93C-5E8A02EA7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E229-9EB8-4F08-8531-8A5EAF8BF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D058-BC59-44A3-8DD1-D5E6E68C1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23640" y="620640"/>
            <a:ext cx="85136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D21D-506A-4C0E-8714-4996FF4F6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5440" y="373284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FBA3-324F-4CF1-942B-01C81D010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7480" y="373284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2CB8-ECC0-4DDD-8582-B123AFC56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544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7480" y="1822320"/>
            <a:ext cx="4144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25440" y="3732840"/>
            <a:ext cx="84931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8778-DBEE-4D64-84F0-24341715D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193240" y="6332400"/>
            <a:ext cx="64440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d451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d4510a"/>
                </a:solidFill>
                <a:latin typeface="Times New Roman"/>
              </a:rPr>
              <a:t>Pagina</a:t>
            </a:r>
            <a:r>
              <a:rPr b="0" lang="en-GB" sz="1100" spc="-1" strike="noStrike">
                <a:solidFill>
                  <a:srgbClr val="d4510a"/>
                </a:solidFill>
                <a:latin typeface="Times New Roman"/>
              </a:rPr>
              <a:t> </a:t>
            </a:r>
            <a:fld id="{5975AABA-2F2D-4824-B898-D8A102EB27E3}" type="slidenum">
              <a:rPr b="0" lang="en-GB" sz="1100" spc="-1" strike="noStrike">
                <a:solidFill>
                  <a:srgbClr val="d4510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540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25440" y="1822320"/>
            <a:ext cx="849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1" marL="358920" indent="-3574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2" marL="723960" indent="-363600">
              <a:spcBef>
                <a:spcPts val="1250"/>
              </a:spcBef>
              <a:buClr>
                <a:srgbClr val="d4510a"/>
              </a:buClr>
              <a:buFont typeface="Symbol" charset="2"/>
              <a:buChar char="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3" marL="1076400" indent="-351000">
              <a:spcBef>
                <a:spcPts val="1250"/>
              </a:spcBef>
              <a:buClr>
                <a:srgbClr val="d4510a"/>
              </a:buClr>
              <a:buFont typeface="Symbol" charset="2"/>
              <a:buChar char="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4" marL="1438200" indent="-360360">
              <a:spcBef>
                <a:spcPts val="1250"/>
              </a:spcBef>
              <a:buClr>
                <a:srgbClr val="d4510a"/>
              </a:buClr>
              <a:buFont typeface="Symbol" charset="2"/>
              <a:buChar char="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5" marL="1438200" indent="-360360">
              <a:spcBef>
                <a:spcPts val="1250"/>
              </a:spcBef>
              <a:buClr>
                <a:srgbClr val="9e540a"/>
              </a:buClr>
              <a:buFont typeface="Symbol" charset="2"/>
              <a:buChar char="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6" marL="1438200" indent="-360360">
              <a:spcBef>
                <a:spcPts val="1250"/>
              </a:spcBef>
              <a:buClr>
                <a:srgbClr val="9e540a"/>
              </a:buClr>
              <a:buFont typeface="Symbol" charset="2"/>
              <a:buChar char="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2920" y="6509160"/>
            <a:ext cx="157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4510a"/>
                </a:solidFill>
                <a:latin typeface="Arial"/>
              </a:rPr>
              <a:t>PricewaterhouseCoopers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81080" y="189000"/>
            <a:ext cx="8780400" cy="6478560"/>
            <a:chOff x="181080" y="189000"/>
            <a:chExt cx="8780400" cy="6478560"/>
          </a:xfrm>
        </p:grpSpPr>
        <p:sp>
          <p:nvSpPr>
            <p:cNvPr id="5" name=""/>
            <p:cNvSpPr/>
            <p:nvPr/>
          </p:nvSpPr>
          <p:spPr>
            <a:xfrm>
              <a:off x="181080" y="189000"/>
              <a:ext cx="8780400" cy="64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25440" y="6191280"/>
              <a:ext cx="849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4800" tIns="0" bIns="0" anchor="ctr">
              <a:noAutofit/>
            </a:bodyPr>
            <a:p>
              <a:endParaRPr b="0" lang="en-US" sz="18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24000" y="334800"/>
              <a:ext cx="849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4800" tIns="0" bIns="0" anchor="ctr">
              <a:noAutofit/>
            </a:bodyPr>
            <a:p>
              <a:endParaRPr b="0" lang="en-US" sz="1800" spc="-1" strike="noStrike">
                <a:solidFill>
                  <a:srgbClr val="9e540a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325440" y="333000"/>
              <a:ext cx="8493120" cy="6175080"/>
              <a:chOff x="325440" y="333000"/>
              <a:chExt cx="8493120" cy="6175080"/>
            </a:xfrm>
          </p:grpSpPr>
          <p:sp>
            <p:nvSpPr>
              <p:cNvPr id="9" name=""/>
              <p:cNvSpPr/>
              <p:nvPr/>
            </p:nvSpPr>
            <p:spPr>
              <a:xfrm flipV="1">
                <a:off x="325440" y="333000"/>
                <a:ext cx="0" cy="6175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4800" tIns="0" bIns="0" anchor="ctr">
                <a:noAutofit/>
              </a:bodyPr>
              <a:p>
                <a:endParaRPr b="0" lang="en-US" sz="18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8818560" y="333000"/>
                <a:ext cx="0" cy="6175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4800" tIns="0" bIns="0" anchor="ctr">
                <a:noAutofit/>
              </a:bodyPr>
              <a:p>
                <a:endParaRPr b="0" lang="en-US" sz="18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2340000" y="1699920"/>
              <a:ext cx="4462560" cy="4592520"/>
              <a:chOff x="2340000" y="1699920"/>
              <a:chExt cx="4462560" cy="459252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6657840" y="1699920"/>
                <a:ext cx="144720" cy="4592520"/>
                <a:chOff x="6657840" y="1699920"/>
                <a:chExt cx="144720" cy="4592520"/>
              </a:xfrm>
            </p:grpSpPr>
            <p:sp>
              <p:nvSpPr>
                <p:cNvPr id="13" name=""/>
                <p:cNvSpPr/>
                <p:nvPr/>
              </p:nvSpPr>
              <p:spPr>
                <a:xfrm flipV="1">
                  <a:off x="6802560" y="1699920"/>
                  <a:ext cx="0" cy="45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360" rIns="648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e540a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V="1">
                  <a:off x="6657840" y="1699920"/>
                  <a:ext cx="0" cy="45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360" rIns="648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e540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"/>
              <p:cNvGrpSpPr/>
              <p:nvPr/>
            </p:nvGrpSpPr>
            <p:grpSpPr>
              <a:xfrm>
                <a:off x="4498920" y="1699920"/>
                <a:ext cx="144360" cy="4592520"/>
                <a:chOff x="4498920" y="1699920"/>
                <a:chExt cx="144360" cy="4592520"/>
              </a:xfrm>
            </p:grpSpPr>
            <p:sp>
              <p:nvSpPr>
                <p:cNvPr id="16" name=""/>
                <p:cNvSpPr/>
                <p:nvPr/>
              </p:nvSpPr>
              <p:spPr>
                <a:xfrm flipV="1">
                  <a:off x="4643280" y="1699920"/>
                  <a:ext cx="0" cy="45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360" rIns="648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e540a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 flipV="1">
                  <a:off x="4498920" y="1699920"/>
                  <a:ext cx="0" cy="45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360" rIns="648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e540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2340000" y="1699920"/>
                <a:ext cx="144360" cy="4592520"/>
                <a:chOff x="2340000" y="1699920"/>
                <a:chExt cx="144360" cy="4592520"/>
              </a:xfrm>
            </p:grpSpPr>
            <p:sp>
              <p:nvSpPr>
                <p:cNvPr id="19" name=""/>
                <p:cNvSpPr/>
                <p:nvPr/>
              </p:nvSpPr>
              <p:spPr>
                <a:xfrm flipV="1">
                  <a:off x="2484360" y="1699920"/>
                  <a:ext cx="0" cy="45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360" rIns="648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e540a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V="1">
                  <a:off x="2340000" y="1699920"/>
                  <a:ext cx="0" cy="45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360" rIns="648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e540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" name=""/>
            <p:cNvGrpSpPr/>
            <p:nvPr/>
          </p:nvGrpSpPr>
          <p:grpSpPr>
            <a:xfrm>
              <a:off x="324000" y="3924360"/>
              <a:ext cx="8494560" cy="144360"/>
              <a:chOff x="324000" y="3924360"/>
              <a:chExt cx="8494560" cy="144360"/>
            </a:xfrm>
          </p:grpSpPr>
          <p:sp>
            <p:nvSpPr>
              <p:cNvPr id="22" name=""/>
              <p:cNvSpPr/>
              <p:nvPr/>
            </p:nvSpPr>
            <p:spPr>
              <a:xfrm flipH="1">
                <a:off x="324000" y="3924360"/>
                <a:ext cx="8494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4800" tIns="0" bIns="0" anchor="ctr">
                <a:noAutofit/>
              </a:bodyPr>
              <a:p>
                <a:endParaRPr b="0" lang="en-US" sz="18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324000" y="4068720"/>
                <a:ext cx="8494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4800" tIns="0" bIns="0" anchor="ctr">
                <a:noAutofit/>
              </a:bodyPr>
              <a:p>
                <a:endParaRPr b="0" lang="en-US" sz="18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 flipH="1">
              <a:off x="324000" y="6508800"/>
              <a:ext cx="849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4800" tIns="0" bIns="0" anchor="ctr">
              <a:noAutofit/>
            </a:bodyPr>
            <a:p>
              <a:endParaRPr b="0" lang="en-US" sz="1800" spc="-1" strike="noStrike">
                <a:solidFill>
                  <a:srgbClr val="9e540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720" y="607680"/>
            <a:ext cx="8783640" cy="485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540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1" marL="1440" indent="37944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2" marL="382680" indent="360360">
              <a:spcBef>
                <a:spcPts val="1250"/>
              </a:spcBef>
              <a:buClr>
                <a:srgbClr val="d4510a"/>
              </a:buClr>
              <a:buFont typeface="Symbol" charset="2"/>
              <a:buChar char="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3" marL="744480" indent="389160">
              <a:spcBef>
                <a:spcPts val="1250"/>
              </a:spcBef>
              <a:buClr>
                <a:srgbClr val="d4510a"/>
              </a:buClr>
              <a:buFont typeface="Symbol" charset="2"/>
              <a:buChar char="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4" marL="1135080" indent="379440">
              <a:spcBef>
                <a:spcPts val="1250"/>
              </a:spcBef>
              <a:buClr>
                <a:srgbClr val="d4510a"/>
              </a:buClr>
              <a:buFont typeface="Symbol" charset="2"/>
              <a:buChar char="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5" marL="1135080" indent="379440">
              <a:spcBef>
                <a:spcPts val="499"/>
              </a:spcBef>
              <a:buClr>
                <a:srgbClr val="9e540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6" marL="1135080" indent="379440">
              <a:spcBef>
                <a:spcPts val="499"/>
              </a:spcBef>
              <a:buClr>
                <a:srgbClr val="9e540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7840" y="2868480"/>
            <a:ext cx="8786880" cy="3813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69400" y="6067440"/>
            <a:ext cx="41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wC_Logo"/>
                <a:ea typeface="PwC_Logo"/>
              </a:rPr>
              <a:t></a:t>
            </a:r>
            <a:endParaRPr b="0" lang="en-US" sz="3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98320"/>
            <a:ext cx="849600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540a"/>
                </a:solidFill>
                <a:latin typeface="Arial"/>
              </a:rPr>
              <a:t>Studii referitoare la Comportamentul consumatorilor pe timp de criză şi Mobilitatea personală</a:t>
            </a:r>
            <a:endParaRPr b="0" lang="en-US" sz="2400" spc="-1" strike="noStrike">
              <a:solidFill>
                <a:srgbClr val="9e54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54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d4510a"/>
                </a:solidFill>
                <a:latin typeface="Arial"/>
              </a:rPr>
              <a:t>Sunteţi "conectaţi" la clientul de criză?</a:t>
            </a:r>
            <a:r>
              <a:rPr b="0" lang="ro-RO" sz="4000" spc="-1" strike="noStrike">
                <a:solidFill>
                  <a:srgbClr val="d4510a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440" y="6192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connectedthinking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03" name="TB4_Section_header"/>
          <p:cNvSpPr/>
          <p:nvPr/>
        </p:nvSpPr>
        <p:spPr>
          <a:xfrm>
            <a:off x="360360" y="123840"/>
            <a:ext cx="65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510a"/>
                </a:solidFill>
                <a:latin typeface="Arial"/>
              </a:rPr>
              <a:t>Mediafax Talks about Telecom Industry</a:t>
            </a:r>
            <a:endParaRPr b="0" lang="en-US" sz="2000" spc="-1" strike="noStrike">
              <a:solidFill>
                <a:srgbClr val="9e54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Principalele caracteristici dorite la dispozitivele mobile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0200" y="2444400"/>
            <a:ext cx="248472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355320" indent="-3538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Preţul, design-ul şi durata de consum a bateriei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1" marL="355320" indent="-3538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Cu cât nivelul de utilizare este mai mare, design-ul devine mai important decât preţul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250" name="SECHEAD~38114.6369907407~868772"/>
          <p:cNvSpPr/>
          <p:nvPr/>
        </p:nvSpPr>
        <p:spPr>
          <a:xfrm>
            <a:off x="322560" y="134280"/>
            <a:ext cx="193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Mobilitatea personală</a:t>
            </a:r>
            <a:endParaRPr b="0" lang="en-US" sz="16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08200" y="1851120"/>
            <a:ext cx="5392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Principalele c</a:t>
            </a: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riterii de selec</a:t>
            </a: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ţ</a:t>
            </a: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ie a dispozitivelor </a:t>
            </a: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mobile, după nivelul de utilizare a serviciilor</a:t>
            </a:r>
            <a:endParaRPr b="0" lang="en-US" sz="2000" spc="-1" strike="noStrike">
              <a:solidFill>
                <a:srgbClr val="9e540a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489040" y="2843280"/>
            <a:ext cx="6511320" cy="3776400"/>
            <a:chOff x="2489040" y="2843280"/>
            <a:chExt cx="6511320" cy="37764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rcRect l="24818" t="0" r="0" b="11810"/>
            <a:stretch/>
          </p:blipFill>
          <p:spPr>
            <a:xfrm>
              <a:off x="3975840" y="2843280"/>
              <a:ext cx="5002200" cy="30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489040" y="2955960"/>
              <a:ext cx="1495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ţ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9040" y="3253320"/>
              <a:ext cx="14950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lendar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89040" y="3548160"/>
              <a:ext cx="14950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Greutate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89040" y="3845160"/>
              <a:ext cx="1495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Jocuri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9040" y="4141800"/>
              <a:ext cx="149508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amer</a:t>
              </a: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ă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 foto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89040" y="4439160"/>
              <a:ext cx="14950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89040" y="4734360"/>
              <a:ext cx="1495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abricant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89040" y="5033520"/>
              <a:ext cx="14950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ecuritate / protejare cu parol</a:t>
              </a: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ă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89040" y="5328720"/>
              <a:ext cx="14950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Hands-free </a:t>
              </a: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ş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i alte accesorii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9040" y="5625360"/>
              <a:ext cx="149508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Durata de consum a bateriei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85040" y="5904720"/>
              <a:ext cx="484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55040" y="5904720"/>
              <a:ext cx="488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45200" y="5898960"/>
              <a:ext cx="4852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18800" y="5904720"/>
              <a:ext cx="487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12920" y="5904720"/>
              <a:ext cx="487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67520" y="5902920"/>
              <a:ext cx="4852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0120" y="5908680"/>
              <a:ext cx="488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7760" y="5904720"/>
              <a:ext cx="4852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6040" y="5908680"/>
              <a:ext cx="487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2720" y="6126480"/>
              <a:ext cx="857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% participan</a:t>
              </a: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ţ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75840" y="6397920"/>
              <a:ext cx="85716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9e540a"/>
                  </a:solidFill>
                  <a:latin typeface="Wingdings"/>
                  <a:ea typeface="Wingdings"/>
                </a:rPr>
                <a:t></a:t>
              </a:r>
              <a:r>
                <a:rPr b="0" lang="en-GB" sz="700" spc="-1" strike="noStrike">
                  <a:solidFill>
                    <a:srgbClr val="feaa66"/>
                  </a:solidFill>
                  <a:latin typeface="Arial"/>
                </a:rPr>
                <a:t> 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Inalt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700" spc="-1" strike="noStrike">
                  <a:solidFill>
                    <a:srgbClr val="ffc799"/>
                  </a:solidFill>
                  <a:latin typeface="Wingdings"/>
                  <a:ea typeface="Wingdings"/>
                </a:rPr>
                <a:t>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 Mediu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700" spc="-1" strike="noStrike">
                  <a:solidFill>
                    <a:srgbClr val="fe7200"/>
                  </a:solidFill>
                  <a:latin typeface="Wingdings"/>
                  <a:ea typeface="Wingdings"/>
                </a:rPr>
                <a:t>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 Sc</a:t>
              </a: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ă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ut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08CD-50DD-4250-9DE9-4D73AE49BC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493560"/>
            <a:ext cx="85136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Clienţii doresc la aparatele mobile funcţiuni care să le facă viaţa mai confortabilă şi mai plăcută!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76" name="SECHEAD~38114.6369907407~868772"/>
          <p:cNvSpPr/>
          <p:nvPr/>
        </p:nvSpPr>
        <p:spPr>
          <a:xfrm>
            <a:off x="322560" y="134280"/>
            <a:ext cx="193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Mobilitatea personală</a:t>
            </a:r>
            <a:endParaRPr b="0" lang="en-US" sz="1600" spc="-1" strike="noStrike">
              <a:solidFill>
                <a:srgbClr val="9e540a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24000" y="2378160"/>
          <a:ext cx="8494560" cy="3913200"/>
        </p:xfrm>
        <a:graphic>
          <a:graphicData uri="http://schemas.openxmlformats.org/drawingml/2006/table">
            <a:tbl>
              <a:tblPr/>
              <a:tblGrid>
                <a:gridCol w="1387440"/>
                <a:gridCol w="3827520"/>
                <a:gridCol w="3279600"/>
              </a:tblGrid>
              <a:tr h="10652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d4510a"/>
                          </a:solidFill>
                          <a:latin typeface="Arial"/>
                        </a:rPr>
                        <a:t>Lucru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Posibilitatea de conectare de la distanţă la resursele de la birou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Calendar/notificări automat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Mesagerie instant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274680" indent="-274680">
                        <a:spcBef>
                          <a:spcPts val="751"/>
                        </a:spcBef>
                        <a:buClr>
                          <a:srgbClr val="9e540a"/>
                        </a:buClr>
                        <a:buSzPct val="90000"/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Indicarea traseului de parcurs până la clienţi (GPS)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751"/>
                        </a:spcBef>
                        <a:buClr>
                          <a:srgbClr val="9e540a"/>
                        </a:buClr>
                        <a:buSzPct val="90000"/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Utilizarea aparatului pentru acces în clădire/birou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48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d4510a"/>
                          </a:solidFill>
                          <a:latin typeface="Arial"/>
                        </a:rPr>
                        <a:t>Servicii financiar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Utilizarea aparatului pentru plăţi de mică valoar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Accesarea serviciilor bancare on-lin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274680" indent="-274680">
                        <a:spcBef>
                          <a:spcPts val="751"/>
                        </a:spcBef>
                        <a:buClr>
                          <a:srgbClr val="9e540a"/>
                        </a:buClr>
                        <a:buSzPct val="90000"/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Primirea automată de informaţii despre pieţele financiare/alert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d4510a"/>
                          </a:solidFill>
                          <a:latin typeface="Arial"/>
                        </a:rPr>
                        <a:t>Socializar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Acces la site-urile de socializar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274680" indent="-274680">
                        <a:spcBef>
                          <a:spcPts val="751"/>
                        </a:spcBef>
                        <a:buClr>
                          <a:srgbClr val="9e540a"/>
                        </a:buClr>
                        <a:buSzPct val="90000"/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Posibilitate apeluri VoIP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02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d4510a"/>
                          </a:solidFill>
                          <a:latin typeface="Arial"/>
                        </a:rPr>
                        <a:t>Călătorii şi amuzament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Utilizarea aparatului pentru a accesa autoturismul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Utilizarea aparatului ca tichet de îmbarcar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Rezervarea de locuri la transport şi eveniment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Primirea de alerte de zboruri şi trafic auto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274680" indent="-274680">
                        <a:spcBef>
                          <a:spcPts val="751"/>
                        </a:spcBef>
                        <a:buClr>
                          <a:srgbClr val="9e540a"/>
                        </a:buClr>
                        <a:buSzPct val="90000"/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Acces la liste de informaţii de interes şi evenimente în zonă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751"/>
                        </a:spcBef>
                        <a:buClr>
                          <a:srgbClr val="9e540a"/>
                        </a:buClr>
                        <a:buSzPct val="90000"/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Facilităţi/compatibilitate web-cam, spaţiu pentru stocarea filmelor, dicţionar 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751"/>
                        </a:spcBef>
                        <a:buClr>
                          <a:srgbClr val="9e540a"/>
                        </a:buClr>
                        <a:buSzPct val="90000"/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Facilităţi de măsurare a temperaturii corpului şi altor parametri</a:t>
                      </a:r>
                      <a:r>
                        <a:rPr b="0" lang="en-GB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 fiziologici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d4510a"/>
                          </a:solidFill>
                          <a:latin typeface="Arial"/>
                        </a:rPr>
                        <a:t>Securitat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lvl="1" marL="266760" indent="-265320">
                        <a:spcBef>
                          <a:spcPts val="751"/>
                        </a:spcBef>
                        <a:buClr>
                          <a:srgbClr val="9e540a"/>
                        </a:buClr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Acces cu parolă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274680" indent="-274680">
                        <a:spcBef>
                          <a:spcPts val="751"/>
                        </a:spcBef>
                        <a:buClr>
                          <a:srgbClr val="9e540a"/>
                        </a:buClr>
                        <a:buSzPct val="90000"/>
                        <a:buFont typeface="Arial"/>
                        <a:buChar char="•"/>
                        <a:tabLst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ro-RO" sz="1200" spc="-1" strike="noStrike">
                          <a:solidFill>
                            <a:srgbClr val="9e540a"/>
                          </a:solidFill>
                          <a:latin typeface="Arial"/>
                        </a:rPr>
                        <a:t>Restricţionarea apelurilor de la numere nedorite</a:t>
                      </a:r>
                      <a:endParaRPr b="0" lang="en-US" sz="1200" spc="-1" strike="noStrike">
                        <a:solidFill>
                          <a:srgbClr val="9e540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4510a"/>
                      </a:solidFill>
                    </a:lnT>
                    <a:lnB w="5760">
                      <a:solidFill>
                        <a:srgbClr val="d4510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5440" y="1854360"/>
            <a:ext cx="84931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Facilit</a:t>
            </a: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ăţ</a:t>
            </a: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i principale dorite pentru urm</a:t>
            </a: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ă</a:t>
            </a: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toarele 12 luni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81B5-D644-4D2B-94C8-D1DA1827C1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81080" y="189000"/>
            <a:ext cx="8780400" cy="6478560"/>
          </a:xfrm>
          <a:prstGeom prst="rect">
            <a:avLst/>
          </a:prstGeom>
          <a:solidFill>
            <a:srgbClr val="d451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3640" y="1399680"/>
            <a:ext cx="8513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 ce ne putem 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pta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 continuare?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577B-F1C9-4E5B-BE26-7B5285E3A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13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540a"/>
                </a:solidFill>
                <a:latin typeface="Arial"/>
              </a:rPr>
              <a:t>La ce ne putem a</a:t>
            </a: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ş</a:t>
            </a:r>
            <a:r>
              <a:rPr b="0" lang="en-GB" sz="3200" spc="-1" strike="noStrike">
                <a:solidFill>
                  <a:srgbClr val="9e540a"/>
                </a:solidFill>
                <a:latin typeface="Arial"/>
              </a:rPr>
              <a:t>tepta </a:t>
            </a: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î</a:t>
            </a:r>
            <a:r>
              <a:rPr b="0" lang="en-GB" sz="3200" spc="-1" strike="noStrike">
                <a:solidFill>
                  <a:srgbClr val="9e540a"/>
                </a:solidFill>
                <a:latin typeface="Arial"/>
              </a:rPr>
              <a:t>n continuare?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5440" y="1345680"/>
            <a:ext cx="8493120" cy="49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355320" indent="-3538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Serviciile de comunicaţii şi media</a:t>
            </a: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/con</a:t>
            </a: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ţ</a:t>
            </a: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inut</a:t>
            </a: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 migrează cu mare viteză spre Internet!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1" marL="355320" indent="-3538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Convergenţa tehnologiilor şi serviciilor este o realitate – “all in one”!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1" marL="355320" indent="-3538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Criza a determinat clienţii să devină mai selectivi şi mai pretenţioşi şi nu se vor schimba uşor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1" marL="355320" indent="-3538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Loialitatea clienţilor are un preţ din ce în ce mai mare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1" marL="355320" indent="-3538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Terminalele mobile vor acoperi mai multe nevoi practice (microplăţi, controlul accesului, localizare, informare etc.). Care va fi însă </a:t>
            </a: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nivelul de echilibru</a:t>
            </a: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 acceptabil între nevoia de servicii şi dreptul la viaţa privată?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1" marL="355320" indent="-3538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Presiunea pe operatori şi producătorii de tehnologie este în continuă creştere, atât dinspre clienţi, cât şi dinspre acţionari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lvl="1" marL="355320" indent="-353880">
              <a:spcBef>
                <a:spcPts val="1250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Câştigători vor fi cei ce vor </a:t>
            </a: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oferi </a:t>
            </a: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conectivitate permanentă, calitate şi viteză!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8CC1-7B47-45DE-83B2-B81E576E5C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13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Pentru informaţii suplimentare: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5440" y="1821960"/>
            <a:ext cx="4175280" cy="211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d4510a"/>
            </a:solidFill>
            <a:miter/>
          </a:ln>
        </p:spPr>
        <p:txBody>
          <a:bodyPr lIns="72000" rIns="72000" tIns="72000" bIns="72000" anchor="ctr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81288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Dinu Bumb</a:t>
            </a: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ă</a:t>
            </a: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cea</a:t>
            </a:r>
            <a:br>
              <a:rPr sz="2000"/>
            </a:br>
            <a:r>
              <a:rPr b="0" lang="en-GB" sz="2000" spc="-1" strike="noStrike">
                <a:solidFill>
                  <a:srgbClr val="9e540a"/>
                </a:solidFill>
                <a:latin typeface="Arial"/>
              </a:rPr>
              <a:t>CEE InfoComm Industry Leader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81288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tel: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+40 21 2028919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email: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dinu.bumbacea@ro.pwc.com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43280" y="1822320"/>
            <a:ext cx="4132440" cy="211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d45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81288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Dan Iancu</a:t>
            </a:r>
            <a:br>
              <a:rPr sz="2000"/>
            </a:br>
            <a:r>
              <a:rPr b="0" lang="en-GB" sz="2000" spc="-1" strike="noStrike">
                <a:solidFill>
                  <a:srgbClr val="9e540a"/>
                </a:solidFill>
                <a:latin typeface="Arial"/>
              </a:rPr>
              <a:t>Partner, Advisory Consulting</a:t>
            </a:r>
            <a:endParaRPr b="0" lang="en-US" sz="2000" spc="-1" strike="noStrike">
              <a:solidFill>
                <a:srgbClr val="9e540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81288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tel: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+40 21 2028929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email: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dan.iancu@ro.pwc.com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4076640"/>
            <a:ext cx="4174920" cy="211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d45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81288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d4510a"/>
                </a:solidFill>
                <a:latin typeface="Arial"/>
              </a:rPr>
              <a:t>Gabriel Mustea</a:t>
            </a:r>
            <a:br>
              <a:rPr sz="2000"/>
            </a:br>
            <a:r>
              <a:rPr b="0" lang="en-GB" sz="2000" spc="-1" strike="noStrike">
                <a:solidFill>
                  <a:srgbClr val="9e540a"/>
                </a:solidFill>
                <a:latin typeface="Arial"/>
              </a:rPr>
              <a:t>Director, Advisory Consulting</a:t>
            </a:r>
            <a:endParaRPr b="0" lang="en-US" sz="2000" spc="-1" strike="noStrike">
              <a:solidFill>
                <a:srgbClr val="9e540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81288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tel: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+40 21 2028874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email: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gabi.mustea@ro.pwc.com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65600" y="4541760"/>
            <a:ext cx="4268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e540a"/>
                </a:solidFill>
                <a:latin typeface="Arial"/>
              </a:rPr>
              <a:t>Versiunile complete ale studiilor se găsesc pe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9e540a"/>
                </a:solidFill>
                <a:latin typeface="Arial"/>
              </a:rPr>
              <a:t>www.pwc.com</a:t>
            </a:r>
            <a:endParaRPr b="0" lang="en-US" sz="2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E386-B4A3-41C2-BA33-0FAD9754D8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81080" y="189000"/>
            <a:ext cx="8780400" cy="6478560"/>
          </a:xfrm>
          <a:prstGeom prst="rect">
            <a:avLst/>
          </a:prstGeom>
          <a:solidFill>
            <a:srgbClr val="d451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3640" y="1271160"/>
            <a:ext cx="8513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ultumesc pentru aten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e!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F8EC-8A76-4C85-8E3F-C2504D2848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1080" y="189000"/>
            <a:ext cx="8780400" cy="6478560"/>
          </a:xfrm>
          <a:prstGeom prst="rect">
            <a:avLst/>
          </a:prstGeom>
          <a:solidFill>
            <a:srgbClr val="d451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13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5440" y="1619280"/>
            <a:ext cx="8493120" cy="1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udiu PricewaterhouseCoopers referitor la Impactul crizei asupra obiceiurilor de consum telecom şi media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udiu PricewaterhouseCoopers referitor la Mobilitatea personală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La ce ne putem aştepta în continuare?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ADE4-59A4-4223-B58A-2761FACF4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13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540a"/>
                </a:solidFill>
                <a:latin typeface="Arial"/>
              </a:rPr>
              <a:t>Introducere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5440" y="3981240"/>
            <a:ext cx="417528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ro-RO" sz="1800" spc="-1" strike="noStrike">
                <a:solidFill>
                  <a:srgbClr val="fe7200"/>
                </a:solidFill>
                <a:latin typeface="Arial"/>
              </a:rPr>
              <a:t>Studiu</a:t>
            </a:r>
            <a:r>
              <a:rPr b="0" lang="ro-RO" sz="1800" spc="-1" strike="noStrike">
                <a:solidFill>
                  <a:srgbClr val="fe7200"/>
                </a:solidFill>
                <a:latin typeface="Arial"/>
              </a:rPr>
              <a:t> anual efectuat de către PwC referitor la “</a:t>
            </a:r>
            <a:r>
              <a:rPr b="1" lang="ro-RO" sz="1800" spc="-1" strike="noStrike">
                <a:solidFill>
                  <a:srgbClr val="9e540a"/>
                </a:solidFill>
                <a:latin typeface="Arial"/>
              </a:rPr>
              <a:t>Mobilitatea personală</a:t>
            </a:r>
            <a:r>
              <a:rPr b="0" lang="ro-RO" sz="1800" spc="-1" strike="noStrike">
                <a:solidFill>
                  <a:srgbClr val="fe7200"/>
                </a:solidFill>
                <a:latin typeface="Arial"/>
              </a:rPr>
              <a:t>” – ce aşteptări au clienţii referitor la servicii şi terminale mobile, în scop de afaceri şi personal?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800" spc="-1" strike="noStrike">
                <a:solidFill>
                  <a:srgbClr val="9e540a"/>
                </a:solidFill>
                <a:latin typeface="Arial"/>
              </a:rPr>
              <a:t>Aproximativ 7,400 respondenţi, </a:t>
            </a:r>
            <a:r>
              <a:rPr b="1" lang="ro-RO" sz="1800" spc="-1" strike="noStrike">
                <a:solidFill>
                  <a:srgbClr val="9e540a"/>
                </a:solidFill>
                <a:latin typeface="Arial"/>
              </a:rPr>
              <a:t>angajaţi PwC</a:t>
            </a:r>
            <a:r>
              <a:rPr b="0" lang="ro-RO" sz="1800" spc="-1" strike="noStrike">
                <a:solidFill>
                  <a:srgbClr val="9e540a"/>
                </a:solidFill>
                <a:latin typeface="Arial"/>
              </a:rPr>
              <a:t>, la nivel global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3990960"/>
            <a:ext cx="4175280" cy="449280"/>
          </a:xfrm>
          <a:prstGeom prst="rect">
            <a:avLst/>
          </a:prstGeom>
          <a:solidFill>
            <a:srgbClr val="d4510a"/>
          </a:solidFill>
          <a:ln w="12600">
            <a:solidFill>
              <a:srgbClr val="d45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iective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bordare</a:t>
            </a:r>
            <a:endParaRPr b="0" lang="en-US" sz="2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4451400"/>
            <a:ext cx="4175280" cy="1697040"/>
          </a:xfrm>
          <a:prstGeom prst="rect">
            <a:avLst/>
          </a:prstGeom>
          <a:noFill/>
          <a:ln w="12600">
            <a:solidFill>
              <a:srgbClr val="d45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Care sunt preferinţele şi 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cat de mare este </a:t>
            </a: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interesul de cumpărare de servicii convergente?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Chestionar electronic completat la nivel global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8040" y="1384200"/>
            <a:ext cx="4175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ro-RO" sz="1800" spc="-1" strike="noStrike">
                <a:solidFill>
                  <a:srgbClr val="fe7200"/>
                </a:solidFill>
                <a:latin typeface="Arial"/>
              </a:rPr>
              <a:t>Studiu</a:t>
            </a:r>
            <a:r>
              <a:rPr b="0" lang="ro-RO" sz="1800" spc="-1" strike="noStrike">
                <a:solidFill>
                  <a:srgbClr val="fe7200"/>
                </a:solidFill>
                <a:latin typeface="Arial"/>
              </a:rPr>
              <a:t> – </a:t>
            </a:r>
            <a:r>
              <a:rPr b="1" lang="ro-RO" sz="1800" spc="-1" strike="noStrike">
                <a:solidFill>
                  <a:srgbClr val="9e540a"/>
                </a:solidFill>
                <a:latin typeface="Arial"/>
              </a:rPr>
              <a:t>Impactul crizei asupra obiceiurilor de consum telecom şi</a:t>
            </a:r>
            <a:r>
              <a:rPr b="1" lang="en-GB" sz="1800" spc="-1" strike="noStrike">
                <a:solidFill>
                  <a:srgbClr val="9e540a"/>
                </a:solidFill>
                <a:latin typeface="Arial"/>
              </a:rPr>
              <a:t> media</a:t>
            </a:r>
            <a:r>
              <a:rPr b="0" lang="ro-RO" sz="1800" spc="-1" strike="noStrike">
                <a:solidFill>
                  <a:srgbClr val="fe72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800" spc="-1" strike="noStrike">
                <a:solidFill>
                  <a:srgbClr val="fe7200"/>
                </a:solidFill>
                <a:latin typeface="Arial"/>
              </a:rPr>
              <a:t>Efectuat în US de către Communispace la cererea PwC.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800" spc="-1" strike="noStrike">
                <a:solidFill>
                  <a:srgbClr val="9e540a"/>
                </a:solidFill>
                <a:latin typeface="Arial"/>
              </a:rPr>
              <a:t>Aproximativ 750 de participanţi între 18 şi 60 de ani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56240" y="1336680"/>
            <a:ext cx="4174920" cy="449280"/>
          </a:xfrm>
          <a:prstGeom prst="rect">
            <a:avLst/>
          </a:prstGeom>
          <a:solidFill>
            <a:srgbClr val="d4510a"/>
          </a:solidFill>
          <a:ln w="12600">
            <a:solidFill>
              <a:srgbClr val="d45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iective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bordare</a:t>
            </a:r>
            <a:endParaRPr b="0" lang="en-US" sz="2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56240" y="1797120"/>
            <a:ext cx="4174920" cy="1895400"/>
          </a:xfrm>
          <a:prstGeom prst="rect">
            <a:avLst/>
          </a:prstGeom>
          <a:noFill/>
          <a:ln w="12600">
            <a:solidFill>
              <a:srgbClr val="d451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Care este reacţia clienţilor la condiţiile actuale de criză şi ce aşteptări au faţă de operatori?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Discuţii de grup (on-line) în jurul unor teme date</a:t>
            </a:r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8E41-3B31-431C-BFDC-348E5FDDB0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1080" y="189000"/>
            <a:ext cx="8780400" cy="6478560"/>
          </a:xfrm>
          <a:prstGeom prst="rect">
            <a:avLst/>
          </a:prstGeom>
          <a:solidFill>
            <a:srgbClr val="d451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640" y="1271160"/>
            <a:ext cx="420660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mpactul crizei asupra obiceiurilor de consum telecom şi media</a:t>
            </a:r>
            <a:br>
              <a:rPr sz="3200"/>
            </a:b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10080" y="200160"/>
            <a:ext cx="4465800" cy="644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B21F-5311-4100-979A-E61FE12592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13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Telefonul fix şi cablul TV, cele mai expuse!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9240" y="29527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6699"/>
                </a:solidFill>
                <a:latin typeface="Tahoma"/>
              </a:rPr>
              <a:t>Primele </a:t>
            </a:r>
            <a:endParaRPr b="0" lang="en-US" sz="14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6699"/>
                </a:solidFill>
                <a:latin typeface="Tahoma"/>
              </a:rPr>
              <a:t>pe lista:</a:t>
            </a:r>
            <a:endParaRPr b="0" lang="en-US" sz="14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50400" y="26557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540a"/>
                </a:solidFill>
                <a:latin typeface="Tahoma"/>
              </a:rPr>
              <a:t>Linia fix</a:t>
            </a: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ă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6333" t="7313" r="23963" b="12056"/>
          <a:stretch/>
        </p:blipFill>
        <p:spPr>
          <a:xfrm>
            <a:off x="1974960" y="3948120"/>
            <a:ext cx="407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6594" t="15222" r="24657" b="17123"/>
          <a:stretch/>
        </p:blipFill>
        <p:spPr>
          <a:xfrm>
            <a:off x="3257640" y="2590920"/>
            <a:ext cx="62856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4057" t="12132" r="19901" b="9762"/>
          <a:stretch/>
        </p:blipFill>
        <p:spPr>
          <a:xfrm>
            <a:off x="1523880" y="2895480"/>
            <a:ext cx="1067040" cy="733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06560" y="2838600"/>
            <a:ext cx="55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Cablul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TV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2760" y="42670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6699"/>
                </a:solidFill>
                <a:latin typeface="Tahoma"/>
              </a:rPr>
              <a:t>Următorul:</a:t>
            </a:r>
            <a:endParaRPr b="0" lang="en-US" sz="14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5360" y="5410080"/>
            <a:ext cx="87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6699"/>
                </a:solidFill>
                <a:latin typeface="Tahoma"/>
              </a:rPr>
              <a:t>Ultima</a:t>
            </a:r>
            <a:endParaRPr b="0" lang="en-US" sz="14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6699"/>
                </a:solidFill>
                <a:latin typeface="Tahoma"/>
              </a:rPr>
              <a:t>pe listă:</a:t>
            </a:r>
            <a:endParaRPr b="0" lang="en-US" sz="14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6280" y="425304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Telefonul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mobil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rcRect l="18738" t="11907" r="19437" b="39983"/>
          <a:stretch/>
        </p:blipFill>
        <p:spPr>
          <a:xfrm>
            <a:off x="1504800" y="5396040"/>
            <a:ext cx="1067040" cy="77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642760" y="5548320"/>
            <a:ext cx="88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Conexiunea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La Internet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9520" y="1119240"/>
            <a:ext cx="648180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Respondenţii consideră că pot renunţa cel mai uşor la linia telefonică fixă şi la cablul TV.</a:t>
            </a:r>
            <a:endParaRPr b="0" lang="en-US" sz="1600" spc="-1" strike="noStrike">
              <a:solidFill>
                <a:srgbClr val="d4510a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Linia fixă poate fi uşor înlocuită de telefonul mobil. La cablul TV se poate alege un pachet mai ieftin sau/şi se poate substitui cu conţinut on-line. Puţini sunt însă dispuşi să renunţe la conexiunea la Internet!</a:t>
            </a:r>
            <a:endParaRPr b="0" lang="en-US" sz="16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1219320"/>
            <a:ext cx="0" cy="5076720"/>
          </a:xfrm>
          <a:prstGeom prst="line">
            <a:avLst/>
          </a:prstGeom>
          <a:ln cap="rnd" w="12600">
            <a:solidFill>
              <a:srgbClr val="c8e59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34320" y="1330200"/>
            <a:ext cx="1981080" cy="5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Observa</a:t>
            </a:r>
            <a:r>
              <a:rPr b="1" lang="ro-RO" sz="1400" spc="-1" strike="noStrike">
                <a:solidFill>
                  <a:srgbClr val="336699"/>
                </a:solidFill>
                <a:latin typeface="Tahoma"/>
              </a:rPr>
              <a:t>ţ</a:t>
            </a:r>
            <a:r>
              <a:rPr b="1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ie: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pia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ţ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a local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 de telev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i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ziune este diferit</a:t>
            </a:r>
            <a:r>
              <a:rPr b="0" lang="ro-RO" sz="1400" spc="-1" strike="noStrike">
                <a:solidFill>
                  <a:srgbClr val="336699"/>
                </a:solidFill>
                <a:latin typeface="Arial"/>
              </a:rPr>
              <a:t>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 fa</a:t>
            </a:r>
            <a:r>
              <a:rPr b="0" lang="ro-RO" sz="1400" spc="-1" strike="noStrike">
                <a:solidFill>
                  <a:srgbClr val="336699"/>
                </a:solidFill>
                <a:latin typeface="Arial"/>
              </a:rPr>
              <a:t>ţ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 de multe </a:t>
            </a:r>
            <a:r>
              <a:rPr b="0" lang="ro-RO" sz="1400" spc="-1" strike="noStrike">
                <a:solidFill>
                  <a:srgbClr val="336699"/>
                </a:solidFill>
                <a:latin typeface="Arial"/>
              </a:rPr>
              <a:t>ţ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ri europene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, “consumul” de televiziune fiind peste medie, </a:t>
            </a:r>
            <a:r>
              <a:rPr b="0" lang="ro-RO" sz="1400" spc="-1" strike="noStrike">
                <a:solidFill>
                  <a:srgbClr val="336699"/>
                </a:solidFill>
                <a:latin typeface="Arial"/>
              </a:rPr>
              <a:t>î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ncurajat de tarifele reduse si penetrarea </a:t>
            </a:r>
            <a:r>
              <a:rPr b="0" lang="ro-RO" sz="1400" spc="-1" strike="noStrike">
                <a:solidFill>
                  <a:srgbClr val="336699"/>
                </a:solidFill>
                <a:latin typeface="Arial"/>
              </a:rPr>
              <a:t>î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nalt</a:t>
            </a:r>
            <a:r>
              <a:rPr b="0" lang="ro-RO" sz="1400" spc="-1" strike="noStrike">
                <a:solidFill>
                  <a:srgbClr val="336699"/>
                </a:solidFill>
                <a:latin typeface="Arial"/>
              </a:rPr>
              <a:t>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 a serviciilor de televiziune cu plat</a:t>
            </a:r>
            <a:r>
              <a:rPr b="0" lang="ro-RO" sz="1400" spc="-1" strike="noStrike">
                <a:solidFill>
                  <a:srgbClr val="336699"/>
                </a:solidFill>
                <a:latin typeface="Arial"/>
              </a:rPr>
              <a:t>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. </a:t>
            </a:r>
            <a:endParaRPr b="0" lang="en-US" sz="14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S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 nu uit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m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î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n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s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 c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,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î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n general, ce se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întâmpl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î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n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ţă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rile dezvoltate, se va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întâmpla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ş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i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î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n Rom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â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nia 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î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n c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</a:rPr>
              <a:t>âţ</a:t>
            </a:r>
            <a:r>
              <a:rPr b="0" lang="ro-RO" sz="14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iva ani!</a:t>
            </a:r>
            <a:endParaRPr b="0" lang="en-US" sz="14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5160960"/>
            <a:ext cx="266688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Internetul este considerat parte din modul de viaţă, respondenţii nefiind dispuşi să renunţe la el în viitorul apropiat. 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e5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“</a:t>
            </a: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Internetul va fi ultimul la care voi renunţa!”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e5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 “</a:t>
            </a: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Accesul la Internet este acum o necesitate!”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e5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2514600"/>
            <a:ext cx="2666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Linia fixă şi cablul TV au devenit redundante odată cu introducerea telefoanelor mobile şi a televiziunilor on-line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e5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“</a:t>
            </a: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Mai întâi aş renunţa la linia fixă!“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e5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“</a:t>
            </a: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Dacă ar trebui să fac economii, aş renunţa la cablul TV din moment ce pot avea acces on-line la emisiunile preferate!” 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3803760"/>
            <a:ext cx="2666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e540a"/>
                </a:solidFill>
                <a:latin typeface="Tahoma"/>
              </a:rPr>
              <a:t>Telefoanele mobile se află pe al doilea nivel de posibile economii. Ele sunt o necesitate, dar respondenţii se pot descurca fără ele (după ce le expiră contractul) dacă se dovedeşte necesar.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e5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“ </a:t>
            </a:r>
            <a:r>
              <a:rPr b="0" i="1" lang="ro-RO" sz="1000" spc="-1" strike="noStrike">
                <a:solidFill>
                  <a:srgbClr val="9e540a"/>
                </a:solidFill>
                <a:latin typeface="Tahoma"/>
              </a:rPr>
              <a:t>Următorul la care voi renunţa va fi telefonul mobil, din moment ce îl utilizez din ce în ce mai rar!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809880"/>
            <a:ext cx="5638680" cy="0"/>
          </a:xfrm>
          <a:prstGeom prst="line">
            <a:avLst/>
          </a:prstGeom>
          <a:ln cap="rnd" w="3240">
            <a:solidFill>
              <a:srgbClr val="9e540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105520"/>
            <a:ext cx="5638680" cy="0"/>
          </a:xfrm>
          <a:prstGeom prst="line">
            <a:avLst/>
          </a:prstGeom>
          <a:ln cap="rnd" w="3240">
            <a:solidFill>
              <a:srgbClr val="9e540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37" name="SECHEAD~38114.6369907407~868772"/>
          <p:cNvSpPr/>
          <p:nvPr/>
        </p:nvSpPr>
        <p:spPr>
          <a:xfrm>
            <a:off x="322200" y="134280"/>
            <a:ext cx="564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Impactul </a:t>
            </a:r>
            <a:r>
              <a:rPr b="0" lang="en-GB" sz="1600" spc="-1" strike="noStrike">
                <a:solidFill>
                  <a:srgbClr val="d4510a"/>
                </a:solidFill>
                <a:latin typeface="Arial"/>
              </a:rPr>
              <a:t>crizei</a:t>
            </a: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 asupra obiceiurilor de consum telecom şi media</a:t>
            </a:r>
            <a:endParaRPr b="0" lang="en-US" sz="16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93E8-7C36-4E40-89FA-BF39F9EF91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13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Alte concluzii principale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147320"/>
            <a:ext cx="8076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440">
              <a:lnSpc>
                <a:spcPct val="105000"/>
              </a:lnSpc>
              <a:spcBef>
                <a:spcPts val="1375"/>
              </a:spcBef>
              <a:buClr>
                <a:srgbClr val="d4510a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d4510a"/>
                </a:solidFill>
                <a:latin typeface="Arial"/>
              </a:rPr>
              <a:t>Clienţii nu sunt dispuşi să renunţe la Internet şi conţinut, chiar dacă sunt mai atenţi la costuri</a:t>
            </a:r>
            <a:endParaRPr b="0" lang="en-US" sz="2200" spc="-1" strike="noStrike">
              <a:solidFill>
                <a:srgbClr val="d4510a"/>
              </a:solidFill>
              <a:latin typeface="Arial"/>
            </a:endParaRPr>
          </a:p>
          <a:p>
            <a:pPr lvl="1" marL="144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Caută însă operatori care oferă oportunităţi de a face economii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  <a:p>
            <a:pPr lvl="1" marL="1440">
              <a:lnSpc>
                <a:spcPct val="105000"/>
              </a:lnSpc>
              <a:spcBef>
                <a:spcPts val="1375"/>
              </a:spcBef>
              <a:buClr>
                <a:srgbClr val="d4510a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d4510a"/>
                </a:solidFill>
                <a:latin typeface="Arial"/>
              </a:rPr>
              <a:t>Vrem să facem economii, dar lăsaţi-ne să decidem cum!</a:t>
            </a:r>
            <a:endParaRPr b="0" lang="en-US" sz="2200" spc="-1" strike="noStrike">
              <a:solidFill>
                <a:srgbClr val="d4510a"/>
              </a:solidFill>
              <a:latin typeface="Arial"/>
            </a:endParaRPr>
          </a:p>
          <a:p>
            <a:pPr lvl="1" marL="144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Clienţii doresc libertate în a-şi personaliza pachetele de servicii, vor să plătească doar pentru serviciile de care au cu adevărat nevoie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  <a:p>
            <a:pPr lvl="1" marL="1440">
              <a:lnSpc>
                <a:spcPct val="105000"/>
              </a:lnSpc>
              <a:spcBef>
                <a:spcPts val="1375"/>
              </a:spcBef>
              <a:buClr>
                <a:srgbClr val="d4510a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d4510a"/>
                </a:solidFill>
                <a:latin typeface="Arial"/>
              </a:rPr>
              <a:t>Dacă vă pasă de noi, răspundem cu aceeaşi monedă!</a:t>
            </a:r>
            <a:endParaRPr b="0" lang="en-US" sz="2200" spc="-1" strike="noStrike">
              <a:solidFill>
                <a:srgbClr val="d4510a"/>
              </a:solidFill>
              <a:latin typeface="Arial"/>
            </a:endParaRPr>
          </a:p>
          <a:p>
            <a:pPr lvl="1" marL="144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Clienţii apreciază prin fidelitate serviciile şi suportul de calitate, dar şi răsplătirea loialităţii. Nu sunt de acord cu acordarea de tarife mai mici clienţilor nou atraşi</a:t>
            </a:r>
            <a:r>
              <a:rPr b="0" lang="en-GB" sz="1800" spc="-1" strike="noStrike">
                <a:solidFill>
                  <a:srgbClr val="d4510a"/>
                </a:solidFill>
                <a:latin typeface="Arial"/>
              </a:rPr>
              <a:t>,</a:t>
            </a: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 în detrimentul celor vechi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  <a:p>
            <a:pPr lvl="1" marL="1440">
              <a:lnSpc>
                <a:spcPct val="105000"/>
              </a:lnSpc>
              <a:spcBef>
                <a:spcPts val="1375"/>
              </a:spcBef>
              <a:buClr>
                <a:srgbClr val="d4510a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d4510a"/>
                </a:solidFill>
                <a:latin typeface="Arial"/>
              </a:rPr>
              <a:t>Nu ne invadaţi viaţa privată!</a:t>
            </a:r>
            <a:endParaRPr b="0" lang="en-US" sz="2200" spc="-1" strike="noStrike">
              <a:solidFill>
                <a:srgbClr val="d4510a"/>
              </a:solidFill>
              <a:latin typeface="Arial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Reclamele transmise pe mediile de comunicare personale sunt nedorite.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Clienţii ar fi totuşi dispuşi la un compromis în schimbul unor beneficii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140" name="SECHEAD~38114.6369907407~868772"/>
          <p:cNvSpPr/>
          <p:nvPr/>
        </p:nvSpPr>
        <p:spPr>
          <a:xfrm>
            <a:off x="322200" y="134280"/>
            <a:ext cx="564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Impactul </a:t>
            </a:r>
            <a:r>
              <a:rPr b="0" lang="en-GB" sz="1600" spc="-1" strike="noStrike">
                <a:solidFill>
                  <a:srgbClr val="d4510a"/>
                </a:solidFill>
                <a:latin typeface="Arial"/>
              </a:rPr>
              <a:t>crizei</a:t>
            </a: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 asupra obiceiurilor de consum telecom şi media</a:t>
            </a:r>
            <a:endParaRPr b="0" lang="en-US" sz="16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5CB5-AD57-450F-BC5E-997CA8E81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1080" y="189000"/>
            <a:ext cx="8780400" cy="6478560"/>
          </a:xfrm>
          <a:prstGeom prst="rect">
            <a:avLst/>
          </a:prstGeom>
          <a:solidFill>
            <a:srgbClr val="d451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1271160"/>
            <a:ext cx="8513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Mobilitatea personală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5080" y="187200"/>
            <a:ext cx="4316400" cy="648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4689-1B49-46D9-B5DC-B3BF347F51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5440" y="1821960"/>
            <a:ext cx="84931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Principalele criterii de selecţie a operatorului</a:t>
            </a:r>
            <a:endParaRPr b="0" lang="en-US" sz="20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9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Principalele criterii de selecţie a operatorului</a:t>
            </a:r>
            <a:br>
              <a:rPr sz="3200"/>
            </a:b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46" name="SECHEAD~38114.6369907407~868772"/>
          <p:cNvSpPr/>
          <p:nvPr/>
        </p:nvSpPr>
        <p:spPr>
          <a:xfrm>
            <a:off x="322560" y="134280"/>
            <a:ext cx="193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Mobilitatea personală</a:t>
            </a:r>
            <a:endParaRPr b="0" lang="en-US" sz="16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85680" y="4910040"/>
            <a:ext cx="505080" cy="571680"/>
          </a:xfrm>
          <a:prstGeom prst="rect">
            <a:avLst/>
          </a:prstGeom>
          <a:solidFill>
            <a:srgbClr val="d4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85680" y="3776760"/>
            <a:ext cx="1581480" cy="561960"/>
          </a:xfrm>
          <a:prstGeom prst="rect">
            <a:avLst/>
          </a:prstGeom>
          <a:solidFill>
            <a:srgbClr val="d4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85680" y="2633760"/>
            <a:ext cx="704880" cy="571320"/>
          </a:xfrm>
          <a:prstGeom prst="rect">
            <a:avLst/>
          </a:prstGeom>
          <a:solidFill>
            <a:srgbClr val="d4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90760" y="4910040"/>
            <a:ext cx="1057320" cy="571680"/>
          </a:xfrm>
          <a:prstGeom prst="rect">
            <a:avLst/>
          </a:prstGeom>
          <a:solidFill>
            <a:srgbClr val="fe7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67160" y="3776760"/>
            <a:ext cx="1218960" cy="561960"/>
          </a:xfrm>
          <a:prstGeom prst="rect">
            <a:avLst/>
          </a:prstGeom>
          <a:solidFill>
            <a:srgbClr val="fe7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0560" y="2633760"/>
            <a:ext cx="1533600" cy="571320"/>
          </a:xfrm>
          <a:prstGeom prst="rect">
            <a:avLst/>
          </a:prstGeom>
          <a:solidFill>
            <a:srgbClr val="fe7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48080" y="4910040"/>
            <a:ext cx="3047760" cy="571680"/>
          </a:xfrm>
          <a:prstGeom prst="rect">
            <a:avLst/>
          </a:prstGeom>
          <a:solidFill>
            <a:srgbClr val="fea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6120" y="3776760"/>
            <a:ext cx="1943280" cy="561960"/>
          </a:xfrm>
          <a:prstGeom prst="rect">
            <a:avLst/>
          </a:prstGeom>
          <a:solidFill>
            <a:srgbClr val="fea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24160" y="2633760"/>
            <a:ext cx="2495520" cy="571320"/>
          </a:xfrm>
          <a:prstGeom prst="rect">
            <a:avLst/>
          </a:prstGeom>
          <a:solidFill>
            <a:srgbClr val="fea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95840" y="4910040"/>
            <a:ext cx="314280" cy="571680"/>
          </a:xfrm>
          <a:prstGeom prst="rect">
            <a:avLst/>
          </a:prstGeom>
          <a:solidFill>
            <a:srgbClr val="ffc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9400" y="3776760"/>
            <a:ext cx="257040" cy="561960"/>
          </a:xfrm>
          <a:prstGeom prst="rect">
            <a:avLst/>
          </a:prstGeom>
          <a:solidFill>
            <a:srgbClr val="ffc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9680" y="2633760"/>
            <a:ext cx="285840" cy="571320"/>
          </a:xfrm>
          <a:prstGeom prst="rect">
            <a:avLst/>
          </a:prstGeom>
          <a:solidFill>
            <a:srgbClr val="ffc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10120" y="4910040"/>
            <a:ext cx="152640" cy="571680"/>
          </a:xfrm>
          <a:prstGeom prst="rect">
            <a:avLst/>
          </a:prstGeom>
          <a:solidFill>
            <a:srgbClr val="8c5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86440" y="3776760"/>
            <a:ext cx="57240" cy="561960"/>
          </a:xfrm>
          <a:prstGeom prst="rect">
            <a:avLst/>
          </a:prstGeom>
          <a:solidFill>
            <a:srgbClr val="8c5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05520" y="2633760"/>
            <a:ext cx="95400" cy="571320"/>
          </a:xfrm>
          <a:prstGeom prst="rect">
            <a:avLst/>
          </a:prstGeom>
          <a:solidFill>
            <a:srgbClr val="8c5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62760" y="4910040"/>
            <a:ext cx="75960" cy="571680"/>
          </a:xfrm>
          <a:prstGeom prst="rect">
            <a:avLst/>
          </a:prstGeom>
          <a:solidFill>
            <a:srgbClr val="c3a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43680" y="3776760"/>
            <a:ext cx="123840" cy="561960"/>
          </a:xfrm>
          <a:prstGeom prst="rect">
            <a:avLst/>
          </a:prstGeom>
          <a:solidFill>
            <a:srgbClr val="c3a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00920" y="2633760"/>
            <a:ext cx="95040" cy="571320"/>
          </a:xfrm>
          <a:prstGeom prst="rect">
            <a:avLst/>
          </a:prstGeom>
          <a:solidFill>
            <a:srgbClr val="c3a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38720" y="4910040"/>
            <a:ext cx="86040" cy="571680"/>
          </a:xfrm>
          <a:prstGeom prst="rect">
            <a:avLst/>
          </a:prstGeom>
          <a:solidFill>
            <a:srgbClr val="d5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67520" y="3776760"/>
            <a:ext cx="104760" cy="561960"/>
          </a:xfrm>
          <a:prstGeom prst="rect">
            <a:avLst/>
          </a:prstGeom>
          <a:solidFill>
            <a:srgbClr val="d5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95960" y="2633760"/>
            <a:ext cx="95400" cy="571320"/>
          </a:xfrm>
          <a:prstGeom prst="rect">
            <a:avLst/>
          </a:prstGeom>
          <a:solidFill>
            <a:srgbClr val="d5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4760" y="4910040"/>
            <a:ext cx="228600" cy="571680"/>
          </a:xfrm>
          <a:prstGeom prst="rect">
            <a:avLst/>
          </a:prstGeom>
          <a:solidFill>
            <a:srgbClr val="e7d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72280" y="3776760"/>
            <a:ext cx="181080" cy="561960"/>
          </a:xfrm>
          <a:prstGeom prst="rect">
            <a:avLst/>
          </a:prstGeom>
          <a:solidFill>
            <a:srgbClr val="e7d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91360" y="2633760"/>
            <a:ext cx="162000" cy="571320"/>
          </a:xfrm>
          <a:prstGeom prst="rect">
            <a:avLst/>
          </a:prstGeom>
          <a:solidFill>
            <a:srgbClr val="e7d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85680" y="5767560"/>
            <a:ext cx="5467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85680" y="2347920"/>
            <a:ext cx="0" cy="341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9920" y="588168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94640" y="58816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47240" y="58816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90120" y="58816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2360" y="58816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5600" y="58816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28480" y="58816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0720" y="58816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3600" y="58816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76200" y="58816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80920" y="588168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7320" y="511956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5360" y="3976560"/>
            <a:ext cx="51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siaPac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8480" y="2843280"/>
            <a:ext cx="39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EA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24160" y="6110280"/>
            <a:ext cx="885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% participan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ţi</a:t>
            </a:r>
            <a:endParaRPr b="0" lang="en-US" sz="11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81960" y="3538440"/>
            <a:ext cx="75960" cy="76320"/>
          </a:xfrm>
          <a:prstGeom prst="rect">
            <a:avLst/>
          </a:prstGeom>
          <a:solidFill>
            <a:srgbClr val="d4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6720" y="3490920"/>
            <a:ext cx="1389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orietatea operatorului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81960" y="3147840"/>
            <a:ext cx="75960" cy="76320"/>
          </a:xfrm>
          <a:prstGeom prst="rect">
            <a:avLst/>
          </a:prstGeom>
          <a:solidFill>
            <a:srgbClr val="fe7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7440" y="3100320"/>
            <a:ext cx="123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aportul p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beneficii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81960" y="2762280"/>
            <a:ext cx="75960" cy="76320"/>
          </a:xfrm>
          <a:prstGeom prst="rect">
            <a:avLst/>
          </a:prstGeom>
          <a:solidFill>
            <a:srgbClr val="fea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7080" y="2714760"/>
            <a:ext cx="98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operirea 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lei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81960" y="3957480"/>
            <a:ext cx="75960" cy="76320"/>
          </a:xfrm>
          <a:prstGeom prst="rect">
            <a:avLst/>
          </a:prstGeom>
          <a:solidFill>
            <a:srgbClr val="ffc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6360" y="3909960"/>
            <a:ext cx="94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efoane oferite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81960" y="4367160"/>
            <a:ext cx="75960" cy="76320"/>
          </a:xfrm>
          <a:prstGeom prst="rect">
            <a:avLst/>
          </a:prstGeom>
          <a:solidFill>
            <a:srgbClr val="8c5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7800" y="4319640"/>
            <a:ext cx="109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te beneficii oferite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4200" y="4471920"/>
            <a:ext cx="1770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abonamente de grup, pachete)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81960" y="4767120"/>
            <a:ext cx="75960" cy="76320"/>
          </a:xfrm>
          <a:prstGeom prst="rect">
            <a:avLst/>
          </a:prstGeom>
          <a:solidFill>
            <a:srgbClr val="c3a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9240" y="4719600"/>
            <a:ext cx="159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sponibilitatea serviciilor de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85640" y="487188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te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 co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ut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81960" y="5176800"/>
            <a:ext cx="75960" cy="76320"/>
          </a:xfrm>
          <a:prstGeom prst="rect">
            <a:avLst/>
          </a:prstGeom>
          <a:solidFill>
            <a:srgbClr val="d5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87800" y="5129280"/>
            <a:ext cx="134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scount-uri disponibile,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7800" y="5281560"/>
            <a:ext cx="44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mo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81960" y="5576760"/>
            <a:ext cx="75960" cy="76320"/>
          </a:xfrm>
          <a:prstGeom prst="rect">
            <a:avLst/>
          </a:prstGeom>
          <a:solidFill>
            <a:srgbClr val="e7d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87800" y="5529240"/>
            <a:ext cx="14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litatea serviciilor suport</a:t>
            </a:r>
            <a:endParaRPr b="0" lang="en-US" sz="10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6720" y="2438280"/>
            <a:ext cx="2424240" cy="1379520"/>
          </a:xfrm>
          <a:prstGeom prst="rect">
            <a:avLst/>
          </a:prstGeom>
          <a:noFill/>
          <a:ln w="9360">
            <a:solidFill>
              <a:srgbClr val="9e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27880" y="3017880"/>
            <a:ext cx="50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400" spc="-1" strike="noStrike">
                <a:solidFill>
                  <a:srgbClr val="d4510a"/>
                </a:solidFill>
                <a:latin typeface="Arial"/>
              </a:rPr>
              <a:t>&gt;80%</a:t>
            </a:r>
            <a:endParaRPr b="0" lang="en-US" sz="14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2ADF-CA4D-4F00-B19C-98A697D1AA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364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Telefoanele mobile şi player</a:t>
            </a:r>
            <a:r>
              <a:rPr b="0" lang="en-GB" sz="3200" spc="-1" strike="noStrike">
                <a:solidFill>
                  <a:srgbClr val="9e540a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9e540a"/>
                </a:solidFill>
                <a:latin typeface="Arial"/>
              </a:rPr>
              <a:t>ele MP3 sunt cele mai utilizate dispozitive mobile</a:t>
            </a:r>
            <a:endParaRPr b="0" lang="en-US" sz="32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5440" y="2368440"/>
            <a:ext cx="32479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spcBef>
                <a:spcPts val="1125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85% dintre respondenţi deţin unul sau mai multe telefoane mobile, Smartphone-urile sunt în creştere de popularitate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  <a:p>
            <a:pPr lvl="1" marL="358920" indent="-357480">
              <a:spcBef>
                <a:spcPts val="1125"/>
              </a:spcBef>
              <a:buClr>
                <a:srgbClr val="d4510a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1800" spc="-1" strike="noStrike">
                <a:solidFill>
                  <a:srgbClr val="d4510a"/>
                </a:solidFill>
                <a:latin typeface="Arial"/>
              </a:rPr>
              <a:t>Magazinele de profil sunt canalul cel mai popular de achiziţie, urmat de modelele subvenţionate oferite de operatori (eventual prin intermediul angajatorului)</a:t>
            </a:r>
            <a:endParaRPr b="0" lang="en-US" sz="1800" spc="-1" strike="noStrike">
              <a:solidFill>
                <a:srgbClr val="d4510a"/>
              </a:solidFill>
              <a:latin typeface="Arial"/>
            </a:endParaRPr>
          </a:p>
        </p:txBody>
      </p:sp>
      <p:sp>
        <p:nvSpPr>
          <p:cNvPr id="211" name="SECHEAD~38114.6369907407~868772"/>
          <p:cNvSpPr/>
          <p:nvPr/>
        </p:nvSpPr>
        <p:spPr>
          <a:xfrm>
            <a:off x="322560" y="134280"/>
            <a:ext cx="193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d4510a"/>
                </a:solidFill>
                <a:latin typeface="Arial"/>
              </a:rPr>
              <a:t>Mobilitatea personală</a:t>
            </a:r>
            <a:endParaRPr b="0" lang="en-US" sz="16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83200" y="1617840"/>
            <a:ext cx="4174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ro-RO" sz="2000" spc="-1" strike="noStrike">
                <a:solidFill>
                  <a:srgbClr val="d4510a"/>
                </a:solidFill>
                <a:latin typeface="Arial"/>
              </a:rPr>
              <a:t>Deţinerea unui dispozitiv mobil, pe vârste</a:t>
            </a:r>
            <a:endParaRPr b="0" lang="en-US" sz="2000" spc="-1" strike="noStrike">
              <a:solidFill>
                <a:srgbClr val="9e540a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68840" y="2236680"/>
            <a:ext cx="4641480" cy="4159440"/>
            <a:chOff x="3768840" y="2236680"/>
            <a:chExt cx="4641480" cy="4159440"/>
          </a:xfrm>
        </p:grpSpPr>
        <p:grpSp>
          <p:nvGrpSpPr>
            <p:cNvPr id="214" name=""/>
            <p:cNvGrpSpPr/>
            <p:nvPr/>
          </p:nvGrpSpPr>
          <p:grpSpPr>
            <a:xfrm>
              <a:off x="4332600" y="5816520"/>
              <a:ext cx="2124360" cy="579600"/>
              <a:chOff x="4332600" y="5816520"/>
              <a:chExt cx="2124360" cy="579600"/>
            </a:xfrm>
          </p:grpSpPr>
          <p:pic>
            <p:nvPicPr>
              <p:cNvPr id="215" name="" descr=""/>
              <p:cNvPicPr/>
              <p:nvPr/>
            </p:nvPicPr>
            <p:blipFill>
              <a:blip r:embed="rId1"/>
              <a:srcRect l="44923" t="85664" r="51753" b="0"/>
              <a:stretch/>
            </p:blipFill>
            <p:spPr>
              <a:xfrm>
                <a:off x="6093000" y="5821200"/>
                <a:ext cx="148680" cy="57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" descr=""/>
              <p:cNvPicPr/>
              <p:nvPr/>
            </p:nvPicPr>
            <p:blipFill>
              <a:blip r:embed="rId2"/>
              <a:srcRect l="8938" t="85664" r="87660" b="0"/>
              <a:stretch/>
            </p:blipFill>
            <p:spPr>
              <a:xfrm>
                <a:off x="4332600" y="5816520"/>
                <a:ext cx="15264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4494960" y="5851440"/>
                <a:ext cx="212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spcBef>
                    <a:spcPts val="176"/>
                  </a:spcBef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elefon mobil</a:t>
                </a:r>
                <a:endParaRPr b="0" lang="en-US" sz="7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4960" y="5975280"/>
                <a:ext cx="212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spcBef>
                    <a:spcPts val="176"/>
                  </a:spcBef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onsol</a:t>
                </a:r>
                <a:r>
                  <a:rPr b="0" lang="ro-RO" sz="700" spc="-1" strike="noStrike">
                    <a:solidFill>
                      <a:srgbClr val="000000"/>
                    </a:solidFill>
                    <a:latin typeface="Arial"/>
                  </a:rPr>
                  <a:t>ă</a:t>
                </a: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 de jocuri</a:t>
                </a:r>
                <a:endParaRPr b="0" lang="en-US" sz="7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94960" y="6089760"/>
                <a:ext cx="212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spcBef>
                    <a:spcPts val="176"/>
                  </a:spcBef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P3 player</a:t>
                </a:r>
                <a:endParaRPr b="0" lang="en-US" sz="7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4960" y="6216480"/>
                <a:ext cx="212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spcBef>
                    <a:spcPts val="176"/>
                  </a:spcBef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ersonal digital assistant (PDA)</a:t>
                </a:r>
                <a:endParaRPr b="0" lang="en-US" sz="7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40240" y="5851440"/>
                <a:ext cx="212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spcBef>
                    <a:spcPts val="176"/>
                  </a:spcBef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martphone/BlackBerry/Personal Communicator</a:t>
                </a:r>
                <a:endParaRPr b="0" lang="en-US" sz="7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242040" y="5973840"/>
                <a:ext cx="212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spcBef>
                    <a:spcPts val="176"/>
                  </a:spcBef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ceptor GPS</a:t>
                </a:r>
                <a:endParaRPr b="0" lang="en-US" sz="7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43480" y="6095880"/>
                <a:ext cx="213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spcBef>
                    <a:spcPts val="176"/>
                  </a:spcBef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ltra Mobile PC</a:t>
                </a:r>
                <a:endParaRPr b="0" lang="en-US" sz="7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42040" y="6216480"/>
                <a:ext cx="212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spcBef>
                    <a:spcPts val="176"/>
                  </a:spcBef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ltele</a:t>
                </a:r>
                <a:endParaRPr b="0" lang="en-US" sz="700" spc="-1" strike="noStrike">
                  <a:solidFill>
                    <a:srgbClr val="9e540a"/>
                  </a:solidFill>
                  <a:latin typeface="Arial"/>
                </a:endParaRPr>
              </a:p>
            </p:txBody>
          </p:sp>
        </p:grpSp>
        <p:pic>
          <p:nvPicPr>
            <p:cNvPr id="225" name="" descr=""/>
            <p:cNvPicPr/>
            <p:nvPr/>
          </p:nvPicPr>
          <p:blipFill>
            <a:blip r:embed="rId3"/>
            <a:srcRect l="8892" t="0" r="0" b="19138"/>
            <a:stretch/>
          </p:blipFill>
          <p:spPr>
            <a:xfrm>
              <a:off x="4330800" y="2236680"/>
              <a:ext cx="4079520" cy="32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768840" y="2314440"/>
              <a:ext cx="5486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5+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68840" y="2701800"/>
              <a:ext cx="5486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5-64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68840" y="3100320"/>
              <a:ext cx="5486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5-54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68840" y="3495600"/>
              <a:ext cx="5486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-44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68840" y="3892680"/>
              <a:ext cx="5486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5-39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68840" y="4294080"/>
              <a:ext cx="5486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-34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68840" y="5083200"/>
              <a:ext cx="5486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25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68840" y="4684680"/>
              <a:ext cx="5486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-29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55560" y="5468760"/>
              <a:ext cx="212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44000" y="5468760"/>
              <a:ext cx="212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27040" y="5468760"/>
              <a:ext cx="2149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21600" y="5468760"/>
              <a:ext cx="212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25160" y="5468760"/>
              <a:ext cx="213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43840" y="5468760"/>
              <a:ext cx="156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38400" y="5468760"/>
              <a:ext cx="156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32960" y="5468760"/>
              <a:ext cx="156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19960" y="5468760"/>
              <a:ext cx="1580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19560" y="5468760"/>
              <a:ext cx="15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63000" y="5468760"/>
              <a:ext cx="1580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7680" y="5622840"/>
              <a:ext cx="795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1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% participanti</a:t>
              </a:r>
              <a:endParaRPr b="0" lang="en-US" sz="700" spc="-1" strike="noStrike">
                <a:solidFill>
                  <a:srgbClr val="9e540a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334040" y="5886360"/>
            <a:ext cx="723600" cy="114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34040" y="6114960"/>
            <a:ext cx="657000" cy="12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9e54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DE84-FB79-4F39-B6B9-1E4890A880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8:46:34Z</dcterms:created>
  <dc:creator/>
  <dc:description/>
  <dc:language>en-US</dc:language>
  <cp:lastModifiedBy>Gabi Mustea</cp:lastModifiedBy>
  <dcterms:modified xsi:type="dcterms:W3CDTF">2009-11-25T13:30:48Z</dcterms:modified>
  <cp:revision>128</cp:revision>
  <dc:subject/>
  <dc:title>N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B4 template type">
    <vt:lpwstr>Onscreen</vt:lpwstr>
  </property>
  <property fmtid="{D5CDD505-2E9C-101B-9397-08002B2CF9AE}" pid="3" name="TB4 template version">
    <vt:r8>4.1</vt:r8>
  </property>
  <property fmtid="{D5CDD505-2E9C-101B-9397-08002B2CF9AE}" pid="4" name="Template created by">
    <vt:lpwstr>www.in-support.com</vt:lpwstr>
  </property>
</Properties>
</file>