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83200" cy="100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6"/>
          </p:nvPr>
        </p:nvSpPr>
        <p:spPr>
          <a:xfrm>
            <a:off x="3902040" y="0"/>
            <a:ext cx="298152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34560" y="752040"/>
            <a:ext cx="501516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915840" y="4763880"/>
            <a:ext cx="5051520" cy="4516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7"/>
          </p:nvPr>
        </p:nvSpPr>
        <p:spPr>
          <a:xfrm>
            <a:off x="-360" y="9529560"/>
            <a:ext cx="2981160" cy="502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8"/>
          </p:nvPr>
        </p:nvSpPr>
        <p:spPr>
          <a:xfrm>
            <a:off x="3902040" y="9529560"/>
            <a:ext cx="2981520" cy="502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5B1F487-3478-4D0B-9D1D-CFD707C90E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-360" y="0"/>
            <a:ext cx="298116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02040" y="0"/>
            <a:ext cx="298152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-360" y="0"/>
            <a:ext cx="298116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02040" y="0"/>
            <a:ext cx="298152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0"/>
            <a:ext cx="298116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02040" y="0"/>
            <a:ext cx="298152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-360" y="0"/>
            <a:ext cx="298116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02040" y="0"/>
            <a:ext cx="298152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-360" y="0"/>
            <a:ext cx="298116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02040" y="0"/>
            <a:ext cx="298152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-360" y="0"/>
            <a:ext cx="298116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02040" y="0"/>
            <a:ext cx="298152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3480" y="75240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7240" y="4765320"/>
            <a:ext cx="55087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76F-7CBA-450F-A38D-81F180D7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86868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19240" y="3984120"/>
            <a:ext cx="86868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C91-3693-4465-BF71-7D848FAA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6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19240" y="398412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0640" y="398412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215-93B4-4B92-8AEE-100A1003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56480" y="143496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3360" y="143496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19240" y="398412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56480" y="398412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93360" y="398412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BA6-DF0E-4C53-8BC1-9B724C67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9240" y="1434960"/>
            <a:ext cx="86868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86868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42390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640" y="1434960"/>
            <a:ext cx="42390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19240" y="228600"/>
            <a:ext cx="8694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640" y="1434960"/>
            <a:ext cx="42390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19240" y="398412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19240" y="1434960"/>
            <a:ext cx="86868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756-57F3-454B-B552-1FEC2CE5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42390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6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640" y="398412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19240" y="3984120"/>
            <a:ext cx="86868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86868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19240" y="3984120"/>
            <a:ext cx="86868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6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19240" y="398412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640" y="398412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56480" y="143496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3360" y="143496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19240" y="398412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56480" y="398412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93360" y="3984120"/>
            <a:ext cx="279684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86868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FE6-A33E-4B87-AA1D-06BDFB48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42390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640" y="1434960"/>
            <a:ext cx="42390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3ED-994F-4E37-AC3A-30C77857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ECA-EF5B-4BB5-B51B-CCE72E66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19240" y="228600"/>
            <a:ext cx="8694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CB2-B55F-40EF-9E9E-C249498B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434960"/>
            <a:ext cx="42390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9240" y="398412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D88-4639-4F9B-B562-85D6E9D7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42390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6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0640" y="398412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556-9B88-463C-9814-828CEE43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434960"/>
            <a:ext cx="42390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9240" y="3984120"/>
            <a:ext cx="8686800" cy="23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AAB-CA54-43D6-9B52-C27E7BE4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40400"/>
            <a:ext cx="8918640" cy="24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19240" y="1434960"/>
            <a:ext cx="86868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84320" indent="-1828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353880" indent="-168120">
              <a:spcBef>
                <a:spcPts val="901"/>
              </a:spcBef>
              <a:buClr>
                <a:srgbClr val="00006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546120" indent="-190440">
              <a:spcBef>
                <a:spcPts val="901"/>
              </a:spcBef>
              <a:buClr>
                <a:srgbClr val="000066"/>
              </a:buClr>
              <a:buFont typeface="Arial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725480" indent="-190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725480" indent="-190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725480" indent="-190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424280" y="287280"/>
            <a:ext cx="1490760" cy="1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7b7d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B5EE-C704-4D61-AEDC-D0422B6663CC}" type="datetime">
              <a:rPr b="0" lang="en-US" sz="600" spc="-1" strike="noStrike">
                <a:solidFill>
                  <a:srgbClr val="7b7d7c"/>
                </a:solidFill>
                <a:latin typeface="Arial"/>
              </a:rPr>
              <a:t>07/29/26</a:t>
            </a:fld>
            <a:r>
              <a:rPr b="0" lang="en-US" sz="600" spc="-1" strike="noStrike">
                <a:solidFill>
                  <a:srgbClr val="7b7d7c"/>
                </a:solidFill>
                <a:latin typeface="Arial"/>
              </a:rPr>
              <a:t> </a:t>
            </a:r>
            <a:fld id="{394FA333-9660-4D5B-A4AA-2C5B32CDB823}" type="datetime10">
              <a:rPr b="0" lang="en-US" sz="600" spc="-1" strike="noStrike">
                <a:solidFill>
                  <a:srgbClr val="7b7d7c"/>
                </a:solidFill>
                <a:latin typeface="Arial"/>
              </a:rPr>
              <a:t>17:1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2280" y="216000"/>
            <a:ext cx="4352760" cy="1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7b7d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b7d7c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7b7d7c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 hidden="1"/>
          <p:cNvSpPr/>
          <p:nvPr/>
        </p:nvSpPr>
        <p:spPr>
          <a:xfrm>
            <a:off x="219240" y="6720840"/>
            <a:ext cx="1714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88cc8"/>
                </a:solidFill>
                <a:latin typeface="Arial"/>
              </a:rPr>
              <a:t>[Product or Department]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74920" y="6644520"/>
            <a:ext cx="80316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7b7d7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b7d7c"/>
                </a:solidFill>
                <a:latin typeface="Arial"/>
              </a:rPr>
              <a:t>March  2007 – Page </a:t>
            </a:r>
            <a:fld id="{742BE974-2948-4B1D-BA86-8FD82AF595F6}" type="slidenum">
              <a:rPr b="0" lang="en-US" sz="600" spc="-1" strike="noStrike">
                <a:solidFill>
                  <a:srgbClr val="7b7d7c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3200" y="6715080"/>
            <a:ext cx="755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88cc8"/>
                </a:solidFill>
                <a:latin typeface="Arial"/>
              </a:rPr>
              <a:t>Wholesale Banking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1671480" y="6381720"/>
            <a:ext cx="1598400" cy="476280"/>
            <a:chOff x="-1671480" y="6381720"/>
            <a:chExt cx="1598400" cy="476280"/>
          </a:xfrm>
        </p:grpSpPr>
        <p:sp>
          <p:nvSpPr>
            <p:cNvPr id="9" name=""/>
            <p:cNvSpPr/>
            <p:nvPr/>
          </p:nvSpPr>
          <p:spPr>
            <a:xfrm>
              <a:off x="-1671480" y="6467400"/>
              <a:ext cx="1598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o not put content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 the brand signature are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-987480" y="6381720"/>
              <a:ext cx="914400" cy="0"/>
            </a:xfrm>
            <a:prstGeom prst="line">
              <a:avLst/>
            </a:prstGeom>
            <a:ln w="19080">
              <a:solidFill>
                <a:srgbClr val="b4c3e1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-987480" y="6858000"/>
              <a:ext cx="914400" cy="0"/>
            </a:xfrm>
            <a:prstGeom prst="line">
              <a:avLst/>
            </a:prstGeom>
            <a:ln w="19080">
              <a:solidFill>
                <a:srgbClr val="b4c3e1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9282240" y="6381720"/>
            <a:ext cx="1598400" cy="473040"/>
            <a:chOff x="9282240" y="6381720"/>
            <a:chExt cx="1598400" cy="473040"/>
          </a:xfrm>
        </p:grpSpPr>
        <p:sp>
          <p:nvSpPr>
            <p:cNvPr id="13" name=""/>
            <p:cNvSpPr/>
            <p:nvPr/>
          </p:nvSpPr>
          <p:spPr>
            <a:xfrm>
              <a:off x="9282240" y="6465960"/>
              <a:ext cx="1598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o not put content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 the brand signature are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9282240" y="6381720"/>
              <a:ext cx="914400" cy="0"/>
            </a:xfrm>
            <a:prstGeom prst="line">
              <a:avLst/>
            </a:prstGeom>
            <a:ln w="19080">
              <a:solidFill>
                <a:srgbClr val="b4c3e1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9282240" y="6854760"/>
              <a:ext cx="914400" cy="0"/>
            </a:xfrm>
            <a:prstGeom prst="line">
              <a:avLst/>
            </a:prstGeom>
            <a:ln w="19080">
              <a:solidFill>
                <a:srgbClr val="b4c3e1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231840" y="6989760"/>
            <a:ext cx="159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holesale Banking can be replaced with business un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0" y="1138320"/>
            <a:ext cx="9144000" cy="162000"/>
            <a:chOff x="0" y="1138320"/>
            <a:chExt cx="9144000" cy="162000"/>
          </a:xfrm>
        </p:grpSpPr>
        <p:sp>
          <p:nvSpPr>
            <p:cNvPr id="18" name=""/>
            <p:cNvSpPr/>
            <p:nvPr/>
          </p:nvSpPr>
          <p:spPr>
            <a:xfrm>
              <a:off x="0" y="1246320"/>
              <a:ext cx="9144000" cy="54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1138320"/>
              <a:ext cx="9144000" cy="108000"/>
            </a:xfrm>
            <a:prstGeom prst="rect">
              <a:avLst/>
            </a:prstGeom>
            <a:solidFill>
              <a:srgbClr val="b4c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440" y="1049400"/>
            <a:ext cx="9144000" cy="2260440"/>
            <a:chOff x="1440" y="1049400"/>
            <a:chExt cx="9144000" cy="2260440"/>
          </a:xfrm>
        </p:grpSpPr>
        <p:sp>
          <p:nvSpPr>
            <p:cNvPr id="58" name=""/>
            <p:cNvSpPr/>
            <p:nvPr/>
          </p:nvSpPr>
          <p:spPr>
            <a:xfrm>
              <a:off x="1440" y="1049400"/>
              <a:ext cx="9144000" cy="2260440"/>
            </a:xfrm>
            <a:prstGeom prst="rect">
              <a:avLst/>
            </a:prstGeom>
            <a:solidFill>
              <a:srgbClr val="b4c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40" y="3247920"/>
              <a:ext cx="9144000" cy="61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3920" y="1274760"/>
            <a:ext cx="376200" cy="1727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8680" cy="979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 flipH="1">
            <a:off x="8443440" y="1274760"/>
            <a:ext cx="376200" cy="1727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-1060560" y="0"/>
            <a:ext cx="959040" cy="1692360"/>
            <a:chOff x="-1060560" y="0"/>
            <a:chExt cx="959040" cy="1692360"/>
          </a:xfrm>
        </p:grpSpPr>
        <p:sp>
          <p:nvSpPr>
            <p:cNvPr id="64" name=""/>
            <p:cNvSpPr/>
            <p:nvPr/>
          </p:nvSpPr>
          <p:spPr>
            <a:xfrm>
              <a:off x="-1060560" y="0"/>
              <a:ext cx="959040" cy="16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Arial"/>
                </a:rPr>
                <a:t>ING main </a:t>
              </a:r>
              <a:br>
                <a:rPr sz="900"/>
              </a:br>
              <a:r>
                <a:rPr b="1" lang="en-US" sz="900" spc="-1" strike="noStrike">
                  <a:solidFill>
                    <a:srgbClr val="000066"/>
                  </a:solidFill>
                  <a:latin typeface="Arial"/>
                </a:rPr>
                <a:t>colour palette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-995400" y="422280"/>
              <a:ext cx="388800" cy="365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-555480" y="422280"/>
              <a:ext cx="388800" cy="365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255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102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-995400" y="839880"/>
              <a:ext cx="388800" cy="365040"/>
            </a:xfrm>
            <a:prstGeom prst="rect">
              <a:avLst/>
            </a:prstGeom>
            <a:solidFill>
              <a:srgbClr val="b4c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18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195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25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-555480" y="839880"/>
              <a:ext cx="388800" cy="365040"/>
            </a:xfrm>
            <a:prstGeom prst="rect">
              <a:avLst/>
            </a:prstGeom>
            <a:solidFill>
              <a:srgbClr val="7b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123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125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124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-995400" y="1257480"/>
              <a:ext cx="388800" cy="365040"/>
            </a:xfrm>
            <a:prstGeom prst="rect">
              <a:avLst/>
            </a:prstGeom>
            <a:solidFill>
              <a:srgbClr val="788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14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-555480" y="1257480"/>
              <a:ext cx="388800" cy="365040"/>
            </a:xfrm>
            <a:prstGeom prst="rect">
              <a:avLst/>
            </a:prstGeom>
            <a:solidFill>
              <a:srgbClr val="b2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178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181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18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1060560" y="1833480"/>
            <a:ext cx="959040" cy="1692360"/>
            <a:chOff x="-1060560" y="1833480"/>
            <a:chExt cx="959040" cy="1692360"/>
          </a:xfrm>
        </p:grpSpPr>
        <p:sp>
          <p:nvSpPr>
            <p:cNvPr id="72" name=""/>
            <p:cNvSpPr/>
            <p:nvPr/>
          </p:nvSpPr>
          <p:spPr>
            <a:xfrm>
              <a:off x="-1060560" y="1833480"/>
              <a:ext cx="959040" cy="16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Arial"/>
                </a:rPr>
                <a:t>ING secondary colour palette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995400" y="2673360"/>
              <a:ext cx="388800" cy="365040"/>
            </a:xfrm>
            <a:prstGeom prst="rect">
              <a:avLst/>
            </a:prstGeom>
            <a:solidFill>
              <a:srgbClr val="ffc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55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05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171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995400" y="3090960"/>
              <a:ext cx="388800" cy="365040"/>
            </a:xfrm>
            <a:prstGeom prst="rect">
              <a:avLst/>
            </a:prstGeom>
            <a:solidFill>
              <a:srgbClr val="5153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81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83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82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-555480" y="2673360"/>
              <a:ext cx="388800" cy="365040"/>
            </a:xfrm>
            <a:prstGeom prst="rect">
              <a:avLst/>
            </a:prstGeom>
            <a:solidFill>
              <a:srgbClr val="d3e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11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24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02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555480" y="3090960"/>
              <a:ext cx="388800" cy="365040"/>
            </a:xfrm>
            <a:prstGeom prst="rect">
              <a:avLst/>
            </a:prstGeom>
            <a:solidFill>
              <a:srgbClr val="d2d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1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12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11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995400" y="2255760"/>
              <a:ext cx="388800" cy="365040"/>
            </a:xfrm>
            <a:prstGeom prst="rect">
              <a:avLst/>
            </a:prstGeom>
            <a:solidFill>
              <a:srgbClr val="c8d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2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4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555480" y="2255760"/>
              <a:ext cx="388800" cy="365040"/>
            </a:xfrm>
            <a:prstGeom prst="rect">
              <a:avLst/>
            </a:prstGeom>
            <a:solidFill>
              <a:srgbClr val="a2b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162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189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144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-1063800" y="3668760"/>
            <a:ext cx="959040" cy="736560"/>
            <a:chOff x="-1063800" y="3668760"/>
            <a:chExt cx="959040" cy="736560"/>
          </a:xfrm>
        </p:grpSpPr>
        <p:sp>
          <p:nvSpPr>
            <p:cNvPr id="80" name=""/>
            <p:cNvSpPr/>
            <p:nvPr/>
          </p:nvSpPr>
          <p:spPr>
            <a:xfrm>
              <a:off x="-1063800" y="3668760"/>
              <a:ext cx="959040" cy="73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Arial"/>
                </a:rPr>
                <a:t>Map colours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995400" y="3900600"/>
              <a:ext cx="388800" cy="365040"/>
            </a:xfrm>
            <a:prstGeom prst="rect">
              <a:avLst/>
            </a:prstGeom>
            <a:solidFill>
              <a:srgbClr val="e6e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30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32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42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555480" y="3900600"/>
              <a:ext cx="388800" cy="365040"/>
            </a:xfrm>
            <a:prstGeom prst="rect">
              <a:avLst/>
            </a:prstGeom>
            <a:solidFill>
              <a:srgbClr val="b9b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185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191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66"/>
                  </a:solidFill>
                  <a:latin typeface="Arial"/>
                </a:rPr>
                <a:t>219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856800" y="4276800"/>
              <a:ext cx="11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66"/>
                  </a:solidFill>
                  <a:latin typeface="Arial"/>
                </a:rPr>
                <a:t>Fill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444600" y="4276800"/>
              <a:ext cx="16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66"/>
                  </a:solidFill>
                  <a:latin typeface="Arial"/>
                </a:rPr>
                <a:t>Line</a:t>
              </a:r>
              <a:endParaRPr b="0" lang="en-US" sz="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dt" idx="4"/>
          </p:nvPr>
        </p:nvSpPr>
        <p:spPr>
          <a:xfrm>
            <a:off x="7424280" y="287280"/>
            <a:ext cx="1490760" cy="1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7b7d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0D66-8546-48D1-BBE8-EC08DAA59A77}" type="datetime">
              <a:rPr b="0" lang="en-US" sz="600" spc="-1" strike="noStrike">
                <a:solidFill>
                  <a:srgbClr val="7b7d7c"/>
                </a:solidFill>
                <a:latin typeface="Arial"/>
              </a:rPr>
              <a:t>07/29/26</a:t>
            </a:fld>
            <a:r>
              <a:rPr b="0" lang="en-US" sz="600" spc="-1" strike="noStrike">
                <a:solidFill>
                  <a:srgbClr val="7b7d7c"/>
                </a:solidFill>
                <a:latin typeface="Arial"/>
              </a:rPr>
              <a:t> </a:t>
            </a:r>
            <a:fld id="{90AE89C8-5B18-4E36-9842-40F5B5EB6670}" type="datetime10">
              <a:rPr b="0" lang="en-US" sz="600" spc="-1" strike="noStrike">
                <a:solidFill>
                  <a:srgbClr val="7b7d7c"/>
                </a:solidFill>
                <a:latin typeface="Arial"/>
              </a:rPr>
              <a:t>17:1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5"/>
          </p:nvPr>
        </p:nvSpPr>
        <p:spPr>
          <a:xfrm>
            <a:off x="4562280" y="216000"/>
            <a:ext cx="4352760" cy="1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7b7d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b7d7c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539280" y="1687680"/>
            <a:ext cx="744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 hidden="1"/>
          <p:cNvSpPr/>
          <p:nvPr/>
        </p:nvSpPr>
        <p:spPr>
          <a:xfrm>
            <a:off x="219240" y="6720840"/>
            <a:ext cx="2265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88cdc"/>
                </a:solidFill>
                <a:latin typeface="Arial"/>
              </a:rPr>
              <a:t>[Product or Department]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-1692360" y="5950080"/>
            <a:ext cx="1619280" cy="907560"/>
            <a:chOff x="-1692360" y="5950080"/>
            <a:chExt cx="1619280" cy="907560"/>
          </a:xfrm>
        </p:grpSpPr>
        <p:sp>
          <p:nvSpPr>
            <p:cNvPr id="90" name=""/>
            <p:cNvSpPr/>
            <p:nvPr/>
          </p:nvSpPr>
          <p:spPr>
            <a:xfrm>
              <a:off x="-1671480" y="6082560"/>
              <a:ext cx="1598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 not put conten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 the brand signature are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1692360" y="5950080"/>
              <a:ext cx="1619280" cy="0"/>
            </a:xfrm>
            <a:prstGeom prst="line">
              <a:avLst/>
            </a:prstGeom>
            <a:ln w="19080">
              <a:solidFill>
                <a:srgbClr val="b4c3e1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-1692360" y="6854400"/>
              <a:ext cx="1619280" cy="3240"/>
            </a:xfrm>
            <a:prstGeom prst="line">
              <a:avLst/>
            </a:prstGeom>
            <a:ln w="19080">
              <a:solidFill>
                <a:srgbClr val="b4c3e1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76760" bIns="-176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9245520" y="5950080"/>
            <a:ext cx="1619280" cy="907560"/>
            <a:chOff x="9245520" y="5950080"/>
            <a:chExt cx="1619280" cy="907560"/>
          </a:xfrm>
        </p:grpSpPr>
        <p:sp>
          <p:nvSpPr>
            <p:cNvPr id="94" name=""/>
            <p:cNvSpPr/>
            <p:nvPr/>
          </p:nvSpPr>
          <p:spPr>
            <a:xfrm>
              <a:off x="9266400" y="6082560"/>
              <a:ext cx="1598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 not put conten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 the brand signature are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245520" y="5950080"/>
              <a:ext cx="1619280" cy="0"/>
            </a:xfrm>
            <a:prstGeom prst="line">
              <a:avLst/>
            </a:prstGeom>
            <a:ln w="19080">
              <a:solidFill>
                <a:srgbClr val="b4c3e1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80000" bIns="-180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9245520" y="6854400"/>
              <a:ext cx="1619280" cy="3240"/>
            </a:xfrm>
            <a:prstGeom prst="line">
              <a:avLst/>
            </a:prstGeom>
            <a:ln w="19080">
              <a:solidFill>
                <a:srgbClr val="b4c3e1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-176760" bIns="-176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76040" indent="9720" algn="ctr">
              <a:spcBef>
                <a:spcPts val="901"/>
              </a:spcBef>
              <a:buClr>
                <a:srgbClr val="00006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682560" indent="-326880" algn="ctr">
              <a:spcBef>
                <a:spcPts val="901"/>
              </a:spcBef>
              <a:buClr>
                <a:srgbClr val="00006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917640" indent="617400" algn="ctr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917640" indent="617400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917640" indent="617400"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74437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66"/>
                </a:solidFill>
                <a:latin typeface="Arial"/>
              </a:rPr>
              <a:t>Piata creditelor corporative</a:t>
            </a:r>
            <a:br>
              <a:rPr sz="3000"/>
            </a:br>
            <a:r>
              <a:rPr b="1" i="1" lang="ro-RO" sz="2000" spc="-1" strike="noStrike">
                <a:solidFill>
                  <a:srgbClr val="000066"/>
                </a:solidFill>
                <a:latin typeface="Arial"/>
              </a:rPr>
              <a:t>Mediafax Talks about Corporate Loans</a:t>
            </a:r>
            <a:br>
              <a:rPr sz="2000"/>
            </a:br>
            <a:r>
              <a:rPr b="1" i="1" lang="ro-RO" sz="2000" spc="-1" strike="noStrike">
                <a:solidFill>
                  <a:srgbClr val="000066"/>
                </a:solidFill>
                <a:latin typeface="Arial"/>
              </a:rPr>
              <a:t>October 15, 200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960" y="4221000"/>
            <a:ext cx="5758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a2bd90"/>
                </a:solidFill>
                <a:latin typeface="Arial"/>
              </a:rPr>
              <a:t>Mihaela Bit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a2bd90"/>
                </a:solidFill>
                <a:latin typeface="Arial"/>
              </a:rPr>
              <a:t>Executive Director, Head of Wholesale Banking Produ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[Insert your file reference here]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FCDEF19-D6B1-4FB3-9A19-4572AD43CD24}" type="datetime8">
              <a:rPr lang="en-US"/>
              <a:t>07/29/26 17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66"/>
                </a:solidFill>
                <a:latin typeface="Arial"/>
              </a:rPr>
              <a:t>Dinamica pietei creditului neguvernamental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413000"/>
            <a:ext cx="869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6600"/>
                </a:solidFill>
                <a:latin typeface="Arial"/>
              </a:rPr>
              <a:t>Mil R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356000" y="1557360"/>
          <a:ext cx="417672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557360"/>
                    <a:ext cx="41767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187280" y="3141720"/>
            <a:ext cx="360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2781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66"/>
                </a:solidFill>
                <a:latin typeface="Arial"/>
              </a:rPr>
              <a:t>41018,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2565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66"/>
                </a:solidFill>
                <a:latin typeface="Arial"/>
              </a:rPr>
              <a:t>59806,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206064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66"/>
                </a:solidFill>
                <a:latin typeface="Arial"/>
              </a:rPr>
              <a:t>92378,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191628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66"/>
                </a:solidFill>
                <a:latin typeface="Arial"/>
              </a:rPr>
              <a:t>122095,8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92720" y="2997360"/>
            <a:ext cx="71280" cy="72720"/>
          </a:xfrm>
          <a:prstGeom prst="ellipse">
            <a:avLst/>
          </a:prstGeom>
          <a:solidFill>
            <a:srgbClr val="788cc8"/>
          </a:solidFill>
          <a:ln w="9360">
            <a:solidFill>
              <a:srgbClr val="7b7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2781360"/>
            <a:ext cx="71640" cy="73080"/>
          </a:xfrm>
          <a:prstGeom prst="ellipse">
            <a:avLst/>
          </a:prstGeom>
          <a:solidFill>
            <a:srgbClr val="788cc8"/>
          </a:solidFill>
          <a:ln w="9360">
            <a:solidFill>
              <a:srgbClr val="7b7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6000" y="2349360"/>
            <a:ext cx="71280" cy="73080"/>
          </a:xfrm>
          <a:prstGeom prst="ellipse">
            <a:avLst/>
          </a:prstGeom>
          <a:solidFill>
            <a:srgbClr val="788cc8"/>
          </a:solidFill>
          <a:ln w="9360">
            <a:solidFill>
              <a:srgbClr val="7b7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56720" y="2060640"/>
            <a:ext cx="71280" cy="73080"/>
          </a:xfrm>
          <a:prstGeom prst="ellipse">
            <a:avLst/>
          </a:prstGeom>
          <a:solidFill>
            <a:srgbClr val="788cc8"/>
          </a:solidFill>
          <a:ln w="9360">
            <a:solidFill>
              <a:srgbClr val="7b7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58920" y="3860640"/>
            <a:ext cx="190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000066"/>
                </a:solidFill>
                <a:latin typeface="Arial"/>
              </a:rPr>
              <a:t>Sursa: Buletin Lunar BNR 8/2007</a:t>
            </a:r>
            <a:r>
              <a:rPr b="0" lang="ro-RO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5300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557360"/>
            <a:ext cx="3598920" cy="45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Crestere sustinuta a creditului privat in ultimii 3 ani (40-50% p.a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Dinamica sustinuta a creditului privat este insa flancata de cea a deficitului de cont cur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Nivelul creditului privat ca raport vs. PIB substantial sub nivelul justificat de parametrii macroeconomici (model BCE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Potentialul de crestere viitoare este evident, insa ritmul optim al cresterii trebuie determin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00720" y="4292640"/>
            <a:ext cx="446400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[Insert your file reference here]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605-098F-4FCE-9CC2-B40495BDDA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EE453-A094-4119-AC65-C1EABD776F9E}" type="datetime8">
              <a:rPr lang="en-US"/>
              <a:t>07/29/26 17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66"/>
                </a:solidFill>
                <a:latin typeface="Arial"/>
              </a:rPr>
              <a:t>Preponderenta creditarii in valuta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1413000"/>
            <a:ext cx="405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6600"/>
                </a:solidFill>
                <a:latin typeface="Arial"/>
              </a:rPr>
              <a:t>Mil RON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356000" y="1700280"/>
          <a:ext cx="453564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700280"/>
                    <a:ext cx="453564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859280" y="357336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66"/>
                </a:solidFill>
                <a:latin typeface="Arial"/>
              </a:rPr>
              <a:t>1328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63280" y="30686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66"/>
                </a:solidFill>
                <a:latin typeface="Arial"/>
              </a:rPr>
              <a:t>3363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6200" y="32846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66"/>
                </a:solidFill>
                <a:latin typeface="Arial"/>
              </a:rPr>
              <a:t>2419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99640" y="28526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66"/>
                </a:solidFill>
                <a:latin typeface="Arial"/>
              </a:rPr>
              <a:t>4146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02920" y="278136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66"/>
                </a:solidFill>
                <a:latin typeface="Arial"/>
              </a:rPr>
              <a:t>4507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34920" y="242100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66"/>
                </a:solidFill>
                <a:latin typeface="Arial"/>
              </a:rPr>
              <a:t>58668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249228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66"/>
                </a:solidFill>
                <a:latin typeface="Arial"/>
              </a:rPr>
              <a:t>5731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16000" y="18446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66"/>
                </a:solidFill>
                <a:latin typeface="Arial"/>
              </a:rPr>
              <a:t>8112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484280"/>
            <a:ext cx="381636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Dinamica mai accentuata de crestere a creditului in valut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Ponderea creditelor in valuta la nivelul sectorului bancar peste 55 %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Expunere ridicata la riscul valutar – clienti cu credite semnificative in valuta fara acoperire de ris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4797360"/>
            <a:ext cx="835164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Factori care favorizeaza cererea de credite in valuta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diferentialul mare de dobanda intre ratele de referinta (&gt;2%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stabilitate/ predictibilitate mai mare a EURIBOR/LIB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precierea constanta a leului din ultimii 2 an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oferta bancilor ca urmare a concurentei spo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[Insert your file reference here]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E5B-F245-45A9-B68C-7C6380D6F8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CB279-8D7D-486A-BC13-7D7DCA50AC56}" type="datetime8">
              <a:rPr lang="en-US"/>
              <a:t>07/29/26 17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66"/>
                </a:solidFill>
                <a:latin typeface="Arial"/>
              </a:rPr>
              <a:t>Nivelul dobinzilor practica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8680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Marjele de dobinda se situeaza inca la niveluri semnificativ mai ridicate decit in tarile membre U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Se remarca insa tendinta de scadere, pe fondul cresterii concurentei in sectorul bancar si imbunatatirii profilului de risc al Romanie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Media dobinzilor practicate releva un paradox: marjele la creditele in RON vs</a:t>
            </a:r>
            <a:r>
              <a:rPr b="0" lang="ro-RO" sz="1800" spc="-1" strike="noStrike">
                <a:solidFill>
                  <a:srgbClr val="a2bd9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valuta sunt aproximativ egale, desi nivelul rezervelor minime obligatorii in valuta este de 40%, dublu fata de leu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La nivel international se estimeaza re-asezarea marjelor de dobinda in contextul recentei crize de lichiditate  - piata locala nu este inca afectata, de observat insa evolutia in urmatorul 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[Insert your file reference here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1BD-E014-476B-A9C6-C77D162B26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99494-8105-4A53-BDFF-085C5F5E6109}" type="datetime8">
              <a:rPr lang="en-US"/>
              <a:t>07/29/26 17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66"/>
                </a:solidFill>
                <a:latin typeface="Arial"/>
              </a:rPr>
              <a:t>Considerente generale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68680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Orientarea spre creditele pe termen scurt se echilibreaza gradual - deja 56% din creditele acordate la nivelul sectorului bancar au durate &gt; 1 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Corelat cu climatul general de crestere economica, ponderea creditelor neperformante este scazuta (&lt;5%), pierderile efective fiind la un nivel de 2-2.5% (in usoara crester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O corectie valutara abrupta si/sau incetinirea ritmului de crestere economica ar putea conduce la cresterea rapida a ponderii creditelor neperforman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Practicile de creditare in piata locala sunt mult orientate pe garantiile materiale oferite, mai putin pe meritul intrinsec al companiei creditate si pe perspectivele sale de dezvoltar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La nivelul companiilor – in general managementul financiar este putin sofistica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[Insert your file reference here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FCF-4D37-492D-8C6E-A51EA7D02E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D2B81-230F-4E57-A135-81EDB57F4310}" type="datetime8">
              <a:rPr lang="en-US"/>
              <a:t>07/29/26 17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66"/>
                </a:solidFill>
                <a:latin typeface="Arial"/>
              </a:rPr>
              <a:t>Abordarea ING in procesul de creditare  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9240" y="1434960"/>
            <a:ext cx="86868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7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7480" indent="-177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Oferta de credite a ING include o gama completa de produse: credite de trezorerie, credite pentru investitii, finantarea achizitiilor, finantarea comertului international, finantarea proiectel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7480" indent="-177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Punem accent pe perspectivele si fundamentarea planului de afaceri, garantiile sunt un element de securitate necesar, nu un motiv pentru acordarea unui credi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7480" indent="-177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Analiza laborioasa de credit – analiza afacerii in contextul sectorial, evaluare vs competitie, analiza perspectivelor de dezvoltare et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7480" indent="-177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Calitate foarte inalta a portofoliului de credite, pierderile efective sunt mai mici de 0.1%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7480" indent="-177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Structuri de creditare potrivite nevoilor clientilor </a:t>
            </a:r>
            <a:r>
              <a:rPr b="0" lang="ro-RO" sz="1800" spc="-1" strike="noStrike" u="sng">
                <a:solidFill>
                  <a:srgbClr val="000066"/>
                </a:solidFill>
                <a:uFillTx/>
                <a:latin typeface="Arial"/>
              </a:rPr>
              <a:t>si 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care sa se potriveasca modelului de afaceri respec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7480" indent="-177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Abordare serioasa</a:t>
            </a:r>
            <a:r>
              <a:rPr b="1" lang="ro-RO" sz="1800" spc="-1" strike="noStrike">
                <a:solidFill>
                  <a:srgbClr val="a2bd9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a riscului valutar, incurajam</a:t>
            </a:r>
            <a:r>
              <a:rPr b="1" lang="ro-RO" sz="1800" spc="-1" strike="noStrike">
                <a:solidFill>
                  <a:srgbClr val="a2bd9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creditarea in moneda locala (45 % credite in valuta in portofoliul ING vs 55 % pe total sector bancar) 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7480" indent="-177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Diferentiere a marjelor la creditele in valuta vs cele in le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7480" indent="-177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Abordare diferita pe segmente de piata diferi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[Insert your file reference here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962-C98A-4D3E-9A50-CF045EC2BB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15A22-CFAF-40DD-B5AD-973BCB2635C6}" type="datetime8">
              <a:rPr lang="en-US"/>
              <a:t>07/29/26 17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9240" y="228600"/>
            <a:ext cx="869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66"/>
                </a:solidFill>
                <a:latin typeface="Arial"/>
              </a:rPr>
              <a:t>Tendinte 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8680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Cresterea sustinuta a creditului privat in continuare - estimam un ritm anual de crestere de minim 30-40% in urmatorii 2 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Preferinta catre valuta se va mentine in lipsa unei corectii abrupte a cursului de schim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Volatilitatea pietei valutare va favoriza reorientarea catre moneda locala, cu conditia sa fie urmata de o reducere a diferentialului de dobind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Ponderea creditelor neperformante este probabil sa creasca o data cu cresterea concurentei in sectorul banc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Reducerea marjelor va continua ... de observat insa un potential efect contrar al crizei mondiale de lichidita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-1792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Arial"/>
              </a:rPr>
              <a:t>Maturizarea gamei de produse oferite clientilor corporativ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1792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[Insert your file reference here]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797-1C13-479B-B3E5-38816EBD04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C7268-1427-4599-8A34-847C18766BE9}" type="datetime8">
              <a:rPr lang="en-US"/>
              <a:t>07/29/26 17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14240" y="2057400"/>
            <a:ext cx="7715520" cy="19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[Insert your file reference here]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C21-B416-491F-B30E-7AC79018AEB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0C4F0-ADB6-4FF5-9B54-1B5EF622FC56}" type="datetime8">
              <a:rPr lang="en-US"/>
              <a:t>07/29/26 17: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14:12:16Z</dcterms:created>
  <dc:creator>Denise Dyson</dc:creator>
  <dc:description/>
  <dc:language>en-US</dc:language>
  <cp:lastModifiedBy>NB31IN</cp:lastModifiedBy>
  <cp:lastPrinted>2003-02-03T12:07:06Z</cp:lastPrinted>
  <dcterms:modified xsi:type="dcterms:W3CDTF">2007-10-12T15:09:52Z</dcterms:modified>
  <cp:revision>156</cp:revision>
  <dc:subject/>
  <dc:title>Presentation to Client Nam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1097528</vt:r8>
  </property>
  <property fmtid="{D5CDD505-2E9C-101B-9397-08002B2CF9AE}" pid="3" name="_AuthorEmail">
    <vt:lpwstr>Mihaela.Bitu@ingromania.ro</vt:lpwstr>
  </property>
  <property fmtid="{D5CDD505-2E9C-101B-9397-08002B2CF9AE}" pid="4" name="_AuthorEmailDisplayName">
    <vt:lpwstr>Bitu, M. (Mihaela)</vt:lpwstr>
  </property>
  <property fmtid="{D5CDD505-2E9C-101B-9397-08002B2CF9AE}" pid="5" name="_EmailSubject">
    <vt:lpwstr>leu </vt:lpwstr>
  </property>
  <property fmtid="{D5CDD505-2E9C-101B-9397-08002B2CF9AE}" pid="6" name="_NewReviewCycle">
    <vt:lpwstr/>
  </property>
  <property fmtid="{D5CDD505-2E9C-101B-9397-08002B2CF9AE}" pid="7" name="_PreviousAdHocReviewCycleID">
    <vt:r8>-1658020408</vt:r8>
  </property>
</Properties>
</file>