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FEA4-AE8B-443B-8E7F-AD3B7EFFD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409400"/>
            <a:ext cx="84582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3857400"/>
            <a:ext cx="84582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48CD-0FB2-4E58-9931-B7CA052D4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409400"/>
            <a:ext cx="4127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1409400"/>
            <a:ext cx="4127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3857400"/>
            <a:ext cx="4127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3857400"/>
            <a:ext cx="4127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DFB8-2593-4810-9411-0F3D0C58D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409400"/>
            <a:ext cx="2723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2560" y="1409400"/>
            <a:ext cx="2723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2760" y="1409400"/>
            <a:ext cx="2723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3857400"/>
            <a:ext cx="2723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2560" y="3857400"/>
            <a:ext cx="2723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2760" y="3857400"/>
            <a:ext cx="2723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ECAE-E471-4F69-B122-1A9DCAFBD2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409400"/>
            <a:ext cx="845820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F838-E3FF-4737-AB78-527C247DE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409400"/>
            <a:ext cx="8458200" cy="46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C36A-6F7A-4BEC-A1D9-46DE2C580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409400"/>
            <a:ext cx="4127400" cy="46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1409400"/>
            <a:ext cx="4127400" cy="46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6D51-98AA-4A9E-BAE4-91B7E8CB7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D22F-147B-4D08-BA99-E31C6689A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17748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C288-FD2B-40C1-B478-CFDD9FB9C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409400"/>
            <a:ext cx="4127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409400"/>
            <a:ext cx="4127400" cy="46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3857400"/>
            <a:ext cx="4127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D93D-B048-4296-8828-6AACF1E1A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409400"/>
            <a:ext cx="4127400" cy="46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409400"/>
            <a:ext cx="4127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3857400"/>
            <a:ext cx="4127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5DE2-04B7-45FA-BFF6-510645A04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409400"/>
            <a:ext cx="4127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409400"/>
            <a:ext cx="41274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3857400"/>
            <a:ext cx="8458200" cy="223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2308-F458-4F95-B420-0B8CFD53B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1409400"/>
            <a:ext cx="8458200" cy="46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656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3652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59372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205092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205092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205092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91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9BD1-3448-4F6F-A8A7-D27EC2F8DB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0" t="0" r="0" b="1954"/>
          <a:stretch/>
        </p:blipFill>
        <p:spPr>
          <a:xfrm>
            <a:off x="8078760" y="436680"/>
            <a:ext cx="658800" cy="62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557360"/>
            <a:ext cx="8640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a6f"/>
                </a:solidFill>
                <a:latin typeface="Verdana"/>
              </a:rPr>
              <a:t>Romania / Europ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a6f"/>
                </a:solidFill>
                <a:latin typeface="Verdana"/>
              </a:rPr>
              <a:t>Corporate Banking Converg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a6f"/>
                </a:solidFill>
                <a:latin typeface="Verdana"/>
              </a:rPr>
              <a:t>Overall, getting t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a6f"/>
                </a:solidFill>
                <a:latin typeface="Verdana"/>
              </a:rPr>
              <a:t>(with a few bum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4221000"/>
            <a:ext cx="572292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a6f"/>
                </a:solidFill>
                <a:latin typeface="Arial"/>
              </a:rPr>
              <a:t>Evangelos Kalamak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a6f"/>
                </a:solidFill>
                <a:latin typeface="Arial"/>
              </a:rPr>
              <a:t>MediaF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a6f"/>
                </a:solidFill>
                <a:latin typeface="Arial"/>
              </a:rPr>
              <a:t>Bucharest, 15 October 20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Grande"/>
              </a:rPr>
              <a:t>ALPHA BANK</a:t>
            </a: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</a:rPr>
              <a:t>What’s in the interest rate?</a:t>
            </a: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1197000"/>
            <a:ext cx="8458200" cy="489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RON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vs 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EUR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interest rates 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convergen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Interest Rate = Base Rate + Margi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EURIBOR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vs 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BUBOR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convergence (</a:t>
            </a: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when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Margins in 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RON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surprisingly 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lower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than in 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EU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Nominal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vs 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Real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Interest Rat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omanian companies experts at “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Carry Trade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FX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risk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Sovereign Risk=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36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f(macro economic policies, investment, fiscal policy, monetary policy)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omanian assets demand 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higher expected retur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656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 loan in Romania = Romanian Asse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"/>
          <p:cNvSpPr/>
          <p:nvPr/>
        </p:nvSpPr>
        <p:spPr>
          <a:xfrm>
            <a:off x="565200" y="6172200"/>
            <a:ext cx="8153280" cy="368280"/>
          </a:xfrm>
          <a:prstGeom prst="rect">
            <a:avLst/>
          </a:prstGeom>
          <a:solidFill>
            <a:srgbClr val="13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Please ask Mr Isaresc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201B-F7E6-4D9F-858B-98BC4E1EE901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Grande"/>
              </a:rPr>
              <a:t>Transparency of Financing Costs</a:t>
            </a: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409400"/>
            <a:ext cx="8458200" cy="46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Bankers are 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clever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and very 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inventive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individual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Conceivably, any movement of a single RON to any direction generates 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Eventually, three major 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cost ite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656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Upfront fe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3656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argi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3656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nnual maintenance fe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Even corporate loans have </a:t>
            </a:r>
            <a:r>
              <a:rPr b="1" lang="en-GB" sz="2400" spc="-1" strike="noStrike">
                <a:solidFill>
                  <a:srgbClr val="000000"/>
                </a:solidFill>
                <a:latin typeface="Lucida Grande"/>
              </a:rPr>
              <a:t>DAE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"/>
          <p:cNvSpPr/>
          <p:nvPr/>
        </p:nvSpPr>
        <p:spPr>
          <a:xfrm>
            <a:off x="565200" y="6172200"/>
            <a:ext cx="8153280" cy="368280"/>
          </a:xfrm>
          <a:prstGeom prst="rect">
            <a:avLst/>
          </a:prstGeom>
          <a:solidFill>
            <a:srgbClr val="13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Should you give a loan to a company who don’t know their DA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FE92-B901-448D-93B2-0A9D0493764C}" type="slidenum">
              <a:t>3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Grande"/>
              </a:rPr>
              <a:t>Services offered vs size/performance</a:t>
            </a: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"/>
          <p:cNvSpPr/>
          <p:nvPr/>
        </p:nvSpPr>
        <p:spPr>
          <a:xfrm>
            <a:off x="1135800" y="153036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Smaller / Simp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7680" y="513072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Larger /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133720"/>
            <a:ext cx="360360" cy="2950920"/>
          </a:xfrm>
          <a:prstGeom prst="downArrow">
            <a:avLst>
              <a:gd name="adj1" fmla="val 50000"/>
              <a:gd name="adj2" fmla="val 204720"/>
            </a:avLst>
          </a:prstGeom>
          <a:solidFill>
            <a:srgbClr val="b4df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2133720"/>
            <a:ext cx="360360" cy="2950920"/>
          </a:xfrm>
          <a:prstGeom prst="upArrow">
            <a:avLst>
              <a:gd name="adj1" fmla="val 50000"/>
              <a:gd name="adj2" fmla="val 204720"/>
            </a:avLst>
          </a:prstGeom>
          <a:solidFill>
            <a:srgbClr val="b4df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89640" y="2055960"/>
            <a:ext cx="3908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Current account /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Employee salary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Working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Term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Cash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Internet ba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Derivatives / Treasury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Structured 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Capital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200" y="6172200"/>
            <a:ext cx="8153280" cy="368280"/>
          </a:xfrm>
          <a:prstGeom prst="rect">
            <a:avLst/>
          </a:prstGeom>
          <a:solidFill>
            <a:srgbClr val="13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Almost there, last steps more diffic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AF73-91FB-493D-977E-D0BAD99B8A95}" type="slidenum">
              <a:t>4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Grande"/>
              </a:rPr>
              <a:t>Ratio between commissions / interest</a:t>
            </a: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/>
          <p:nvPr/>
        </p:nvSpPr>
        <p:spPr>
          <a:xfrm>
            <a:off x="3940200" y="265104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DAE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5200" y="6172200"/>
            <a:ext cx="8153280" cy="368280"/>
          </a:xfrm>
          <a:prstGeom prst="rect">
            <a:avLst/>
          </a:prstGeom>
          <a:solidFill>
            <a:srgbClr val="13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Grande"/>
              </a:rPr>
              <a:t>Separation between origination and 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3789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unless there is a liquid secondary market where fees count more, all-in cost 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D256-6B47-4FC6-BF82-81A248822968}" type="slidenum">
              <a:t>5</a:t>
            </a:fld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Grande"/>
              </a:rPr>
              <a:t>Credit Tightening? Segments?</a:t>
            </a: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1409400"/>
            <a:ext cx="8458200" cy="46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Higher probability than befor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FX risk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omania macro consideratio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Segments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656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3656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al Estat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3656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Infrastructure / Project Finan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3656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tai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3656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/>
          <p:nvPr/>
        </p:nvSpPr>
        <p:spPr>
          <a:xfrm>
            <a:off x="565200" y="6172200"/>
            <a:ext cx="8153280" cy="368280"/>
          </a:xfrm>
          <a:prstGeom prst="rect">
            <a:avLst/>
          </a:prstGeom>
          <a:solidFill>
            <a:srgbClr val="13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Some we will guess right, some we will miss…but will make money at the en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7F97-AF45-487D-925E-0A02BA5566E0}" type="slidenum">
              <a:t>6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177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Grande"/>
              </a:rPr>
              <a:t>Enough with you! Next one please…</a:t>
            </a:r>
            <a:endParaRPr b="1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409400"/>
            <a:ext cx="8458200" cy="46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2596-726C-4987-BAD9-D304490387DD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ial User</dc:creator>
  <dc:description/>
  <cp:keywords/>
  <dc:language>en-US</dc:language>
  <cp:lastModifiedBy>Evangelos P. Kalamakis</cp:lastModifiedBy>
  <dcterms:modified xsi:type="dcterms:W3CDTF">2007-10-15T05:18:07Z</dcterms:modified>
  <cp:revision>22</cp:revision>
  <dc:subject/>
  <dc:title>PowerPoint Presentation</dc:title>
</cp:coreProperties>
</file>