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64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6920" y="119700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837480" y="0"/>
            <a:ext cx="2306520" cy="1538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58880" y="2316240"/>
            <a:ext cx="7675560" cy="68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0" y="0"/>
            <a:ext cx="9140760" cy="685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LogoIng-Barings"/>
              </a:rPr>
              <a:t>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LogoIng-Barings"/>
              <a:ea typeface="LogoIng-Barings"/>
            </a:endParaRPr>
          </a:p>
        </p:txBody>
      </p:sp>
      <p:sp>
        <p:nvSpPr>
          <p:cNvPr id="4" name=""/>
          <p:cNvSpPr/>
          <p:nvPr/>
        </p:nvSpPr>
        <p:spPr>
          <a:xfrm>
            <a:off x="4633920" y="4764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72440" y="6451560"/>
            <a:ext cx="5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0AB9-B95F-4495-AFC5-3C36E1D10847}" type="slidenum">
              <a:rPr b="1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762120" y="1905120"/>
            <a:ext cx="769608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747280" y="1676520"/>
            <a:ext cx="1440" cy="4800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1676520"/>
            <a:ext cx="80056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605040" y="276120"/>
            <a:ext cx="3127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aci o afacere bun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ă cu noi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5272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5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374840"/>
            <a:ext cx="59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vederea sustinerii active a exporturilor si a productiei de export, EXIMBANK pune la dispozitia exportatorilor romani creditele de export, un set de solutii complete si flexibile, care acopera necesarul acestora de finantare pentru intregul circuit economico-financiar al activitatii de export, respectiv productie - livrare - incasar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itele de export oferite finanteaza contractele de export incheiate de producatori si/sau prestatori de servicii romani cu parteneri externi, direct sau prin comisionar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itele se acorda pe termen scurt si pe termen mediu, in LEI, USD si 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hyperlink" Target="http://www.romanianvoice.com/images/images/Ro015_Sib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romanianvoice.com/images/images/Ro035_Ias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8000" y="5516640"/>
            <a:ext cx="4969080" cy="8550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Black"/>
              </a:rPr>
              <a:t>Octombrie</a:t>
            </a:r>
            <a:r>
              <a:rPr b="1" lang="ro-RO" sz="18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 Black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989000"/>
            <a:ext cx="849636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66"/>
                </a:solidFill>
                <a:uFillTx/>
                <a:latin typeface="Arial Black"/>
              </a:rPr>
              <a:t>EXIMBA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66"/>
                </a:solidFill>
                <a:latin typeface="Arial Black"/>
              </a:rPr>
              <a:t>SUSŢ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66"/>
                </a:solidFill>
                <a:uFillTx/>
                <a:latin typeface="Arial Black"/>
              </a:rPr>
              <a:t>ÎN NUMELE ŞI CONTUL STATULUI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ro-RO" sz="2800" spc="-1" strike="noStrike">
                <a:solidFill>
                  <a:srgbClr val="000066"/>
                </a:solidFill>
                <a:latin typeface="Arial Black"/>
              </a:rPr>
              <a:t>MEDIUL DE AFACERI ROMÂNES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2978280"/>
            <a:ext cx="676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0640" y="1484280"/>
            <a:ext cx="8128080" cy="5334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2000" y="274464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Cluj-Nap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30480" y="3840120"/>
            <a:ext cx="137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Bras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75160" y="290844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Bac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036960"/>
            <a:ext cx="123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tie, 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30480" y="4367160"/>
            <a:ext cx="137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ulie , 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56280" y="34336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bruarie, 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13280" y="5578560"/>
            <a:ext cx="1160640" cy="573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39840" y="4805280"/>
            <a:ext cx="743040" cy="1013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79760" y="5478480"/>
            <a:ext cx="14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ai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7640" y="610236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The Triumphal Arch"/>
          <p:cNvPicPr/>
          <p:nvPr/>
        </p:nvPicPr>
        <p:blipFill>
          <a:blip r:embed="rId4"/>
          <a:stretch/>
        </p:blipFill>
        <p:spPr>
          <a:xfrm>
            <a:off x="4984920" y="4851360"/>
            <a:ext cx="1089000" cy="62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317840" y="5105520"/>
            <a:ext cx="14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ucures</a:t>
            </a: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78320" y="5634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723960" y="2862360"/>
            <a:ext cx="679320" cy="917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79600" y="364176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Timiso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643880" y="4749840"/>
            <a:ext cx="884160" cy="1201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22160" y="4167360"/>
            <a:ext cx="13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ulie, 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13440" y="5440320"/>
            <a:ext cx="14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Const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08760" y="596736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anuarie,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7"/>
          </p:cNvPr>
          <p:cNvPicPr/>
          <p:nvPr/>
        </p:nvPicPr>
        <p:blipFill>
          <a:blip r:embed="rId8">
            <a:lum bright="34000"/>
          </a:blip>
          <a:stretch/>
        </p:blipFill>
        <p:spPr>
          <a:xfrm>
            <a:off x="2692440" y="3517920"/>
            <a:ext cx="1089000" cy="608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>
            <a:lum bright="20000"/>
          </a:blip>
          <a:stretch/>
        </p:blipFill>
        <p:spPr>
          <a:xfrm>
            <a:off x="5734080" y="1995480"/>
            <a:ext cx="817560" cy="806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69228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SUCURSALELE  EXIMBANK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2205000"/>
            <a:ext cx="122580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Ora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1916280"/>
            <a:ext cx="1231920" cy="307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IN CURÂ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352680" cy="1893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981000"/>
            <a:ext cx="63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Tahoma"/>
              </a:rPr>
              <a:t>Vă mulţumim pentru atenţi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4365720"/>
            <a:ext cx="5832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9966"/>
                </a:solidFill>
                <a:latin typeface="Albertus Extra Bold"/>
              </a:rPr>
              <a:t>DIRECŢIA MARKETING ŞI </a:t>
            </a:r>
            <a:r>
              <a:rPr b="1" lang="en-US" sz="1400" spc="-1" strike="noStrike">
                <a:solidFill>
                  <a:srgbClr val="339966"/>
                </a:solidFill>
                <a:latin typeface="Albertus Extra Bold"/>
              </a:rPr>
              <a:t>V</a:t>
            </a:r>
            <a:r>
              <a:rPr b="1" lang="ro-RO" sz="1400" spc="-1" strike="noStrike">
                <a:solidFill>
                  <a:srgbClr val="339966"/>
                </a:solidFill>
                <a:latin typeface="Albertus Extra Bold"/>
              </a:rPr>
              <a:t>ÂNZĂ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lbertus Extra Bold"/>
              </a:rPr>
              <a:t>Tel.:021/ 405.31.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bertus Extra Bold"/>
              </a:rPr>
              <a:t>marketing.vanzari@eximbank.r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www.eximbank.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8000" y="4005360"/>
            <a:ext cx="27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99"/>
                </a:solidFill>
                <a:latin typeface="Arial"/>
              </a:rPr>
              <a:t>EXIM</a:t>
            </a:r>
            <a:r>
              <a:rPr b="1" lang="ro-RO" sz="2000" spc="-1" strike="noStrike">
                <a:solidFill>
                  <a:srgbClr val="009999"/>
                </a:solidFill>
                <a:latin typeface="Arial"/>
              </a:rPr>
              <a:t>BANK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7760" y="1003320"/>
            <a:ext cx="6523200" cy="368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E ŞI SERVICI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o-RO" sz="1800" spc="-1" strike="noStrike" u="sng">
                <a:solidFill>
                  <a:srgbClr val="000066"/>
                </a:solidFill>
                <a:uFillTx/>
                <a:latin typeface="Arial"/>
              </a:rPr>
              <a:t>ÎN NUMELE ŞI CONTUL STAT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3000"/>
            <a:ext cx="8748720" cy="514692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1. </a:t>
            </a:r>
            <a:r>
              <a:rPr b="1" i="1" lang="ro-RO" sz="1400" spc="-1" strike="noStrike" u="sng">
                <a:solidFill>
                  <a:srgbClr val="009999"/>
                </a:solidFill>
                <a:uFillTx/>
                <a:latin typeface="Arial"/>
              </a:rPr>
              <a:t>GARANŢ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o-RO" sz="1200" spc="-1" strike="noStrike" u="sng">
                <a:solidFill>
                  <a:srgbClr val="0066cc"/>
                </a:solidFill>
                <a:uFillTx/>
                <a:latin typeface="Arial"/>
              </a:rPr>
              <a:t>PENTRU EXPORTATORI</a:t>
            </a:r>
            <a:r>
              <a:rPr b="1" lang="en-US" sz="1200" spc="-1" strike="noStrike" u="sng">
                <a:solidFill>
                  <a:srgbClr val="0066cc"/>
                </a:solidFill>
                <a:uFillTx/>
                <a:latin typeface="Arial"/>
              </a:rPr>
              <a:t>:</a:t>
            </a:r>
            <a:r>
              <a:rPr b="1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.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garantii utilizate</a:t>
            </a:r>
            <a:r>
              <a:rPr b="1" lang="ro-RO" sz="1200" spc="-1" strike="noStrike" u="sng">
                <a:solidFill>
                  <a:srgbClr val="009999"/>
                </a:solidFill>
                <a:uFillTx/>
                <a:latin typeface="Arial"/>
              </a:rPr>
              <a:t> la extern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:  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garanţii de participare la licitaţii, garanţii de bună execuţie, garanţii de bună funcţionare, garanţii de restituire a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garanţii pentru exporturi complexe şi produse cu ciclu lung de fabricaţie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garanţii pentru export de mărfuri generale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b.</a:t>
            </a:r>
            <a:r>
              <a:rPr b="1" lang="ro-RO" sz="1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garantii utilizate</a:t>
            </a:r>
            <a:r>
              <a:rPr b="1" lang="ro-RO" sz="1200" spc="-1" strike="noStrike" u="sng">
                <a:solidFill>
                  <a:srgbClr val="009999"/>
                </a:solidFill>
                <a:uFillTx/>
                <a:latin typeface="Arial"/>
              </a:rPr>
              <a:t> la in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   g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ranţii pentru credite ex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o-RO" sz="1200" spc="-1" strike="noStrike" u="sng">
                <a:solidFill>
                  <a:srgbClr val="0066cc"/>
                </a:solidFill>
                <a:uFillTx/>
                <a:latin typeface="Arial"/>
              </a:rPr>
              <a:t>PENTRU IMM-uri SI ALŢI AGENŢI ECONOMICI</a:t>
            </a: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garanţii pentru IMM-u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                            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 garantii pentru domenii prioritare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: garanţii pentru internaţionalizare, garanţii pentru protecţia mediului, garanţii pentru infrastructură, garanţii pentru cercetare-dezvoltare, garanţii pentru dezvoltarea utilităţilor de interes public, garanţii pentru ocuparea şi formarea personalului, garanţii pentru dezvoltare regională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2. </a:t>
            </a:r>
            <a:r>
              <a:rPr b="1" i="1" lang="ro-RO" sz="1400" spc="-1" strike="noStrike" u="sng">
                <a:solidFill>
                  <a:srgbClr val="009999"/>
                </a:solidFill>
                <a:uFillTx/>
                <a:latin typeface="Arial"/>
              </a:rPr>
              <a:t>ASIGURĂRI</a:t>
            </a:r>
            <a:r>
              <a:rPr b="1" i="1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poliţe de asigurare, pe termen scurt, mediu sau lung, a riscului de neplată la  ex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poliţe de asigurare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 exporturilor complexe şi a produselor cu ciclu lung de fabricaţ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poliţe de asigurare a creditului cumpără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poliţe de asigurare a investiţiilor româneşti de capital în străină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3. </a:t>
            </a:r>
            <a:r>
              <a:rPr b="1" i="1" lang="ro-RO" sz="1400" spc="-1" strike="noStrike" u="sng">
                <a:solidFill>
                  <a:srgbClr val="009999"/>
                </a:solidFill>
                <a:uFillTx/>
                <a:latin typeface="Arial"/>
              </a:rPr>
              <a:t>FINANŢĂ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scheme de ajutor de stat, permise în Uniunea Europeană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e-finan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ţări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; co-finan</a:t>
            </a: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ţări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1773360"/>
            <a:ext cx="7848720" cy="46800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109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9999"/>
                </a:solidFill>
                <a:latin typeface="Verdana"/>
              </a:rPr>
              <a:t>GARANŢI</a:t>
            </a:r>
            <a:r>
              <a:rPr b="1" lang="en-US" sz="2800" spc="-1" strike="noStrike">
                <a:solidFill>
                  <a:srgbClr val="009999"/>
                </a:solidFill>
                <a:latin typeface="Verdana"/>
              </a:rPr>
              <a:t>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84464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t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destina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garantării creditelo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/ scrisorilor de garantie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angajate de IMM-ur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/ al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ţi operatori economici de la bănci comerciale, în vederea finanţării dezvoltării şi modernizării activităţii proprii sau realizării de proiecte de investiţii în domenii priori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acoperă riscul de nerambursare a creditului/ scrisorii de       garanţie  de la  banca comercial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reprezintă o garanţie irevocabilă şi necondiţionată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directă şi expresă, care este plătibilă la prima cer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crisă a beneficiarulu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î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maxim 15 zile lucr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are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e acordă în  completarea garanţiilor prezentate băncii finanţato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acoperă  max. 80% din valoarea creditului (principalulu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nu sunt ajutoare de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820800"/>
            <a:ext cx="6659640" cy="368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E ŞI SERVICI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 u="sng">
                <a:solidFill>
                  <a:srgbClr val="000066"/>
                </a:solidFill>
                <a:uFillTx/>
                <a:latin typeface="Arial"/>
              </a:rPr>
              <a:t>ÎN NUMELE ŞI CONTUL STAT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052640"/>
            <a:ext cx="6481800" cy="64260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9999"/>
                </a:solidFill>
                <a:latin typeface="Arial"/>
              </a:rPr>
              <a:t>COMPENSAREA PARŢIALĂ A DOBÂNZ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9999"/>
                </a:solidFill>
                <a:latin typeface="Arial"/>
              </a:rPr>
              <a:t>la creditele în lei contractate de agenţii econom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89480" y="2205000"/>
            <a:ext cx="68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usţinerea mediului de afaceri şi creşterea competitivităţi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agenţilor economici prin reducerea cheltuielilo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c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dobânzile la creditele contractate în L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3213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 acord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entru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creditele bancare angajate de agenţi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economici ( inclusiv IMM-uri ) după data de 01.01.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393372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acoperă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max. 50% din dobânda plătită în trimestrul 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celui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care se solicita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compensarea, dar nu mai m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d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chiv. 200.000 EURO (cumulat, pe o perioada de 3 ani)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, şi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respectiv echiv. 100.000 EURO pentru transporturi ruti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30064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termenul de depunere a solicitării este trimestrial, în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de zile de la încheierea trimestrului pentru car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olicit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90840" y="1844640"/>
            <a:ext cx="7013520" cy="48243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765000"/>
            <a:ext cx="6659640" cy="33732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</a:rPr>
              <a:t>SE ŞI SERVICII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600" spc="-1" strike="noStrike" u="sng">
                <a:solidFill>
                  <a:srgbClr val="000066"/>
                </a:solidFill>
                <a:uFillTx/>
                <a:latin typeface="Arial"/>
              </a:rPr>
              <a:t>ÎN NUMELE ŞI CONTUL STATUL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2852640"/>
            <a:ext cx="1512720" cy="1784160"/>
          </a:xfrm>
          <a:prstGeom prst="rect">
            <a:avLst/>
          </a:prstGeom>
          <a:solidFill>
            <a:srgbClr val="0000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ffffff"/>
                </a:solidFill>
                <a:latin typeface="Arial"/>
              </a:rPr>
              <a:t>SCHEMĂ DE AJUTOR DE STAT PERMISĂ ÎN U.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“DE MINIMIS”)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11280" y="1916280"/>
            <a:ext cx="287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66"/>
                </a:solidFill>
                <a:latin typeface="Arial"/>
              </a:rPr>
              <a:t>Beneficiari elig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2276640"/>
            <a:ext cx="626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IMM – uri pentru dobânda plătită la creditele pentru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-  investiţii în producţie şi/sau servi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Operatori economici care îşi desfăşoară activitatea în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următoarele domenii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cercetare – dezvol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protecţia mediului înconjură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dezvoltare regional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ocuparea şi formarea personal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operatori economici pentru dobânda plătită la creditele pentru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participare la târguri, studii sau servicii de consultanţă pentru lansare de produse noi/produse existenta pe o piaţă nouă pentru promovarea export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2276640"/>
            <a:ext cx="6782040" cy="41115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1341360"/>
            <a:ext cx="58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9999"/>
                </a:solidFill>
                <a:latin typeface="Arial"/>
              </a:rPr>
              <a:t>COMPENSAREA PARŢIALĂ A DOBÂNZ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9999"/>
                </a:solidFill>
                <a:latin typeface="Arial"/>
              </a:rPr>
              <a:t>la creditele în lei contractate de agenţii econom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892080"/>
            <a:ext cx="6659640" cy="368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E ŞI SERVICI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 u="sng">
                <a:solidFill>
                  <a:srgbClr val="000066"/>
                </a:solidFill>
                <a:uFillTx/>
                <a:latin typeface="Arial"/>
              </a:rPr>
              <a:t>ÎN NUMELE ŞI CONTUL STAT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2852640"/>
            <a:ext cx="1512720" cy="1784160"/>
          </a:xfrm>
          <a:prstGeom prst="rect">
            <a:avLst/>
          </a:prstGeom>
          <a:solidFill>
            <a:srgbClr val="0000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ffffff"/>
                </a:solidFill>
                <a:latin typeface="Arial"/>
              </a:rPr>
              <a:t>SCHEMĂ DE AJUTOR DE STAT PERMISĂ ÎN U.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“DE MINIMIS”)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1970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99"/>
                </a:solidFill>
                <a:uFillTx/>
                <a:latin typeface="Arial Narrow"/>
              </a:rPr>
              <a:t>FINANŢĂRI ÎN LEI CU DOBANDĂ SUBVENŢIONAT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1840" y="2060640"/>
            <a:ext cx="7273800" cy="4750920"/>
          </a:xfrm>
          <a:prstGeom prst="rect">
            <a:avLst/>
          </a:prstGeom>
          <a:noFill/>
          <a:ln w="9360">
            <a:solidFill>
              <a:srgbClr val="75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9999"/>
                </a:solidFill>
                <a:latin typeface="Arial"/>
              </a:rPr>
              <a:t>PRODUSE UNICE, de natura </a:t>
            </a:r>
            <a:r>
              <a:rPr b="1" lang="ro-RO" sz="1600" spc="-1" strike="noStrike" u="sng">
                <a:solidFill>
                  <a:srgbClr val="009999"/>
                </a:solidFill>
                <a:uFillTx/>
                <a:latin typeface="Arial"/>
              </a:rPr>
              <a:t>AJUTOARELOR DE STAT DE MINIMIS</a:t>
            </a:r>
            <a:r>
              <a:rPr b="1" lang="ro-RO" sz="1600" spc="-1" strike="noStrike">
                <a:solidFill>
                  <a:srgbClr val="009999"/>
                </a:solidFill>
                <a:latin typeface="Arial"/>
              </a:rPr>
              <a:t>, c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asigură reducerea  substanţială a cheltuielilor cu dobânzile la creditele în le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au o DOBÂNDĂ SUBVENŢIONATĂ CU 5p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pot ajunge până la echiv. LEI a 1.500.000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se acordă pe o perioadă de PÂNĂ LA 5 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prevăd o modalitate de garantare foarte flexibil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*]  Subvenţia acordată sub forma ajutorului de stat de minimis poate ajunge până la echiv LEI a 200.000 EUR, cumulat, pe o perioadă de 3 ani fiscali (2 ani fiscali anteriori , plus anul în curs), respectiv echiv LEI a 100.000 EUR, pentru domeniul de activitate transporturi rut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8000" y="820800"/>
            <a:ext cx="6659640" cy="368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E ŞI SERVICI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 u="sng">
                <a:solidFill>
                  <a:srgbClr val="000066"/>
                </a:solidFill>
                <a:uFillTx/>
                <a:latin typeface="Arial"/>
              </a:rPr>
              <a:t>ÎN NUMELE ŞI CONTUL STAT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920" y="2852640"/>
            <a:ext cx="1295280" cy="1697040"/>
          </a:xfrm>
          <a:prstGeom prst="rect">
            <a:avLst/>
          </a:prstGeom>
          <a:solidFill>
            <a:srgbClr val="0000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SCHEMĂ DE AJUTOR DE STAT PERMISĂ ÎN U.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“DE MINIMIS”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8000" y="820800"/>
            <a:ext cx="6659640" cy="368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E ŞI SERVICI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 u="sng">
                <a:solidFill>
                  <a:srgbClr val="000066"/>
                </a:solidFill>
                <a:uFillTx/>
                <a:latin typeface="Arial"/>
              </a:rPr>
              <a:t>ÎN NUMELE ŞI CONTUL STAT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970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99"/>
                </a:solidFill>
                <a:uFillTx/>
                <a:latin typeface="Arial Narrow"/>
              </a:rPr>
              <a:t>FINANŢĂRI ÎN LEI CU DOBANDĂ SUBVENŢIONAT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4920" y="2144520"/>
            <a:ext cx="7200720" cy="4782600"/>
          </a:xfrm>
          <a:prstGeom prst="rect">
            <a:avLst/>
          </a:prstGeom>
          <a:noFill/>
          <a:ln w="9360">
            <a:solidFill>
              <a:srgbClr val="75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400" spc="-1" strike="noStrike">
                <a:solidFill>
                  <a:srgbClr val="000066"/>
                </a:solidFill>
                <a:latin typeface="Arial"/>
              </a:rPr>
              <a:t>CREDITE DE DEZVOLTARE PENTRU IM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pentru finanţarea proiectelor de investiţ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valoarea creditului : 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</a:rPr>
              <a:t>max. 1.500.000 EUR în echiv. 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perioada creditului: 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</a:rPr>
              <a:t>max. 5 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43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400" spc="-1" strike="noStrike">
                <a:solidFill>
                  <a:srgbClr val="000066"/>
                </a:solidFill>
                <a:latin typeface="Arial"/>
              </a:rPr>
              <a:t>CREDITE PENTRU CAPITAL DE LUC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pentru finanţarea activităţii curente a I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valoarea creditului: 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</a:rPr>
              <a:t>max. 300.000 EUR în echiv. 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perioada creditului: 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</a:rPr>
              <a:t>max. 1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400" spc="-1" strike="noStrike">
                <a:solidFill>
                  <a:srgbClr val="000066"/>
                </a:solidFill>
                <a:latin typeface="Arial"/>
              </a:rPr>
              <a:t>MICROCREDIT PENTRU I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pentru proiecte de investiţii şi/sau activitate curent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valoarea creditului :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</a:rPr>
              <a:t>min. 10.000 EUR, max. 35.000 EUR în echiv. 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perioada creditului :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</a:rPr>
              <a:t>max. 1 an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 pt activitatea curentă / 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</a:rPr>
              <a:t>max. 5 ani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 p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investiţ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400" spc="-1" strike="noStrike">
                <a:solidFill>
                  <a:srgbClr val="000066"/>
                </a:solidFill>
                <a:latin typeface="Arial"/>
              </a:rPr>
              <a:t>CREDITE PENTRU DOMENII PRIORIT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pentru finanţarea proiectelor din domeniile prioritare de dezvolt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(dezvoltare  regională, cercetare-dezvoltare, protecţia mediului, utilităţ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publice, ocupare şi  formare personal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valoarea creditului: 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</a:rPr>
              <a:t>max. 1.500.000 EUR în echiv. 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- perioada creditului 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</a:rPr>
              <a:t>max. 5 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684360" y="1628640"/>
            <a:ext cx="34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09999"/>
                </a:solidFill>
                <a:uFillTx/>
                <a:latin typeface="Arial"/>
              </a:rPr>
              <a:t>EXIMBANK ACORD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2852640"/>
            <a:ext cx="1368360" cy="1697040"/>
          </a:xfrm>
          <a:prstGeom prst="rect">
            <a:avLst/>
          </a:prstGeom>
          <a:solidFill>
            <a:srgbClr val="0000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SCHEMĂ DE AJUTOR DE STAT PERMISĂ ÎN U.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“DE MINIMIS”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773360"/>
            <a:ext cx="8280360" cy="508464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844640"/>
            <a:ext cx="8604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La data depunerii cererii, să nu figureze cu credite restante în baza de date a CRB şi să 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figureze cu incidente majore cu cecuri şi bilete la ordin în ultimele 12 luni în baza de date a 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Să nu înregistreze datorii restante către bugetul general consolidat al statului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data depunerii cererii de compens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Să nu se fi instituit procedura judiciară a insolvenţei, conform legislaţiei în vigo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La momentul solicitării de compensare a dobânzii, să nu se afle în litigii, în cali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de pârât, cu instituţiile statului, inclusiv  EXIMB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 cazul solicitarilor de garantii IMM  si a finantarilor cu dobanda subventionata,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să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înregistreze pierdere, conform rezultatelor financiare de la sfârşitul anului anterior solicitări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Să nu înregistreze capital propriu negativ, conform rezultatelor financiare de la sfârşitul anului anterior solicitări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Să nu fie în dificultate, în cazul solicitării unei finanţări cu dobândă subventionată sau garanţii pentru domenii priorita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pentru ajutoarele de minimis solicitate, la data depunerii cererii, suma ajutoarelor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minim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s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de care a beneficiat în ultimii 3 ani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fiscali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, inclusiv ajutorul de stat sub forma măsurilor de sprijin  acordate de EXIMBANK, nu depăşeşt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hiv. a 200.000 EUR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, pragul minim al ajutorului de stat.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respectiv 100.000 EUR pentru sectorul transport rutier)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pentru garanţia IMM şi garanţia pentru domenii prioritare, să prezinte băncii cel puţin 20% garanţii colaterale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</a:rPr>
              <a:t>pentru finanţări cu dobândă subventionată, să contribuie cu cel puţin 20% surse proprii la finanţarea proiectului de investiţii.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80" y="1125360"/>
            <a:ext cx="6726240" cy="55044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CRITERII DE ELIGIBILITATE PENTRU PRODUSELE EXIMBANK</a:t>
            </a:r>
            <a:r>
              <a:rPr b="1" lang="ro-RO" sz="1400" spc="-1" strike="noStrike" u="sng">
                <a:solidFill>
                  <a:srgbClr val="000066"/>
                </a:solidFill>
                <a:uFillTx/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200" y="18921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9999"/>
                </a:solidFill>
                <a:uFillTx/>
                <a:latin typeface="Arial Narrow"/>
              </a:rPr>
              <a:t>ASIGURĂRI PENTRU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8000" y="820800"/>
            <a:ext cx="6696000" cy="64260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E ŞI SERVICI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OFERITE DE EXIMBANK ÎN NUMELE ŞI CONTUL STAT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535120"/>
            <a:ext cx="849780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500" spc="-1" strike="noStrike" u="sng">
                <a:solidFill>
                  <a:srgbClr val="000066"/>
                </a:solidFill>
                <a:uFillTx/>
                <a:latin typeface="Arial"/>
              </a:rPr>
              <a:t>Asigurarea riscului de neplată la extern pe termen scurt</a:t>
            </a:r>
            <a:r>
              <a:rPr b="1" lang="ro-RO" sz="1500" spc="-1" strike="noStrike">
                <a:solidFill>
                  <a:srgbClr val="000066"/>
                </a:solidFill>
                <a:latin typeface="Arial"/>
              </a:rPr>
              <a:t> (pentru exporturi pe credit cu plata la termen de până la 1 an; acoperă riscul de neplată din partea cumpărătorilor externi, în perioada de pre şi post-livrare; procentul asigurat este de până la 85 % din valoarea contractului de export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500" spc="-1" strike="noStrike" u="sng">
                <a:solidFill>
                  <a:srgbClr val="000066"/>
                </a:solidFill>
                <a:uFillTx/>
                <a:latin typeface="Arial"/>
              </a:rPr>
              <a:t>Asigurarea creditelor de export pe termen mediu şi lung</a:t>
            </a:r>
            <a:r>
              <a:rPr b="1" lang="ro-RO" sz="1500" spc="-1" strike="noStrike">
                <a:solidFill>
                  <a:srgbClr val="000066"/>
                </a:solidFill>
                <a:latin typeface="Arial"/>
              </a:rPr>
              <a:t> (pentru exporturi de bunuri de capital şi lucrări construcţii montaj, cu plata la termen mai mare de 1 an; acoperă riscul de neplată din partea cumpărătorilor externi, în perioada de pre şi post-livrare; procentul asigurat este de până la 85 % din valoarea contractului de export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500" spc="-1" strike="noStrike" u="sng">
                <a:solidFill>
                  <a:srgbClr val="000066"/>
                </a:solidFill>
                <a:uFillTx/>
                <a:latin typeface="Arial"/>
              </a:rPr>
              <a:t>Asigurarea creditului cumpărător</a:t>
            </a:r>
            <a:r>
              <a:rPr b="1" lang="ro-RO" sz="1500" spc="-1" strike="noStrike">
                <a:solidFill>
                  <a:srgbClr val="000066"/>
                </a:solidFill>
                <a:latin typeface="Arial"/>
              </a:rPr>
              <a:t> (pentru exporturi la care finanţarea importatorului este oferită de banca exportatorului; se asigură riscul de nerambursare a creditului cumpărător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o-RO" sz="1500" spc="-1" strike="noStrike" u="sng">
                <a:solidFill>
                  <a:srgbClr val="000066"/>
                </a:solidFill>
                <a:uFillTx/>
                <a:latin typeface="Arial"/>
              </a:rPr>
              <a:t>Asigurarea investiţiilor româneşti de capital în străinătate</a:t>
            </a:r>
            <a:r>
              <a:rPr b="1" lang="ro-RO" sz="1500" spc="-1" strike="noStrike">
                <a:solidFill>
                  <a:srgbClr val="000066"/>
                </a:solidFill>
                <a:latin typeface="Arial"/>
              </a:rPr>
              <a:t> (prin care se acoperă riscurile politice aferente implementării proiectului investiţional în ţara gazdă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9:04:36Z</dcterms:created>
  <dc:creator>razvan</dc:creator>
  <dc:description/>
  <dc:language>en-US</dc:language>
  <cp:lastModifiedBy>Maria.Iliescu</cp:lastModifiedBy>
  <dcterms:modified xsi:type="dcterms:W3CDTF">2007-10-15T06:29:33Z</dcterms:modified>
  <cp:revision>718</cp:revision>
  <dc:subject/>
  <dc:title>No Slide Title</dc:title>
</cp:coreProperties>
</file>