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2B5-4F3F-4A8A-A175-DB185D9F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47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E0F-F493-4F0B-9BF8-DD54FE7C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47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47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829-5DB8-461F-AB64-EFB77E15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1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1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47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47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47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4DD-D077-4676-8856-83E6B331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0AE8-65F7-4ADE-B17B-110AA69E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735F-8DF7-4205-B944-1BC618E4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F865-CE1E-4125-982E-A5FBF195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2121-76A7-46E9-B3F2-FE3E04C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8C19-D44C-491E-AB36-B9132087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775E-7876-43AD-AC09-BEF829C9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47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CA32-CBFA-40C2-80FA-0D7EBC8B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5DD-55B4-4769-8AE2-5AAF86D0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47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40B3-05F6-4951-94A3-D54A48E7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47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F5A5-7B88-4269-9237-7DF1D147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47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9C6A-FD17-4D87-826C-E7E7588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47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47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2337-C349-4BE7-ADCC-B861C39A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11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11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47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47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47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997-EACB-4DD9-980E-BA90B815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305-3793-48F0-9308-B4F025F2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3C4-1D29-4193-BB14-9A08FE25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89B-3FA1-40F6-BDF4-42CD0C19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03D-613D-435F-B842-AF198E86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47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24A-9640-422E-9A48-9B54508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47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635-C7DB-4707-896D-636D044A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1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47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308-5AB3-4C89-BBA8-61664CA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836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6FC0-7E20-4BF7-9AD7-816FF16D1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14300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6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AE5E-BAB2-4ABF-9075-E086520ED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143000" cy="603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8367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8367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6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Banca Comercială Română – finanţatorul economiei re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Jean Andronie – Vicepreşedinte executiv Corporate Ba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ctombri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CR ŞI CLIENŢII – preocupări comu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rinţele instituţiei de reglementare</a:t>
            </a: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, în special în zona creditului, trebuie atent monitorizate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stionarea riscului afacerilor</a:t>
            </a: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 este o condiţie comună pentru un management performant şi eficienţa aşteptată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gramul Naţional de Dezvoltare</a:t>
            </a: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 (PND) 2007 – 2013 ofer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şanse mari de finanţare</a:t>
            </a: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, din care: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Fonduri structurale: 43% - </a:t>
            </a:r>
            <a:r>
              <a:rPr b="1" lang="en-US" sz="1800" spc="-1" strike="noStrike">
                <a:solidFill>
                  <a:srgbClr val="083676"/>
                </a:solidFill>
                <a:latin typeface="Arial"/>
              </a:rPr>
              <a:t>25,2 miliarde EUR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Capacitatea de administrare a proiectelor trebuie însă atent urmărită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Împrumutul bancar</a:t>
            </a: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 este o sursă de finanţare care se va dezvolta în continuare şi care trebuie utilizat ca atare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Există şi alternative de finanţare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8367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Piaţa de capital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8367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Fondurile de investiţii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Aceste alternative nu sunt suficient utilizate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unicarea şi informarea reciprocă</a:t>
            </a: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 trebuie să se dezvolte în folosul înţelegerii afacerilor şi facilitării finanţării lor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3676"/>
                </a:solidFill>
                <a:latin typeface="Arial"/>
              </a:rPr>
              <a:t>Vă mulţumesc</a:t>
            </a:r>
            <a:endParaRPr b="0" lang="en-US" sz="4000" spc="-1" strike="noStrike">
              <a:solidFill>
                <a:srgbClr val="0836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ANCA COMERCIALĂ ROMÂNĂ – capacitate mare de finanţare ca urmare a caracterului său de bancă universal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1240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Statutul de bancă universală s-a consolidat prin: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1434960" indent="-45216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Oferta de servicii financiare integrate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1434960" indent="-45216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Baza largă şi diversificată de clienţi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1434960" indent="-45216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Metode şi tehnici de lucru adecvate şi personalizate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1434960" indent="-45216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Avantajele ce le oferă Grupul BCR prin subsidiarele sale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BCR este prezentă pe toate segmentele de piaţă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1434960" indent="-452160"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Prin pilonii de bază ai activităţii sale:  corporate banking, retail banking şi investment banking;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1434960" indent="-452160"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Prin produsele oferite de subsidiarele sale: leasing financiar, asigurări generale şi asigurări de viaţă şi managementul activelor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Creditul bancar – activul cel mai dinamic şi mai consistent în bilanţul băncii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181480"/>
            <a:ext cx="838224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tu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car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5%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in activul BCR la 31.12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5486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PORATE BANKING – avantajele BC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12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Activitatea cu cel mai mare grad de maturitate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Activitate tradiţională şi bine consolidată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1" marL="1436760" indent="-5367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Expertiză vastă în domeniu şi autoritate recunoscută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1436760" indent="-5367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Legături de afaceri cu o structură vastă de clienţi 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1436760" indent="-5367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Principalele segmente de clienţi în atenţie: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2" marL="1844640" indent="-228600"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Clienţi mari ai Grupului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2" marL="1844640" indent="-228600"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Clienţi mari locali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2" marL="1844640" indent="-228600"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Întreprinderi mici şi mijlocii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2" marL="1844640" indent="-228600"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Municipalităţi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1436760" indent="-5367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Îmbunătăţirea segmentării bazei de clienţi mereu în atenţie 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362320"/>
            <a:ext cx="381240" cy="302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PORATE BANKING – motoarele de creştere şi factorii su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Motoare de creştere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3676"/>
              </a:buClr>
              <a:buFont typeface="Wing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3676"/>
                </a:solidFill>
                <a:latin typeface="Arial"/>
              </a:rPr>
              <a:t>F</a:t>
            </a: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inanţarea segmentului de real estate, inclusiv finanţare de proiecte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volumul pieţei real estate:</a:t>
            </a: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15 miliarde EUR</a:t>
            </a: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la sfârşitul anului 2006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3676"/>
              </a:buClr>
              <a:buFont typeface="Wing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3676"/>
                </a:solidFill>
                <a:latin typeface="Arial"/>
              </a:rPr>
              <a:t>F</a:t>
            </a: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inanţarea activităţii curente, de investiţii şi de export a IMM-urilor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3676"/>
              </a:buClr>
              <a:buFont typeface="Wing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3676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reditul de investiţii pentru municipalităţi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actori suport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3676"/>
              </a:buClr>
              <a:buFont typeface="Wing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3676"/>
                </a:solidFill>
                <a:latin typeface="Arial"/>
              </a:rPr>
              <a:t>B</a:t>
            </a: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eneficiile proiectului de optimizare corporate şi a tuturor proiectelor dedicate zonei corporate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3676"/>
              </a:buClr>
              <a:buFont typeface="Wing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3676"/>
                </a:solidFill>
                <a:latin typeface="Arial"/>
              </a:rPr>
              <a:t>Î</a:t>
            </a: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mbunătăţirea ofertei şi simplificarea procedurilor de lucru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3676"/>
              </a:buClr>
              <a:buFont typeface="Wing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3676"/>
                </a:solidFill>
                <a:latin typeface="Arial"/>
              </a:rPr>
              <a:t>D</a:t>
            </a: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ezvoltarea sistemului de lucru aliniat la standardele Erste Bank 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ITUL CORPORATE – principalul produs al liniei funcţionale corpo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3676"/>
                </a:solidFill>
                <a:latin typeface="Arial"/>
              </a:rPr>
              <a:t>Priorităţile în atenţia băncii: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lvl="1" marL="987480" indent="-285840">
              <a:lnSpc>
                <a:spcPct val="90000"/>
              </a:lnSpc>
              <a:spcBef>
                <a:spcPts val="499"/>
              </a:spcBef>
              <a:buClr>
                <a:srgbClr val="083676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Creditul în lei rămâne prioritar faţă de cel în valută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987480" indent="-285840">
              <a:lnSpc>
                <a:spcPct val="90000"/>
              </a:lnSpc>
              <a:spcBef>
                <a:spcPts val="499"/>
              </a:spcBef>
              <a:buClr>
                <a:srgbClr val="083676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Liniile de finanţare vor stimula creditul de investiţii pe termen mediu şi lung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987480" indent="-285840">
              <a:lnSpc>
                <a:spcPct val="90000"/>
              </a:lnSpc>
              <a:spcBef>
                <a:spcPts val="499"/>
              </a:spcBef>
              <a:buClr>
                <a:srgbClr val="083676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Proiectele complexe, în special cele de infrastructură, vor fi încorporate şi susţinute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987480" indent="-285840">
              <a:lnSpc>
                <a:spcPct val="90000"/>
              </a:lnSpc>
              <a:spcBef>
                <a:spcPts val="499"/>
              </a:spcBef>
              <a:buClr>
                <a:srgbClr val="083676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3676"/>
                </a:solidFill>
                <a:latin typeface="Arial"/>
              </a:rPr>
              <a:t>Garanţiile de firmă pentru clienţii cu o situaţie financiară bună şi cesiunea cash flow se vor dezvolta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2" marL="1935000" indent="-22860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Activitatea de factoring intern şi internaţional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2" marL="1935000" indent="-22860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Forfetarea externă şi, apoi, forfetarea internă sunt modalităţi complementare de finanţare a exporturilor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2" marL="1935000" indent="-22860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Plăţile documentare la import şi export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2" marL="1935000" indent="-22860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Oferta de servicii performante în zona gestionării lichidităţilor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962520"/>
            <a:ext cx="1905120" cy="1396440"/>
          </a:xfrm>
          <a:noFill/>
          <a:ln w="93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lte activităţi ce completează oferta BC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ITUL BANCAR – sursă importantă de finanţare DAR INSUFICIENT DEZVOLTAT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03644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În România, creditul are pondere moderată în bilanţul agenţilor economici, comparativ cu situaţia din alte ţări: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1590840"/>
          <a:ext cx="8001000" cy="2233440"/>
        </p:xfrm>
        <a:graphic>
          <a:graphicData uri="http://schemas.openxmlformats.org/drawingml/2006/table">
            <a:tbl>
              <a:tblPr/>
              <a:tblGrid>
                <a:gridCol w="2549520"/>
                <a:gridCol w="990720"/>
                <a:gridCol w="799920"/>
                <a:gridCol w="895320"/>
                <a:gridCol w="895320"/>
                <a:gridCol w="808200"/>
                <a:gridCol w="10620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Româ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Franţ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Sp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Ital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Austr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Germ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Agricultur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8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2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2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2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Industr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7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6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8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0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Energ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Construcţ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6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2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Comerţ şi servic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9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2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9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Transporturi şi comunicaţ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3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943600" y="37638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83676"/>
                </a:solidFill>
                <a:latin typeface="Arial"/>
              </a:rPr>
              <a:t>Sursa: Banca Central Europeană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962520"/>
            <a:ext cx="86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buClr>
                <a:srgbClr val="083676"/>
              </a:buClr>
              <a:buFont typeface="Arial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Majoritatea companiilor nu deţin nici un credit, iar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86%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 din IMM-uri nu se finanţează din surse ban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În BCR: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60%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 din creditele acordate IMM-urilor aparţin industriei şi comerţ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51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74%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 din IMM-urile din România fac afaceri cu B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51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în 2006, creditele BCR erau deţinute: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ro-RO" sz="18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 de IMM-uri,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41,5%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 clienţi 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mari locali şi ai Grupului şi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8,5%</a:t>
            </a: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 de comunităţile lo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72428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50767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542448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CR – principalul derulator al programelor de finanţare din resurse exter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112760"/>
            <a:ext cx="8991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BCR aplică politici adaptate pentru numeroase programe, prin promovarea produselor dedicate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3676"/>
                </a:solidFill>
                <a:latin typeface="Arial"/>
              </a:rPr>
              <a:t>Programele derulate de BCR până la finele anului 2006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BCR a mai derulat programe: BDCE, Sapard, şi altele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3676"/>
                </a:solidFill>
                <a:latin typeface="Arial"/>
              </a:rPr>
              <a:t>Totalul programelor finalizate şi în derulare la BCR au crescut la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4.327,5 mil. EUR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2567160"/>
          <a:ext cx="8153280" cy="2462040"/>
        </p:xfrm>
        <a:graphic>
          <a:graphicData uri="http://schemas.openxmlformats.org/drawingml/2006/table">
            <a:tbl>
              <a:tblPr/>
              <a:tblGrid>
                <a:gridCol w="2598480"/>
                <a:gridCol w="525600"/>
                <a:gridCol w="1295280"/>
                <a:gridCol w="533520"/>
                <a:gridCol w="1293840"/>
                <a:gridCol w="534960"/>
                <a:gridCol w="1371600"/>
              </a:tblGrid>
              <a:tr h="550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Finanţato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Proiecte/ programe finaliz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Proiecte/ programe în derul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N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Vol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N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Vol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N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Vol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BER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7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41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491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B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493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31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80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BIR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48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69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.179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Uniunea European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3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2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59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Programe naţion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6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652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71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5715000" y="22384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83676"/>
                </a:solidFill>
                <a:latin typeface="Arial"/>
              </a:rPr>
              <a:t>- Milioane EUR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PORATE BANKING ÎN BCR – Totul pentru clienţ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5328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Segmentarea bazei de clienţi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marL="275328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satisfacerea cerinţelor clienţilor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marL="275328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dimensiunea clienţilor şi, implicit, specificitatea cerinţelor lor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  <a:p>
            <a:pPr marL="275328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3676"/>
                </a:solidFill>
                <a:latin typeface="Arial"/>
              </a:rPr>
              <a:t>cele 8 regiuni de dezvoltare</a:t>
            </a:r>
            <a:endParaRPr b="0" lang="en-US" sz="24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401840"/>
            <a:ext cx="2743200" cy="592200"/>
          </a:xfrm>
          <a:prstGeom prst="rightArrow">
            <a:avLst>
              <a:gd name="adj1" fmla="val 62130"/>
              <a:gd name="adj2" fmla="val 96440"/>
            </a:avLst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676"/>
                </a:solidFill>
                <a:latin typeface="Arial"/>
              </a:rPr>
              <a:t>OBIEC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087640"/>
            <a:ext cx="2743200" cy="525960"/>
          </a:xfrm>
          <a:prstGeom prst="rightArrow">
            <a:avLst>
              <a:gd name="adj1" fmla="val 69935"/>
              <a:gd name="adj2" fmla="val 104143"/>
            </a:avLst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676"/>
                </a:solidFill>
                <a:latin typeface="Arial"/>
              </a:rPr>
              <a:t>CRITERIU DE 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670120"/>
            <a:ext cx="4114800" cy="525960"/>
          </a:xfrm>
          <a:prstGeom prst="rightArrow">
            <a:avLst>
              <a:gd name="adj1" fmla="val 69935"/>
              <a:gd name="adj2" fmla="val 156214"/>
            </a:avLst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676"/>
                </a:solidFill>
                <a:latin typeface="Arial"/>
              </a:rPr>
              <a:t>ADMINISTRARE REGION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306600"/>
          <a:ext cx="8686800" cy="247644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94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CLIENŢI MARI AI GRUP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CLIENŢI MARI LOC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I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MUNICIPALITĂŢ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REAL E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Manageri dedicaţi la nivel de centr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solidFill>
                      <a:srgbClr val="ccec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Manageri dedicaţi în fiecare regi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solidFill>
                      <a:srgbClr val="ccec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Manageri dedicaţi în fiecare jude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solidFill>
                      <a:srgbClr val="ccec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Manageri dedicaţi în fiecare regi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solidFill>
                      <a:srgbClr val="ccec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Manageri dedicaţi la fiecare 2 regiu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solidFill>
                      <a:srgbClr val="ccecf4"/>
                    </a:solidFill>
                  </a:tcPr>
                </a:tc>
              </a:tr>
              <a:tr h="7038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Operaţiunile curente se pot efectua în orice unitate BCR în zona de SERVIRE RAPID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CR şi grija faţă de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Reţea largă de distribuţie aproape de clienţi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526 unităţi care operează pentru clienţi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52 centre de afaceri care fac finanţări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Centrala care a devenit operativă pentru clienţii mari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Costuri accesibile şi rezonabile pentru clienţi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Tendinţă de apropiere a costurilor de finanţare în lei faţă de cele în valută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836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676"/>
                </a:solidFill>
                <a:latin typeface="Arial"/>
              </a:rPr>
              <a:t>Transparenţă în prezentarea costurilor produselor şi serviciilor sale</a:t>
            </a:r>
            <a:endParaRPr b="0" lang="en-US" sz="1800" spc="-1" strike="noStrike">
              <a:solidFill>
                <a:srgbClr val="08367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Oferta de produse şi servicii acoperă corespunzător cerinţele clienţilor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  <a:p>
            <a:pPr lvl="2" marL="5326200" indent="-359640">
              <a:lnSpc>
                <a:spcPct val="90000"/>
              </a:lnSpc>
              <a:spcBef>
                <a:spcPts val="400"/>
              </a:spcBef>
              <a:buClr>
                <a:srgbClr val="083676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ofertă standard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lvl="2" marL="5326200" indent="-359640">
              <a:lnSpc>
                <a:spcPct val="90000"/>
              </a:lnSpc>
              <a:spcBef>
                <a:spcPts val="400"/>
              </a:spcBef>
              <a:buClr>
                <a:srgbClr val="083676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ofertă personalizată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lvl="2" marL="532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lvl="2" marL="5326200" indent="-359640">
              <a:lnSpc>
                <a:spcPct val="90000"/>
              </a:lnSpc>
              <a:spcBef>
                <a:spcPts val="400"/>
              </a:spcBef>
              <a:buClr>
                <a:srgbClr val="083676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integrarea ofertei băncii cu cea a subsidiarelor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lvl="2" marL="5326200" indent="-359640">
              <a:lnSpc>
                <a:spcPct val="90000"/>
              </a:lnSpc>
              <a:spcBef>
                <a:spcPts val="400"/>
              </a:spcBef>
              <a:buClr>
                <a:srgbClr val="083676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operarea principiului 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</a:rPr>
              <a:t>alternativei </a:t>
            </a: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şi a celui al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</a:rPr>
              <a:t> complementarităţii</a:t>
            </a:r>
            <a:r>
              <a:rPr b="0" lang="en-US" sz="1600" spc="-1" strike="noStrike">
                <a:solidFill>
                  <a:srgbClr val="08367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8367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676"/>
                </a:solidFill>
                <a:latin typeface="Arial"/>
              </a:rPr>
              <a:t>Consultanţa de specialitate şi pe probleme de natură comercială este şi va fi puternic dezvoltată</a:t>
            </a:r>
            <a:endParaRPr b="0" lang="en-US" sz="2000" spc="-1" strike="noStrike">
              <a:solidFill>
                <a:srgbClr val="08367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475080"/>
            <a:ext cx="4648320" cy="554760"/>
          </a:xfrm>
          <a:noFill/>
          <a:ln w="93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În funcţie de natura clienţilor săi, BCR 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384800"/>
            <a:ext cx="4648320" cy="871560"/>
          </a:xfrm>
          <a:noFill/>
          <a:ln w="93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Satisfacţia clienţilor va fi ridicată pr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thor</cp:lastModifiedBy>
  <dcterms:modified xsi:type="dcterms:W3CDTF">2007-10-12T14:41:4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