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46B7-B890-44DF-B440-E42BEC485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F84E-6269-42C6-AE45-F994D4199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9960" y="4322880"/>
            <a:ext cx="502128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BB74-076D-419F-BED1-D71AF511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9960" y="4322880"/>
            <a:ext cx="502128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6A6E-2437-45FD-AB2C-A22190AF5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4400" y="708120"/>
            <a:ext cx="453528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9960" y="4322880"/>
            <a:ext cx="502128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6299-9839-4AEC-8549-5874F06935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C8A4-3E79-42F0-8C50-39B966C0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B246-7408-4B2C-8A60-3A025A95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2619-59C5-406B-AE97-35DEB2DB52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333000"/>
            <a:ext cx="6477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D66E-5857-4AF5-993E-AA29FE40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0028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96360"/>
            <a:ext cx="264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93D1-735D-4578-9EB4-7BDDCBB8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B888-F671-41A0-9A4D-68C2F2D2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921B-6A66-456C-9EF0-5A3EC649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33000"/>
            <a:ext cx="64771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AB0C-B99C-4D97-A048-37659322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22D6-0CE1-46EE-A760-2A138055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636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2A58-B34F-4390-AC46-C95F437B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00280"/>
            <a:ext cx="40158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6360"/>
            <a:ext cx="8229600" cy="20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44C32-2972-4730-A994-84C0CADA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981000"/>
            <a:ext cx="8686800" cy="0"/>
          </a:xfrm>
          <a:prstGeom prst="line">
            <a:avLst/>
          </a:prstGeom>
          <a:ln w="28440">
            <a:solidFill>
              <a:srgbClr val="d4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o-RO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16DC-BA8E-44E1-8E40-0EC1A96DD998}" type="slidenum">
              <a:rPr b="0" i="1" lang="ro-RO" sz="14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551640" y="44280"/>
            <a:ext cx="2592360" cy="951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086600" y="6400800"/>
            <a:ext cx="1595520" cy="20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2819520"/>
            <a:ext cx="8001000" cy="0"/>
          </a:xfrm>
          <a:prstGeom prst="line">
            <a:avLst/>
          </a:prstGeom>
          <a:ln w="28440">
            <a:solidFill>
              <a:srgbClr val="d41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5240" y="2133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08720" y="236520"/>
            <a:ext cx="3600360" cy="1320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934320" y="6197760"/>
            <a:ext cx="1595160" cy="203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77947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portunitati si provocari in accesarea fondurilor europene. </a:t>
            </a:r>
            <a:br>
              <a:rPr sz="2400"/>
            </a:b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Mihai Bogza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Presedinte Consiliu Administratie, Bancpos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Times New Roman"/>
              </a:rPr>
              <a:t>24 iunie 2008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ac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3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lorian Fi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re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vizia pentru programe ale Municipalitatilor, Entitatilor de Stat 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iunii Europene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fonduriue@bancpost.ro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el: +4021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308 0547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; 07242118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86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inu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perienta Bancpost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bordarea Bancpost fonduri europen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portunitati si provocari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ectii invatate / recomandari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Experienta Bancpos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218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1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mplicare in sprijinirea proiectelor cu finantare publica (europeana sau guvernamentala) din 2003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HARE, SAPARD, Fondul pentru Mediu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menii variate: industria prelucratoare, agricultura, industria alimentara, turism, infrastructura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Abordarea Bancpos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79218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75320" indent="-17532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gramul EUROAcc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(pachet de produse si servicii pentru accesarea fondurilor si implementarea proiectelor europene) –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one-stop-shop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formatii (direct sau printr-un serviciu on-line inovativ unic pe piata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ces la consultanta specializata (recomandare consultanti)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lvl="1" marL="720720" indent="-277200"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duse si servicii bancare dedicate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175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75320" indent="-17532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relare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finantarii bancare cu particularitatile proiectului european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75320" indent="-17532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Flexibilitat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finantare proiect (printr-o combinatie de credit punte, credit investitii, sau credit de investitii cu optiune revolving)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75320" indent="-17532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Consultanta primara gratuit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n-house printr-o echipa dedicata cu experienta vasta in consultanta fonduri europen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75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753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07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Oportunitati fonduri europene post-aderare</a:t>
            </a:r>
            <a:br>
              <a:rPr sz="2400"/>
            </a:b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pentru servicii bancare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managementul fondurilor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81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onturi, depozitarul fondurilor, incasari si plati, schimburi valutar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81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sprijinirea implementarii proiectelor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81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dministrare cont, pre-finantare, co-finantare, linii credit, hedging valutar, scrisori de garantie, operatiuni etc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81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sprijinirea furnizorilor beneficiarilor de fonduri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181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crisori de garantie, scontare, credite de investitii etc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4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vocari - managementul fondurilor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163160"/>
            <a:ext cx="79218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psa experienta autoritati in selectarea bancilor care sa deruleze fondurile europene (vezi M. Agriculturii care a organizat de 2 ori licitatie fara nici un rezultat)…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2781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itierea unui proces de consultare cu bancile inainte de lansarea licitatii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755880"/>
            <a:ext cx="7921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747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vocari - accesarea fondurilor si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mplementarea proiectelor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5084280"/>
            <a:ext cx="3816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755880"/>
            <a:ext cx="7921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3860640"/>
            <a:ext cx="381636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9640" y="1054080"/>
          <a:ext cx="8280360" cy="57405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esimism vs. optim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alism si pragmat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Hatisul informatii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ltrare, info on-line, direct de catre ba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cces redus la consultanta de cali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comandare consultant selectat de ban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ecunoasterea nevoii reale de finantare bancara de catre cli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nsiliere in structurarea finantarii si pre-aprobare de principi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psa garantiilor sau insuficienta 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Indrumare catre FNCGIMM, FGCR, Eximbank et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utoritatile favorizeaza proiecte cu IRR re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valuarea foarte atenta a proiectelor din perspectiva banc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mplementarea – calcaiul lui A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prijin permanent in implementa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rintr-un parteneriat banca-consultant ex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nticipare probleme de la faza de pregat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at costa de fapt implementarea unui proiec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…</a:t>
                      </a: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nsultanta + Evaluarea realista a tuturor costurilor implic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747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vocari - subcontractori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280" y="5084280"/>
            <a:ext cx="381636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755880"/>
            <a:ext cx="7921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3860640"/>
            <a:ext cx="381636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163520"/>
            <a:ext cx="79218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iata subcontractorilor va genera o cerere foarte mare de produse bancare ca urmare a implementarii proiectelor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8720" y="2781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regatire din ti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ctii invatate/recomandari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rebuie initiata cat mai timpuriu o discutie cu banca pentru explorarea posibilitatilor de finantar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ficila nu este castigarea finantarii, ci implementarea proiectului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ndurile sunt nerambursabile, dar genereaza alte costuri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licitantul trebuie sa aiba o persoana dedicata proiectului pentru care se solicita finantarea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cedurile de cerere de finantare, achizitii, plata</a:t>
            </a:r>
            <a:r>
              <a:rPr b="0" lang="ro-RO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rebuie respectate cu strictete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07:14:00Z</dcterms:created>
  <dc:creator>bpt400050</dc:creator>
  <dc:description/>
  <dc:language>en-US</dc:language>
  <cp:lastModifiedBy>angela.cristescu</cp:lastModifiedBy>
  <dcterms:modified xsi:type="dcterms:W3CDTF">2008-06-24T06:17:12Z</dcterms:modified>
  <cp:revision>140</cp:revision>
  <dc:subject/>
  <dc:title>Slide 1</dc:title>
</cp:coreProperties>
</file>