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9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AA0C-60A5-4F94-BB1D-D3D3F0281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295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0108-6C53-456E-ABEA-0A4F7E9E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295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514F-7CCF-4449-8943-2F27B4724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295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06E1-CADB-4E44-BCC0-ADF33DCB7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295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2767-8594-4367-9E0D-E5345D58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295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7BD6-7396-4C52-950E-8C030BF2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295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DDAA-F1CC-4C8E-B90F-9C4FC393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295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F463-ACBE-4AA8-997D-65DE5C8E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295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5B23-14B1-407D-A643-D94F50FB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295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0114-8C0F-4851-BB2E-117FD1DA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295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4D97-5BFD-4EEB-82D1-1DA29EF9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295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2953-D878-468D-95C1-5D504313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8381880" y="6168960"/>
          <a:ext cx="384120" cy="38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1880" y="6168960"/>
                    <a:ext cx="38412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720" y="1295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96160" y="6191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D593-20C6-4B21-8F2F-D427282DD8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90720" cy="1800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57280" y="762120"/>
            <a:ext cx="39384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990720" y="762120"/>
            <a:ext cx="815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4"/>
          <a:stretch/>
        </p:blipFill>
        <p:spPr>
          <a:xfrm>
            <a:off x="990720" y="0"/>
            <a:ext cx="3386160" cy="762120"/>
          </a:xfrm>
          <a:prstGeom prst="rect">
            <a:avLst/>
          </a:prstGeom>
          <a:ln w="0">
            <a:noFill/>
          </a:ln>
        </p:spPr>
      </p:pic>
      <p:sp>
        <p:nvSpPr>
          <p:cNvPr id="11" name=""/>
          <p:cNvSpPr/>
          <p:nvPr/>
        </p:nvSpPr>
        <p:spPr>
          <a:xfrm>
            <a:off x="990720" y="0"/>
            <a:ext cx="0" cy="632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jpeg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400800" y="6094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581280" y="5943600"/>
            <a:ext cx="2551320" cy="493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6320" y="1447920"/>
            <a:ext cx="2819160" cy="685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90720" cy="2819520"/>
          </a:xfrm>
          <a:prstGeom prst="rect">
            <a:avLst/>
          </a:prstGeom>
          <a:solidFill>
            <a:srgbClr val="f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0"/>
            <a:ext cx="0" cy="632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1447920"/>
            <a:ext cx="815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133720"/>
            <a:ext cx="815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77120" y="9907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-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1777320"/>
            <a:ext cx="7619760" cy="42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a5c6b"/>
                </a:solidFill>
                <a:latin typeface="Arial Unicode MS"/>
              </a:rPr>
              <a:t>EURO</a:t>
            </a:r>
            <a:r>
              <a:rPr b="1" lang="ro-RO" sz="4000" spc="-1" strike="noStrike">
                <a:solidFill>
                  <a:srgbClr val="000000"/>
                </a:solidFill>
                <a:latin typeface="Arial Unicode MS"/>
              </a:rPr>
              <a:t>B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 Unicode MS"/>
              </a:rPr>
              <a:t>Program de finantare a proiectelor cu</a:t>
            </a:r>
            <a:r>
              <a:rPr b="1" lang="ro-RO" sz="2800" spc="-1" strike="noStrike">
                <a:solidFill>
                  <a:srgbClr val="ff33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componenta </a:t>
            </a:r>
            <a:r>
              <a:rPr b="1" lang="ro-RO" sz="2800" spc="-1" strike="noStrike">
                <a:solidFill>
                  <a:srgbClr val="000000"/>
                </a:solidFill>
                <a:latin typeface="Arial Unicode MS"/>
              </a:rPr>
              <a:t>fonduri europene post-ader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Arial Unicode MS"/>
              </a:rPr>
              <a:t>Drumul banilor europeni, de la idee la suc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 Unicode MS"/>
              </a:rPr>
              <a:t>Mediafax, 24 iunie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E2FC-F26C-4B4F-90CF-D0E6F9A61B9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9072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Exemplu: Masura 121 </a:t>
            </a:r>
            <a:r>
              <a:rPr b="1" i="1" lang="en-US" sz="2000" spc="-1" strike="noStrike">
                <a:solidFill>
                  <a:srgbClr val="000000"/>
                </a:solidFill>
                <a:latin typeface="Arial Unicode MS"/>
              </a:rPr>
              <a:t>“Modernizarea exploatatiilor agricol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8380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Finantare in cadrul PN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Descriere proiect – </a:t>
            </a:r>
            <a:r>
              <a:rPr b="0" lang="fr-FR" sz="1800" spc="-1" strike="noStrike">
                <a:solidFill>
                  <a:srgbClr val="000000"/>
                </a:solidFill>
                <a:latin typeface="Arial Unicode MS"/>
              </a:rPr>
              <a:t>O ferma cu o suprafata in exploatare de 5 000 ha isi propune sa-si innoiasca parcul de utilaj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Unicode MS"/>
              </a:rPr>
              <a:t>Tractor John Deere 9530 – 475 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Unicode MS"/>
              </a:rPr>
              <a:t>Combina John Deere 9760 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Unicode MS"/>
              </a:rPr>
              <a:t>Valoarea totala a proiectului: </a:t>
            </a:r>
            <a:r>
              <a:rPr b="1" lang="fr-FR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327 250 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tructura costului proiectulu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 Unicode MS"/>
                <a:ea typeface="Times New Roman"/>
              </a:rPr>
              <a:t>Costuri eligibile</a:t>
            </a:r>
            <a:r>
              <a:rPr b="1" lang="fr-FR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: 265 073 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132 536,5 EUR - fonduri europ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132 536,5 EUR - contributie prop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 Unicode MS"/>
                <a:ea typeface="Times New Roman"/>
              </a:rPr>
              <a:t>Costuri neeligibile</a:t>
            </a:r>
            <a:r>
              <a:rPr b="1" lang="fr-FR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: 62 177 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001000" y="228600"/>
            <a:ext cx="828720" cy="38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DDDF-A4D9-4459-AE2C-AC24A39977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43000" y="12952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Proiect  “Masura 121 - Modernizarea exploatatiilor agricole”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Book Antiqua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838080"/>
            <a:ext cx="44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Book Antiqua"/>
              </a:rPr>
              <a:t>Finantar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e in cadrul PN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66680" y="1981080"/>
          <a:ext cx="6811920" cy="3764160"/>
        </p:xfrm>
        <a:graphic>
          <a:graphicData uri="http://schemas.openxmlformats.org/drawingml/2006/table">
            <a:tbl>
              <a:tblPr/>
              <a:tblGrid>
                <a:gridCol w="1797120"/>
                <a:gridCol w="2394000"/>
                <a:gridCol w="26208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tructura financia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urse de finant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Tipul finantar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132 536,5 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ondul European pentru Agricultura si Dezvoltare Rurala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(50% din costurile eligibile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Grant 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Posibila interventie BRD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Wingdings" charset="2"/>
                        <a:buChar char="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credit “suport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132 536,5 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ontributia beneficiarulu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(50% din costurile eligibil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ontributie propr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Posibila interventie BRD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Wingdings"/>
                          <a:ea typeface="Wingdings"/>
                        </a:rPr>
                        <a:t>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co-finantare: credit de investit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62 177 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ontributia beneficiarulu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osturi neeligi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ontributie propr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Posibila interventie BRD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Wingdings"/>
                          <a:ea typeface="Wingdings"/>
                        </a:rPr>
                        <a:t>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credit pe termen scurt/medi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001000" y="228600"/>
            <a:ext cx="828720" cy="380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153280" y="2895480"/>
            <a:ext cx="990720" cy="990720"/>
          </a:xfrm>
          <a:prstGeom prst="irregularSeal1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80880" indent="-380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na 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924680" y="2362320"/>
            <a:ext cx="152640" cy="2209680"/>
          </a:xfrm>
          <a:custGeom>
            <a:avLst/>
            <a:gdLst>
              <a:gd name="textAreaLeft" fmla="*/ 0 w 152640"/>
              <a:gd name="textAreaRight" fmla="*/ 55080 w 15264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76"/>
                </a:lnTo>
                <a:cubicBezTo>
                  <a:pt x="10800" y="9776"/>
                  <a:pt x="16200" y="10676"/>
                  <a:pt x="21600" y="10676"/>
                </a:cubicBezTo>
                <a:cubicBezTo>
                  <a:pt x="16200" y="10676"/>
                  <a:pt x="10800" y="11576"/>
                  <a:pt x="10800" y="1247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153280" y="4648320"/>
            <a:ext cx="990720" cy="990360"/>
          </a:xfrm>
          <a:prstGeom prst="irregularSeal1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80880" indent="-380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na 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1960" y="5907240"/>
            <a:ext cx="73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 Unicode MS"/>
              </a:rPr>
              <a:t>Nota: </a:t>
            </a:r>
            <a:r>
              <a:rPr b="1" i="1" lang="ro-RO" sz="1800" spc="-1" strike="noStrike">
                <a:solidFill>
                  <a:srgbClr val="000000"/>
                </a:solidFill>
                <a:latin typeface="Arial Unicode MS"/>
              </a:rPr>
              <a:t>Pot fi luate in garantie activele finantate prin proi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4ACB-0D6E-46D7-A1E9-03930AFF94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791320" y="838080"/>
            <a:ext cx="2438280" cy="304920"/>
          </a:xfrm>
          <a:prstGeom prst="rect">
            <a:avLst/>
          </a:prstGeom>
          <a:solidFill>
            <a:srgbClr val="fffbff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80880" indent="-380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 Unicode MS"/>
              </a:rPr>
              <a:t>Oferta B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828720" cy="3808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1371600" y="1523880"/>
            <a:ext cx="7315200" cy="1523880"/>
            <a:chOff x="1371600" y="1523880"/>
            <a:chExt cx="7315200" cy="1523880"/>
          </a:xfrm>
        </p:grpSpPr>
        <p:sp>
          <p:nvSpPr>
            <p:cNvPr id="143" name=""/>
            <p:cNvSpPr/>
            <p:nvPr/>
          </p:nvSpPr>
          <p:spPr>
            <a:xfrm>
              <a:off x="1371600" y="1523880"/>
              <a:ext cx="7315200" cy="1523880"/>
            </a:xfrm>
            <a:prstGeom prst="horizontalScroll">
              <a:avLst>
                <a:gd name="adj" fmla="val 12500"/>
              </a:avLst>
            </a:prstGeom>
            <a:solidFill>
              <a:srgbClr val="fef8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14680" y="1794600"/>
              <a:ext cx="6895800" cy="778680"/>
            </a:xfrm>
            <a:prstGeom prst="rect">
              <a:avLst/>
            </a:prstGeom>
            <a:solidFill>
              <a:srgbClr val="fef8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80880" indent="-380880"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500" spc="-1" strike="noStrike">
                  <a:solidFill>
                    <a:srgbClr val="000000"/>
                  </a:solidFill>
                  <a:latin typeface="Arial Unicode MS"/>
                </a:rPr>
                <a:t>credit pentru co-finantarea contributie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 Unicode MS"/>
                </a:rPr>
                <a:t>i</a:t>
              </a:r>
              <a:r>
                <a:rPr b="0" lang="ro-RO" sz="1500" spc="-1" strike="noStrike">
                  <a:solidFill>
                    <a:srgbClr val="000000"/>
                  </a:solidFill>
                  <a:latin typeface="Arial Unicode MS"/>
                </a:rPr>
                <a:t> propri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 Unicode MS"/>
                </a:rPr>
                <a:t>i</a:t>
              </a:r>
              <a:r>
                <a:rPr b="0" lang="ro-RO" sz="1500" spc="-1" strike="noStrike">
                  <a:solidFill>
                    <a:srgbClr val="000000"/>
                  </a:solidFill>
                  <a:latin typeface="Arial Unicode MS"/>
                </a:rPr>
                <a:t> necesar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ro-RO" sz="1500" spc="-1" strike="noStrike">
                  <a:solidFill>
                    <a:srgbClr val="000000"/>
                  </a:solidFill>
                  <a:latin typeface="Arial Unicode MS"/>
                </a:rPr>
                <a:t>implementarii proiectului finantat prin fonduri europene post-aderare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 Unicode MS"/>
                </a:rPr>
                <a:t> cu</a:t>
              </a:r>
              <a:r>
                <a:rPr b="0" lang="ro-RO" sz="1500" spc="-1" strike="noStrike">
                  <a:solidFill>
                    <a:srgbClr val="000000"/>
                  </a:solidFill>
                  <a:latin typeface="Arial Unicode MS"/>
                </a:rPr>
                <a:t> perioada de credit maxim 20 ani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 Unicode MS"/>
                </a:rPr>
                <a:t> si</a:t>
              </a:r>
              <a:r>
                <a:rPr b="0" lang="ro-RO" sz="1500" spc="-1" strike="noStrike">
                  <a:solidFill>
                    <a:srgbClr val="000000"/>
                  </a:solidFill>
                  <a:latin typeface="Arial Unicode MS"/>
                </a:rPr>
                <a:t> gratie maxim 3 ani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809880" y="12193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 Unicode MS"/>
              </a:rPr>
              <a:t>Credit de investit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52680" y="28954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 Unicode MS"/>
              </a:rPr>
              <a:t>Credit de investitii rev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371600" y="3124080"/>
            <a:ext cx="7315200" cy="1828440"/>
            <a:chOff x="1371600" y="3124080"/>
            <a:chExt cx="7315200" cy="1828440"/>
          </a:xfrm>
        </p:grpSpPr>
        <p:sp>
          <p:nvSpPr>
            <p:cNvPr id="148" name=""/>
            <p:cNvSpPr/>
            <p:nvPr/>
          </p:nvSpPr>
          <p:spPr>
            <a:xfrm>
              <a:off x="1371600" y="3124080"/>
              <a:ext cx="7315200" cy="1828440"/>
            </a:xfrm>
            <a:prstGeom prst="horizontalScroll">
              <a:avLst>
                <a:gd name="adj" fmla="val 12500"/>
              </a:avLst>
            </a:prstGeom>
            <a:solidFill>
              <a:srgbClr val="fef8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14680" y="3446280"/>
              <a:ext cx="6895800" cy="1235160"/>
            </a:xfrm>
            <a:prstGeom prst="rect">
              <a:avLst/>
            </a:prstGeom>
            <a:solidFill>
              <a:srgbClr val="fef8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80880" indent="-380880"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500" spc="-1" strike="noStrike">
                  <a:solidFill>
                    <a:srgbClr val="000000"/>
                  </a:solidFill>
                  <a:latin typeface="Arial Unicode MS"/>
                </a:rPr>
                <a:t>credit destinat pre-finantarii nevoilor clientului in vederea acoperirii decalajului de plati existent intre platile catre furnizorii de lucrari/echipamente/servicii efectuate in cadrul proiectului de investitii, si incasarile de fonduri europene, perioada de credit: maxim 4 an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429000" y="47242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 u="sng">
                <a:solidFill>
                  <a:srgbClr val="000000"/>
                </a:solidFill>
                <a:uFillTx/>
                <a:latin typeface="Arial Unicode MS"/>
              </a:rPr>
              <a:t>Linie de credit de investit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71600" y="5029200"/>
            <a:ext cx="7315200" cy="1295280"/>
          </a:xfrm>
          <a:prstGeom prst="horizontalScroll">
            <a:avLst>
              <a:gd name="adj" fmla="val 12500"/>
            </a:avLst>
          </a:prstGeom>
          <a:solidFill>
            <a:srgbClr val="fef8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5257800"/>
            <a:ext cx="68961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000000"/>
                </a:solidFill>
                <a:latin typeface="Arial Unicode MS"/>
              </a:rPr>
              <a:t>destinata finantarii program</a:t>
            </a:r>
            <a:r>
              <a:rPr b="0" lang="en-US" sz="1500" spc="-1" strike="noStrike">
                <a:solidFill>
                  <a:srgbClr val="000000"/>
                </a:solidFill>
                <a:latin typeface="Arial Unicode MS"/>
              </a:rPr>
              <a:t>elor</a:t>
            </a:r>
            <a:r>
              <a:rPr b="0" lang="ro-RO" sz="1500" spc="-1" strike="noStrike">
                <a:solidFill>
                  <a:srgbClr val="000000"/>
                </a:solidFill>
                <a:latin typeface="Arial Unicode MS"/>
              </a:rPr>
              <a:t> de investitii de interes local (unul sau mai multe proiecte), cu o perioada de credit de maxim 20 de ani, perioada de gratie de maxim 4 ani si perioada de utilizare de maxim 4 an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762120"/>
            <a:ext cx="464832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 Unicode MS"/>
              </a:rPr>
              <a:t>Finantarea Autoritatilor Publice Lo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6734-1988-4ECD-A80A-9639547935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5800" y="7621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 Unicode MS"/>
              </a:rPr>
              <a:t>Finantarea </a:t>
            </a: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AP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1320" y="838080"/>
            <a:ext cx="2438280" cy="304920"/>
          </a:xfrm>
          <a:prstGeom prst="rect">
            <a:avLst/>
          </a:prstGeom>
          <a:solidFill>
            <a:srgbClr val="fffbff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80880" indent="-380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 Unicode MS"/>
              </a:rPr>
              <a:t>Exemplu de finant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828720" cy="3808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85800" y="762120"/>
            <a:ext cx="464832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 Unicode MS"/>
              </a:rPr>
              <a:t>Finantarea Autoritatilor Publice Lo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1600200"/>
            <a:ext cx="7772400" cy="4495680"/>
          </a:xfrm>
          <a:prstGeom prst="rect">
            <a:avLst/>
          </a:prstGeom>
          <a:solidFill>
            <a:srgbClr val="fffbff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                    </a:t>
            </a:r>
            <a:r>
              <a:rPr b="1" lang="ro-RO" sz="2000" spc="-1" strike="noStrike">
                <a:solidFill>
                  <a:srgbClr val="000000"/>
                </a:solidFill>
                <a:latin typeface="Arial Unicode MS"/>
              </a:rPr>
              <a:t>Beneficiar: Consiliul Judetean Timis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 Unicode MS"/>
              </a:rPr>
              <a:t>Facilitate de credit BRD pentru prefinantarea si cofinantarea proiectelor 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 Unicode MS"/>
              </a:rPr>
              <a:t>de investitii de interes local cu componenta fonduri europe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 Unicode MS"/>
              </a:rPr>
              <a:t>Linie credit de investitii tip revolving in valoare de 100 milioane le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 Unicode MS"/>
              </a:rPr>
              <a:t>cu maturitate de 3 ani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cc"/>
                </a:solidFill>
                <a:latin typeface="Arial Unicode MS"/>
              </a:rPr>
              <a:t>ce va fi refinantata pr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 Unicode MS"/>
              </a:rPr>
              <a:t>Emisiune de obligatiuni pe piata interna de capital in valoare de maxi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 Unicode MS"/>
              </a:rPr>
              <a:t>100 milioane lei cu maturitate de 17 ani. 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cc"/>
                </a:solidFill>
                <a:latin typeface="Arial Unicode MS"/>
              </a:rPr>
              <a:t>Valoarea emisiunii de obligatiuni va fi egala cu soldul liniei de cred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cc"/>
                </a:solidFill>
                <a:latin typeface="Arial Unicode MS"/>
              </a:rPr>
              <a:t>nerambursat din fonduri europe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39DC-CB6B-4AB0-AB15-906C25C92E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143000" y="1752480"/>
            <a:ext cx="8001000" cy="1143000"/>
          </a:xfrm>
          <a:prstGeom prst="verticalScroll">
            <a:avLst>
              <a:gd name="adj" fmla="val 12500"/>
            </a:avLst>
          </a:prstGeom>
          <a:solidFill>
            <a:srgbClr val="fff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80880" indent="-380880"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05120" y="1905120"/>
            <a:ext cx="693396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Unicode MS"/>
              </a:rPr>
              <a:t>Scrisori de garantie bancara</a:t>
            </a:r>
            <a:r>
              <a:rPr b="0" lang="ro-RO" sz="1600" spc="-1" strike="noStrike">
                <a:solidFill>
                  <a:srgbClr val="000000"/>
                </a:solidFill>
                <a:latin typeface="Arial Unicode MS"/>
              </a:rPr>
              <a:t> (participare la licitatii, buna executie, et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838080"/>
            <a:ext cx="3962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 Unicode MS"/>
              </a:rPr>
              <a:t>OFERTA BRD pentru contract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15000" y="914400"/>
            <a:ext cx="2438280" cy="304920"/>
          </a:xfrm>
          <a:prstGeom prst="rect">
            <a:avLst/>
          </a:prstGeom>
          <a:solidFill>
            <a:srgbClr val="fffbff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80880" indent="-380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 Unicode MS"/>
              </a:rPr>
              <a:t>Contract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077320" y="152280"/>
            <a:ext cx="828720" cy="3812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143000" y="3200400"/>
            <a:ext cx="8001000" cy="1066680"/>
          </a:xfrm>
          <a:prstGeom prst="verticalScroll">
            <a:avLst>
              <a:gd name="adj" fmla="val 12500"/>
            </a:avLst>
          </a:prstGeom>
          <a:solidFill>
            <a:srgbClr val="fff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80880" indent="-380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563868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23880" y="3505320"/>
            <a:ext cx="7086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60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Unicode MS"/>
              </a:rPr>
              <a:t>Finantare achizitii</a:t>
            </a:r>
            <a:r>
              <a:rPr b="0" lang="ro-RO" sz="1600" spc="-1" strike="noStrike">
                <a:solidFill>
                  <a:srgbClr val="000000"/>
                </a:solidFill>
                <a:latin typeface="Arial Unicode MS"/>
              </a:rPr>
              <a:t> echipamente si utilaje necesare efectuarii lucrarilor (credit bancar sau leasing financiar sau operation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4572000"/>
            <a:ext cx="8001000" cy="1143000"/>
          </a:xfrm>
          <a:prstGeom prst="verticalScroll">
            <a:avLst>
              <a:gd name="adj" fmla="val 12500"/>
            </a:avLst>
          </a:prstGeom>
          <a:solidFill>
            <a:srgbClr val="fff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80880" indent="-380880"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502920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Unicode MS"/>
              </a:rPr>
              <a:t>Finantare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a</a:t>
            </a:r>
            <a:r>
              <a:rPr b="1" lang="ro-RO" sz="1600" spc="-1" strike="noStrike">
                <a:solidFill>
                  <a:srgbClr val="000000"/>
                </a:solidFill>
                <a:latin typeface="Arial Unicode MS"/>
              </a:rPr>
              <a:t> capitalului de lucru </a:t>
            </a:r>
            <a:r>
              <a:rPr b="0" lang="ro-RO" sz="1600" spc="-1" strike="noStrike">
                <a:solidFill>
                  <a:srgbClr val="000000"/>
                </a:solidFill>
                <a:latin typeface="Arial Unicode MS"/>
              </a:rPr>
              <a:t>et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4222-E1B4-4488-A212-32286CB369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33520" y="8380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 Unicode MS"/>
              </a:rPr>
              <a:t>Programul </a:t>
            </a:r>
            <a:r>
              <a:rPr b="1" lang="ro-RO" sz="2000" spc="-1" strike="noStrike">
                <a:solidFill>
                  <a:srgbClr val="fa5c6b"/>
                </a:solidFill>
                <a:latin typeface="Arial Unicode MS"/>
              </a:rPr>
              <a:t>Euro</a:t>
            </a:r>
            <a:r>
              <a:rPr b="1" lang="ro-RO" sz="2000" spc="-1" strike="noStrike">
                <a:solidFill>
                  <a:srgbClr val="ffffff"/>
                </a:solidFill>
                <a:latin typeface="Arial Unicode MS"/>
              </a:rPr>
              <a:t>B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1676520"/>
            <a:ext cx="7772400" cy="4114800"/>
          </a:xfrm>
          <a:prstGeom prst="rect">
            <a:avLst/>
          </a:prstGeom>
          <a:solidFill>
            <a:srgbClr val="fffbff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 Unicode MS"/>
              </a:rPr>
              <a:t>Implicarea bancii inca din etapa de definire a proiectului pentru a identifica nevoia de finantar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osarul/</a:t>
            </a:r>
            <a:r>
              <a:rPr b="0" lang="ro-RO" sz="2000" spc="-1" strike="noStrike">
                <a:solidFill>
                  <a:srgbClr val="000000"/>
                </a:solidFill>
                <a:latin typeface="Arial Unicode MS"/>
              </a:rPr>
              <a:t>aplica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ia</a:t>
            </a:r>
            <a:r>
              <a:rPr b="0" lang="ro-RO" sz="2000" spc="-1" strike="noStrike">
                <a:solidFill>
                  <a:srgbClr val="000000"/>
                </a:solidFill>
                <a:latin typeface="Arial Unicode MS"/>
              </a:rPr>
              <a:t>” sa includa si datele necesare bancii pentru analiza nevoii de finantare si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 </a:t>
            </a:r>
            <a:r>
              <a:rPr b="0" lang="ro-RO" sz="2000" spc="-1" strike="noStrike">
                <a:solidFill>
                  <a:srgbClr val="000000"/>
                </a:solidFill>
                <a:latin typeface="Arial Unicode MS"/>
              </a:rPr>
              <a:t>capacitatii de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ambursare</a:t>
            </a:r>
            <a:r>
              <a:rPr b="0" lang="ro-RO" sz="2000" spc="-1" strike="noStrike">
                <a:solidFill>
                  <a:srgbClr val="000000"/>
                </a:solidFill>
                <a:latin typeface="Arial Unicode MS"/>
              </a:rPr>
              <a:t> a solicitantulu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 Unicode MS"/>
              </a:rPr>
              <a:t>Analiza “fluxului de numerar” sa cuprinda diferite scenarii de recuperare a sumelor corespunzatoare componentei fonduri europene nerambursabile (scenariu pesimist/optimist)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8077320" y="152280"/>
            <a:ext cx="828720" cy="3812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019920" y="914400"/>
            <a:ext cx="2209680" cy="304920"/>
          </a:xfrm>
          <a:prstGeom prst="rect">
            <a:avLst/>
          </a:prstGeom>
          <a:solidFill>
            <a:srgbClr val="fffbff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Recomandar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F41C-89D0-4E3E-A29B-ADFE64F19C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33520" y="762120"/>
            <a:ext cx="5486400" cy="84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700" spc="-1" strike="noStrike">
                <a:solidFill>
                  <a:srgbClr val="ffffff"/>
                </a:solidFill>
                <a:latin typeface="Book Antiqua"/>
              </a:rPr>
              <a:t>Site BRD – </a:t>
            </a:r>
            <a:r>
              <a:rPr b="1" lang="ro-RO" sz="1700" spc="-1" strike="noStrike" u="sng">
                <a:solidFill>
                  <a:srgbClr val="ffffff"/>
                </a:solidFill>
                <a:uFillTx/>
                <a:latin typeface="Book Antiqua"/>
              </a:rPr>
              <a:t>www.brd.ro</a:t>
            </a:r>
            <a:r>
              <a:rPr b="1" lang="ro-RO" sz="1700" spc="-1" strike="noStrike">
                <a:solidFill>
                  <a:srgbClr val="ffffff"/>
                </a:solidFill>
                <a:latin typeface="Book Antiqua"/>
              </a:rPr>
              <a:t> si contact</a:t>
            </a:r>
            <a:r>
              <a:rPr b="1" lang="en-US" sz="1700" spc="-1" strike="noStrike">
                <a:solidFill>
                  <a:srgbClr val="ffffff"/>
                </a:solidFill>
                <a:latin typeface="Book Antiqua"/>
              </a:rPr>
              <a:t> la</a:t>
            </a:r>
            <a:r>
              <a:rPr b="1" lang="ro-RO" sz="1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o-RO" sz="1700" spc="-1" strike="noStrike" u="sng">
                <a:solidFill>
                  <a:srgbClr val="ffffff"/>
                </a:solidFill>
                <a:uFillTx/>
                <a:latin typeface="Book Antiqua"/>
              </a:rPr>
              <a:t>eurobrd@brd.r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828720" cy="3808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066680" y="1447920"/>
            <a:ext cx="7620120" cy="472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A046-0250-4388-915E-438BDE63EB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066680" y="2057400"/>
            <a:ext cx="7772400" cy="4038480"/>
          </a:xfrm>
          <a:prstGeom prst="rect">
            <a:avLst/>
          </a:prstGeom>
          <a:solidFill>
            <a:srgbClr val="fffbff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50280" indent="-3502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-3502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-3502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800" spc="-1" strike="noStrike">
                <a:solidFill>
                  <a:srgbClr val="000000"/>
                </a:solidFill>
                <a:latin typeface="Book Antiqua"/>
              </a:rPr>
              <a:t>MULTUMESC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-350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Contact: Carmen Ar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-350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Telefon: +40 21 301 45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-350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E-mail: 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Book Antiqua"/>
              </a:rPr>
              <a:t>carmen.arhip@brd.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-350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-350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-350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Site-ul BRD: 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Book Antiqua"/>
              </a:rPr>
              <a:t>www.brd.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-350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Sectiune fonduri europene: 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Book Antiqua"/>
              </a:rPr>
              <a:t>http://www.brd.ro/fonduri-europ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-350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E-mail:  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Book Antiqua"/>
              </a:rPr>
              <a:t>eurobrd@brd.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762120"/>
            <a:ext cx="425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 Unicode MS"/>
              </a:rPr>
              <a:t>Programul </a:t>
            </a:r>
            <a:r>
              <a:rPr b="1" lang="ro-RO" sz="2000" spc="-1" strike="noStrike">
                <a:solidFill>
                  <a:srgbClr val="fa5c6b"/>
                </a:solidFill>
                <a:latin typeface="Arial Unicode MS"/>
              </a:rPr>
              <a:t>Euro</a:t>
            </a:r>
            <a:r>
              <a:rPr b="1" lang="ro-RO" sz="2000" spc="-1" strike="noStrike">
                <a:solidFill>
                  <a:srgbClr val="ffffff"/>
                </a:solidFill>
                <a:latin typeface="Arial Unicode MS"/>
              </a:rPr>
              <a:t>B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1295280"/>
            <a:ext cx="3276360" cy="533520"/>
          </a:xfrm>
          <a:prstGeom prst="rect">
            <a:avLst/>
          </a:prstGeom>
          <a:solidFill>
            <a:srgbClr val="fffb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5c6b"/>
                </a:solidFill>
                <a:latin typeface="Book Antiqua"/>
              </a:rPr>
              <a:t>EURO</a:t>
            </a: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BR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828720" cy="38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2855-D859-4E04-A43D-321CD96A6A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7621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um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1600200"/>
            <a:ext cx="7772400" cy="4343400"/>
          </a:xfrm>
          <a:prstGeom prst="rect">
            <a:avLst/>
          </a:prstGeom>
          <a:solidFill>
            <a:srgbClr val="fffbff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 Unicode MS"/>
              </a:rPr>
              <a:t>Prezentare BRD- </a:t>
            </a:r>
            <a:r>
              <a:rPr b="0" lang="ro-RO" sz="2600" spc="-1" strike="noStrike">
                <a:solidFill>
                  <a:srgbClr val="000000"/>
                </a:solidFill>
                <a:latin typeface="Arial Unicode MS"/>
              </a:rPr>
              <a:t>Groupe Société Généra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EUROBRD – Program de finantare a proiectelor cu componenta fonduri europene post-adera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Solutii de finantare cu fonduri europe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12A1-3497-404B-914E-EBF54A8EF8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1371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2743200"/>
            <a:ext cx="78487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4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 Unicode MS"/>
              </a:rPr>
              <a:t>Peste 800 agenti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 Unicode MS"/>
              </a:rPr>
              <a:t>Angajati: 8 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 Unicode MS"/>
              </a:rPr>
              <a:t>Cota de piata medie: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15-20</a:t>
            </a:r>
            <a:r>
              <a:rPr b="1" lang="ro-RO" sz="1800" spc="-1" strike="noStrike">
                <a:solidFill>
                  <a:srgbClr val="000000"/>
                </a:solidFill>
                <a:latin typeface="Arial Unicode MS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(in functie de prod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4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 Unicode MS"/>
              </a:rPr>
              <a:t>2.400.000 clien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4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 Unicode MS"/>
              </a:rPr>
              <a:t>Peste 2.200.000 carduri bancar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4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 Unicode MS"/>
              </a:rPr>
              <a:t>Peste 1.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ro-RO" sz="1800" spc="-1" strike="noStrike">
                <a:solidFill>
                  <a:srgbClr val="000000"/>
                </a:solidFill>
                <a:latin typeface="Arial Unicode MS"/>
              </a:rPr>
              <a:t>00 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8380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Mai </a:t>
            </a:r>
            <a:r>
              <a:rPr b="1" lang="ro-RO" sz="2400" spc="-1" strike="noStrike">
                <a:solidFill>
                  <a:srgbClr val="ffffff"/>
                </a:solidFill>
                <a:latin typeface="Book Antiqua"/>
              </a:rPr>
              <a:t>200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5715000" y="762120"/>
            <a:ext cx="3146400" cy="5333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172200" y="22860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8">
            <a:grayscl/>
          </a:blip>
          <a:stretch/>
        </p:blipFill>
        <p:spPr>
          <a:xfrm>
            <a:off x="4191120" y="1752480"/>
            <a:ext cx="893520" cy="885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4038480" y="1523880"/>
            <a:ext cx="1390680" cy="314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ifre Che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B42F-EAB0-4933-B783-5D56F7A42E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1268280" y="1565280"/>
            <a:ext cx="7162920" cy="4983120"/>
            <a:chOff x="1268280" y="1565280"/>
            <a:chExt cx="7162920" cy="498312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1268280" y="1565280"/>
              <a:ext cx="7162920" cy="4983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"/>
          <p:cNvSpPr/>
          <p:nvPr/>
        </p:nvSpPr>
        <p:spPr>
          <a:xfrm>
            <a:off x="533520" y="7621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RE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T</a:t>
            </a:r>
            <a:r>
              <a:rPr b="1" lang="ro-RO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553080" y="1447920"/>
            <a:ext cx="2743200" cy="14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Unicode MS"/>
              </a:rPr>
              <a:t>600</a:t>
            </a:r>
            <a:r>
              <a:rPr b="1" lang="ro-RO" sz="17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ro-RO" sz="1700" spc="-1" strike="noStrike">
                <a:solidFill>
                  <a:srgbClr val="000000"/>
                </a:solidFill>
                <a:latin typeface="Arial Unicode MS"/>
              </a:rPr>
              <a:t>de unit</a:t>
            </a:r>
            <a:r>
              <a:rPr b="1" lang="en-US" sz="1700" spc="-1" strike="noStrike">
                <a:solidFill>
                  <a:srgbClr val="000000"/>
                </a:solidFill>
                <a:latin typeface="Arial Unicode MS"/>
              </a:rPr>
              <a:t>at</a:t>
            </a:r>
            <a:r>
              <a:rPr b="1" lang="ro-RO" sz="1700" spc="-1" strike="noStrike">
                <a:solidFill>
                  <a:srgbClr val="000000"/>
                </a:solidFill>
                <a:latin typeface="Arial Unicode MS"/>
              </a:rPr>
              <a:t>i la sf</a:t>
            </a:r>
            <a:r>
              <a:rPr b="1" lang="en-US" sz="1700" spc="-1" strike="noStrike">
                <a:solidFill>
                  <a:srgbClr val="000000"/>
                </a:solidFill>
                <a:latin typeface="Arial Unicode MS"/>
              </a:rPr>
              <a:t>a</a:t>
            </a:r>
            <a:r>
              <a:rPr b="1" lang="ro-RO" sz="1700" spc="-1" strike="noStrike">
                <a:solidFill>
                  <a:srgbClr val="000000"/>
                </a:solidFill>
                <a:latin typeface="Arial Unicode MS"/>
              </a:rPr>
              <a:t>r</a:t>
            </a:r>
            <a:r>
              <a:rPr b="1" lang="en-US" sz="1700" spc="-1" strike="noStrike">
                <a:solidFill>
                  <a:srgbClr val="000000"/>
                </a:solidFill>
                <a:latin typeface="Arial Unicode MS"/>
              </a:rPr>
              <a:t>s</a:t>
            </a:r>
            <a:r>
              <a:rPr b="1" lang="ro-RO" sz="1700" spc="-1" strike="noStrike">
                <a:solidFill>
                  <a:srgbClr val="000000"/>
                </a:solidFill>
                <a:latin typeface="Arial Unicode MS"/>
              </a:rPr>
              <a:t>itul lui 200</a:t>
            </a:r>
            <a:r>
              <a:rPr b="1" lang="en-US" sz="1700" spc="-1" strike="noStrike">
                <a:solidFill>
                  <a:srgbClr val="000000"/>
                </a:solidFill>
                <a:latin typeface="Arial Unicode MS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 Unicode MS"/>
              </a:rPr>
              <a:t>+ 206 </a:t>
            </a:r>
            <a:r>
              <a:rPr b="1" lang="ro-RO" sz="1700" spc="-1" strike="noStrike">
                <a:solidFill>
                  <a:srgbClr val="ff0000"/>
                </a:solidFill>
                <a:latin typeface="Arial Unicode MS"/>
              </a:rPr>
              <a:t>agen</a:t>
            </a:r>
            <a:r>
              <a:rPr b="1" lang="en-US" sz="1700" spc="-1" strike="noStrike">
                <a:solidFill>
                  <a:srgbClr val="ff0000"/>
                </a:solidFill>
                <a:latin typeface="Arial Unicode MS"/>
              </a:rPr>
              <a:t>t</a:t>
            </a:r>
            <a:r>
              <a:rPr b="1" lang="ro-RO" sz="1700" spc="-1" strike="noStrike">
                <a:solidFill>
                  <a:srgbClr val="ff0000"/>
                </a:solidFill>
                <a:latin typeface="Arial Unicode MS"/>
              </a:rPr>
              <a:t>ii deschise </a:t>
            </a:r>
            <a:r>
              <a:rPr b="1" lang="en-US" sz="1700" spc="-1" strike="noStrike">
                <a:solidFill>
                  <a:srgbClr val="ff0000"/>
                </a:solidFill>
                <a:latin typeface="Arial Unicode MS"/>
              </a:rPr>
              <a:t>i</a:t>
            </a:r>
            <a:r>
              <a:rPr b="1" lang="ro-RO" sz="1700" spc="-1" strike="noStrike">
                <a:solidFill>
                  <a:srgbClr val="ff0000"/>
                </a:solidFill>
                <a:latin typeface="Arial Unicode MS"/>
              </a:rPr>
              <a:t>n 200</a:t>
            </a:r>
            <a:r>
              <a:rPr b="1" lang="en-US" sz="1700" spc="-1" strike="noStrike">
                <a:solidFill>
                  <a:srgbClr val="ff0000"/>
                </a:solidFill>
                <a:latin typeface="Arial Unicode MS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92440" y="26496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3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+ 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92640" y="28018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ro-RO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31080" y="272556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ro-RO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54760" y="37926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11960" y="48592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ro-RO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+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74080" y="47070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ro-RO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21240" y="4935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ro-RO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38680" y="541008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6</a:t>
            </a: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ro-RO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11760" y="58500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+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78240" y="455436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ro-RO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45080" y="5850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ro-RO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88080" y="42498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11760" y="35640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ro-RO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45080" y="42498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ro-RO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59280" y="33354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7</a:t>
            </a: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ro-RO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97160" y="41734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ro-RO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ro-RO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87880" y="51642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ro-RO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64040" y="5697360"/>
            <a:ext cx="106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VALAH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1371600"/>
            <a:ext cx="7620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 Unicode MS"/>
              </a:rPr>
              <a:t>Acopera </a:t>
            </a:r>
            <a:r>
              <a:rPr b="1" lang="ro-RO" sz="24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ro-RO" sz="1800" spc="-1" strike="noStrike">
                <a:solidFill>
                  <a:srgbClr val="ff0000"/>
                </a:solidFill>
                <a:latin typeface="Arial Unicode MS"/>
              </a:rPr>
              <a:t>toate zonele c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ro-RO" sz="1800" spc="-1" strike="noStrike">
                <a:solidFill>
                  <a:srgbClr val="ff0000"/>
                </a:solidFill>
                <a:latin typeface="Arial Unicode MS"/>
              </a:rPr>
              <a:t>poten</a:t>
            </a:r>
            <a:r>
              <a:rPr b="1" lang="en-US" sz="1800" spc="-1" strike="noStrike">
                <a:solidFill>
                  <a:srgbClr val="ff0000"/>
                </a:solidFill>
                <a:latin typeface="Arial Unicode MS"/>
              </a:rPr>
              <a:t>t</a:t>
            </a:r>
            <a:r>
              <a:rPr b="1" lang="ro-RO" sz="1800" spc="-1" strike="noStrike">
                <a:solidFill>
                  <a:srgbClr val="ff0000"/>
                </a:solidFill>
                <a:latin typeface="Arial Unicode MS"/>
              </a:rPr>
              <a:t>ial de cre</a:t>
            </a:r>
            <a:r>
              <a:rPr b="1" lang="en-US" sz="1800" spc="-1" strike="noStrike">
                <a:solidFill>
                  <a:srgbClr val="ff0000"/>
                </a:solidFill>
                <a:latin typeface="Arial Unicode MS"/>
              </a:rPr>
              <a:t>s</a:t>
            </a:r>
            <a:r>
              <a:rPr b="1" lang="ro-RO" sz="1800" spc="-1" strike="noStrike">
                <a:solidFill>
                  <a:srgbClr val="ff0000"/>
                </a:solidFill>
                <a:latin typeface="Arial Unicode MS"/>
              </a:rPr>
              <a:t>t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ADAE-4265-4A19-8BAB-F88083E04A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7621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 Unicode MS"/>
              </a:rPr>
              <a:t>Programul </a:t>
            </a:r>
            <a:r>
              <a:rPr b="1" lang="ro-RO" sz="2000" spc="-1" strike="noStrike">
                <a:solidFill>
                  <a:srgbClr val="fa5c6b"/>
                </a:solidFill>
                <a:latin typeface="Arial Unicode MS"/>
              </a:rPr>
              <a:t>Euro</a:t>
            </a:r>
            <a:r>
              <a:rPr b="1" lang="ro-RO" sz="2000" spc="-1" strike="noStrike">
                <a:solidFill>
                  <a:srgbClr val="ffffff"/>
                </a:solidFill>
                <a:latin typeface="Arial Unicode MS"/>
              </a:rPr>
              <a:t>B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1371600"/>
            <a:ext cx="7772400" cy="4800600"/>
          </a:xfrm>
          <a:prstGeom prst="rect">
            <a:avLst/>
          </a:prstGeom>
          <a:solidFill>
            <a:srgbClr val="fffbff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4600" indent="-444600">
              <a:lnSpc>
                <a:spcPct val="100000"/>
              </a:lnSpc>
              <a:spcBef>
                <a:spcPts val="499"/>
              </a:spcBef>
              <a:buClr>
                <a:srgbClr val="fa5c6b"/>
              </a:buClr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a5c6b"/>
                </a:solidFill>
                <a:latin typeface="Arial Unicode MS"/>
              </a:rPr>
              <a:t>EURO</a:t>
            </a:r>
            <a:r>
              <a:rPr b="1" lang="ro-RO" sz="2400" spc="-1" strike="noStrike">
                <a:solidFill>
                  <a:srgbClr val="000000"/>
                </a:solidFill>
                <a:latin typeface="Arial Unicode MS"/>
              </a:rPr>
              <a:t>BRD</a:t>
            </a:r>
            <a:r>
              <a:rPr b="0" lang="ro-RO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 Unicode MS"/>
              </a:rPr>
              <a:t>este programul dedicat al BRD – Groupe Société Générale, prin care se ofera beneficiarilor de fonduri europene post-aderare, suport specializat pe intrega durata de pregatire, aprobare si implementare a proiectel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 Unicode MS"/>
              </a:rPr>
              <a:t>Beneficiarii programului </a:t>
            </a:r>
            <a:r>
              <a:rPr b="1" lang="ro-RO" sz="2400" spc="-1" strike="noStrike">
                <a:solidFill>
                  <a:srgbClr val="fa5c6b"/>
                </a:solidFill>
                <a:latin typeface="Arial Unicode MS"/>
              </a:rPr>
              <a:t>EURO</a:t>
            </a:r>
            <a:r>
              <a:rPr b="1" lang="ro-RO" sz="2400" spc="-1" strike="noStrike">
                <a:solidFill>
                  <a:srgbClr val="000000"/>
                </a:solidFill>
                <a:latin typeface="Arial Unicode MS"/>
              </a:rPr>
              <a:t>BRD</a:t>
            </a:r>
            <a:r>
              <a:rPr b="0" lang="ro-RO" sz="2000" spc="-1" strike="noStrike">
                <a:solidFill>
                  <a:srgbClr val="000000"/>
                </a:solidFill>
                <a:latin typeface="Arial Unicode MS"/>
              </a:rPr>
              <a:t> su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070000" indent="-722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 Unicode MS"/>
              </a:rPr>
              <a:t>Intreprinderi Mici si Mijlocii si Microintreprind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070000" indent="-722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 Unicode MS"/>
              </a:rPr>
              <a:t>Agricultori si Piscicult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070000" indent="-722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 Unicode MS"/>
              </a:rPr>
              <a:t>Autoritati Publice Lo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070000" indent="-722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Intreprinderi </a:t>
            </a:r>
            <a:r>
              <a:rPr b="0" lang="ro-RO" sz="2000" spc="-1" strike="noStrike">
                <a:solidFill>
                  <a:srgbClr val="000000"/>
                </a:solidFill>
                <a:latin typeface="Arial Unicode MS"/>
              </a:rPr>
              <a:t>M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070000" indent="-722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 Unicode MS"/>
              </a:rPr>
              <a:t>Contract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077320" y="152280"/>
            <a:ext cx="828720" cy="381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18B9-D28E-4E22-BEEF-7947C56B53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7621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 Unicode MS"/>
              </a:rPr>
              <a:t>Programul </a:t>
            </a:r>
            <a:r>
              <a:rPr b="1" lang="ro-RO" sz="2000" spc="-1" strike="noStrike">
                <a:solidFill>
                  <a:srgbClr val="fa5c6b"/>
                </a:solidFill>
                <a:latin typeface="Arial Unicode MS"/>
              </a:rPr>
              <a:t>Euro</a:t>
            </a:r>
            <a:r>
              <a:rPr b="1" lang="ro-RO" sz="2000" spc="-1" strike="noStrike">
                <a:solidFill>
                  <a:srgbClr val="ffffff"/>
                </a:solidFill>
                <a:latin typeface="Arial Unicode MS"/>
              </a:rPr>
              <a:t>B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1371600"/>
            <a:ext cx="7772400" cy="4800600"/>
          </a:xfrm>
          <a:prstGeom prst="rect">
            <a:avLst/>
          </a:prstGeom>
          <a:solidFill>
            <a:srgbClr val="fffbff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 Unicode MS"/>
              </a:rPr>
              <a:t>Programul </a:t>
            </a:r>
            <a:r>
              <a:rPr b="1" lang="ro-RO" sz="2400" spc="-1" strike="noStrike">
                <a:solidFill>
                  <a:srgbClr val="fa5c6b"/>
                </a:solidFill>
                <a:latin typeface="Arial Unicode MS"/>
              </a:rPr>
              <a:t>EURO</a:t>
            </a:r>
            <a:r>
              <a:rPr b="1" lang="ro-RO" sz="2400" spc="-1" strike="noStrike">
                <a:solidFill>
                  <a:srgbClr val="000000"/>
                </a:solidFill>
                <a:latin typeface="Arial Unicode MS"/>
              </a:rPr>
              <a:t>BRD</a:t>
            </a:r>
            <a:r>
              <a:rPr b="0" lang="ro-RO" sz="1800" spc="-1" strike="noStrike">
                <a:solidFill>
                  <a:srgbClr val="000000"/>
                </a:solidFill>
                <a:latin typeface="Arial Unicode MS"/>
              </a:rPr>
              <a:t> include, fara a se limita l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455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 Unicode MS"/>
              </a:rPr>
              <a:t>Solutii de finantare</a:t>
            </a:r>
            <a:r>
              <a:rPr b="0" lang="ro-RO" sz="1800" spc="-1" strike="noStrike">
                <a:solidFill>
                  <a:srgbClr val="000000"/>
                </a:solidFill>
                <a:latin typeface="Arial Unicode MS"/>
              </a:rPr>
              <a:t>, adaptate necesitatilor clientilor si potentialilor client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4557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455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 Unicode MS"/>
              </a:rPr>
              <a:t>Consultanta financiara</a:t>
            </a:r>
            <a:r>
              <a:rPr b="0" lang="ro-RO" sz="1800" spc="-1" strike="noStrike">
                <a:solidFill>
                  <a:srgbClr val="000000"/>
                </a:solidFill>
                <a:latin typeface="Arial Unicode MS"/>
              </a:rPr>
              <a:t> pentru identificarea structurii optime de finantar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455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455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 Unicode MS"/>
              </a:rPr>
              <a:t>Consiliere</a:t>
            </a:r>
            <a:r>
              <a:rPr b="0" lang="ro-RO" sz="1800" spc="-1" strike="noStrike">
                <a:solidFill>
                  <a:srgbClr val="000000"/>
                </a:solidFill>
                <a:latin typeface="Arial Unicode MS"/>
              </a:rPr>
              <a:t> in ceea ce priveste incadrarea ideii/proiectului in cadrul Programelor Operationale sau Programului National de Dezvoltare Rural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455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455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 Unicode MS"/>
              </a:rPr>
              <a:t>Indrumare</a:t>
            </a:r>
            <a:r>
              <a:rPr b="0" lang="ro-RO" sz="1800" spc="-1" strike="noStrike">
                <a:solidFill>
                  <a:srgbClr val="000000"/>
                </a:solidFill>
                <a:latin typeface="Arial Unicode MS"/>
              </a:rPr>
              <a:t>, functie de tipul proiectului, catre firme de consultanta specializate pentru redactarea planului de afaceri, a studiului de fezabilit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ro-RO" sz="1800" spc="-1" strike="noStrike">
                <a:solidFill>
                  <a:srgbClr val="000000"/>
                </a:solidFill>
                <a:latin typeface="Arial Unicode MS"/>
              </a:rPr>
              <a:t>a cererii de finanatar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4557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077320" y="152280"/>
            <a:ext cx="828720" cy="381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9AB7-465D-445C-93FF-B69B17D8BC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7621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Book Antiqua"/>
              </a:rPr>
              <a:t>Finantarea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companii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914400"/>
            <a:ext cx="2438640" cy="304920"/>
          </a:xfrm>
          <a:prstGeom prst="rect">
            <a:avLst/>
          </a:prstGeom>
          <a:solidFill>
            <a:srgbClr val="fffbff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80880" indent="-380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Book Antiqua"/>
              </a:rPr>
              <a:t>Oferta B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828720" cy="38088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1371600" y="1523880"/>
            <a:ext cx="7315200" cy="914400"/>
            <a:chOff x="1371600" y="1523880"/>
            <a:chExt cx="7315200" cy="914400"/>
          </a:xfrm>
        </p:grpSpPr>
        <p:sp>
          <p:nvSpPr>
            <p:cNvPr id="100" name=""/>
            <p:cNvSpPr/>
            <p:nvPr/>
          </p:nvSpPr>
          <p:spPr>
            <a:xfrm>
              <a:off x="1371600" y="1523880"/>
              <a:ext cx="7315200" cy="914400"/>
            </a:xfrm>
            <a:prstGeom prst="horizontalScroll">
              <a:avLst>
                <a:gd name="adj" fmla="val 12500"/>
              </a:avLst>
            </a:prstGeom>
            <a:solidFill>
              <a:srgbClr val="fef8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14680" y="1686240"/>
              <a:ext cx="6895800" cy="564480"/>
            </a:xfrm>
            <a:prstGeom prst="rect">
              <a:avLst/>
            </a:prstGeom>
            <a:solidFill>
              <a:srgbClr val="fef8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80880" indent="-380880"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 Unicode MS"/>
                </a:rPr>
                <a:t>credit pentru co-finantarea componentei de contributie privata, in completar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0880" indent="-380880"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 Unicode MS"/>
                </a:rPr>
                <a:t>surselor proprii cu </a:t>
              </a:r>
              <a:r>
                <a:rPr b="0" lang="ro-RO" sz="1400" spc="-1" strike="noStrike">
                  <a:solidFill>
                    <a:srgbClr val="000000"/>
                  </a:solidFill>
                  <a:latin typeface="Arial Unicode MS"/>
                </a:rPr>
                <a:t>perioada de credit maxim 10 an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 si</a:t>
              </a:r>
              <a:r>
                <a:rPr b="0" lang="ro-RO" sz="1400" spc="-1" strike="noStrike">
                  <a:solidFill>
                    <a:srgbClr val="000000"/>
                  </a:solidFill>
                  <a:latin typeface="Arial Unicode MS"/>
                </a:rPr>
                <a:t> finantare de pana la 100%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3124080" y="12193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 Unicode MS"/>
              </a:rPr>
              <a:t>Credit de investitii/co-finant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2286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 Unicode MS"/>
              </a:rPr>
              <a:t>Credit su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371600" y="2514600"/>
            <a:ext cx="7315200" cy="1066320"/>
            <a:chOff x="1371600" y="2514600"/>
            <a:chExt cx="7315200" cy="1066320"/>
          </a:xfrm>
        </p:grpSpPr>
        <p:sp>
          <p:nvSpPr>
            <p:cNvPr id="105" name=""/>
            <p:cNvSpPr/>
            <p:nvPr/>
          </p:nvSpPr>
          <p:spPr>
            <a:xfrm>
              <a:off x="1371600" y="2514600"/>
              <a:ext cx="7315200" cy="1066320"/>
            </a:xfrm>
            <a:prstGeom prst="horizontalScroll">
              <a:avLst>
                <a:gd name="adj" fmla="val 12500"/>
              </a:avLst>
            </a:prstGeom>
            <a:solidFill>
              <a:srgbClr val="fef8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14680" y="2702520"/>
              <a:ext cx="6895800" cy="733320"/>
            </a:xfrm>
            <a:prstGeom prst="rect">
              <a:avLst/>
            </a:prstGeom>
            <a:solidFill>
              <a:srgbClr val="fef8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80880" indent="-380880"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400" spc="-1" strike="noStrike">
                  <a:solidFill>
                    <a:srgbClr val="000000"/>
                  </a:solidFill>
                  <a:latin typeface="Arial Unicode MS"/>
                </a:rPr>
                <a:t>credit destinat pre-finantarii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proiectului,</a:t>
              </a:r>
              <a:r>
                <a:rPr b="0" lang="ro-RO" sz="1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pentru</a:t>
              </a:r>
              <a:r>
                <a:rPr b="0" lang="ro-RO" sz="1400" spc="-1" strike="noStrike">
                  <a:solidFill>
                    <a:srgbClr val="000000"/>
                  </a:solidFill>
                  <a:latin typeface="Arial Unicode MS"/>
                </a:rPr>
                <a:t> acoperi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ea</a:t>
              </a:r>
              <a:r>
                <a:rPr b="0" lang="ro-RO" sz="1400" spc="-1" strike="noStrike">
                  <a:solidFill>
                    <a:srgbClr val="000000"/>
                  </a:solidFill>
                  <a:latin typeface="Arial Unicode MS"/>
                </a:rPr>
                <a:t> decalajului existent intre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p</a:t>
              </a:r>
              <a:r>
                <a:rPr b="0" lang="ro-RO" sz="1400" spc="-1" strike="noStrike">
                  <a:solidFill>
                    <a:srgbClr val="000000"/>
                  </a:solidFill>
                  <a:latin typeface="Arial Unicode MS"/>
                </a:rPr>
                <a:t>latile catre furnizorii de lucrari/echipamente/servicii si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i</a:t>
              </a:r>
              <a:r>
                <a:rPr b="0" lang="ro-RO" sz="1400" spc="-1" strike="noStrike">
                  <a:solidFill>
                    <a:srgbClr val="000000"/>
                  </a:solidFill>
                  <a:latin typeface="Arial Unicode MS"/>
                </a:rPr>
                <a:t>ncasa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ea “grantului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3352680" y="34290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 u="sng">
                <a:solidFill>
                  <a:srgbClr val="000000"/>
                </a:solidFill>
                <a:uFillTx/>
                <a:latin typeface="Arial Unicode MS"/>
              </a:rPr>
              <a:t>Credit pe termen scu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371600" y="3657600"/>
            <a:ext cx="7315200" cy="990360"/>
            <a:chOff x="1371600" y="3657600"/>
            <a:chExt cx="7315200" cy="990360"/>
          </a:xfrm>
        </p:grpSpPr>
        <p:sp>
          <p:nvSpPr>
            <p:cNvPr id="109" name=""/>
            <p:cNvSpPr/>
            <p:nvPr/>
          </p:nvSpPr>
          <p:spPr>
            <a:xfrm>
              <a:off x="1371600" y="3657600"/>
              <a:ext cx="7315200" cy="990360"/>
            </a:xfrm>
            <a:prstGeom prst="horizontalScroll">
              <a:avLst>
                <a:gd name="adj" fmla="val 12500"/>
              </a:avLst>
            </a:prstGeom>
            <a:solidFill>
              <a:srgbClr val="fef8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80880" indent="-380880" algn="ctr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4680" y="3832200"/>
              <a:ext cx="6895800" cy="564480"/>
            </a:xfrm>
            <a:prstGeom prst="rect">
              <a:avLst/>
            </a:prstGeom>
            <a:solidFill>
              <a:srgbClr val="fef8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80880" indent="-380880"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400" spc="-1" strike="noStrike">
                  <a:solidFill>
                    <a:srgbClr val="000000"/>
                  </a:solidFill>
                  <a:latin typeface="Arial Unicode MS"/>
                </a:rPr>
                <a:t>pentru finantarea cheltuielilor neeligibile aferente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ro-RO" sz="1400" spc="-1" strike="noStrike">
                  <a:solidFill>
                    <a:srgbClr val="000000"/>
                  </a:solidFill>
                  <a:latin typeface="Arial Unicode MS"/>
                </a:rPr>
                <a:t>proiectului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0880" indent="-380880"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v</a:t>
              </a:r>
              <a:r>
                <a:rPr b="0" lang="ro-RO" sz="1400" spc="-1" strike="noStrike">
                  <a:solidFill>
                    <a:srgbClr val="000000"/>
                  </a:solidFill>
                  <a:latin typeface="Arial Unicode MS"/>
                </a:rPr>
                <a:t>aloarea finantarii este de pana la 75% din totala a acesto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4114800" y="44956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 u="sng">
                <a:solidFill>
                  <a:srgbClr val="000000"/>
                </a:solidFill>
                <a:uFillTx/>
                <a:latin typeface="Arial Unicode MS"/>
              </a:rPr>
              <a:t>Linie de cred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4800600"/>
            <a:ext cx="7315200" cy="609480"/>
          </a:xfrm>
          <a:prstGeom prst="horizontalScroll">
            <a:avLst>
              <a:gd name="adj" fmla="val 12500"/>
            </a:avLst>
          </a:prstGeom>
          <a:solidFill>
            <a:srgbClr val="fef8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4876920"/>
            <a:ext cx="689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 Unicode MS"/>
              </a:rPr>
              <a:t>destinata finantarii necesarului de capital de luc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5638680"/>
            <a:ext cx="7238880" cy="609840"/>
          </a:xfrm>
          <a:prstGeom prst="horizontalScroll">
            <a:avLst>
              <a:gd name="adj" fmla="val 12500"/>
            </a:avLst>
          </a:prstGeom>
          <a:solidFill>
            <a:srgbClr val="fef8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80880" indent="-380880"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5715000"/>
            <a:ext cx="689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 Unicode MS"/>
              </a:rPr>
              <a:t>Scrisori de Garantie Bancara</a:t>
            </a:r>
            <a:r>
              <a:rPr b="0" lang="ro-RO" sz="1400" spc="-1" strike="noStrike">
                <a:solidFill>
                  <a:srgbClr val="000000"/>
                </a:solidFill>
                <a:latin typeface="Arial Unicode MS"/>
              </a:rPr>
              <a:t> sau </a:t>
            </a:r>
            <a:r>
              <a:rPr b="1" lang="ro-RO" sz="1400" spc="-1" strike="noStrike">
                <a:solidFill>
                  <a:srgbClr val="000000"/>
                </a:solidFill>
                <a:latin typeface="Arial Unicode MS"/>
              </a:rPr>
              <a:t>Scrisori de con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48320" y="5410080"/>
            <a:ext cx="228600" cy="228600"/>
          </a:xfrm>
          <a:prstGeom prst="plus">
            <a:avLst>
              <a:gd name="adj" fmla="val 2500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36E7-B80F-41CD-B5A1-0AA0747DD9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9072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Exemplu proiect </a:t>
            </a:r>
            <a:r>
              <a:rPr b="1" i="1" lang="en-US" sz="2000" spc="-1" strike="noStrike">
                <a:solidFill>
                  <a:srgbClr val="000000"/>
                </a:solidFill>
                <a:latin typeface="Arial Unicode MS"/>
              </a:rPr>
              <a:t>“Modernizar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838080"/>
            <a:ext cx="46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Book Antiqua"/>
              </a:rPr>
              <a:t>Finantare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 in cadrul POS Competitivi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1752480"/>
            <a:ext cx="80773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Descriere proiect - </a:t>
            </a:r>
            <a:r>
              <a:rPr b="0" lang="fr-FR" sz="1800" spc="-1" strike="noStrike">
                <a:solidFill>
                  <a:srgbClr val="000000"/>
                </a:solidFill>
                <a:latin typeface="Arial Unicode MS"/>
              </a:rPr>
              <a:t>O intreprindere mijlocie isi propune modernizarea halei de productie si achizitionarea de echipamente no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Unicode MS"/>
              </a:rPr>
              <a:t>Valoarea totala a proiectului: </a:t>
            </a:r>
            <a:r>
              <a:rPr b="0" lang="fr-FR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€4.7 milio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d CAEN: Sectiunea C </a:t>
            </a:r>
            <a:r>
              <a:rPr b="0" lang="fr-FR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– Industrie</a:t>
            </a:r>
            <a:r>
              <a:rPr b="1" lang="fr-FR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relucrato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Localizare: </a:t>
            </a:r>
            <a:r>
              <a:rPr b="0" lang="fr-FR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n Regiune UE alta decat BU/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Proiectul de investitii “Modernizare” se incadreaza in: </a:t>
            </a:r>
            <a:r>
              <a:rPr b="1" i="1" lang="it-IT" sz="1800" spc="-1" strike="noStrike">
                <a:solidFill>
                  <a:srgbClr val="0000ff"/>
                </a:solidFill>
                <a:latin typeface="Arial Unicode MS"/>
              </a:rPr>
              <a:t>POS-CCE, </a:t>
            </a:r>
            <a:r>
              <a:rPr b="1" i="1" lang="en-US" sz="1800" spc="-1" strike="noStrike">
                <a:solidFill>
                  <a:srgbClr val="0000ff"/>
                </a:solidFill>
                <a:latin typeface="Arial Unicode MS"/>
              </a:rPr>
              <a:t>Axa 1,</a:t>
            </a:r>
            <a:r>
              <a:rPr b="1" lang="en-US" sz="1800" spc="-1" strike="noStrike">
                <a:solidFill>
                  <a:srgbClr val="0000ff"/>
                </a:solidFill>
                <a:latin typeface="Arial Unicode MS"/>
              </a:rPr>
              <a:t> </a:t>
            </a:r>
            <a:r>
              <a:rPr b="1" i="1" lang="en-US" sz="1800" spc="-1" strike="noStrike">
                <a:solidFill>
                  <a:srgbClr val="0000ff"/>
                </a:solidFill>
                <a:latin typeface="Arial Unicode MS"/>
              </a:rPr>
              <a:t>Schema de finantare S2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- Investitii curpinse intre 250.001 - 1.500.000 euro pentru intreprinderile mici şi mijlo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tructura costului proiectulu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 Unicode MS"/>
                <a:ea typeface="Times New Roman"/>
              </a:rPr>
              <a:t>Costuri eligibile</a:t>
            </a:r>
            <a:r>
              <a:rPr b="1" lang="fr-FR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: €4.2 milio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€</a:t>
            </a:r>
            <a:r>
              <a:rPr b="1" lang="fr-FR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1.5 milioane din fonduri europ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€</a:t>
            </a:r>
            <a:r>
              <a:rPr b="1" lang="fr-FR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2.7 milioane contributie prop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 Unicode MS"/>
                <a:ea typeface="Times New Roman"/>
              </a:rPr>
              <a:t>Costuri neeligibile</a:t>
            </a:r>
            <a:r>
              <a:rPr b="1" lang="fr-FR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: €0.5 milio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 Unicode MS"/>
              </a:rPr>
              <a:t>Nota: Nu sunt acceptate echipamente «second hand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238880" y="838080"/>
            <a:ext cx="968400" cy="9064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28720" cy="38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3FA2-14A8-4DDF-8214-FBD426AFCA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90720" y="12952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Proiect  “Modernizare”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838080"/>
            <a:ext cx="449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imes New Roman"/>
              </a:rPr>
              <a:t>Finantare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in cadrul POS Competitivi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66680" y="1828800"/>
          <a:ext cx="7772400" cy="3859200"/>
        </p:xfrm>
        <a:graphic>
          <a:graphicData uri="http://schemas.openxmlformats.org/drawingml/2006/table">
            <a:tbl>
              <a:tblPr/>
              <a:tblGrid>
                <a:gridCol w="1905120"/>
                <a:gridCol w="2666880"/>
                <a:gridCol w="32004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tructura financia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urse de finant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Tipul finantar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€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.5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milioa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ondul European de Dezvoltare Regionala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(60% din costurile eligibile – maxim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€1.5 mil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Grant 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Posibila interventie BRD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Wingdings" charset="2"/>
                        <a:buChar char="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pre-finantare: credit “suport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Wingdings" charset="2"/>
                        <a:buChar char="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SGB pentru 20% din valoarea grantului UE pe perioada implementar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€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2.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milioa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ontributia beneficiarulu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(minim 40% din costurile eligibil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ontributie propr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Posibila interventie BRD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Wingdings"/>
                          <a:ea typeface="Wingdings"/>
                        </a:rPr>
                        <a:t>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co-finantare: credit de investit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€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.5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milioa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ontributia beneficiarulu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osturi neeligibile (i.e. pregatire proiect, autorizatii, tere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ontributie propr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Posibila interventie BRD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Wingdings"/>
                          <a:ea typeface="Wingdings"/>
                        </a:rPr>
                        <a:t>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credit pe termen scurt/mediu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543800" y="838080"/>
            <a:ext cx="968400" cy="906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28720" cy="38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91040" y="5830920"/>
            <a:ext cx="77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 Unicode MS"/>
              </a:rPr>
              <a:t>Nota: NU p</a:t>
            </a:r>
            <a:r>
              <a:rPr b="1" i="1" lang="ro-RO" sz="1800" spc="-1" strike="noStrike">
                <a:solidFill>
                  <a:srgbClr val="000000"/>
                </a:solidFill>
                <a:latin typeface="Arial Unicode MS"/>
              </a:rPr>
              <a:t>ot fi luate in garantie activele finantate prin proi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5456-51ED-4867-BD72-E0073C0386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8T07:47:45Z</dcterms:created>
  <dc:creator>BRD - Xavier Freche</dc:creator>
  <dc:description/>
  <dc:language>en-US</dc:language>
  <cp:lastModifiedBy>BRD</cp:lastModifiedBy>
  <dcterms:modified xsi:type="dcterms:W3CDTF">2008-06-23T10:39:35Z</dcterms:modified>
  <cp:revision>1058</cp:revision>
  <dc:subject>Lancement commercial du site www.brd-net.ro</dc:subject>
  <dc:title>BRD-NET Lancement Commercial</dc:title>
</cp:coreProperties>
</file>