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EB9-ED24-44D6-9A45-32921F7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D9D-D357-4615-A3CF-56719E4E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C64-DB5C-40A0-B166-65A5F880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DF7-9E60-473F-96CC-D81633CC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101-00A5-4300-AA44-236B1F67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B91-546D-4AD7-8C00-0B1ACF1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83E-0243-4637-AEF8-9B8251A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D2C-5D5C-422B-80BF-1564ACC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1C0-3EC5-4505-A66E-A410CDF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0E9-F82B-466C-AC9C-D445665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BEB-CB9C-4318-8C7A-73CDF79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1A8-3EB6-4B4B-B92F-8DB39D07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1641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8EE-8206-4638-B4E5-71B541FD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164174"/>
                </a:solidFill>
                <a:latin typeface="Arial"/>
              </a:rPr>
              <a:t>MEDIAFAX TALKS ABOUT STRUCTURAL F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Documents and Settings\PRAssistant\My Documents\My Pictures\logo lawyers.jpg"/>
          <p:cNvPicPr/>
          <p:nvPr/>
        </p:nvPicPr>
        <p:blipFill>
          <a:blip r:embed="rId2"/>
          <a:stretch/>
        </p:blipFill>
        <p:spPr>
          <a:xfrm>
            <a:off x="457200" y="228600"/>
            <a:ext cx="2057400" cy="615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172200"/>
            <a:ext cx="914400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6172200" y="6215040"/>
            <a:ext cx="2438280" cy="262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590920" y="65530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4174"/>
                </a:solidFill>
                <a:latin typeface="Calibri"/>
              </a:rPr>
              <a:t>www.bostinalawyer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CONSULTANTA DE SPECIALITATE – DIFERENTA INTRE </a:t>
            </a:r>
            <a:r>
              <a:rPr b="1" i="1" lang="en-US" sz="2800" spc="-1" strike="noStrike">
                <a:solidFill>
                  <a:srgbClr val="164174"/>
                </a:solidFill>
                <a:latin typeface="Arial"/>
              </a:rPr>
              <a:t>DEPUS</a:t>
            </a: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 SI </a:t>
            </a:r>
            <a:r>
              <a:rPr b="1" i="1" lang="en-US" sz="2800" spc="-1" strike="noStrike">
                <a:solidFill>
                  <a:srgbClr val="164174"/>
                </a:solidFill>
                <a:latin typeface="Arial"/>
              </a:rPr>
              <a:t>APRO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64174"/>
                </a:solidFill>
                <a:latin typeface="Arial"/>
              </a:rPr>
              <a:t>MEDIAFAX TALKS ABOUT STRUCTURAL F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417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64174"/>
                </a:solidFill>
                <a:latin typeface="Arial"/>
              </a:rPr>
              <a:t>24 IUNI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PRAssistant\My Documents\My Pictures\logo lawyers.jpg"/>
          <p:cNvPicPr/>
          <p:nvPr/>
        </p:nvPicPr>
        <p:blipFill>
          <a:blip r:embed="rId1"/>
          <a:stretch/>
        </p:blipFill>
        <p:spPr>
          <a:xfrm>
            <a:off x="1676520" y="762120"/>
            <a:ext cx="5829120" cy="17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2200"/>
            <a:ext cx="9144000" cy="380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72200" y="6215040"/>
            <a:ext cx="2438280" cy="262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0920" y="65530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4174"/>
                </a:solidFill>
                <a:latin typeface="Calibri"/>
              </a:rPr>
              <a:t>www.bostinalawyer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a76b"/>
                </a:solidFill>
                <a:latin typeface="Arial"/>
              </a:rPr>
              <a:t>CONCLUZIE</a:t>
            </a:r>
            <a:r>
              <a:rPr b="1" lang="en-US" sz="1600" spc="-1" strike="noStrike">
                <a:solidFill>
                  <a:srgbClr val="a9a76b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4174"/>
                </a:solidFill>
                <a:uFillTx/>
                <a:latin typeface="Arial"/>
              </a:rPr>
              <a:t>Autoritati – consultanta de specialitate este un agent al schimbarii</a:t>
            </a:r>
            <a:r>
              <a:rPr b="1" lang="en-US" sz="1600" spc="-1" strike="noStrike" u="sng">
                <a:solidFill>
                  <a:srgbClr val="164174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Suport in evaluarea tehnica si financiara a proiectelor dep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Suport tehnic si juridic in procedurile de achiz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Suport in identificarea si implementarea strategiilor institutionale de dezvoltare a capacitatilor 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Suport in interpretarea si aplicarea normelor juri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Training – servicii de instruire si formare pentru pers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Ajutor la diseminarea Fondurilor Structu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Solutii tehnice si juridice pentru situatiile de criza ale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Reducerea riscului in evaluare si monitor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001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64174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164174"/>
                </a:solidFill>
                <a:latin typeface="Arial"/>
              </a:rPr>
              <a:t>DEPU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4174"/>
                </a:solidFill>
                <a:latin typeface="Arial"/>
              </a:rPr>
              <a:t>=/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4174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164174"/>
                </a:solidFill>
                <a:latin typeface="Arial"/>
              </a:rPr>
              <a:t>APROB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9a76b"/>
                </a:solidFill>
                <a:uFillTx/>
                <a:latin typeface="Arial"/>
              </a:rPr>
              <a:t>CAU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Benefici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Autorit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9a76b"/>
                </a:solidFill>
                <a:uFillTx/>
                <a:latin typeface="Arial"/>
              </a:rPr>
              <a:t>SOLUTIE:</a:t>
            </a: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174"/>
                </a:solidFill>
                <a:latin typeface="Arial"/>
              </a:rPr>
              <a:t>Consultanta de speciali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9a76b"/>
                </a:solidFill>
                <a:uFillTx/>
                <a:latin typeface="Arial"/>
              </a:rPr>
              <a:t>CAU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4174"/>
                </a:solidFill>
                <a:latin typeface="Arial"/>
              </a:rPr>
              <a:t>BENEFIC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deficit organizational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nivelul scazut 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instruire a personalului/reprezentantilor beneficiarilor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 expertiza scazuta a beneficiarilor in scrierea proiectelo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 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reactie slaba in ceea ce priveste apelarea la consultanta de specialitate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1641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4174"/>
                </a:solidFill>
                <a:latin typeface="Arial"/>
              </a:rPr>
              <a:t>AUTORI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capacitate de reactie redusa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perpetua” modificare si completare a conditiilor de eligibilitate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cauze de natura institutionala si/sau legislativa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birocratia excesiv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 </a:t>
            </a:r>
            <a:r>
              <a:rPr b="0" lang="ro-RO" sz="1800" spc="-1" strike="noStrike">
                <a:solidFill>
                  <a:srgbClr val="164174"/>
                </a:solidFill>
                <a:latin typeface="Arial"/>
              </a:rPr>
              <a:t>gradul scazut de externalizare al activitatilor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1641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9a76b"/>
                </a:solidFill>
                <a:uFillTx/>
                <a:latin typeface="Arial"/>
              </a:rPr>
              <a:t>SOLUTIE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4174"/>
                </a:solidFill>
                <a:latin typeface="Arial"/>
              </a:rPr>
              <a:t>CONSULTANTA DE SPECIALITATE</a:t>
            </a:r>
            <a:r>
              <a:rPr b="0" lang="en-US" sz="3200" spc="-1" strike="noStrike">
                <a:solidFill>
                  <a:srgbClr val="16417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41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64174"/>
                </a:solidFill>
                <a:latin typeface="Arial"/>
              </a:rPr>
              <a:t>Consultanta de specialitate – tehnica, economica si juridica – a devenit o necesitate, o componenta cheie in procesul de elaborare, depunere, aprobare, implementare si monitorizare a proiectelor derulate prin mecanismele fondurilor structu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417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64174"/>
                </a:solidFill>
                <a:latin typeface="Arial"/>
              </a:rPr>
              <a:t>Consultanta de specialitate pentru benficiari presup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9a76b"/>
                </a:solidFill>
                <a:latin typeface="Arial"/>
              </a:rPr>
              <a:t>Identific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9a76b"/>
                </a:solidFill>
                <a:latin typeface="Arial"/>
              </a:rPr>
              <a:t>Pregati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9a76b"/>
                </a:solidFill>
                <a:latin typeface="Arial"/>
              </a:rPr>
              <a:t>Implementare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a9a76b"/>
                </a:solidFill>
                <a:latin typeface="Arial"/>
              </a:rPr>
              <a:t>proiec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a76b"/>
                </a:solidFill>
                <a:latin typeface="Arial"/>
              </a:rPr>
              <a:t>IDENTIFICARE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nevoilor benefici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Elaborarea schitei preliminare 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Evaluarea bugetara prelimin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programelor de fina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resurselor de cofina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a76b"/>
                </a:solidFill>
                <a:latin typeface="Arial"/>
              </a:rPr>
              <a:t>PREGATIRE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Studiul de fezabi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naliza institutio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naliza cost-bene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Studiul de impact asupra med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Sprijin pentru obtinerea fondurilor de cofina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Pregatirea aplicatiei pentru finantarea nerambursabi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a76b"/>
                </a:solidFill>
                <a:latin typeface="Arial"/>
              </a:rPr>
              <a:t>IMPLEMENTARE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Managementul de pro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sistenta privind structura organizatorica/personalul ne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justarea sistemelor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Suport in procesul de management al risc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sistenta privind dezvoltarea de proced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Suport in procesul de achizitii pub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Verificarea eligibilitatii cheltuiel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Consultanta contabila si fi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Actiuni de informare si public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64174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a76b"/>
                </a:solidFill>
                <a:latin typeface="Arial"/>
              </a:rPr>
              <a:t>CONCLUZ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4174"/>
                </a:solidFill>
                <a:uFillTx/>
                <a:latin typeface="Arial"/>
              </a:rPr>
              <a:t>Beneficiari – consultanta de specialitate actioneaza drept un agent al forma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capacitatilor de acces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mecanism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Asistenta tehnica si financiara la dezvoltarea capacitatilor economice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Identificarea si stabilirea resur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Elaborarea unor proiecte susten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Eloborarea corecta si fundamentata a proiect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Asistenta tehnica, financiara si juridica in implementarea si monitorizarea proiec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4174"/>
                </a:solidFill>
                <a:latin typeface="Arial"/>
              </a:rPr>
              <a:t>Reducerea riscului in implemen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9:26:10Z</dcterms:created>
  <dc:creator>CMan</dc:creator>
  <dc:description/>
  <dc:language>en-US</dc:language>
  <cp:lastModifiedBy>Anca Man</cp:lastModifiedBy>
  <dcterms:modified xsi:type="dcterms:W3CDTF">2008-06-24T06:28:09Z</dcterms:modified>
  <cp:revision>30</cp:revision>
  <dc:subject/>
  <dc:title>Societatea Civila de Avocati BOSTINA SI ASOCIATII</dc:title>
</cp:coreProperties>
</file>