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DDD-03B1-4128-B685-36969A93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9280" y="3712680"/>
            <a:ext cx="8244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9280" y="4005720"/>
            <a:ext cx="8244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88F-E168-4725-9EE1-4BCF7C80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9280" y="371268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371268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9280" y="400572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400572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211-B116-43CD-A165-49B9A15D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49280" y="3712680"/>
            <a:ext cx="265428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6760" y="3712680"/>
            <a:ext cx="265428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3880" y="3712680"/>
            <a:ext cx="265428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49280" y="4005720"/>
            <a:ext cx="265428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6760" y="4005720"/>
            <a:ext cx="265428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3880" y="4005720"/>
            <a:ext cx="265428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135-FAF3-458A-BCE4-CFF13A32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AE92-9F49-4026-9333-9C1F2E46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49280" y="3712680"/>
            <a:ext cx="82440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9D57-9741-4888-90B4-F570177E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9280" y="3712680"/>
            <a:ext cx="824400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A34A-9D24-4E19-9F4F-8D5BA135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9280" y="3712680"/>
            <a:ext cx="402300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3712680"/>
            <a:ext cx="402300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1ED4-CA34-458D-B316-A70776E7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2D7F-FA7E-49BE-8991-57E37F66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49280" y="2704680"/>
            <a:ext cx="8244000" cy="33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1788-6089-4D74-99C5-D49C8BA3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9280" y="371268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3712680"/>
            <a:ext cx="402300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49280" y="400572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86FF-4DAA-4E6F-B28C-C302D0F0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49280" y="3712680"/>
            <a:ext cx="82440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158-929B-40CF-81F8-118CBFB8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9280" y="3712680"/>
            <a:ext cx="402300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371268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880" y="400572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9159-3FF6-4E80-9D5F-B5775157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9280" y="371268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371268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49280" y="4005720"/>
            <a:ext cx="8244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1802-0C18-4A82-9D4E-7EEB1C7B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9280" y="3712680"/>
            <a:ext cx="8244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9280" y="4005720"/>
            <a:ext cx="8244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366A-5467-4FE2-AA63-2A14BCE6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9280" y="371268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880" y="371268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49280" y="400572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880" y="400572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F2F8-91CA-401D-8CB6-89F2E13B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49280" y="3712680"/>
            <a:ext cx="265428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760" y="3712680"/>
            <a:ext cx="265428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3880" y="3712680"/>
            <a:ext cx="265428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9280" y="4005720"/>
            <a:ext cx="265428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760" y="4005720"/>
            <a:ext cx="265428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3880" y="4005720"/>
            <a:ext cx="265428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DBAD-1B2D-46CE-8E84-7BB7C64A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9280" y="3712680"/>
            <a:ext cx="824400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7FB8-E1A9-47CF-B40A-8C7CB400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9280" y="3712680"/>
            <a:ext cx="402300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3712680"/>
            <a:ext cx="402300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6B3-344A-4DCE-969F-4C896013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4AD-4C0A-47CF-A86E-C0D594DB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49280" y="2704680"/>
            <a:ext cx="8244000" cy="33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EAE-0988-4948-868B-5BD9C67A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49280" y="371268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3712680"/>
            <a:ext cx="402300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9280" y="400572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ED33-67C0-4C9A-B833-D1842284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49280" y="3712680"/>
            <a:ext cx="402300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371268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400572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107-0397-4143-8FCB-A25BECAD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49280" y="371268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3712680"/>
            <a:ext cx="4023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9280" y="4005720"/>
            <a:ext cx="8244000" cy="2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5DD6-0F10-4E08-8836-F897179E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752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15920"/>
            <a:ext cx="9167760" cy="5983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9247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9280" y="1467000"/>
            <a:ext cx="8785440" cy="39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03640" y="6409800"/>
            <a:ext cx="213372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44240" y="6409800"/>
            <a:ext cx="465156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42560" y="6409800"/>
            <a:ext cx="46836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8BAE-F8CD-4D30-84D3-A76668E77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75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9280" y="2704680"/>
            <a:ext cx="82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03640" y="6409800"/>
            <a:ext cx="213372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244240" y="6409800"/>
            <a:ext cx="465156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142560" y="6409800"/>
            <a:ext cx="46836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2EF0-6775-4805-BCEB-7676E3CF66F7}" type="slidenum">
              <a:rPr b="0" lang="en-US" sz="14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t.ro/dgrfe/post/romana/POS-T - varianta RO.pdf" TargetMode="External"/><Relationship Id="rId2" Type="http://schemas.openxmlformats.org/officeDocument/2006/relationships/hyperlink" Target="mailto:marcela.glodeanu@mt.ro" TargetMode="External"/><Relationship Id="rId3" Type="http://schemas.openxmlformats.org/officeDocument/2006/relationships/hyperlink" Target="mailto:postransport@mt.ro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692360"/>
            <a:ext cx="86425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1" lang="ro-RO" sz="4000" spc="-1" strike="noStrike">
                <a:solidFill>
                  <a:srgbClr val="000000"/>
                </a:solidFill>
                <a:latin typeface="Times New Roman"/>
              </a:rPr>
              <a:t>Programul Operaţional Sectorial de Transport </a:t>
            </a:r>
            <a:br>
              <a:rPr sz="4000"/>
            </a:br>
            <a:br>
              <a:rPr sz="4000"/>
            </a:br>
            <a:r>
              <a:rPr b="1" lang="ro-RO" sz="4000" spc="-1" strike="noStrike">
                <a:solidFill>
                  <a:srgbClr val="000000"/>
                </a:solidFill>
                <a:latin typeface="Times New Roman"/>
              </a:rPr>
              <a:t>2007-2013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92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692280"/>
            <a:ext cx="86756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NISTERUL TRANSPORTURILOR</a:t>
            </a:r>
            <a:br>
              <a:rPr sz="1600"/>
            </a:br>
            <a:br>
              <a:rPr sz="1600"/>
            </a:br>
            <a:r>
              <a:rPr b="1" lang="ro-RO" sz="1600" spc="-1" strike="noStrike">
                <a:solidFill>
                  <a:srgbClr val="000000"/>
                </a:solidFill>
                <a:latin typeface="Times New Roman"/>
              </a:rPr>
              <a:t>AUTORITATE DE MANAGEMENT PENTRU POS-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838080" cy="61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244000" y="6021360"/>
            <a:ext cx="900000" cy="836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548560" y="115920"/>
            <a:ext cx="595440" cy="61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Tipuri de proiec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44000" y="6021360"/>
            <a:ext cx="90000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108000" y="765000"/>
          <a:ext cx="9217080" cy="6334200"/>
        </p:xfrm>
        <a:graphic>
          <a:graphicData uri="http://schemas.openxmlformats.org/drawingml/2006/table">
            <a:tbl>
              <a:tblPr/>
              <a:tblGrid>
                <a:gridCol w="1395360"/>
                <a:gridCol w="3230640"/>
                <a:gridCol w="45910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a de intervenţ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ndul de Coezi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ndul European de Dezvolt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t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ţiuni de autostrada pe axele prioritare TEN-T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Reabilitare de drumuri, construire de by pass-u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rovi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Secţiuni de cale ferata inter-operabila pe axa prioritara      TEN-T 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bilitare gărilor, tunelurilor si  podurilor; Modernizarea staţiilor de energo-alimenta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Îmbunătăţirea navigaţiei pe axa prioritara TEN-T 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rnizarea si dezvoltarea portului Constanţa; Modernizarea si dezvoltarea porturilor de pe Dunăre (studii si lucrăr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r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rnizarea si dezvoltarea aeroporturilo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e îndeplinesc criteriile de tra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pecte orizon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uranţa: sate liniare, pasaje de trecere peste calea ferata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ere automate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teme de detectare a trenurilo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tforme intermodale ferovi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stenta teh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rijinirea activităţilor de management, monitorizare si control a POS-T; Informare si publicitate pentru POS-T;  Studii cu privire la aspectele orizontale (Master plan de transpor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838080" cy="61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8505720" y="152280"/>
            <a:ext cx="638280" cy="65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9247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roiecte 20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9280" y="1484280"/>
          <a:ext cx="8640720" cy="4968720"/>
        </p:xfrm>
        <a:graphic>
          <a:graphicData uri="http://schemas.openxmlformats.org/drawingml/2006/table">
            <a:tbl>
              <a:tblPr/>
              <a:tblGrid>
                <a:gridCol w="760680"/>
                <a:gridCol w="6265800"/>
                <a:gridCol w="161424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 cr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iec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 de tran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ţie de autostradă, Timişoara – Ar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ţie de autostradă, secţiunea Cernavodă-Constanţ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ta de ocolire Constanţ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iect Pilot ERTMS, nivel II, pe secţiunea Crivina-Chiti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ov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bilitarea gări – Baia Mare, Satu Ma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argoviste, Miercurea Ciuc, T. J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ov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 feroviar în Portul Constanţ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ov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 rutier de acces peste Canalul Dunăre – Marea Neagr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inderea digului de larg, Portul Constanţ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crări de îmbunătăţire a siguranţei rutiere pe D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crări de îmbunătăţire a siguranţei rutiere pe drumurile naţi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RIS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hipamente şi nave de depoluare pe Dună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838080" cy="61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505720" y="152280"/>
            <a:ext cx="638280" cy="65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90000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9247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tadiul documentelor POS - Trans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12 iulie 2007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o-RO" sz="2000" spc="-1" strike="noStrike">
                <a:solidFill>
                  <a:srgbClr val="000000"/>
                </a:solidFill>
                <a:latin typeface="Times New Roman"/>
              </a:rPr>
              <a:t>aprobarea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Programului Operaţional Sectorial de Transport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, prin decizia CE nr. 34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2 octombrie 2007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- aprobarea criteriilor de eligibilitate şi evaluare a cererilor de finanţare ce vor fi depuse în cadrul P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28 ianuarie 2008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– aprobarea Ghidului Solicitan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11 februarie 2008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– lansarea cererii deschise de proiecte cu depunere continuă pentru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Pentru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Concursurile de proiect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(Calls) organizate pentru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operaţiunile din cadrul Axelor Prioritare 2 şi 3 privind dezvoltarea porturilor dunărene, aeroporturilor şi terminalelor inter-modal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, AM POST, va elabora şi va publica Ghiduri specifice ale solicitanţilor, după clarificarea problematicii ajutorului de st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Achiziţia de material rulant este supusă problematicii ajutorului de stat şi se află în discuţie cu Comisia European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838080" cy="61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505720" y="152280"/>
            <a:ext cx="638280" cy="65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90000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4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imes New Roman"/>
              </a:rPr>
              <a:t>VĂ MULŢUMESC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084640"/>
            <a:ext cx="8496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mt.ro/dgrfe/post/romana/POS-T%20-%20varianta%20RO.pdf</a:t>
            </a: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mail: iuliana.buretea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mt.ro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ostransport@mt.r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9247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POS - Trans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iectivul global</a:t>
            </a: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Promovarea în România a unui sistem de transport durabil, care să  permită deplasarea rapidă, eficientă şi în condiţii de siguranţă a persoanelor şi bunurilor, la servicii de un nivel corespunzător standardelor europene, la nivel naţional, în cadrul Europei, între şi în cadrul regiunilor României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838080" cy="61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505720" y="152280"/>
            <a:ext cx="638280" cy="65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90000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9247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POS - Trans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467000"/>
            <a:ext cx="8280360" cy="39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iective specifice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Promovarea circulaţiei internaţionale şi de tranzit a persoanelor şi bunurilor din România prin asigurarea de conexiuni pentru portul Constanţa, precum şi creşterea tranzitului dinspre UE către sud, prin modernizarea şi dezvoltarea Axelor Prioritare TEN-T relevante, cu aplicarea măsurilor necesare pentru protecţia mediului înconjură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Promovarea circulaţiei eficiente a persoanelor şi a bunurilor între regiunile României prin modernizarea şi dezvoltarea reţelelor naţionale de transport, în conformitate cu principiile dezvoltării durabi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Promovarea dezvoltării unui sistem de transport echilibrat, în ceea ce priveşte toate modurile de transport, prin încurajarea dezvoltării sectoarelor feroviar, naval şi i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mod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prijinirea dezvoltării transportului durabil, prin minimizarea efectelor adverse ale transportului asupra mediului şi prin îmbunătăţirea siguranţei traficului şi a sănătăţii um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826920" cy="61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505720" y="152280"/>
            <a:ext cx="638280" cy="65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90000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9247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POS - Trans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Strategia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a Prioritar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3.854 MEUR (FC + 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izarea şi dezvoltarea axelor prioritare TEN-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ţeaua Trans – Europeană de Transp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în scopul dezvoltării unui sistem de transport integrat şi integrării acestuia cu reţelele de transport ale 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Domenii majore de intervenţ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1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Infrastructură rutieră de-a lungul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Times New Roman"/>
              </a:rPr>
              <a:t>Axei Prioritare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Times New Roman"/>
              </a:rPr>
              <a:t>TEN–T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Times New Roman"/>
              </a:rPr>
              <a:t>nr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1.850 M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2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Infrastructură feroviară de-a lungul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Times New Roman"/>
              </a:rPr>
              <a:t>Axei Prioritare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Times New Roman"/>
              </a:rPr>
              <a:t> TEN-T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Times New Roman"/>
              </a:rPr>
              <a:t> nr.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1.775 M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Infrastructură navală de-a lungul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Times New Roman"/>
              </a:rPr>
              <a:t>Axei Prioritare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Times New Roman"/>
              </a:rPr>
              <a:t> TEN-T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Times New Roman"/>
              </a:rPr>
              <a:t> nr.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228,9 M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Are o alocare de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3,854 Miliarde EUR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, din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5,694 Miliarde EUR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, însemnând un procent de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67,7%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din bugetul total alocat 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38080" cy="61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505720" y="152280"/>
            <a:ext cx="638280" cy="65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90000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9247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POS - Trans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7920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Strategia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a Prioritară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1.397 MEUR (FEDR + 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izarea si dezvoltarea infrastructurii naţionale de transport în afara axelor prioritare TEN-T în scopul creării unui sistem naţional de transport durab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enii majore de interven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1 D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rumuri naţion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509,47 ME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2 C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ăi fe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serv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icii pentru călător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634,67 M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3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Porturi fluviale şi mariti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179,64 ME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Infrastructura aeroportuară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74,515 E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Are o alocare de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1,397 Miliarde EUR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din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5,694 Miliarde EUR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, însemnând un procent de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24.5%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din bugetul total alocat 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152280"/>
            <a:ext cx="838080" cy="61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505720" y="152280"/>
            <a:ext cx="638280" cy="65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90000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9247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POS - Trans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a Prioritară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322,89 MEUR (FEDR + 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Modernizarea sectorului de transportul în scopul creşterii protecţiei mediului şi a sănătăţii publice şi siguranţei pasagerilor</a:t>
            </a:r>
            <a:r>
              <a:rPr b="1" lang="ro-RO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Domenii majore de intervenţ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1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Promovarea transportului i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mod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34,082 ME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2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Îmbunătăţirea siguranţei traficului pe toate modurile de transpor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270,50</a:t>
            </a:r>
            <a:r>
              <a:rPr b="1" lang="en-US" sz="16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M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Minimizarea efectelor sectorului de transporturi asupra mediulu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18,313 ME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Are o alocare de 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</a:rPr>
              <a:t>322,89 Milioane EUR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 din 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</a:rPr>
              <a:t>5.694 Miliarde EUR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, însemnând un procent de </a:t>
            </a:r>
            <a:r>
              <a:rPr b="1" lang="ro-RO" sz="1600" spc="-1" strike="noStrike">
                <a:solidFill>
                  <a:srgbClr val="000000"/>
                </a:solidFill>
                <a:latin typeface="Times New Roman"/>
              </a:rPr>
              <a:t>5,7 %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 din bugetul total alocat P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38080" cy="61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505720" y="152280"/>
            <a:ext cx="638280" cy="65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90000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9247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POS - Trans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056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Strateg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a Prioritară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Asistenta Tehnica pentru POS-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119,67 MEUR (ERDF + S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Domenii majore de interven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1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prijinirea managementului eficient, implementării, monitorizării şi controlului POS-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2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prijinirea activităţilor de informare şi publicitate pentru POS-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Are o alocare de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119,672 Milioane EUR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din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5,694 Miliarde EUR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, însemnând un procent de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2,1 %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din bugetul total alocat 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38080" cy="61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505720" y="152280"/>
            <a:ext cx="638280" cy="65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90000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640" y="246240"/>
            <a:ext cx="892476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Beneficiarii POS-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5614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.N. AUTOSTRAZI ŞI DRUMURI NAŢIONALE  DIN ROMANIA S.A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OMPANIA NAŢIONALĂ DE CĂI FERATE „CFR” S.A;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ocietatea Naţională de Transport Feroviar de Călători  „CFR CĂLĂTORI” 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lţi beneficiari: administraţii portuare fluviale si maritime, administraţii aeroportuare, alţi operatori privaţ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38080" cy="61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505720" y="152280"/>
            <a:ext cx="638280" cy="65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90000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9247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BUGET P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466640"/>
            <a:ext cx="864072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Bugetul total al POS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ntru perioada de programare 2007-2013 este de aproximativ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,7 Miliarde EU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ceea ce reprezintă circa 23,8% din bugetul global al operaţiilor structurale prevăzute României pentru perioada menţionat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in această sumă, aproximativ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,09 Miliarde EUR reprezint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finanţarea naţional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în timp de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o – finanţare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din partea Uniunii Europene va fi de aproximativ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,57 Miliarde 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838080" cy="61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505720" y="152280"/>
            <a:ext cx="638280" cy="65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90000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05:55:37Z</dcterms:created>
  <dc:creator>marcela</dc:creator>
  <dc:description/>
  <cp:keywords/>
  <dc:language>en-US</dc:language>
  <cp:lastModifiedBy>Iuliana Buretea</cp:lastModifiedBy>
  <dcterms:modified xsi:type="dcterms:W3CDTF">2008-06-24T11:23:10Z</dcterms:modified>
  <cp:revision>4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750691033</vt:lpwstr>
  </property>
</Properties>
</file>