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942660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FF4-AECE-4839-8E27-2D0A1B16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89E-6D9B-4CD1-8976-42B7AC44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44800" y="942660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B21B-8D7D-4F94-93E0-2244D30A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8225-BD3A-46E5-A478-178BFF2E0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8A67-4AF1-4D1B-9A5F-8A25CEAA0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7E5C-8999-4797-A8F3-14FF54B47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4920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03120" y="11250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528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4920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03120" y="3736800"/>
            <a:ext cx="25272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2E92-1DD6-430F-8EF4-55A81E127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C706-2DBB-4D02-B2E3-3D9969E5C7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5C48-CD39-4300-9016-EF7500C31E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DED9-8CF2-4D76-9270-25BA91CF0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2096-C80A-4161-AA71-960402343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42920" y="0"/>
            <a:ext cx="784872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8B36-976A-4FAF-AEF4-6F885DE1B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9C313-732A-484F-AB10-9061FDED4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17200" y="37368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7385-1198-498F-9E19-8B98DA86C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7200" y="1125000"/>
            <a:ext cx="38300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5280" y="3736800"/>
            <a:ext cx="78487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FC96-7E8A-4D27-AD15-1A3336374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12500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FDE-63F2-4463-B381-509BBAEB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logo FS orizontal"/>
          <p:cNvPicPr/>
          <p:nvPr/>
        </p:nvPicPr>
        <p:blipFill>
          <a:blip r:embed="rId4"/>
          <a:stretch/>
        </p:blipFill>
        <p:spPr>
          <a:xfrm>
            <a:off x="395280" y="6005520"/>
            <a:ext cx="2808360" cy="54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nduri-structurale.ro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5400" y="249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66"/>
                </a:solidFill>
                <a:latin typeface="Arial"/>
              </a:rPr>
              <a:t>Implementarea proiectelor: o ecuaţie cu prea multe 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variab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15F2-0C8B-49C5-B1C2-EA959F17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2960" y="4762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mentariile beneficiari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53840"/>
            <a:ext cx="8280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13089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Oare ce este mai bine?O firma veche sau una nouă? Pentru una nouă şansele sunt mici să primească credit de la bancă. Pentru una veche este foarte greu să aibă o situaţie financiară bună”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(beneficiar PND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Avem o întârziere de peste 90 de zile la plata prefinanţării”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(beneficiar POSD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A560-4598-45C6-ADD1-81A7DDF67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826920" y="1526760"/>
            <a:ext cx="7848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Condiţiile economice nefavorabile au avut ca efect imposibilitat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companiei de a asigura banii de cofinanţare, ceea ce a condus la rezilierea contractului”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(beneficiar POSC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o-RO" sz="2200" spc="-1" strike="noStrike">
                <a:solidFill>
                  <a:srgbClr val="000000"/>
                </a:solidFill>
                <a:latin typeface="Arial"/>
              </a:rPr>
              <a:t>Întârzierea în evaluarea şi contractarea proiectului ne-au generat costuri suplimentare cu prelungirea avizelor şi autorizaţiei de contrucţie. Cine suportă aceste costuri?”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(beneficiar P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199880" y="50004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n comentariile beneficiari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CDE0-24C9-4750-924C-C4CA6D6C0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38360" y="747720"/>
            <a:ext cx="78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IMPLEMENTAREA – aspect de real inte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826920" y="1916280"/>
            <a:ext cx="813780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Peste 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000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proiecte contractate* până la 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decembrie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788 de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proiecte (peste 50%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contractate doar în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unere/evaluare =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&gt; 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plementare/ramburs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* doa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in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 FSE, FEDR şi 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*Sondaj realizat in perioada 7-14 februari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1EB4-2B72-43EF-A0E0-78E978D9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onda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onsulting Group -</a:t>
            </a:r>
            <a:br>
              <a:rPr sz="2800"/>
            </a:br>
            <a:r>
              <a:rPr b="1" lang="ro-RO" sz="2800" spc="-1" strike="noStrike" u="sng">
                <a:solidFill>
                  <a:srgbClr val="806b00"/>
                </a:solidFill>
                <a:uFillTx/>
                <a:latin typeface="Arial"/>
                <a:hlinkClick r:id="rId1"/>
              </a:rPr>
              <a:t>www.fonduri-structurale.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5"/>
          <p:cNvSpPr/>
          <p:nvPr/>
        </p:nvSpPr>
        <p:spPr>
          <a:xfrm>
            <a:off x="452520" y="2060640"/>
            <a:ext cx="86914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</a:rPr>
              <a:t>Tema: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Problemele IMM-urilor în fazele de contractare şi implementare a proiectelor din fondur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</a:rPr>
              <a:t>Perioada: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7-14 februari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</a:rPr>
              <a:t>Respondenţi: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4 IMM-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7C0B-A6F7-480E-B057-1513201E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611280" y="1395360"/>
          <a:ext cx="684036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95360"/>
                    <a:ext cx="684036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54936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tructura respondenţi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FE6E-1317-4BCC-8CC5-327CD81C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8280" y="44784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tructura respondenţi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68360" y="1557360"/>
            <a:ext cx="8366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84360" y="1773360"/>
            <a:ext cx="86914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9"/>
          <p:cNvGraphicFramePr/>
          <p:nvPr/>
        </p:nvGraphicFramePr>
        <p:xfrm>
          <a:off x="738360" y="1658880"/>
          <a:ext cx="7848360" cy="393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8360" y="1658880"/>
                    <a:ext cx="7848360" cy="39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E1A-32A1-475F-931C-BD439B74A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8640" y="44244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robleme ale beneficiaril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SDR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80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3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întârzieri în virarea prefinanţărilor şi a rambursări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ect POSDRU 6.2 –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tărziere de 120 zile la primirea prefinanțării – (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termen contractual 15 zile !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lipsa de transparenţă a AM în comunicarea cu beneficiar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 POSDRU 6.1 – lipsa de răspuns la cerere de act adițional  mai mare de 135 de zile (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termen contractual 30 zile !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792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birocraţie excesivă - fișe de apartenență la grup țintă+ 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792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roiect POSDRU3.2 -  raportarea a presupus 9 bibliorafturi de anexe la un proiect de cursuri pt personal med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BFB-427D-4B7E-978A-C6268874E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68160" y="1672920"/>
            <a:ext cx="784872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birocraţie excesiv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inconsecven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ă pt doc su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Proiect POR DMI 5.3 – clarificări pt semnare contract – 30 biblioraftu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ipsa unui calendar clar privind fiecare etapa de eval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 DMI 4.3 :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Depunere  dec 2009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 Vizit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 de precontractare – sept.2010 =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&gt; nici un alt semnal p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ână în prezent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&gt; expir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ă autorizați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471320" y="51444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robleme ale beneficiarilor P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7F5-9870-4513-9B05-7E4927B9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2017800"/>
            <a:ext cx="784836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49"/>
              </a:spcBef>
              <a:buSzPct val="1107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întârzieri în procesarea /virarea rambursă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ect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Axa 1.1b Standardiz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tărziere de 15 lun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a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rambursă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nov 2009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– (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termen contractual d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0 zile !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SzPct val="1107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lipsa predictibilit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perioa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 lu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 între aprobarea proiectelor şi contractarea aces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49"/>
              </a:spcBef>
              <a:buSzPct val="1107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Arial"/>
              </a:rPr>
              <a:t>amânarea repetată a lansării anumitor apeluri de proiec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650960" y="53352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robleme ale beneficiarilor POSC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0CEE-0894-4848-9F5C-1225ED833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Rebirocratiz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MĂSURA 121 „Modernizarea exploataţiilor agricole”  - reintroducerea scrisorii de confort la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mentul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pun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cererii de rambursa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n loc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mentul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contractarii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&gt; eliminarea de beneficiari eligibili pers fizice +costuri imutile: termen Scris Conf 120 zile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valuare peste 250 z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imposibilitatea accesării de cred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obânzi mari la creditele obţ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395360" y="52236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Probleme ale beneficiarilor PN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1:58:33Z</dcterms:created>
  <dc:creator>user</dc:creator>
  <dc:description/>
  <dc:language>en-US</dc:language>
  <cp:lastModifiedBy>Dan</cp:lastModifiedBy>
  <dcterms:modified xsi:type="dcterms:W3CDTF">2011-02-15T07:06:25Z</dcterms:modified>
  <cp:revision>170</cp:revision>
  <dc:subject/>
  <dc:title>Slide 1</dc:title>
</cp:coreProperties>
</file>