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12BD-A12E-4BA0-B095-9F21FBD98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F4A6-FB95-45CF-A1CF-EC06113C1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7718-7FD6-442D-A3BC-8303450F6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312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920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312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6514-C33C-46E2-AE6C-163B37C92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D1EF-49E7-48E7-B6E8-63253B6F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D5F5-7E0A-403B-8CCD-A81DB75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819E-71C8-431E-A77F-0B93B9A4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24EDB-017A-48E6-BF4E-CC4BAAC2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0B49-B3AF-42AC-8179-DB597F9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920" y="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B5B28-3C1F-4391-94DB-211EE95E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B5105-DCB7-43AB-9A32-524CD8B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B87A-E1B4-4B5F-AE18-953C0A0EA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8FB3-8579-41D6-A402-9ACB9EA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DF14A-C705-46AA-AB83-8DC3F7E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BCE6C-DB7B-4ACD-8CF9-F21E14A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16CA-14CA-4F86-AE19-61673B64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4920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312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4920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312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06601-A864-4307-8639-936E6FD4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D753-3A9D-4DA7-BDAB-F5A67580B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2896-8272-4F36-9F47-5E86A3770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EBD5-0C04-4CA0-B54E-9F4D890ED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314F-A861-4D45-A59E-BC7958854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1E0B-ADA2-4600-9343-A639A0865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01C9-ABE7-4803-9DD7-59D92D771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97A8-C64C-4FEC-B073-6F4178086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7E9-055D-4341-AF08-8880A8426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76400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764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6CF-D00A-4B8D-8042-2C5CD0B4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176400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764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nduri-structurale.ro/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fonduri-structurale.ro/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71640" y="1341360"/>
            <a:ext cx="7408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FAX TALKS ABOUT SM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Su)ccesul IMM-urilor la finan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le europe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 BARN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99"/>
                </a:solidFill>
                <a:latin typeface="Book Antiqua"/>
              </a:rPr>
              <a:t>www.fonduri-structurale.ro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Justificare context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Situatia depunerii de proiecte în 2008 de catre IM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Alocare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 pt companii - aprox 13%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Total  19,2 </a:t>
            </a: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€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&gt; CCE = 1,2 M/ POSDRU = 1,3 M =&gt; T = 2,5 M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Volum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Mediul privat a generat proiect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CCE - IMM s-au depus 570 proiecte / 677 proie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POR – Micro s-au depus 777 proie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Calitat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Peste 50% respinse administr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Documentatie stufoas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, comunicare dificilă cu autoritătile, grilă deficitar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7DC5-0CF8-45E0-8103-A0AFB608B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GRESELI FRECVENT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848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Conformitate administrativă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SzPct val="1782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Documentaţie incompletă, neconformă sau doc expirat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Verificare a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eligibilităţii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SzPct val="1782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Neîncadrarea întreprinderii în categoria de IMM; cod CAEN neeligibil, Confuzie între activităţi eligibile şi cheltuieli eligibile;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valuarea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tehnică şi financiară: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SzPct val="17823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Buget incomplet sau necorelat cu activităţile şi rezultatele; Planul de activităţi nerealist – pentru activitatile propuse, duratele estimate au fost subdimensionate; Obiectivul general al proiectului formulat neadecvat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SzPct val="17823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Studiu de fezabilitate prezentat nu a fost realizat pentru investiţia propusă prin proiect sau nu a respectat cerinţele HG 28/2008 ; Valorile indicate pentru indicatorii de performanţă nu au fost justificate;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374"/>
              </a:spcBef>
              <a:buSzPct val="17823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Neconcordanţe între Planul de afaceri / Studiu de fezabilitate şi cererea de finanţare;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262B-E66E-40B6-A2F5-75266C8E5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2400" spc="-1" strike="noStrike" u="sng">
                <a:solidFill>
                  <a:srgbClr val="806b00"/>
                </a:solidFill>
                <a:uFillTx/>
                <a:latin typeface="Book Antiqua"/>
                <a:hlinkClick r:id="rId2"/>
              </a:rPr>
              <a:t>www.fonduri-structurale.ro</a:t>
            </a:r>
            <a:r>
              <a:rPr b="0" lang="fr-FR" sz="2400" spc="-1" strike="noStrike">
                <a:solidFill>
                  <a:srgbClr val="000099"/>
                </a:solidFill>
                <a:latin typeface="Book Antiqua"/>
              </a:rPr>
              <a:t> - </a:t>
            </a:r>
            <a:r>
              <a:rPr b="1" lang="it-IT" sz="2300" spc="-1" strike="noStrike">
                <a:solidFill>
                  <a:srgbClr val="000000"/>
                </a:solidFill>
                <a:latin typeface="Book Antiqua"/>
              </a:rPr>
              <a:t>33.700 utilizatori </a:t>
            </a:r>
            <a:r>
              <a:rPr b="1" lang="ro-RO" sz="23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it-IT" sz="2300" spc="-1" strike="noStrike">
                <a:solidFill>
                  <a:srgbClr val="000000"/>
                </a:solidFill>
                <a:latin typeface="Book Antiqua"/>
              </a:rPr>
              <a:t>nregistra</a:t>
            </a:r>
            <a:r>
              <a:rPr b="1" lang="ro-RO" sz="23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it-IT" sz="2300" spc="-1" strike="noStrike">
                <a:solidFill>
                  <a:srgbClr val="000000"/>
                </a:solidFill>
                <a:latin typeface="Book Antiqua"/>
              </a:rPr>
              <a:t>i</a:t>
            </a:r>
            <a:br>
              <a:rPr sz="2300"/>
            </a:br>
            <a:r>
              <a:rPr b="1" lang="it-IT" sz="2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lizarea Sondajului de Opini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Care dintre urm</a:t>
            </a:r>
            <a:r>
              <a:rPr b="0" i="1" lang="ro-RO" sz="3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oarele m</a:t>
            </a:r>
            <a:r>
              <a:rPr b="0" i="1" lang="ro-RO" sz="3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uri considerati c</a:t>
            </a:r>
            <a:r>
              <a:rPr b="0" i="1" lang="ro-RO" sz="3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este cea mai potrivit</a:t>
            </a:r>
            <a:r>
              <a:rPr b="0" i="1" lang="ro-RO" sz="3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pentru a usura accesul IMM-urilor la fondurile europen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Sondajul a fost realizat on-line pe site-ul </a:t>
            </a:r>
            <a:r>
              <a:rPr b="0" lang="en-GB" sz="2000" spc="-1" strike="noStrike" u="sng">
                <a:solidFill>
                  <a:srgbClr val="806b00"/>
                </a:solidFill>
                <a:uFillTx/>
                <a:latin typeface="Book Antiqua"/>
                <a:hlinkClick r:id="rId4"/>
              </a:rPr>
              <a:t>www.fonduri-structurale.ro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pe pa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cursul lunii Aprilie 2009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SzPct val="1335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Responden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ti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i au r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spuns la 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ntrebare bif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nd una dintre cele 7 variante de r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spuns predeterminate stabilite </a:t>
            </a:r>
            <a:r>
              <a:rPr b="0" lang="ro-RO" sz="2000" spc="-1" strike="noStrike">
                <a:solidFill>
                  <a:srgbClr val="000000"/>
                </a:solidFill>
                <a:latin typeface="Book Antiqua"/>
              </a:rPr>
              <a:t>în urma observatiilor si comentariilor exprimate de beneficiari pe forum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1C2C-912C-4BB2-ABF0-CCF8A3EA2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Structura Responden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il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48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Book Antiqua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Book Antiqua"/>
              </a:rPr>
              <a:t>2490</a:t>
            </a:r>
            <a:r>
              <a:rPr b="0" lang="ro-RO" sz="2000" spc="-1" strike="noStrike">
                <a:solidFill>
                  <a:srgbClr val="000099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esponde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ructura responde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o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67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ediul de afaceri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67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ONG/Educaţie/Cerceta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67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Consultanţă şi managem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67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utorit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 ale administr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ei publice locale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 centra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03240" y="3411360"/>
          <a:ext cx="8015400" cy="3394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3240" y="3411360"/>
                    <a:ext cx="80154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7B50-7805-4D63-B72B-A059A90DA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zultate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51280" y="1557360"/>
            <a:ext cx="169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35,14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22,29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19,28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12,45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5,02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3,21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2,61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06064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1628640"/>
            <a:ext cx="183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557360"/>
            <a:ext cx="7272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cordarea unor avansuri de p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 la 35 % pentru demararea proiectulu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curtarea perioadei de evaluare 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 selec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e a proiectel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cilit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t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 sprijin acordate IMM-urilor pentru asigurarea cofina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ii necesare (fondul de garantare, fondul de contragarantare pt IMM-uri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prijin 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n scrierea/elaborarea cererilor de fina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re acordat solicita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lor (IMM-uri) de c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tre Ministerul pt IMM-ur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enu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rea la unele documente obligatorii din dosarul de finan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re/</a:t>
            </a:r>
            <a:r>
              <a:rPr b="0" lang="it-IT" sz="1900" spc="-1" strike="noStrike">
                <a:solidFill>
                  <a:srgbClr val="000000"/>
                </a:solidFill>
                <a:latin typeface="Book Antiqua"/>
              </a:rPr>
              <a:t>24 in 2008 =&gt; 14 in 2009 + 6 la contract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Modific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i 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n procedura de achizi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e public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 (scurtarea termenelor 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i m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irea plafoanelo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lexibilizarea criteriului de eligibilitate privind lipsa datoriilor la bugetele publice (firmele cu datorii la stat pot participa la licitatii daca o firma are cel putin atatia bani de luat cati are de dat la stat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315E-D869-432D-A79A-7565AF5CA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1:58:33Z</dcterms:created>
  <dc:creator>user</dc:creator>
  <dc:description/>
  <dc:language>en-US</dc:language>
  <cp:lastModifiedBy>Dan BARNA</cp:lastModifiedBy>
  <dcterms:modified xsi:type="dcterms:W3CDTF">2009-04-28T07:16:09Z</dcterms:modified>
  <cp:revision>179</cp:revision>
  <dc:subject/>
  <dc:title>Slide 1</dc:title>
</cp:coreProperties>
</file>