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Brussels Blu-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8" descr="Brussels Blu-Colour Skyli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ill Sans MT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 Ligh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 Ligh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 Ligh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 Ligh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 Ligh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 Ligh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Gill Sans MT Light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 Ligh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Gill Sans MT Light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 Ligh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Gill Sans MT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 Ligh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Gill Sans MT Ligh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 Ligh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8" descr="Berlin Blu-B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8" descr="Berlin Blu-Colour Skyli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8" descr="BG Blu-London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8" descr="London Blu Colour Skyli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8" descr="BG Blu-Pari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8" descr="Paris Blu-Colour Skylin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40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4000" spc="-1" strike="noStrike">
                <a:solidFill>
                  <a:srgbClr val="000000"/>
                </a:solidFill>
                <a:latin typeface="Gill Sans MT Light"/>
              </a:rPr>
              <a:t>	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Gill Sans MT Light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Gill Sans MT Light"/>
            </a:endParaRPr>
          </a:p>
          <a:p>
            <a:pPr marL="3085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Gill Sans MT Light"/>
              </a:rPr>
              <a:t>Branding </a:t>
            </a:r>
            <a:endParaRPr b="0" lang="en-US" sz="5400" spc="-1" strike="noStrike">
              <a:solidFill>
                <a:srgbClr val="000000"/>
              </a:solidFill>
              <a:latin typeface="Gill Sans MT Light"/>
            </a:endParaRPr>
          </a:p>
          <a:p>
            <a:pPr marL="30852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000000"/>
                </a:solidFill>
                <a:latin typeface="Gill Sans MT Light"/>
              </a:rPr>
              <a:t>Romania for MICE industry </a:t>
            </a:r>
            <a:endParaRPr b="0" lang="en-US" sz="5400" spc="-1" strike="noStrike">
              <a:solidFill>
                <a:srgbClr val="000000"/>
              </a:solidFill>
              <a:latin typeface="Gill Sans MT Light"/>
            </a:endParaRPr>
          </a:p>
          <a:p>
            <a:pPr marL="30852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99"/>
                </a:solidFill>
                <a:latin typeface="Gill Sans MT Ligh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MT Ligh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 Light"/>
            </a:endParaRPr>
          </a:p>
          <a:p>
            <a:pPr marL="308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Gill Sans MT Light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5092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 MT Light"/>
              </a:rPr>
              <a:t>THANK YOU!</a:t>
            </a:r>
            <a:r>
              <a:rPr b="0" lang="en-GB" sz="4400" spc="-1" strike="noStrike">
                <a:solidFill>
                  <a:srgbClr val="000000"/>
                </a:solidFill>
                <a:latin typeface="Gill Sans MT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 MT Light"/>
              </a:rPr>
              <a:t>DEFINING MICE</a:t>
            </a:r>
            <a:r>
              <a:rPr b="0" lang="en-GB" sz="4400" spc="-1" strike="noStrike">
                <a:solidFill>
                  <a:srgbClr val="000000"/>
                </a:solidFill>
                <a:latin typeface="Gill Sans MT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MICE is an acronym for the Meetings, Incentives, Conventions and Exhibitions sector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 Light"/>
              </a:rPr>
              <a:t>Various sources report that the MICE market is worth around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 Ligh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 Light"/>
              </a:rPr>
              <a:t>$30 billion a year worldwide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 Light"/>
              </a:rPr>
              <a:t>Worldwide, at least 50 million trips are taken each year for MICE purposes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Gill Sans MT Light"/>
              </a:rPr>
              <a:t>Top 10 MICE </a:t>
            </a:r>
            <a:r>
              <a:rPr b="1" lang="en-GB" sz="4400" spc="-1" strike="noStrike">
                <a:solidFill>
                  <a:srgbClr val="000000"/>
                </a:solidFill>
                <a:latin typeface="Gill Sans MT Light"/>
              </a:rPr>
              <a:t>cities</a:t>
            </a:r>
            <a:r>
              <a:rPr b="1" lang="fr-FR" sz="4400" spc="-1" strike="noStrike">
                <a:solidFill>
                  <a:srgbClr val="000000"/>
                </a:solidFill>
                <a:latin typeface="Gill Sans MT Light"/>
              </a:rPr>
              <a:t> </a:t>
            </a:r>
            <a:br>
              <a:rPr sz="4400"/>
            </a:br>
            <a:r>
              <a:rPr b="0" lang="en-GB" sz="4000" spc="-1" strike="noStrike">
                <a:solidFill>
                  <a:srgbClr val="000000"/>
                </a:solidFill>
                <a:latin typeface="Gill Sans MT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1.-2. Paris (139 meetings)  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1.-2. Vienna (139 meetings)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3. Barcelona (136 meeting)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4. Singapore (118 meetings)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5. Berlin (100 meetings)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6. Budapest (95 meetings)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7. Amsterdam (89 meetings)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8. Stockholm (87 meetings)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9. Seoul (84 meetings)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10. Lisbon (83 meetings)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Gill Sans MT Light"/>
              </a:rPr>
              <a:t>10 THINGS WE NEED TO EXPLAIN ABOUT MICE INDUSTRY</a:t>
            </a:r>
            <a:r>
              <a:rPr b="0" lang="en-GB" sz="3600" spc="-1" strike="noStrike">
                <a:solidFill>
                  <a:srgbClr val="000000"/>
                </a:solidFill>
                <a:latin typeface="Gill Sans MT Ligh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1) It’s not Tourism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2) …but it </a:t>
            </a:r>
            <a:r>
              <a:rPr b="1" i="1" lang="en-GB" sz="2400" spc="-1" strike="noStrike">
                <a:solidFill>
                  <a:srgbClr val="000000"/>
                </a:solidFill>
                <a:latin typeface="Gill Sans MT Light"/>
              </a:rPr>
              <a:t>Supports</a:t>
            </a:r>
            <a:r>
              <a:rPr b="1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Tourism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3) It’s Big Business – For a Lot of Reasons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4) It’s not </a:t>
            </a:r>
            <a:r>
              <a:rPr b="1" i="1" lang="en-GB" sz="2400" spc="-1" strike="noStrike">
                <a:solidFill>
                  <a:srgbClr val="000000"/>
                </a:solidFill>
                <a:latin typeface="Gill Sans MT Light"/>
              </a:rPr>
              <a:t>Just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about Money !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5) It’s Highly Competitive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6) It’s a Mix of Private and Public Sector Interests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7) The Economics are Unique!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8) We’re vulnerable…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9) …But we’ re resilient!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10) It’s constantly Changing 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 MT Light"/>
              </a:rPr>
              <a:t>What we should do</a:t>
            </a:r>
            <a:r>
              <a:rPr b="0" lang="en-GB" sz="4400" spc="-1" strike="noStrike">
                <a:solidFill>
                  <a:srgbClr val="000000"/>
                </a:solidFill>
                <a:latin typeface="Gill Sans MT Light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95280" y="62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This is a market that needs to be planned for and promoted to. 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While some hotels attract business simply through a good, highly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visible location, many need more specific development and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marketing plans to be effective with MICE.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60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 MT Light"/>
              </a:rPr>
              <a:t>What we should do</a:t>
            </a: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The key for planning lies in quality and thinking through the visitor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experience. Review your offer totally from the visitor's perspective: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What is your image?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How is the greeting?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What is the customer experience?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How do the facilities really work?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Where is the organiser's support?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Success demands active management involvement, particularly as it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is a highly competitive market.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 MT Light"/>
              </a:rPr>
              <a:t>What we should do</a:t>
            </a: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Marketing is often best done in effective collaboration, whether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with local or area marketing consortia, partner organisations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such as travel companies, or industry sector groups.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These require active involvement, though, not deferring your 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promotional activities to others.</a:t>
            </a:r>
            <a:endParaRPr b="0" lang="en-US" sz="24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 MT Light"/>
              </a:rPr>
              <a:t>What we should do</a:t>
            </a: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13" name="Rectangle 6"/>
          <p:cNvSpPr/>
          <p:nvPr/>
        </p:nvSpPr>
        <p:spPr>
          <a:xfrm>
            <a:off x="324000" y="213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Romania </a:t>
            </a:r>
            <a:endParaRPr b="0" lang="en-US" sz="2400" spc="-1" strike="noStrike">
              <a:solidFill>
                <a:srgbClr val="000000"/>
              </a:solidFill>
              <a:latin typeface="Gill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needs a clear concept developed</a:t>
            </a:r>
            <a:endParaRPr b="0" lang="en-US" sz="2400" spc="-1" strike="noStrike">
              <a:solidFill>
                <a:srgbClr val="000000"/>
              </a:solidFill>
              <a:latin typeface="GillSans Light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ill Sans MT Light"/>
              </a:rPr>
              <a:t>by experts on how to develop this sector</a:t>
            </a:r>
            <a:endParaRPr b="0" lang="en-US" sz="2400" spc="-1" strike="noStrike">
              <a:solidFill>
                <a:srgbClr val="000000"/>
              </a:solidFill>
              <a:latin typeface="GillSans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Gill Sans MT Light"/>
              </a:rPr>
              <a:t>OUR POTENTIAL</a:t>
            </a:r>
            <a:endParaRPr b="0" lang="en-US" sz="4400" spc="-1" strike="noStrike">
              <a:solidFill>
                <a:srgbClr val="000000"/>
              </a:solidFill>
              <a:latin typeface="Gill Sans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Accessibility – direct flights and easy, fast access 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Safety ( did you hear about terrorist attacks here…?!) 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Capacity to accommodate large groups in terms of accommodation, conference and dinning 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Variety of leisure facilities / optional programs 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Parliament House – second largest  building 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in the World – unique location for events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Exquisite locations for unusual events 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Mountains, Black Seaside and Danube Delta – unique options for leisure times   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Great natural-born hospitality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Quality of services – we have to work on it! 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ill Sans MT Ligh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ill Sans MT Light"/>
              </a:rPr>
              <a:t>Professional organizers</a:t>
            </a: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 Light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3T15:36:03Z</dcterms:created>
  <dc:creator>Søren Dam Thomsen</dc:creator>
  <dc:description/>
  <dc:language>en-US</dc:language>
  <cp:lastModifiedBy>Acer3</cp:lastModifiedBy>
  <dcterms:modified xsi:type="dcterms:W3CDTF">2009-07-23T06:06:43Z</dcterms:modified>
  <cp:revision>13</cp:revision>
  <dc:subject/>
  <dc:title>Slide 1</dc:title>
</cp:coreProperties>
</file>