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5DDF-BDCC-4888-822B-75909EB7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140B-E58F-48CA-B30D-10A3CD37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1884-7AC5-42AF-97F1-506923E0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978-D23C-46C3-B10F-569AA0AF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F929-AB70-40B4-8DA1-FB2CED89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CDB8-46EE-406D-83AB-337519BB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1379-7DEA-4C5C-9465-357E0D50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495C-DC95-4FF9-8D61-578906B4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DDB9-D1B7-4775-BCF5-D3A390D1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9A4-CDBB-47DA-9A44-68289515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9806-D327-4D7A-8151-31F37FDF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27B3-FBA8-4CE2-9AF1-F77B4016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5F13-F302-4840-9A3D-10E4ADFD0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9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e46c0a"/>
                </a:solidFill>
                <a:latin typeface="Arial"/>
                <a:ea typeface="Arial"/>
              </a:rPr>
              <a:t>TICHETELE DE VACANŢĂ</a:t>
            </a:r>
            <a:r>
              <a:rPr b="0" lang="en-US" sz="4400" spc="-1" strike="noStrike">
                <a:solidFill>
                  <a:srgbClr val="e46c0a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80720" y="228600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la 3 luni de la introducerea pe piaţ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715000" y="5486400"/>
            <a:ext cx="3048120" cy="1066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cia Nora Morar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or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IM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PROBLEME CARE AU APĂRUT ÎN IMPLEMENTAREA </a:t>
            </a:r>
            <a:r>
              <a:rPr b="1" lang="en-US" sz="2800" spc="-1" strike="noStrike">
                <a:solidFill>
                  <a:srgbClr val="e46c0a"/>
                </a:solidFill>
                <a:latin typeface="Arial"/>
                <a:ea typeface="Arial"/>
              </a:rPr>
              <a:t>TICHETELOR DE VACANŢ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Arial"/>
                <a:ea typeface="Arial"/>
              </a:rPr>
              <a:t>Limitarea comisionului agenţiilor de turism la 10%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- a dus l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reţinerea unui mare num</a:t>
            </a:r>
            <a:r>
              <a:rPr b="0" lang="vi-VN" sz="20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r de agenţii de turism vis-à-vis de acceptarea tichetelor de vacanţ</a:t>
            </a:r>
            <a:r>
              <a:rPr b="0" lang="vi-VN" sz="20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, datorit</a:t>
            </a:r>
            <a:r>
              <a:rPr b="0" lang="vi-VN" sz="20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 imposibilit</a:t>
            </a:r>
            <a:r>
              <a:rPr b="0" lang="vi-VN" sz="2000" spc="-1" strike="noStrike">
                <a:solidFill>
                  <a:srgbClr val="0070c0"/>
                </a:solidFill>
                <a:latin typeface="Arial"/>
                <a:ea typeface="Arial"/>
              </a:rPr>
              <a:t>ăţ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ii susţinerii unor costuri de acceptare tichete de vacanţ</a:t>
            </a:r>
            <a:r>
              <a:rPr b="0" lang="vi-VN" sz="20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 de cca. 6 – 7 % în condiţiile unui comision maxim reglementat la nivelul agenţiilor de 1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dispute între agenţiile de turism şi firmele emiţ</a:t>
            </a:r>
            <a:r>
              <a:rPr b="0" lang="vi-VN" sz="20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are de tichete de vacanţ</a:t>
            </a:r>
            <a:r>
              <a:rPr b="0" lang="vi-VN" sz="20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Arial"/>
                <a:ea typeface="Arial"/>
              </a:rPr>
              <a:t>Necunoaşterea în detaliu de c</a:t>
            </a:r>
            <a:r>
              <a:rPr b="0" lang="vi-VN" sz="2000" spc="-1" strike="noStrike">
                <a:solidFill>
                  <a:srgbClr val="e46c0a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e46c0a"/>
                </a:solidFill>
                <a:latin typeface="Arial"/>
                <a:ea typeface="Arial"/>
              </a:rPr>
              <a:t>tre legiuitor şi de c</a:t>
            </a:r>
            <a:r>
              <a:rPr b="0" lang="vi-VN" sz="2000" spc="-1" strike="noStrike">
                <a:solidFill>
                  <a:srgbClr val="e46c0a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e46c0a"/>
                </a:solidFill>
                <a:latin typeface="Arial"/>
                <a:ea typeface="Arial"/>
              </a:rPr>
              <a:t>tre industria turismului a sistemului de funcţionare a tichetelor de mas</a:t>
            </a:r>
            <a:r>
              <a:rPr b="0" lang="vi-VN" sz="2000" spc="-1" strike="noStrike">
                <a:solidFill>
                  <a:srgbClr val="e46c0a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e46c0a"/>
                </a:solidFill>
                <a:latin typeface="Arial"/>
                <a:ea typeface="Arial"/>
              </a:rPr>
              <a:t> respectiv a sistemului comercial specific firmelor emiţ</a:t>
            </a:r>
            <a:r>
              <a:rPr b="0" lang="vi-VN" sz="2000" spc="-1" strike="noStrike">
                <a:solidFill>
                  <a:srgbClr val="e46c0a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e46c0a"/>
                </a:solidFill>
                <a:latin typeface="Arial"/>
                <a:ea typeface="Arial"/>
              </a:rPr>
              <a:t>toare de tichete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– a dus l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limitarea unilateral</a:t>
            </a:r>
            <a:r>
              <a:rPr b="0" lang="vi-VN" sz="20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 a comisionului agenţiilor de turism f</a:t>
            </a:r>
            <a:r>
              <a:rPr b="0" lang="vi-VN" sz="20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r</a:t>
            </a:r>
            <a:r>
              <a:rPr b="0" lang="vi-VN" sz="20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 ca o astfel de limitare s</a:t>
            </a:r>
            <a:r>
              <a:rPr b="0" lang="vi-VN" sz="20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 fie impus</a:t>
            </a:r>
            <a:r>
              <a:rPr b="0" lang="vi-VN" sz="20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 şi altor actori din industria turismu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PROBLEME CARE AU APĂRUT ÎN IMPLEMENTAREA </a:t>
            </a:r>
            <a:r>
              <a:rPr b="1" lang="en-US" sz="2800" spc="-1" strike="noStrike">
                <a:solidFill>
                  <a:srgbClr val="e46c0a"/>
                </a:solidFill>
                <a:latin typeface="Arial"/>
                <a:ea typeface="Arial"/>
              </a:rPr>
              <a:t>TICHETELOR DE VACANŢ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confuzii la nivelul comisiilor parlamentare care trebuie s</a:t>
            </a:r>
            <a:r>
              <a:rPr b="0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avizeze ordonanţa de urgenţ</a:t>
            </a:r>
            <a:r>
              <a:rPr b="0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între comisionul agentiilor şi comisionul emitenţilor de tich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o stare de incertitudine în cadrul industriei cu privire la viabilitatea sistemului tichetelor de vacanţ</a:t>
            </a:r>
            <a:r>
              <a:rPr b="0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6c0a"/>
                </a:solidFill>
                <a:latin typeface="Arial"/>
                <a:ea typeface="Arial"/>
              </a:rPr>
              <a:t>comisioane ale firmelor emiţ</a:t>
            </a:r>
            <a:r>
              <a:rPr b="0" lang="vi-VN" sz="2400" spc="-1" strike="noStrike">
                <a:solidFill>
                  <a:srgbClr val="e46c0a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e46c0a"/>
                </a:solidFill>
                <a:latin typeface="Arial"/>
                <a:ea typeface="Arial"/>
              </a:rPr>
              <a:t>toare de tichete de vacanţ</a:t>
            </a:r>
            <a:r>
              <a:rPr b="0" lang="vi-VN" sz="2400" spc="-1" strike="noStrike">
                <a:solidFill>
                  <a:srgbClr val="e46c0a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e46c0a"/>
                </a:solidFill>
                <a:latin typeface="Arial"/>
                <a:ea typeface="Arial"/>
              </a:rPr>
              <a:t>, cu conţinut economic real dar inadaptate specificului comercial al industriei turismului românes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PROBLEME CARE AU APĂRUT ÎN IMPLEMENTAREA </a:t>
            </a:r>
            <a:r>
              <a:rPr b="1" lang="en-US" sz="2800" spc="-1" strike="noStrike">
                <a:solidFill>
                  <a:srgbClr val="e46c0a"/>
                </a:solidFill>
                <a:latin typeface="Arial"/>
                <a:ea typeface="Arial"/>
              </a:rPr>
              <a:t>TICHETELOR DE VACANŢ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Neinformarea corespunz</a:t>
            </a:r>
            <a:r>
              <a:rPr b="0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toare a hotelierilor cu privire la sistemul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Arial"/>
                <a:ea typeface="Arial"/>
              </a:rPr>
              <a:t>tichetelor de vacanţ</a:t>
            </a:r>
            <a:r>
              <a:rPr b="1" lang="vi-VN" sz="2400" spc="-1" strike="noStrike">
                <a:solidFill>
                  <a:srgbClr val="e46c0a"/>
                </a:solidFill>
                <a:latin typeface="Arial"/>
                <a:ea typeface="Arial"/>
              </a:rPr>
              <a:t>ă</a:t>
            </a:r>
            <a:r>
              <a:rPr b="1" lang="en-US" sz="2400" spc="-1" strike="noStrike">
                <a:solidFill>
                  <a:srgbClr val="e46c0a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de c</a:t>
            </a:r>
            <a:r>
              <a:rPr b="0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tre Asociaţiile patronale / profesionale locale, a dus l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e46c0a"/>
                </a:solidFill>
                <a:latin typeface="Arial"/>
                <a:ea typeface="Arial"/>
              </a:rPr>
              <a:t>lipsa de încredere a hotelierilor în siste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e46c0a"/>
                </a:solidFill>
                <a:latin typeface="Arial"/>
                <a:ea typeface="Arial"/>
              </a:rPr>
              <a:t>confuzii între activitatea agenţiei de turism şi cea a firmei emiţ</a:t>
            </a:r>
            <a:r>
              <a:rPr b="0" lang="vi-VN" sz="2400" spc="-1" strike="noStrike">
                <a:solidFill>
                  <a:srgbClr val="e46c0a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e46c0a"/>
                </a:solidFill>
                <a:latin typeface="Arial"/>
                <a:ea typeface="Arial"/>
              </a:rPr>
              <a:t>toar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e46c0a"/>
                </a:solidFill>
                <a:latin typeface="Arial"/>
                <a:ea typeface="Arial"/>
              </a:rPr>
              <a:t>tarife diferenţiate cu comision suplimentar pentru clienţii care vor s</a:t>
            </a:r>
            <a:r>
              <a:rPr b="0" lang="vi-VN" sz="2400" spc="-1" strike="noStrike">
                <a:solidFill>
                  <a:srgbClr val="e46c0a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e46c0a"/>
                </a:solidFill>
                <a:latin typeface="Arial"/>
                <a:ea typeface="Arial"/>
              </a:rPr>
              <a:t> achite cu </a:t>
            </a:r>
            <a:r>
              <a:rPr b="1" lang="en-US" sz="2400" spc="-1" strike="noStrike">
                <a:solidFill>
                  <a:srgbClr val="e46c0a"/>
                </a:solidFill>
                <a:latin typeface="Arial"/>
                <a:ea typeface="Arial"/>
              </a:rPr>
              <a:t>tichete de vacanţ</a:t>
            </a:r>
            <a:r>
              <a:rPr b="1" lang="vi-VN" sz="2400" spc="-1" strike="noStrike">
                <a:solidFill>
                  <a:srgbClr val="e46c0a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Criza economic</a:t>
            </a:r>
            <a:r>
              <a:rPr b="0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care genereaz</a:t>
            </a:r>
            <a:r>
              <a:rPr b="0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reţinerea angajatorilor din sistemul privat de a acorda beneficii suplimentare angajaţilor sub forma </a:t>
            </a:r>
            <a:r>
              <a:rPr b="1" lang="en-US" sz="2400" spc="-1" strike="noStrike">
                <a:solidFill>
                  <a:srgbClr val="e46c0a"/>
                </a:solidFill>
                <a:latin typeface="Arial"/>
                <a:ea typeface="Arial"/>
              </a:rPr>
              <a:t>tichetelor de vacanţ</a:t>
            </a:r>
            <a:r>
              <a:rPr b="1" lang="vi-VN" sz="2400" spc="-1" strike="noStrike">
                <a:solidFill>
                  <a:srgbClr val="e46c0a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e46c0a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PROBLEME CARE AU APĂRUT ÎN IMPLEMENTAREA </a:t>
            </a:r>
            <a:br>
              <a:rPr sz="2800"/>
            </a:br>
            <a:r>
              <a:rPr b="1" lang="en-US" sz="2800" spc="-1" strike="noStrike">
                <a:solidFill>
                  <a:srgbClr val="e46c0a"/>
                </a:solidFill>
                <a:latin typeface="Arial"/>
                <a:ea typeface="Arial"/>
              </a:rPr>
              <a:t>TICHETELOR DE VACANŢ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O atitudine uneori ostil</a:t>
            </a:r>
            <a:r>
              <a:rPr b="0" lang="vi-VN" sz="26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 din partea presei şi lipsa unei inform</a:t>
            </a:r>
            <a:r>
              <a:rPr b="0" lang="vi-VN" sz="26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ri corespunz</a:t>
            </a:r>
            <a:r>
              <a:rPr b="0" lang="vi-VN" sz="26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toare a factorilor de pres</a:t>
            </a:r>
            <a:r>
              <a:rPr b="0" lang="vi-VN" sz="26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 asupra avantajelor pe termen lung ale sistemului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tichetelor de vacanţ</a:t>
            </a:r>
            <a:r>
              <a:rPr b="1" lang="vi-VN" sz="2600" spc="-1" strike="noStrike">
                <a:solidFill>
                  <a:srgbClr val="e46c0a"/>
                </a:solidFill>
                <a:latin typeface="Arial"/>
                <a:ea typeface="Arial"/>
              </a:rPr>
              <a:t>ă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  <a:ea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Slaba susţinere a implement</a:t>
            </a:r>
            <a:r>
              <a:rPr b="0" lang="vi-VN" sz="26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rii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legii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tichetelor de vacanţ</a:t>
            </a:r>
            <a:r>
              <a:rPr b="1" lang="vi-VN" sz="2600" spc="-1" strike="noStrike">
                <a:solidFill>
                  <a:srgbClr val="e46c0a"/>
                </a:solidFill>
                <a:latin typeface="Arial"/>
                <a:ea typeface="Arial"/>
              </a:rPr>
              <a:t>ă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 din partea unor reprezentanţi ai sindicatel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PROPUNERI PENTRU ÎMBUNĂŢĂŢIREA SISTEMULUI</a:t>
            </a:r>
            <a:r>
              <a:rPr b="1" lang="en-US" sz="2800" spc="-1" strike="noStrike">
                <a:solidFill>
                  <a:srgbClr val="e46c0a"/>
                </a:solidFill>
                <a:latin typeface="Arial"/>
                <a:ea typeface="Arial"/>
              </a:rPr>
              <a:t> TICHETELOR DE VACANŢ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Eliminarea comisionului maxim al agenţiilor de turism pentru acceptarea pl</a:t>
            </a:r>
            <a:r>
              <a:rPr b="0" lang="vi-VN" sz="2000" spc="-1" strike="noStrike">
                <a:solidFill>
                  <a:srgbClr val="0070c0"/>
                </a:solidFill>
                <a:latin typeface="Arial"/>
                <a:ea typeface="Arial"/>
              </a:rPr>
              <a:t>ăţ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ii serviciilor turistice interne cu </a:t>
            </a:r>
            <a:r>
              <a:rPr b="1" lang="en-US" sz="2000" spc="-1" strike="noStrike">
                <a:solidFill>
                  <a:srgbClr val="e46c0a"/>
                </a:solidFill>
                <a:latin typeface="Arial"/>
                <a:ea typeface="Arial"/>
              </a:rPr>
              <a:t>tichete de vacanţ</a:t>
            </a:r>
            <a:r>
              <a:rPr b="1" lang="vi-VN" sz="2000" spc="-1" strike="noStrike">
                <a:solidFill>
                  <a:srgbClr val="e46c0a"/>
                </a:solidFill>
                <a:latin typeface="Arial"/>
                <a:ea typeface="Arial"/>
              </a:rPr>
              <a:t>ă</a:t>
            </a:r>
            <a:r>
              <a:rPr b="1" lang="en-US" sz="20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sau reglementarea nivelului maxim de comision/tarif pentru toate entit</a:t>
            </a:r>
            <a:r>
              <a:rPr b="0" lang="vi-VN" sz="2000" spc="-1" strike="noStrike">
                <a:solidFill>
                  <a:srgbClr val="0070c0"/>
                </a:solidFill>
                <a:latin typeface="Arial"/>
                <a:ea typeface="Arial"/>
              </a:rPr>
              <a:t>ăţ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ile implicate în sistem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Realizarea unei campanii naţionale de informare şi promovare a sistemului tichetelor de vacanţ</a:t>
            </a:r>
            <a:r>
              <a:rPr b="0" lang="vi-VN" sz="20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, în parteneriat Ministerul Turismului – Asociaţii patronale şi profesionale din turism - Companii emiţ</a:t>
            </a:r>
            <a:r>
              <a:rPr b="0" lang="vi-VN" sz="20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are de </a:t>
            </a:r>
            <a:r>
              <a:rPr b="1" lang="en-US" sz="2000" spc="-1" strike="noStrike">
                <a:solidFill>
                  <a:srgbClr val="e46c0a"/>
                </a:solidFill>
                <a:latin typeface="Arial"/>
                <a:ea typeface="Arial"/>
              </a:rPr>
              <a:t>tichete de vacanţ</a:t>
            </a:r>
            <a:r>
              <a:rPr b="1" lang="vi-VN" sz="2000" spc="-1" strike="noStrike">
                <a:solidFill>
                  <a:srgbClr val="e46c0a"/>
                </a:solidFill>
                <a:latin typeface="Arial"/>
                <a:ea typeface="Arial"/>
              </a:rPr>
              <a:t>ă</a:t>
            </a:r>
            <a:r>
              <a:rPr b="1" lang="en-US" sz="2000" spc="-1" strike="noStrike">
                <a:solidFill>
                  <a:srgbClr val="e46c0a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Organizarea unei conferinţe naţionale cu privire la sistemul </a:t>
            </a:r>
            <a:r>
              <a:rPr b="1" lang="en-US" sz="2000" spc="-1" strike="noStrike">
                <a:solidFill>
                  <a:srgbClr val="e46c0a"/>
                </a:solidFill>
                <a:latin typeface="Arial"/>
                <a:ea typeface="Arial"/>
              </a:rPr>
              <a:t>tichetelor de vacanţ</a:t>
            </a:r>
            <a:r>
              <a:rPr b="1" lang="vi-VN" sz="2000" spc="-1" strike="noStrike">
                <a:solidFill>
                  <a:srgbClr val="e46c0a"/>
                </a:solidFill>
                <a:latin typeface="Arial"/>
                <a:ea typeface="Arial"/>
              </a:rPr>
              <a:t>ă</a:t>
            </a:r>
            <a:r>
              <a:rPr b="1" lang="en-US" sz="2000" spc="-1" strike="noStrike">
                <a:solidFill>
                  <a:srgbClr val="e46c0a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Corecturi legislative în vederea elimin</a:t>
            </a:r>
            <a:r>
              <a:rPr b="0" lang="vi-VN" sz="20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rii birocraţiei în implementarea sistemului (formulare unitare, majorarea valorii nominale minime a </a:t>
            </a:r>
            <a:r>
              <a:rPr b="1" lang="en-US" sz="2000" spc="-1" strike="noStrike">
                <a:solidFill>
                  <a:srgbClr val="e46c0a"/>
                </a:solidFill>
                <a:latin typeface="Arial"/>
                <a:ea typeface="Arial"/>
              </a:rPr>
              <a:t>tichetelor de vacanţ</a:t>
            </a:r>
            <a:r>
              <a:rPr b="1" lang="vi-VN" sz="2000" spc="-1" strike="noStrike">
                <a:solidFill>
                  <a:srgbClr val="e46c0a"/>
                </a:solidFill>
                <a:latin typeface="Arial"/>
                <a:ea typeface="Arial"/>
              </a:rPr>
              <a:t>ă</a:t>
            </a:r>
            <a:r>
              <a:rPr b="1" lang="en-US" sz="20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etc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PONDERE ÎNCASĂRI CU </a:t>
            </a:r>
            <a:br>
              <a:rPr sz="1800"/>
            </a:br>
            <a:r>
              <a:rPr b="1" lang="en-US" sz="1800" spc="-1" strike="noStrike">
                <a:solidFill>
                  <a:srgbClr val="e46c0a"/>
                </a:solidFill>
                <a:latin typeface="Arial"/>
                <a:ea typeface="Arial"/>
              </a:rPr>
              <a:t>TICHETE DE VACANŢĂ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DIN TOTAL ÎNCASĂRI CU </a:t>
            </a:r>
            <a:r>
              <a:rPr b="1" lang="en-US" sz="1800" spc="-1" strike="noStrike">
                <a:solidFill>
                  <a:srgbClr val="e46c0a"/>
                </a:solidFill>
                <a:latin typeface="Arial"/>
                <a:ea typeface="Arial"/>
              </a:rPr>
              <a:t>TICHETE DE VACANŢĂ </a:t>
            </a:r>
            <a:br>
              <a:rPr sz="1800"/>
            </a:b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(</a:t>
            </a:r>
            <a:r>
              <a:rPr b="1" lang="en-US" sz="1800" spc="-1" strike="noStrike">
                <a:solidFill>
                  <a:srgbClr val="e46c0a"/>
                </a:solidFill>
                <a:latin typeface="Arial"/>
                <a:ea typeface="Arial"/>
              </a:rPr>
              <a:t>765.988,00 lei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, PER. 01 MAI - 19 IULIE 2009)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hart 4" descr=""/>
          <p:cNvPicPr/>
          <p:nvPr/>
        </p:nvPicPr>
        <p:blipFill>
          <a:blip r:embed="rId1"/>
          <a:stretch/>
        </p:blipFill>
        <p:spPr>
          <a:xfrm>
            <a:off x="365040" y="1432080"/>
            <a:ext cx="833436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PONDE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ÎNCASĂRI CU </a:t>
            </a:r>
            <a:br>
              <a:rPr sz="2200"/>
            </a:br>
            <a:r>
              <a:rPr b="1" lang="en-US" sz="2200" spc="-1" strike="noStrike">
                <a:solidFill>
                  <a:srgbClr val="e46c0a"/>
                </a:solidFill>
                <a:latin typeface="Arial"/>
                <a:ea typeface="Arial"/>
              </a:rPr>
              <a:t>TICHETE DE VACANŢĂ </a:t>
            </a:r>
            <a:br>
              <a:rPr sz="2200"/>
            </a:br>
            <a:r>
              <a:rPr b="1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DIN TOTAL VÂNZĂRI REALIZATE ÎN </a:t>
            </a:r>
            <a:br>
              <a:rPr sz="2200"/>
            </a:br>
            <a:r>
              <a:rPr b="1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PER. 01 MAI – 19 IULIE 200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3" descr=""/>
          <p:cNvPicPr/>
          <p:nvPr/>
        </p:nvPicPr>
        <p:blipFill>
          <a:blip r:embed="rId1"/>
          <a:stretch/>
        </p:blipFill>
        <p:spPr>
          <a:xfrm>
            <a:off x="378000" y="1517760"/>
            <a:ext cx="84675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PONDERE ÎNCASĂRI  CU </a:t>
            </a:r>
            <a:r>
              <a:rPr b="1" lang="en-US" sz="2200" spc="-1" strike="noStrike">
                <a:solidFill>
                  <a:srgbClr val="ffc000"/>
                </a:solidFill>
                <a:latin typeface="Arial"/>
                <a:ea typeface="Arial"/>
              </a:rPr>
              <a:t>TICHETE DE VACANŢĂ </a:t>
            </a:r>
            <a:r>
              <a:rPr b="1" lang="ro-RO" sz="2200" spc="-1" strike="noStrike">
                <a:solidFill>
                  <a:srgbClr val="4f81bd"/>
                </a:solidFill>
                <a:latin typeface="Arial"/>
                <a:ea typeface="Arial"/>
              </a:rPr>
              <a:t>DIN VÂNZĂRILE/FILIALĂ ÎN PERIOADA 1 MAI – 19 IULIE 200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4f81bd"/>
                </a:solidFill>
                <a:latin typeface="Arial"/>
                <a:ea typeface="Arial"/>
              </a:rPr>
              <a:t>EVOLUȚIA SĂPTĂMÂNALĂ  - ÎNCASĂRI CU 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  <a:ea typeface="Arial"/>
              </a:rPr>
              <a:t>TICHETE DE VACANȚĂ</a:t>
            </a:r>
            <a:r>
              <a:rPr b="1" lang="ro-RO" sz="2400" spc="-1" strike="noStrike">
                <a:solidFill>
                  <a:srgbClr val="4f81bd"/>
                </a:solidFill>
                <a:latin typeface="Arial"/>
                <a:ea typeface="Arial"/>
              </a:rPr>
              <a:t> ÎN PERIOADA 1 MAI – 19 IULIE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91864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3" descr=""/>
          <p:cNvPicPr/>
          <p:nvPr/>
        </p:nvPicPr>
        <p:blipFill>
          <a:blip r:embed="rId1"/>
          <a:stretch/>
        </p:blipFill>
        <p:spPr>
          <a:xfrm>
            <a:off x="450720" y="907920"/>
            <a:ext cx="8242560" cy="54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Arial"/>
              </a:rPr>
              <a:t>CE SUNT  </a:t>
            </a:r>
            <a:br>
              <a:rPr sz="3600"/>
            </a:br>
            <a:r>
              <a:rPr b="1" lang="en-US" sz="3600" spc="-1" strike="noStrike">
                <a:solidFill>
                  <a:srgbClr val="e46c0a"/>
                </a:solidFill>
                <a:latin typeface="Arial"/>
                <a:ea typeface="Arial"/>
              </a:rPr>
              <a:t>TICHETELE DE VACANŢ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Arial"/>
                <a:ea typeface="Arial"/>
              </a:rPr>
              <a:t>Bonuri de valoare care se pot acorda de angajator angajaţilor cu contract de munc</a:t>
            </a:r>
            <a:r>
              <a:rPr b="0" lang="vi-VN" sz="25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500" spc="-1" strike="noStrike">
                <a:solidFill>
                  <a:srgbClr val="0070c0"/>
                </a:solidFill>
                <a:latin typeface="Arial"/>
                <a:ea typeface="Arial"/>
              </a:rPr>
              <a:t> pentru petrecerea de vacanţe în România, deductibile integral pentru angajator şi scutite de impozite pentru angaj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Arial"/>
                <a:ea typeface="Arial"/>
              </a:rPr>
              <a:t>Angajatorul poate acorda tichete de vacanţ</a:t>
            </a:r>
            <a:r>
              <a:rPr b="0" lang="vi-VN" sz="25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500" spc="-1" strike="noStrike">
                <a:solidFill>
                  <a:srgbClr val="0070c0"/>
                </a:solidFill>
                <a:latin typeface="Arial"/>
                <a:ea typeface="Arial"/>
              </a:rPr>
              <a:t>, deductibile integral la calculul impozitului pe profit, în limita a 6 salarii minime brute, garantate în plata/an/per salariat, adicã maxim 3600 lei în anul 2009 (aprox. 857 EUR / salariat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6c0a"/>
                </a:solidFill>
                <a:latin typeface="Arial"/>
                <a:ea typeface="Arial"/>
              </a:rPr>
              <a:t>VĂ MULŢUMESC PENTRU ATENŢIE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Arial"/>
              </a:rPr>
              <a:t>CE 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rial"/>
              </a:rPr>
              <a:t>AVANTAJE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Arial"/>
              </a:rPr>
              <a:t> PREZINTĂ </a:t>
            </a:r>
            <a:r>
              <a:rPr b="1" lang="en-US" sz="3600" spc="-1" strike="noStrike">
                <a:solidFill>
                  <a:srgbClr val="e46c0a"/>
                </a:solidFill>
                <a:latin typeface="Arial"/>
                <a:ea typeface="Arial"/>
              </a:rPr>
              <a:t>TICHETELE DE VACANŢĂ 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rial"/>
              </a:rPr>
              <a:t>PENTRU ANGAJATO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Deductibilitate integralã la calculul impozitului pe profi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Pachet salarial mai atractiv şi implicit motivarea suplimentar</a:t>
            </a:r>
            <a:r>
              <a:rPr b="0" lang="vi-VN" sz="26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 a angajaţilor cu costuri mai mici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Refacerea capacit</a:t>
            </a:r>
            <a:r>
              <a:rPr b="0" lang="vi-VN" sz="2600" spc="-1" strike="noStrike">
                <a:solidFill>
                  <a:srgbClr val="0070c0"/>
                </a:solidFill>
                <a:latin typeface="Arial"/>
                <a:ea typeface="Arial"/>
              </a:rPr>
              <a:t>ăţ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ii de munc</a:t>
            </a:r>
            <a:r>
              <a:rPr b="0" lang="vi-VN" sz="26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 şi îmbun</a:t>
            </a:r>
            <a:r>
              <a:rPr b="0" lang="vi-VN" sz="26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t</a:t>
            </a:r>
            <a:r>
              <a:rPr b="0" lang="vi-VN" sz="26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ţirea st</a:t>
            </a:r>
            <a:r>
              <a:rPr b="0" lang="vi-VN" sz="26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rii de s</a:t>
            </a:r>
            <a:r>
              <a:rPr b="0" lang="vi-VN" sz="26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n</a:t>
            </a:r>
            <a:r>
              <a:rPr b="0" lang="vi-VN" sz="26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tate a angajaţil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Arial"/>
              </a:rPr>
              <a:t>CE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rial"/>
              </a:rPr>
              <a:t> AVANTAJE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Arial"/>
              </a:rPr>
              <a:t>PREZINTĂ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e46c0a"/>
                </a:solidFill>
                <a:latin typeface="Arial"/>
                <a:ea typeface="Arial"/>
              </a:rPr>
              <a:t>TICHETELE DE VACANŢĂ 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rial"/>
              </a:rPr>
              <a:t>PENTRU ANGAJAT</a:t>
            </a:r>
            <a:r>
              <a:rPr b="1" lang="en-US" sz="36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Posibilitatea petrecerii unei vacanţe pe costurile angajatorului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Refacerea capacit</a:t>
            </a:r>
            <a:r>
              <a:rPr b="0" lang="vi-VN" sz="2600" spc="-1" strike="noStrike">
                <a:solidFill>
                  <a:srgbClr val="0070c0"/>
                </a:solidFill>
                <a:latin typeface="Arial"/>
                <a:ea typeface="Arial"/>
              </a:rPr>
              <a:t>ăţ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ii de munc</a:t>
            </a:r>
            <a:r>
              <a:rPr b="0" lang="vi-VN" sz="26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 şi a st</a:t>
            </a:r>
            <a:r>
              <a:rPr b="0" lang="vi-VN" sz="26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rii de s</a:t>
            </a:r>
            <a:r>
              <a:rPr b="0" lang="vi-VN" sz="26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n</a:t>
            </a:r>
            <a:r>
              <a:rPr b="0" lang="vi-VN" sz="26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tate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O vacanţ</a:t>
            </a:r>
            <a:r>
              <a:rPr b="0" lang="vi-VN" sz="26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 oferit</a:t>
            </a:r>
            <a:r>
              <a:rPr b="0" lang="vi-VN" sz="26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Arial"/>
              </a:rPr>
              <a:t> familiei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000" spc="-1" strike="noStrike">
                <a:solidFill>
                  <a:srgbClr val="0070c0"/>
                </a:solidFill>
                <a:latin typeface="Arial"/>
                <a:ea typeface="Arial"/>
              </a:rPr>
              <a:t>CE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  <a:ea typeface="Arial"/>
              </a:rPr>
              <a:t> AVANTAJE </a:t>
            </a:r>
            <a:r>
              <a:rPr b="0" lang="en-US" sz="3000" spc="-1" strike="noStrike">
                <a:solidFill>
                  <a:srgbClr val="0070c0"/>
                </a:solidFill>
                <a:latin typeface="Arial"/>
                <a:ea typeface="Arial"/>
              </a:rPr>
              <a:t>PREZINTĂ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e46c0a"/>
                </a:solidFill>
                <a:latin typeface="Arial"/>
                <a:ea typeface="Arial"/>
              </a:rPr>
              <a:t>TICHETELE DE VACANŢĂ </a:t>
            </a:r>
            <a:r>
              <a:rPr b="0" lang="en-US" sz="3000" spc="-1" strike="noStrike">
                <a:solidFill>
                  <a:srgbClr val="0070c0"/>
                </a:solidFill>
                <a:latin typeface="Arial"/>
                <a:ea typeface="Arial"/>
              </a:rPr>
              <a:t>PENTRU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  <a:ea typeface="Arial"/>
              </a:rPr>
              <a:t> INDUSTRIA TURISMULUI, </a:t>
            </a:r>
            <a:r>
              <a:rPr b="0" lang="en-US" sz="3000" spc="-1" strike="noStrike">
                <a:solidFill>
                  <a:srgbClr val="0070c0"/>
                </a:solidFill>
                <a:latin typeface="Arial"/>
                <a:ea typeface="Arial"/>
              </a:rPr>
              <a:t>PENTRU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  <a:ea typeface="Arial"/>
              </a:rPr>
              <a:t> ROMÂNIA ?</a:t>
            </a:r>
            <a:br>
              <a:rPr sz="36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Susţinerea circulaţiei turistice în România în perioada de criz</a:t>
            </a:r>
            <a:r>
              <a:rPr b="0" lang="vi-VN" sz="22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 şi în perspectiv</a:t>
            </a:r>
            <a:r>
              <a:rPr b="0" lang="vi-VN" sz="22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 (vezi modelul Ungariei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Susţinerea funcţion</a:t>
            </a:r>
            <a:r>
              <a:rPr b="0" lang="vi-VN" sz="22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rii unit</a:t>
            </a:r>
            <a:r>
              <a:rPr b="0" lang="vi-VN" sz="22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ţilor turistice româneşti pân</a:t>
            </a:r>
            <a:r>
              <a:rPr b="0" lang="vi-VN" sz="22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 la finalizarea investiţiilor în turism iniţiate cu sprijin din fonduri bugetare şi fonduri europene post aderare (cca. 500 milioane EUR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Reducerea cheltuielilor instituţiilor publice şi a entit</a:t>
            </a:r>
            <a:r>
              <a:rPr b="0" lang="vi-VN" sz="2200" spc="-1" strike="noStrike">
                <a:solidFill>
                  <a:srgbClr val="0070c0"/>
                </a:solidFill>
                <a:latin typeface="Arial"/>
                <a:ea typeface="Arial"/>
              </a:rPr>
              <a:t>ăţ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ilor de stat prin transformarea primelor de vacanţ</a:t>
            </a:r>
            <a:r>
              <a:rPr b="0" lang="vi-VN" sz="22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 în </a:t>
            </a:r>
            <a:r>
              <a:rPr b="1" lang="en-US" sz="2200" spc="-1" strike="noStrike">
                <a:solidFill>
                  <a:srgbClr val="e46c0a"/>
                </a:solidFill>
                <a:latin typeface="Arial"/>
                <a:ea typeface="Arial"/>
              </a:rPr>
              <a:t>tichete de vacanţ</a:t>
            </a:r>
            <a:r>
              <a:rPr b="1" lang="vi-VN" sz="2200" spc="-1" strike="noStrike">
                <a:solidFill>
                  <a:srgbClr val="e46c0a"/>
                </a:solidFill>
                <a:latin typeface="Arial"/>
                <a:ea typeface="Arial"/>
              </a:rPr>
              <a:t>ă</a:t>
            </a:r>
            <a:r>
              <a:rPr b="1" lang="en-US" sz="22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în sum</a:t>
            </a:r>
            <a:r>
              <a:rPr b="0" lang="vi-VN" sz="22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 limitat</a:t>
            </a:r>
            <a:r>
              <a:rPr b="0" lang="vi-VN" sz="22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, ceea ce aduce avantaje celor cu salarii mici prin egalizarea sumelor între salariile mici si cele foarte mari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Arial"/>
                <a:ea typeface="Arial"/>
              </a:rPr>
              <a:t>CE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  <a:ea typeface="Arial"/>
              </a:rPr>
              <a:t> AVANTAJE </a:t>
            </a:r>
            <a:r>
              <a:rPr b="0" lang="en-US" sz="3000" spc="-1" strike="noStrike">
                <a:solidFill>
                  <a:srgbClr val="0070c0"/>
                </a:solidFill>
                <a:latin typeface="Arial"/>
                <a:ea typeface="Arial"/>
              </a:rPr>
              <a:t>PREZINTĂ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e46c0a"/>
                </a:solidFill>
                <a:latin typeface="Arial"/>
                <a:ea typeface="Arial"/>
              </a:rPr>
              <a:t>TICHETELE DE VACANŢĂ </a:t>
            </a:r>
            <a:r>
              <a:rPr b="0" lang="en-US" sz="3000" spc="-1" strike="noStrike">
                <a:solidFill>
                  <a:srgbClr val="0070c0"/>
                </a:solidFill>
                <a:latin typeface="Arial"/>
                <a:ea typeface="Arial"/>
              </a:rPr>
              <a:t>PENTRU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  <a:ea typeface="Arial"/>
              </a:rPr>
              <a:t> INDUSTRIA TURISMULUI, </a:t>
            </a:r>
            <a:r>
              <a:rPr b="0" lang="en-US" sz="3000" spc="-1" strike="noStrike">
                <a:solidFill>
                  <a:srgbClr val="0070c0"/>
                </a:solidFill>
                <a:latin typeface="Arial"/>
                <a:ea typeface="Arial"/>
              </a:rPr>
              <a:t>PENTRU</a:t>
            </a:r>
            <a:r>
              <a:rPr b="1" lang="en-US" sz="3000" spc="-1" strike="noStrike">
                <a:solidFill>
                  <a:srgbClr val="0070c0"/>
                </a:solidFill>
                <a:latin typeface="Arial"/>
                <a:ea typeface="Arial"/>
              </a:rPr>
              <a:t> ROMÂNIA 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3160" y="20574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Creşterea veniturilor bugetare prin scoaterea la suprafaţ</a:t>
            </a:r>
            <a:r>
              <a:rPr b="0" lang="vi-VN" sz="22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 a “turismului la negru”, cu impozitele aferent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Identificarea corect</a:t>
            </a:r>
            <a:r>
              <a:rPr b="0" lang="vi-VN" sz="22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 a ponderii turismului în PIB şi creşterea acesteia, cu consecinţe în statuarea ramurii turism ca ramur</a:t>
            </a:r>
            <a:r>
              <a:rPr b="0" lang="vi-VN" sz="22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 prioritar</a:t>
            </a:r>
            <a:r>
              <a:rPr b="0" lang="vi-VN" sz="22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 a economiei naţionale şi atragerea de investitori str</a:t>
            </a:r>
            <a:r>
              <a:rPr b="0" lang="vi-VN" sz="22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ini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Garanţia nerepatrierii investiţiilor str</a:t>
            </a:r>
            <a:r>
              <a:rPr b="0" lang="vi-VN" sz="22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ine prin localizarea unit</a:t>
            </a:r>
            <a:r>
              <a:rPr b="0" lang="vi-VN" sz="2200" spc="-1" strike="noStrike">
                <a:solidFill>
                  <a:srgbClr val="0070c0"/>
                </a:solidFill>
                <a:latin typeface="Arial"/>
                <a:ea typeface="Arial"/>
              </a:rPr>
              <a:t>ăţ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ilor şi a investiţiilor turistice pe teritoriul României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Dezvoltarea industriilor pe orizontal</a:t>
            </a:r>
            <a:r>
              <a:rPr b="0" lang="vi-VN" sz="22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 aferente ramurii turism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Dezvoltarea agroturismului şi ridicarea nivelului de trai în sate şi comune, conservarea tradiţiilor, obiceiurilor, a identit</a:t>
            </a:r>
            <a:r>
              <a:rPr b="0" lang="vi-VN" sz="2200" spc="-1" strike="noStrike">
                <a:solidFill>
                  <a:srgbClr val="0070c0"/>
                </a:solidFill>
                <a:latin typeface="Arial"/>
                <a:ea typeface="Arial"/>
              </a:rPr>
              <a:t>ăţ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ii naţiona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CINE A SUSŢINUT INTRODUCEREA </a:t>
            </a:r>
            <a:r>
              <a:rPr b="1" lang="en-US" sz="3200" spc="-1" strike="noStrike">
                <a:solidFill>
                  <a:srgbClr val="e46c0a"/>
                </a:solidFill>
                <a:latin typeface="Arial"/>
                <a:ea typeface="Arial"/>
              </a:rPr>
              <a:t>TICHETELOR DE VACANŢ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Reprezentanţii marilor Confederaţii Sindical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ANAT şi toate Asociaţiile profesionale şi patronale din turism reprezentative la nivel naţiona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Camera de Comerţ şi Industrie a Românie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Ministerul Turismului, Doamna Elena Udrea – Ministrul Turismului, Guvernu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8679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AGENŢIILE DE TURISM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SUNT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MOTORUL IMPLEMENTĂRII </a:t>
            </a:r>
            <a:r>
              <a:rPr b="1" lang="en-US" sz="2800" spc="-1" strike="noStrike">
                <a:solidFill>
                  <a:srgbClr val="e46c0a"/>
                </a:solidFill>
                <a:latin typeface="Arial"/>
                <a:ea typeface="Arial"/>
              </a:rPr>
              <a:t>TICHETELOR DE VACANŢĂ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DEOARE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Cumuleaz</a:t>
            </a:r>
            <a:r>
              <a:rPr b="0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în ofertele lor pachete de servicii turistice pentru o multitudine de unit</a:t>
            </a:r>
            <a:r>
              <a:rPr b="0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ăţ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i turistice din România, a.î. beneficiarul </a:t>
            </a:r>
            <a:r>
              <a:rPr b="1" lang="en-US" sz="2400" spc="-1" strike="noStrike">
                <a:solidFill>
                  <a:srgbClr val="e46c0a"/>
                </a:solidFill>
                <a:latin typeface="Arial"/>
                <a:ea typeface="Arial"/>
              </a:rPr>
              <a:t>tichetelor de vacanţ</a:t>
            </a:r>
            <a:r>
              <a:rPr b="1" lang="vi-VN" sz="2400" spc="-1" strike="noStrike">
                <a:solidFill>
                  <a:srgbClr val="e46c0a"/>
                </a:solidFill>
                <a:latin typeface="Arial"/>
                <a:ea typeface="Arial"/>
              </a:rPr>
              <a:t>ă</a:t>
            </a:r>
            <a:r>
              <a:rPr b="1" lang="en-US" sz="24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poate compara, alege şi cump</a:t>
            </a:r>
            <a:r>
              <a:rPr b="0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ra într-un singur loc, vacanţe oriunde în Români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Beneficiaz</a:t>
            </a:r>
            <a:r>
              <a:rPr b="0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de oferte preferenţiale de tarife faţ</a:t>
            </a:r>
            <a:r>
              <a:rPr b="0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de tarifele de recepţie deci clientul cump</a:t>
            </a:r>
            <a:r>
              <a:rPr b="0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r</a:t>
            </a:r>
            <a:r>
              <a:rPr b="0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mai ieftin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Sunt singurele enit</a:t>
            </a:r>
            <a:r>
              <a:rPr b="0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ăţ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i din turism abilitate s</a:t>
            </a:r>
            <a:r>
              <a:rPr b="0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construiasc</a:t>
            </a:r>
            <a:r>
              <a:rPr b="0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pachete turistice, prin combinarea serviciilor de cazare, mas</a:t>
            </a:r>
            <a:r>
              <a:rPr b="0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, transport, agrement, toate aceste servicii fiind posibil a fi cump</a:t>
            </a:r>
            <a:r>
              <a:rPr b="0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rate cu </a:t>
            </a:r>
            <a:r>
              <a:rPr b="1" lang="en-US" sz="2400" spc="-1" strike="noStrike">
                <a:solidFill>
                  <a:srgbClr val="e46c0a"/>
                </a:solidFill>
                <a:latin typeface="Arial"/>
                <a:ea typeface="Arial"/>
              </a:rPr>
              <a:t>tichete de vacanţ</a:t>
            </a:r>
            <a:r>
              <a:rPr b="1" lang="vi-VN" sz="2400" spc="-1" strike="noStrike">
                <a:solidFill>
                  <a:srgbClr val="e46c0a"/>
                </a:solidFill>
                <a:latin typeface="Arial"/>
                <a:ea typeface="Arial"/>
              </a:rPr>
              <a:t>ă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AGENŢIILE DE TURISM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SUNT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MOTORUL IMPLEMENTĂRII </a:t>
            </a:r>
            <a:r>
              <a:rPr b="1" lang="en-US" sz="2800" spc="-1" strike="noStrike">
                <a:solidFill>
                  <a:srgbClr val="e46c0a"/>
                </a:solidFill>
                <a:latin typeface="Arial"/>
                <a:ea typeface="Arial"/>
              </a:rPr>
              <a:t>TICHETELOR DE VACANŢĂ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DEOARE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09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Promoveaz</a:t>
            </a:r>
            <a:r>
              <a:rPr b="0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serviciile turistice şi  vânzarea acestora prin </a:t>
            </a:r>
            <a:r>
              <a:rPr b="1" lang="en-US" sz="2400" spc="-1" strike="noStrike">
                <a:solidFill>
                  <a:srgbClr val="e46c0a"/>
                </a:solidFill>
                <a:latin typeface="Arial"/>
                <a:ea typeface="Arial"/>
              </a:rPr>
              <a:t>tichete de vacanţ</a:t>
            </a:r>
            <a:r>
              <a:rPr b="1" lang="vi-VN" sz="2400" spc="-1" strike="noStrike">
                <a:solidFill>
                  <a:srgbClr val="e46c0a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, apelând la canale specifice de promovare: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cataloage, broşuri, pliante, site-uri specializate, promovare on-lin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mare parte din agenţiile de turism dispun de proceduri interne de reglementare a activit</a:t>
            </a:r>
            <a:r>
              <a:rPr b="0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ăţ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ii, care le permit organizarea prelu</a:t>
            </a:r>
            <a:r>
              <a:rPr b="0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rii şi transmiterii la decontare a </a:t>
            </a:r>
            <a:r>
              <a:rPr b="1" lang="en-US" sz="2400" spc="-1" strike="noStrike">
                <a:solidFill>
                  <a:srgbClr val="e46c0a"/>
                </a:solidFill>
                <a:latin typeface="Arial"/>
                <a:ea typeface="Arial"/>
              </a:rPr>
              <a:t>tichetelor de vacanţ</a:t>
            </a:r>
            <a:r>
              <a:rPr b="1" lang="vi-VN" sz="2400" spc="-1" strike="noStrike">
                <a:solidFill>
                  <a:srgbClr val="e46c0a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, în condiţii de risc sc</a:t>
            </a:r>
            <a:r>
              <a:rPr b="0" lang="vi-VN" sz="2400" spc="-1" strike="noStrike">
                <a:solidFill>
                  <a:srgbClr val="0070c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zut şi pe tot parcursul anulu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12:11:29Z</dcterms:created>
  <dc:creator>Full name</dc:creator>
  <dc:description/>
  <dc:language>en-US</dc:language>
  <cp:lastModifiedBy>Full name</cp:lastModifiedBy>
  <dcterms:modified xsi:type="dcterms:W3CDTF">2009-07-23T04:22:29Z</dcterms:modified>
  <cp:revision>94</cp:revision>
  <dc:subject/>
  <dc:title>Tichetele de vacanta</dc:title>
</cp:coreProperties>
</file>