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80880" y="14256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14256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25480"/>
            <a:ext cx="9093240" cy="5575320"/>
          </a:xfrm>
          <a:custGeom>
            <a:avLst/>
            <a:gdLst/>
            <a:ahLst/>
            <a:rect l="l" t="t" r="r" b="b"/>
            <a:pathLst>
              <a:path w="5520" h="3284">
                <a:moveTo>
                  <a:pt x="3216" y="195"/>
                </a:moveTo>
                <a:cubicBezTo>
                  <a:pt x="1608" y="195"/>
                  <a:pt x="0" y="195"/>
                  <a:pt x="0" y="195"/>
                </a:cubicBezTo>
                <a:lnTo>
                  <a:pt x="0" y="3284"/>
                </a:lnTo>
                <a:lnTo>
                  <a:pt x="5520" y="3284"/>
                </a:lnTo>
                <a:lnTo>
                  <a:pt x="5520" y="20"/>
                </a:lnTo>
                <a:cubicBezTo>
                  <a:pt x="5520" y="20"/>
                  <a:pt x="4800" y="20"/>
                  <a:pt x="4080" y="20"/>
                </a:cubicBezTo>
                <a:cubicBezTo>
                  <a:pt x="3808" y="0"/>
                  <a:pt x="3696" y="116"/>
                  <a:pt x="3696" y="116"/>
                </a:cubicBezTo>
                <a:cubicBezTo>
                  <a:pt x="3696" y="116"/>
                  <a:pt x="3568" y="195"/>
                  <a:pt x="3216" y="19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838080"/>
            <a:ext cx="8763120" cy="5334120"/>
            <a:chOff x="0" y="838080"/>
            <a:chExt cx="8763120" cy="5334120"/>
          </a:xfrm>
        </p:grpSpPr>
        <p:grpSp>
          <p:nvGrpSpPr>
            <p:cNvPr id="3" name=""/>
            <p:cNvGrpSpPr/>
            <p:nvPr/>
          </p:nvGrpSpPr>
          <p:grpSpPr>
            <a:xfrm>
              <a:off x="5880240" y="838080"/>
              <a:ext cx="2882880" cy="304920"/>
              <a:chOff x="5880240" y="838080"/>
              <a:chExt cx="2882880" cy="304920"/>
            </a:xfrm>
          </p:grpSpPr>
          <p:sp>
            <p:nvSpPr>
              <p:cNvPr id="4" name=""/>
              <p:cNvSpPr/>
              <p:nvPr/>
            </p:nvSpPr>
            <p:spPr>
              <a:xfrm>
                <a:off x="5880240" y="838080"/>
                <a:ext cx="1788840" cy="273240"/>
              </a:xfrm>
              <a:custGeom>
                <a:avLst/>
                <a:gdLst/>
                <a:ahLst/>
                <a:rect l="l" t="t" r="r" b="b"/>
                <a:pathLst>
                  <a:path w="1127" h="172">
                    <a:moveTo>
                      <a:pt x="0" y="172"/>
                    </a:moveTo>
                    <a:lnTo>
                      <a:pt x="1127" y="172"/>
                    </a:lnTo>
                    <a:lnTo>
                      <a:pt x="1124" y="0"/>
                    </a:lnTo>
                    <a:lnTo>
                      <a:pt x="524" y="0"/>
                    </a:lnTo>
                    <a:cubicBezTo>
                      <a:pt x="120" y="0"/>
                      <a:pt x="0" y="172"/>
                      <a:pt x="0" y="172"/>
                    </a:cubicBezTo>
                    <a:close/>
                  </a:path>
                </a:pathLst>
              </a:custGeom>
              <a:solidFill>
                <a:srgbClr val="a18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543800" y="838080"/>
                <a:ext cx="1219320" cy="304920"/>
              </a:xfrm>
              <a:prstGeom prst="rect">
                <a:avLst/>
              </a:prstGeom>
              <a:solidFill>
                <a:srgbClr val="a18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0" y="957240"/>
              <a:ext cx="8763120" cy="5214960"/>
            </a:xfrm>
            <a:custGeom>
              <a:avLst/>
              <a:gdLst/>
              <a:ahLst/>
              <a:rect l="l" t="t" r="r" b="b"/>
              <a:pathLst>
                <a:path w="5513" h="3285">
                  <a:moveTo>
                    <a:pt x="4093" y="2"/>
                  </a:moveTo>
                  <a:cubicBezTo>
                    <a:pt x="3865" y="0"/>
                    <a:pt x="3741" y="62"/>
                    <a:pt x="3699" y="92"/>
                  </a:cubicBezTo>
                  <a:cubicBezTo>
                    <a:pt x="3639" y="129"/>
                    <a:pt x="3606" y="180"/>
                    <a:pt x="3249" y="179"/>
                  </a:cubicBezTo>
                  <a:cubicBezTo>
                    <a:pt x="1624" y="179"/>
                    <a:pt x="0" y="179"/>
                    <a:pt x="0" y="179"/>
                  </a:cubicBezTo>
                  <a:lnTo>
                    <a:pt x="0" y="3285"/>
                  </a:lnTo>
                  <a:lnTo>
                    <a:pt x="5513" y="3285"/>
                  </a:lnTo>
                  <a:lnTo>
                    <a:pt x="5513" y="2"/>
                  </a:lnTo>
                  <a:lnTo>
                    <a:pt x="4093" y="2"/>
                  </a:lnTo>
                  <a:cubicBezTo>
                    <a:pt x="4093" y="2"/>
                    <a:pt x="4093" y="2"/>
                    <a:pt x="4093" y="2"/>
                  </a:cubicBezTo>
                  <a:close/>
                </a:path>
              </a:pathLst>
            </a:custGeom>
            <a:solidFill>
              <a:srgbClr val="8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25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667640" y="6388200"/>
            <a:ext cx="1476360" cy="465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877080" y="0"/>
            <a:ext cx="1839960" cy="8049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lvl="1" marL="415800" indent="-171360">
              <a:lnSpc>
                <a:spcPct val="105000"/>
              </a:lnSpc>
              <a:spcBef>
                <a:spcPts val="425"/>
              </a:spcBef>
              <a:buClr>
                <a:srgbClr val="e6332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f8a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-90360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3" marL="892080" indent="-193680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4" marL="1271520" indent="-189000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5" marL="1271520" indent="-1890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6" marL="1271520" indent="-1890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32720" y="1484280"/>
            <a:ext cx="1295280" cy="91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276640"/>
            <a:ext cx="1657440" cy="2304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74840"/>
            <a:ext cx="41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67640" y="6388200"/>
            <a:ext cx="1476360" cy="465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836640"/>
            <a:ext cx="8763120" cy="5334120"/>
            <a:chOff x="0" y="836640"/>
            <a:chExt cx="8763120" cy="5334120"/>
          </a:xfrm>
        </p:grpSpPr>
        <p:grpSp>
          <p:nvGrpSpPr>
            <p:cNvPr id="53" name=""/>
            <p:cNvGrpSpPr/>
            <p:nvPr/>
          </p:nvGrpSpPr>
          <p:grpSpPr>
            <a:xfrm>
              <a:off x="4486320" y="836640"/>
              <a:ext cx="4276800" cy="304920"/>
              <a:chOff x="4486320" y="836640"/>
              <a:chExt cx="427680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4486320" y="836640"/>
                <a:ext cx="1789200" cy="273240"/>
              </a:xfrm>
              <a:custGeom>
                <a:avLst/>
                <a:gdLst/>
                <a:ahLst/>
                <a:rect l="l" t="t" r="r" b="b"/>
                <a:pathLst>
                  <a:path w="1127" h="172">
                    <a:moveTo>
                      <a:pt x="0" y="172"/>
                    </a:moveTo>
                    <a:lnTo>
                      <a:pt x="1127" y="172"/>
                    </a:lnTo>
                    <a:lnTo>
                      <a:pt x="1124" y="0"/>
                    </a:lnTo>
                    <a:lnTo>
                      <a:pt x="524" y="0"/>
                    </a:lnTo>
                    <a:cubicBezTo>
                      <a:pt x="120" y="0"/>
                      <a:pt x="0" y="172"/>
                      <a:pt x="0" y="172"/>
                    </a:cubicBezTo>
                    <a:close/>
                  </a:path>
                </a:pathLst>
              </a:cu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72200" y="836640"/>
                <a:ext cx="2590920" cy="30492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960480"/>
              <a:ext cx="8763120" cy="5210280"/>
              <a:chOff x="0" y="960480"/>
              <a:chExt cx="8763120" cy="521028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960480"/>
                <a:ext cx="8763120" cy="355680"/>
              </a:xfrm>
              <a:custGeom>
                <a:avLst/>
                <a:gdLst/>
                <a:ahLst/>
                <a:rect l="l" t="t" r="r" b="b"/>
                <a:pathLst>
                  <a:path w="5520" h="224">
                    <a:moveTo>
                      <a:pt x="3221" y="0"/>
                    </a:moveTo>
                    <a:cubicBezTo>
                      <a:pt x="2918" y="2"/>
                      <a:pt x="2885" y="59"/>
                      <a:pt x="2821" y="93"/>
                    </a:cubicBezTo>
                    <a:cubicBezTo>
                      <a:pt x="2744" y="138"/>
                      <a:pt x="2710" y="172"/>
                      <a:pt x="2361" y="174"/>
                    </a:cubicBezTo>
                    <a:cubicBezTo>
                      <a:pt x="1180" y="174"/>
                      <a:pt x="0" y="174"/>
                      <a:pt x="0" y="174"/>
                    </a:cubicBezTo>
                    <a:lnTo>
                      <a:pt x="0" y="224"/>
                    </a:lnTo>
                    <a:lnTo>
                      <a:pt x="5520" y="224"/>
                    </a:lnTo>
                    <a:lnTo>
                      <a:pt x="5520" y="0"/>
                    </a:lnTo>
                    <a:lnTo>
                      <a:pt x="3221" y="0"/>
                    </a:lnTo>
                    <a:cubicBezTo>
                      <a:pt x="3221" y="0"/>
                      <a:pt x="3221" y="0"/>
                      <a:pt x="3221" y="0"/>
                    </a:cubicBezTo>
                    <a:close/>
                  </a:path>
                </a:pathLst>
              </a:cu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91480" y="1217880"/>
                <a:ext cx="971640" cy="114300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896240" y="2284560"/>
                <a:ext cx="866880" cy="182880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81680" y="3808440"/>
                <a:ext cx="1981440" cy="236232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19920" y="1217880"/>
                <a:ext cx="971280" cy="114300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0" y="1293840"/>
                <a:ext cx="2143080" cy="231480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1293840"/>
                <a:ext cx="4762440" cy="457200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67360" y="1008360"/>
                <a:ext cx="971640" cy="53316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77120" y="2322720"/>
                <a:ext cx="1428480" cy="34272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589720"/>
                <a:ext cx="6838920" cy="581040"/>
              </a:xfrm>
              <a:prstGeom prst="rect">
                <a:avLst/>
              </a:prstGeom>
              <a:solidFill>
                <a:srgbClr val="8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4267080" y="3116160"/>
            <a:ext cx="2971800" cy="2971800"/>
          </a:xfrm>
          <a:prstGeom prst="donut">
            <a:avLst>
              <a:gd name="adj" fmla="val 17467"/>
            </a:avLst>
          </a:prstGeom>
          <a:solidFill>
            <a:srgbClr val="8f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2340000"/>
            <a:ext cx="1771560" cy="1771560"/>
          </a:xfrm>
          <a:prstGeom prst="donut">
            <a:avLst>
              <a:gd name="adj" fmla="val 19263"/>
            </a:avLst>
          </a:prstGeom>
          <a:solidFill>
            <a:srgbClr val="8f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4646000">
            <a:off x="4491000" y="3335400"/>
            <a:ext cx="2519280" cy="2519280"/>
          </a:xfrm>
          <a:prstGeom prst="blockArc">
            <a:avLst>
              <a:gd name="adj1" fmla="val 7555906"/>
              <a:gd name="adj2" fmla="val 3244094"/>
              <a:gd name="adj3" fmla="val 532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57913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8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43880" y="1311120"/>
            <a:ext cx="1266480" cy="1266840"/>
          </a:xfrm>
          <a:prstGeom prst="donut">
            <a:avLst>
              <a:gd name="adj" fmla="val 20050"/>
            </a:avLst>
          </a:prstGeom>
          <a:solidFill>
            <a:srgbClr val="8f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497800">
            <a:off x="6838560" y="1406160"/>
            <a:ext cx="1066680" cy="1066680"/>
          </a:xfrm>
          <a:prstGeom prst="blockArc">
            <a:avLst>
              <a:gd name="adj1" fmla="val 10329851"/>
              <a:gd name="adj2" fmla="val 470149"/>
              <a:gd name="adj3" fmla="val 7556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7165200">
            <a:off x="6513120" y="2435040"/>
            <a:ext cx="1563480" cy="1563840"/>
          </a:xfrm>
          <a:prstGeom prst="blockArc">
            <a:avLst>
              <a:gd name="adj1" fmla="val 10362302"/>
              <a:gd name="adj2" fmla="val 437698"/>
              <a:gd name="adj3" fmla="val 566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24000" y="0"/>
            <a:ext cx="2635200" cy="1152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f8a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f8a"/>
              </a:solidFill>
              <a:latin typeface="Arial"/>
            </a:endParaRPr>
          </a:p>
          <a:p>
            <a:pPr lvl="1" marL="244440" indent="0" algn="ctr">
              <a:lnSpc>
                <a:spcPct val="10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f8a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3f8a"/>
              </a:solidFill>
              <a:latin typeface="Arial"/>
            </a:endParaRPr>
          </a:p>
          <a:p>
            <a:pPr lvl="2" marL="41760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3" marL="69840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4" marL="1082520" algn="ctr">
              <a:lnSpc>
                <a:spcPct val="105000"/>
              </a:lnSpc>
              <a:spcBef>
                <a:spcPts val="374"/>
              </a:spcBef>
              <a:buClr>
                <a:srgbClr val="e63322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5" marL="1082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  <a:p>
            <a:pPr lvl="6" marL="108252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f8a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57913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f8a"/>
                </a:solidFill>
                <a:latin typeface="Arial"/>
              </a:rPr>
              <a:t>Tichetele de vacan</a:t>
            </a:r>
            <a:r>
              <a:rPr b="1" lang="ro-RO" sz="2800" spc="-1" strike="noStrike">
                <a:solidFill>
                  <a:srgbClr val="003f8a"/>
                </a:solidFill>
                <a:latin typeface="Arial"/>
              </a:rPr>
              <a:t>ţă</a:t>
            </a:r>
            <a:br>
              <a:rPr sz="2800"/>
            </a:br>
            <a:r>
              <a:rPr b="1" lang="ro-RO" sz="2800" spc="-1" strike="noStrike">
                <a:solidFill>
                  <a:srgbClr val="003f8a"/>
                </a:solidFill>
                <a:latin typeface="Arial"/>
              </a:rPr>
              <a:t>- rezultate şi tendinţe -</a:t>
            </a:r>
            <a:endParaRPr b="1" lang="en-US" sz="28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94920" y="5661000"/>
            <a:ext cx="44276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f8a"/>
                </a:solidFill>
                <a:latin typeface="Arial"/>
              </a:rPr>
              <a:t>Dragoş Bunescu</a:t>
            </a:r>
            <a:endParaRPr b="0" lang="en-US" sz="1400" spc="-1" strike="noStrike">
              <a:solidFill>
                <a:srgbClr val="003f8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f8a"/>
                </a:solidFill>
                <a:latin typeface="Arial"/>
              </a:rPr>
              <a:t>Director Comercial Accor Services</a:t>
            </a:r>
            <a:endParaRPr b="0" lang="en-US" sz="1400" spc="-1" strike="noStrike">
              <a:solidFill>
                <a:srgbClr val="003f8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f8a"/>
                </a:solidFill>
                <a:latin typeface="Arial"/>
              </a:rPr>
              <a:t>23 Iulie 2009,</a:t>
            </a:r>
            <a:r>
              <a:rPr b="1" lang="en-US" sz="14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3f8a"/>
                </a:solidFill>
                <a:latin typeface="Arial"/>
              </a:rPr>
              <a:t>Radisson Sas Hotel</a:t>
            </a:r>
            <a:endParaRPr b="0" lang="en-US" sz="1400" spc="-1" strike="noStrike">
              <a:solidFill>
                <a:srgbClr val="003f8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Primul şi cel mai experimentat emitent de tichete de servicii pre-plătite din România şi 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la nivel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internaţional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Peste 40 de ani de expertiză în găsirea de soluţii pentru companii şi instituţii publice, în vederea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mbu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rii vie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i persoanelor din comunit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le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 care activeaz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Soliditate, continuitate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 sustenabilitate asigurate de apartene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a la grupul interna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onal Accor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 Rom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â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ia, peste 40 000 de companii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 institu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i publice au ales tichetele de servicii pre-pl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tite emise de Accor Services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7800" y="6237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Accor Services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32000" y="1773360"/>
            <a:ext cx="2735280" cy="4319640"/>
          </a:xfrm>
          <a:prstGeom prst="foldedCorner">
            <a:avLst>
              <a:gd name="adj" fmla="val 12500"/>
            </a:avLst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4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Ticket Vacan</a:t>
            </a:r>
            <a:r>
              <a:rPr b="1" lang="ro-RO" sz="24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3f8a"/>
                </a:solidFill>
                <a:latin typeface="Arial"/>
                <a:ea typeface="Arial"/>
              </a:rPr>
              <a:t>®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Primul tichet de vacanţă emis şi cheltuit în România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060640"/>
            <a:ext cx="2736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1844640"/>
            <a:ext cx="2736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060640"/>
            <a:ext cx="2736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773360"/>
            <a:ext cx="2592360" cy="4319640"/>
          </a:xfrm>
          <a:prstGeom prst="foldedCorner">
            <a:avLst>
              <a:gd name="adj" fmla="val 12500"/>
            </a:avLst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4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200" y="1773360"/>
            <a:ext cx="2683080" cy="4319640"/>
          </a:xfrm>
          <a:prstGeom prst="foldedCorner">
            <a:avLst>
              <a:gd name="adj" fmla="val 12500"/>
            </a:avLst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4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Board Univers Marketing Services"/>
          <p:cNvPicPr/>
          <p:nvPr/>
        </p:nvPicPr>
        <p:blipFill>
          <a:blip r:embed="rId1"/>
          <a:srcRect l="51371" t="39171" r="0" b="15124"/>
          <a:stretch/>
        </p:blipFill>
        <p:spPr>
          <a:xfrm>
            <a:off x="142920" y="1773360"/>
            <a:ext cx="934920" cy="726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Univers coloriel tons rompus sobres"/>
          <p:cNvPicPr/>
          <p:nvPr/>
        </p:nvPicPr>
        <p:blipFill>
          <a:blip r:embed="rId2"/>
          <a:srcRect l="54291" t="40430" r="0" b="14139"/>
          <a:stretch/>
        </p:blipFill>
        <p:spPr>
          <a:xfrm>
            <a:off x="6156360" y="1844640"/>
            <a:ext cx="936720" cy="77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2920" y="1846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Avantaje pentru angajatori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91628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Avantaje pentru partenerii afiliaţ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200" y="2565360"/>
            <a:ext cx="268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25653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565360"/>
            <a:ext cx="252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	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Deductibilitate şi scutire de impozite şi taxe patronale (până la 6 salarii minime bru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	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Control asupra modalităţii de cheltuire a primelor de vacanţă acordate în tichete de vacanţ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Diferenţiere î</a:t>
            </a:r>
            <a:r>
              <a:rPr b="1" lang="en-US" sz="1200" spc="-1" strike="noStrike">
                <a:solidFill>
                  <a:srgbClr val="003f8a"/>
                </a:solidFill>
                <a:latin typeface="Arial"/>
              </a:rPr>
              <a:t>n raport cu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 alţi angajatori prin contribuţia la refacerea capacităţii de muncă a salariaţi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2421000"/>
            <a:ext cx="234000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O nou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surs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de venituri =&gt; noi posibilit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ţ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i de dezvoltare pentru turismul rom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â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ne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V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â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nzarea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ncruci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at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de servicii turistice: cazare, mas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, agrement, trat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Promovare gratuit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c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tre beneficiarii Ticket Vacan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Board Univers Programmes Sociaux Publics"/>
          <p:cNvPicPr/>
          <p:nvPr/>
        </p:nvPicPr>
        <p:blipFill>
          <a:blip r:embed="rId3"/>
          <a:srcRect l="48012" t="40998" r="0" b="14542"/>
          <a:stretch/>
        </p:blipFill>
        <p:spPr>
          <a:xfrm>
            <a:off x="3348000" y="1844640"/>
            <a:ext cx="1039680" cy="733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284720" y="191772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Avantaje pentru benefici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2565360"/>
            <a:ext cx="266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2637000"/>
            <a:ext cx="23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f8a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Venit suplimentar de până la 3 600 lei</a:t>
            </a:r>
            <a:r>
              <a:rPr b="1" lang="en-US" sz="1200" spc="-1" strike="noStrike">
                <a:solidFill>
                  <a:srgbClr val="003f8a"/>
                </a:solidFill>
                <a:latin typeface="Arial"/>
              </a:rPr>
              <a:t>/an, scutit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003f8a"/>
                </a:solidFill>
                <a:latin typeface="Arial"/>
              </a:rPr>
              <a:t>n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1200" spc="-1" strike="noStrike">
                <a:solidFill>
                  <a:srgbClr val="003f8a"/>
                </a:solidFill>
                <a:latin typeface="Arial"/>
              </a:rPr>
              <a:t>ntregime de plata taxelor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1200" spc="-1" strike="noStrike">
                <a:solidFill>
                  <a:srgbClr val="003f8a"/>
                </a:solidFill>
                <a:latin typeface="Arial"/>
              </a:rPr>
              <a:t>i impozitelor salar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Posibilităţi variate de cheltuire: cazare (obligatoriu), transport, tratament balnear, agrement, alimentaţie public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f8a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  </a:t>
            </a:r>
            <a:r>
              <a:rPr b="1" lang="ro-RO" sz="1200" spc="-1" strike="noStrike">
                <a:solidFill>
                  <a:srgbClr val="003f8a"/>
                </a:solidFill>
                <a:latin typeface="Arial"/>
              </a:rPr>
              <a:t>Acces la cea mai mare reţea de parteneri afiliaţi, prin intermediul serviciului de Geolocaliz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860640"/>
            <a:ext cx="863640" cy="505080"/>
          </a:xfrm>
          <a:prstGeom prst="rightArrow">
            <a:avLst>
              <a:gd name="adj1" fmla="val 50000"/>
              <a:gd name="adj2" fmla="val 4274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3860640"/>
            <a:ext cx="863640" cy="505080"/>
          </a:xfrm>
          <a:prstGeom prst="rightArrow">
            <a:avLst>
              <a:gd name="adj1" fmla="val 50000"/>
              <a:gd name="adj2" fmla="val 4274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7800" y="6237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Ticket Vacan</a:t>
            </a:r>
            <a:r>
              <a:rPr b="1" lang="ro-RO" sz="24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3f8a"/>
                </a:solidFill>
                <a:latin typeface="Arial"/>
                <a:ea typeface="Arial"/>
              </a:rPr>
              <a:t>®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- Rezultate -</a:t>
            </a:r>
            <a:endParaRPr b="1" lang="en-US" sz="20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84872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3000" indent="-243000">
              <a:lnSpc>
                <a:spcPct val="95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f8a"/>
                </a:solidFill>
                <a:latin typeface="Arial"/>
              </a:rPr>
              <a:t>Accor Services a emis tichete de vacanţă de peste 1 milion de euro, în primele trei luni de la lansare – 50% din totalul încasărilor din tichete de vacanţă ale operatorilor de turism din România</a:t>
            </a: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95000"/>
              </a:lnSpc>
              <a:spcBef>
                <a:spcPts val="34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f8a"/>
                </a:solidFill>
                <a:latin typeface="Arial"/>
              </a:rPr>
              <a:t>Peste 200 de companii şi instituţii publice au ales Ticket Vacanţa</a:t>
            </a:r>
            <a:r>
              <a:rPr b="1" lang="en-US" sz="1400" spc="-1" strike="noStrike" baseline="30000">
                <a:solidFill>
                  <a:srgbClr val="003f8a"/>
                </a:solidFill>
                <a:latin typeface="Arial"/>
                <a:ea typeface="Arial"/>
              </a:rPr>
              <a:t>®</a:t>
            </a:r>
            <a:endParaRPr b="1" lang="en-US" sz="14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95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f8a"/>
                </a:solidFill>
                <a:latin typeface="Arial"/>
              </a:rPr>
              <a:t>Peste 600 de parteneri afiliaţi, promovaţi online prin intermediul serviciului de Geolocalizare</a:t>
            </a: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95000"/>
              </a:lnSpc>
              <a:spcBef>
                <a:spcPts val="451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f8a"/>
                </a:solidFill>
                <a:latin typeface="Arial"/>
              </a:rPr>
              <a:t>Valoarea medie cheltuită de o companie pentru 1 salariat este de </a:t>
            </a: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8a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003f8a"/>
                </a:solidFill>
                <a:latin typeface="Arial"/>
              </a:rPr>
              <a:t>1 500 lei</a:t>
            </a: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f8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19378200">
            <a:off x="7329600" y="5145120"/>
            <a:ext cx="1295280" cy="750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 rot="19378200">
            <a:off x="6678720" y="5141520"/>
            <a:ext cx="1296720" cy="752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57800" y="6237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3000" indent="-243000">
              <a:lnSpc>
                <a:spcPct val="105000"/>
              </a:lnSpc>
              <a:spcBef>
                <a:spcPts val="400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Experinţa ţărilor vecine arată că există un mare potenţial pentru acest tip de produs:</a:t>
            </a:r>
            <a:endParaRPr b="1" lang="en-US" sz="16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-90360">
              <a:lnSpc>
                <a:spcPct val="105000"/>
              </a:lnSpc>
              <a:spcBef>
                <a:spcPts val="400"/>
              </a:spcBef>
              <a:buClr>
                <a:srgbClr val="e6332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1998: Ungaria – este adoptată legea cecurilor de odihnă care permite fiecărui cetăţean să beneficieze de 1 cec de odihnă integral deductibil şi scutit de taxe</a:t>
            </a: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- &gt; demaraj lent – 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n primul an de la adoptarea legii au beneficiat de cecurile de odihn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n jur de 60 000 de persoane</a:t>
            </a: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-90360">
              <a:lnSpc>
                <a:spcPct val="105000"/>
              </a:lnSpc>
              <a:spcBef>
                <a:spcPts val="400"/>
              </a:spcBef>
              <a:buClr>
                <a:srgbClr val="e6332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200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9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: Ungaria – aproximativ 2 milioane de cetăţeni maghiari beneficiază de cecurile de odihnă</a:t>
            </a: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lvl="2" marL="5079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&gt; 25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%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creşter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e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 a volumul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ui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 vânzărilor 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raportat de operatorii de turism</a:t>
            </a:r>
            <a:endParaRPr b="0" lang="en-US" sz="16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f8a"/>
              </a:solidFill>
              <a:latin typeface="Arial"/>
            </a:endParaRPr>
          </a:p>
          <a:p>
            <a:pPr marL="243000" indent="-243000">
              <a:lnSpc>
                <a:spcPct val="105000"/>
              </a:lnSpc>
              <a:spcBef>
                <a:spcPts val="400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Sistemul tichetelor de vacan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ţă 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este folosit cu succes 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n mai multe state europene: Fran</a:t>
            </a:r>
            <a:r>
              <a:rPr b="1" lang="ro-RO" sz="16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1600" spc="-1" strike="noStrike">
                <a:solidFill>
                  <a:srgbClr val="003f8a"/>
                </a:solidFill>
                <a:latin typeface="Arial"/>
              </a:rPr>
              <a:t>a (1982), Marea Britanie, Italia, Cehia, Slovacia etc</a:t>
            </a:r>
            <a:endParaRPr b="1" lang="en-US" sz="16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602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Ticket Vacan</a:t>
            </a:r>
            <a:r>
              <a:rPr b="1" lang="ro-RO" sz="24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3f8a"/>
                </a:solidFill>
                <a:latin typeface="Arial"/>
                <a:ea typeface="Arial"/>
              </a:rPr>
              <a:t>®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-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Tendinţe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7800" y="6237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Solu</a:t>
            </a:r>
            <a:r>
              <a:rPr b="1" lang="ro-RO" sz="24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3f8a"/>
                </a:solidFill>
                <a:latin typeface="Arial"/>
              </a:rPr>
              <a:t>ii pentru tichetele de vacan</a:t>
            </a:r>
            <a:r>
              <a:rPr b="1" lang="ro-RO" sz="2400" spc="-1" strike="noStrike">
                <a:solidFill>
                  <a:srgbClr val="003f8a"/>
                </a:solidFill>
                <a:latin typeface="Arial"/>
              </a:rPr>
              <a:t>ţă</a:t>
            </a:r>
            <a:endParaRPr b="1" lang="en-US" sz="2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300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f8a"/>
              </a:solidFill>
              <a:latin typeface="Arial"/>
            </a:endParaRPr>
          </a:p>
          <a:p>
            <a:pPr marL="24300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f8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1471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40480" indent="-240480">
              <a:lnSpc>
                <a:spcPct val="8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Adoptarea pe scar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larg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 sectorul bugetar a tichetelor de vaca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prin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locuirea primelor de vaca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=&gt; relansarea turismului rom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â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Cre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terea gradului de acceptare a sistemului de c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tre operatorii de turism =&gt; cre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terea veniturilor pentru operatori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ş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 a posibilit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lor de cheltuire pentru benefic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Eliminarea plafonării tarifelor încasate de operatorii de turism şi emitenţi 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=&gt;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î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ncurajarea liberei concure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e pentru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agenţiile de turism şi 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emiten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i de tich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buClr>
                <a:srgbClr val="e63322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romovarea sus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inut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ă</a:t>
            </a:r>
            <a:r>
              <a:rPr b="1" lang="en-US" sz="2000" spc="-1" strike="noStrike">
                <a:solidFill>
                  <a:srgbClr val="003f8a"/>
                </a:solidFill>
                <a:latin typeface="Arial"/>
              </a:rPr>
              <a:t> a sistemului =&gt; popularizarea </a:t>
            </a:r>
            <a:r>
              <a:rPr b="1" lang="ro-RO" sz="2000" spc="-1" strike="noStrike">
                <a:solidFill>
                  <a:srgbClr val="003f8a"/>
                </a:solidFill>
                <a:latin typeface="Arial"/>
              </a:rPr>
              <a:t>tichetelor de vacan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480" indent="-2404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62373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18972"/>
                </a:solidFill>
                <a:latin typeface="Arial"/>
              </a:rPr>
              <a:t>www.ticketvacant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300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f8a"/>
                </a:solidFill>
                <a:latin typeface="Arial"/>
              </a:rPr>
              <a:t>Mul</a:t>
            </a:r>
            <a:r>
              <a:rPr b="1" lang="ro-RO" sz="3200" spc="-1" strike="noStrike">
                <a:solidFill>
                  <a:srgbClr val="003f8a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003f8a"/>
                </a:solidFill>
                <a:latin typeface="Arial"/>
              </a:rPr>
              <a:t>umesc!</a:t>
            </a:r>
            <a:endParaRPr b="1" lang="en-US" sz="3200" spc="-1" strike="noStrike">
              <a:solidFill>
                <a:srgbClr val="003f8a"/>
              </a:solidFill>
              <a:latin typeface="Arial"/>
            </a:endParaRPr>
          </a:p>
          <a:p>
            <a:pPr marL="24300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f8a"/>
              </a:solidFill>
              <a:latin typeface="Arial"/>
            </a:endParaRPr>
          </a:p>
          <a:p>
            <a:pPr marL="243000"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f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9:00:23Z</dcterms:created>
  <dc:creator>cprelipceanu</dc:creator>
  <dc:description/>
  <dc:language>en-US</dc:language>
  <cp:lastModifiedBy>mpetric</cp:lastModifiedBy>
  <cp:lastPrinted>2007-05-16T13:13:58Z</cp:lastPrinted>
  <dcterms:modified xsi:type="dcterms:W3CDTF">2009-07-22T12:54:31Z</dcterms:modified>
  <cp:revision>54</cp:revision>
  <dc:subject/>
  <dc:title>Slide 1</dc:title>
</cp:coreProperties>
</file>