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FEA-13A2-4EC3-9E3F-B4EE4AACF67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68F-5360-4BE4-BF1E-E1977B8B046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561-5989-42E5-811F-E789DEF73AF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F99-23CC-4A22-A567-DA50F1F9D8CC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749-5ACE-4B6D-8280-25C2C019BAC6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D558-F60D-4E56-B3FF-DA25398B8770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B41A-15A9-4520-82B8-EB4C9750920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B1F-67FA-459F-A9FD-6B65F5007B4C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A94-6607-4290-8276-A0338479D7C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2A3-3F8C-4CB0-BA7D-C6B99AF16CE3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A086-6F76-401E-9658-1D6C30E4373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9E7-7F47-44C8-837E-65D33E24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9C4-DC81-4230-9103-D6339F57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4A5-98ED-4B0F-887D-33B7E3FF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EB0-BFAB-443A-99B7-2D32D11F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77C-62FE-4B9A-B06D-6F623F8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564-2ED2-450F-A153-1B51D8D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2C4-F514-4B04-BE17-2F308AD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C7A-4D28-480B-86EA-A688B180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633-D8C3-4A25-A0F2-D4332A1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9F4-9107-4181-B8DD-C1410B3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5C7-BE81-4E65-8926-B7E8D9E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44E-4F64-4AC3-842C-1A902B3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EA4-6C54-45EA-9569-C329BB46C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LEGEA TURISMULUI  -  MASTER  PLAN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Legea Turismului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 trebuie să răspundă următoarelor nevoi ale domeniului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Clarificarea atribuțiilor actorilor care intervin în domeniu, la nivel național, regional și local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Coordonarea inițiativelor publice și privat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Optimizarea resurselor umane și financiar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Descentralizarea atribuțiilor autorității centrale către administrațiile lo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Creșterea transparenței activității turistice pentru administrații, profesioniști, comunități loc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ODEL DE PARTENERIAT PUBLIC – PRIVA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sociatiile de Promovare  si Dezvoltare a Turismulu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60948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NAT  c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onsideră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că adoptarea unei noi legi a turismului în România, foarte necesară, ar trebui să se realizeze doar în urma unei ample consultări a mediului de afaceri şi a specialiştilor în domeni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Actualul proiect al Legii Turismului ar trebui să preia cea mai mare parte a recomandărilor formulate de experţii Organizaţiei Mondiale a Turismului care au elaborat Master Planul pentru Dezvoltarea Turismului Naţional 2007-2026 pentru Româ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aster Plan - 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</a:rPr>
              <a:t>Punctele slabe ale României ca destinaţie turistic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Arial"/>
              </a:rPr>
              <a:t>Cadrul legal şi organiz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Normele de acordare a autorizărilor în turism necesită o revizuire pentru a satisface cerinţele curente ale pieţ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Lipsa structurilor instituţionale de dezvoltare regională a turismu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Lipsa planurilor de dezvoltare turistică integrată a oraşelor/staţiunil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Lipsa stimulentelor şi a mecanismelor de sprijin pentru investit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Arial"/>
              </a:rPr>
              <a:t>Consultarea la nivel inter-guvernamental înaintea elaborării noilor legi este slab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o-RO" sz="2900" spc="-1" strike="noStrike">
                <a:solidFill>
                  <a:srgbClr val="002060"/>
                </a:solidFill>
                <a:latin typeface="Calibri"/>
              </a:rPr>
              <a:t>Punctele slabe ale României ca destinaţie turistică</a:t>
            </a:r>
            <a:r>
              <a:rPr b="1" lang="en-US" sz="29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900"/>
            </a:br>
            <a:r>
              <a:rPr b="1" lang="en-US" sz="29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</a:rPr>
              <a:t>Marketing şi Promovare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-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2060"/>
                </a:solidFill>
                <a:latin typeface="Arial"/>
                <a:ea typeface="Arial"/>
              </a:rPr>
              <a:t>Lipsa unei imagini puternice, pozitive a României în străinătate ca destinaţie turist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ff0000"/>
                </a:solidFill>
                <a:latin typeface="Arial"/>
                <a:ea typeface="Arial"/>
              </a:rPr>
              <a:t>Lipsa unui plan de marketing oficial al destinaţiilor turistice la nivel naţional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2060"/>
                </a:solidFill>
                <a:latin typeface="Arial"/>
                <a:ea typeface="Arial"/>
              </a:rPr>
              <a:t>Cercetarea insuficientă a pieţe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ff0000"/>
                </a:solidFill>
                <a:latin typeface="Arial"/>
                <a:ea typeface="Arial"/>
              </a:rPr>
              <a:t>Reţea necoordonată de centre de informare turistică în România care să ofere servicii la diferite nivelur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2060"/>
                </a:solidFill>
                <a:latin typeface="Arial"/>
                <a:ea typeface="Arial"/>
              </a:rPr>
              <a:t>Insuficienta utilizare a mijloacelor informatice şi a internetului pentru informare, marketing şi rezervar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Arial"/>
              </a:rPr>
              <a:t>Colaborare redusă a sectorului public/privat pe probleme de marketing </a:t>
            </a:r>
            <a:br>
              <a:rPr sz="2000"/>
            </a:b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3120" y="-6316920"/>
            <a:ext cx="9275760" cy="13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Master Plan .    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Structuri administrative</a:t>
            </a:r>
            <a:r>
              <a:rPr b="1" lang="ro-RO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Rolul  </a:t>
            </a:r>
            <a:r>
              <a:rPr b="1" lang="ro-RO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Ministerul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ui </a:t>
            </a:r>
            <a:r>
              <a:rPr b="1" lang="ro-RO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responsabil pentru t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Formularea şi elaborarea politicilor şi planurilor pe termen lung 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tu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sigurarea finanţării corespunzătoare şi a resurselor pentru tur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onitorizarea activităţii ministerelor şi a agenţiilor implicate î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mplementarea standardelor de calitate şi de siguranţă în turism şi pen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tingerea obiective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ecomandări privind alocarea de resurse de infrastructură şi alte res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ar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v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vea un impact pozitiv asupra dezvoltării turis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oordonarea relaţiilor bilaterale şi multilaterale în turism cu organizaţi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ternaţionale, agenţiile de finanţare şi de împrumut nerambursab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56960" y="-4635000"/>
            <a:ext cx="9123480" cy="9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ealizarea de studii de cercetare şi includerea rezultatelor în politica 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lanificarea gener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tabilirea şi finanţarea unei Organizaţii Naţionale pentru Turism (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emi-autonome, pentru implementarea politicii guvernamentale în tur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î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operare cu industria de prof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onitorizarea şi evaluarea performanţelor industriei şi a 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ealizarea implementării prezentului Master Plan pentru turism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naţ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040" y="-4016520"/>
            <a:ext cx="906552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</a:t>
            </a:r>
            <a:r>
              <a:rPr b="1" lang="ro-RO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Organizaţia Naţională pentru Turism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Organizaţia Naţională pentru Turism va fi constituită ca un org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emi-autonom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,  finantat  prin resursele Guvernului , urmarit de Minister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u  un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Consiliu de Administraţi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v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fi format din reprezentanţi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dustriei turistice şi ai sectorului public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, constituind , astfel , un c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de colaborare intre  guvern si sectorul comercial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1600" y="-6074640"/>
            <a:ext cx="8771760" cy="12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a un motor principal pentru implementarea politicii în turism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inisterului, rolul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Organizaţiei Naţionale pentru Turism este acela d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încuraja şi promova dezvoltare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turismului către şi în interior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omâniei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0600" y="-6645240"/>
            <a:ext cx="9003240" cy="13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Funcţiile ONT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vor include următoarel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: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movarea României ca destinaţie turistică pe plan intern ş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ternaţ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Oferirea de servicii de informare turistică pentru vizitatori şi servic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Turistic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înaintea şi în timpul vizitelor aces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Elaborarea de standarde ridicate pentru unităţile turistice şi servici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turistic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onitorizarea calităţii şi siguranţei prin aplicarea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eglementărilor d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lasificare şi a altor măsu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sistenţă pentru industrie în dezvoltarea de iniţiative d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ark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rearea Comitetului Consultativ pentru Dezvoltarea Resurselor Um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entru coordonarea asigurării pregătirii resurselor uma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movarea dezvoltării de produse, servicii şi facilităţi turistice care a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otenţialul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de a atrage tur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Administrarea bugetelor an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-200160" y="-5875200"/>
            <a:ext cx="9543960" cy="117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</a:t>
            </a:r>
            <a:r>
              <a:rPr b="1" lang="ro-RO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Direcţia de Promovare din cadrul 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trebuie restructurată sub forma unei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Direcţii de Marketing şi Promov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are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ă pună un accent deosebit 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tatistici şi cercetare de piaţă asupra segmentelor şi pieţelor - surs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 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sponsabilitatea pentru fiecare din pieţele – sursă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au grupe de pieţ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intr-un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istem de“inspectori de birou” care să lucrez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u birour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di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străinătate şi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r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eprezentanţii pieţei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-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arketing digital – dezvoltarea şi menţinerea website-ulu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- D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ezvoltarea industriei în cadrul României – printre altele p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ntermediul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încurajării iniţiativelor şi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gramelor de parteneriat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</a:t>
            </a:r>
            <a:r>
              <a:rPr b="1" lang="ro-RO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ublic/pri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orina Martin</dc:creator>
  <dc:description/>
  <dc:language>en-US</dc:language>
  <cp:lastModifiedBy>ioana</cp:lastModifiedBy>
  <dcterms:modified xsi:type="dcterms:W3CDTF">2009-07-23T07:25:40Z</dcterms:modified>
  <cp:revision>22</cp:revision>
  <dc:subject/>
  <dc:title>Master Planul  pentru  Dezvoltarea Turismului Naţional  2007 - 2026</dc:title>
</cp:coreProperties>
</file>