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</p:sldIdLst>
  <p:sldSz cx="9144000" cy="6858000"/>
  <p:notesSz cx="6781800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0" y="0"/>
            <a:ext cx="67824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383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dt" idx="22"/>
          </p:nvPr>
        </p:nvSpPr>
        <p:spPr>
          <a:xfrm>
            <a:off x="3841920" y="0"/>
            <a:ext cx="29383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sldImg"/>
          </p:nvPr>
        </p:nvSpPr>
        <p:spPr>
          <a:xfrm>
            <a:off x="90936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ftr" idx="23"/>
          </p:nvPr>
        </p:nvSpPr>
        <p:spPr>
          <a:xfrm>
            <a:off x="0" y="9427680"/>
            <a:ext cx="293832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 type="sldNum" idx="24"/>
          </p:nvPr>
        </p:nvSpPr>
        <p:spPr>
          <a:xfrm>
            <a:off x="3841920" y="9427680"/>
            <a:ext cx="293832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785FE-255F-46FD-B280-71EB6DC7BB8B}" type="slidenum">
              <a:rPr b="0" lang="ro-RO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sedinte OFRR Mbella </a:t>
            </a: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Nzuzi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Slide Number Placeholder 3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DBE51-0D61-4E5D-A26A-F1F610A64435}" type="slidenum">
              <a:rPr b="0" lang="ro-RO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144E7-CF8A-4476-B5AD-4052045CC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324BC-59C1-417F-B847-FF7604010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3BE6A-BF51-4877-A2A1-CBAD55F58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A0AD0-AE33-44EB-A896-26B9F4CE1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80576-B726-4AD6-91EC-E2BD8831C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F0FC3-AEC0-4089-B6E6-E8706A6B0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728DB-F0DA-48DF-93F6-CE29679F0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6C5BC-95CB-4967-A5DB-62D2A810E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7F2F9-1258-432C-8051-F8AB6366E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2672E-E5C2-4676-A320-D519EA755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EF862-E916-42A2-B9C2-D213F9FC3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ACE7E-7825-4819-B298-EAD476EDF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841C2-F480-44EE-93D5-44B29DB4C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AF2A5-56B4-4C49-AECD-B7BEBCF9D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8F121-3F4C-4BBD-BDA3-B7A5400AC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C5AD0-5E46-4A3E-91F2-9F665E78E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AA17E-06F2-46A6-ADBB-104F6480A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502C432-3608-49AB-B3DD-35126F09D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00077FF-5DD4-47FA-A8EE-7C53BF555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6DACB51-401D-428E-A311-EF8C0CE93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2AD76A4-043B-4972-8278-74E95D3CA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B180197-5028-489D-ACA8-A0B349B37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FA962-4309-4D69-834E-6C532FCC0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729ADEE-55CC-4F08-821D-707A67A86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18790D1-8A05-4CC4-8790-1DED1A794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BB07D8E-4CA5-48DF-AD88-33D08171A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CD86E9C-2A60-4E35-B538-0F3A50D16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62CB1F4-C804-4A23-AF38-13C6DF9AB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46F89EE-1A78-40FF-9A68-13767B9DB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FBCDC9A-19D7-42B4-9EF2-407766EA0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AB113F-3AD3-40CC-81EF-9BC00760E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A77D0A-ACC3-4455-A319-B9C8F2C04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F1FAB4-8E48-4F24-8995-467708963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724BD-82CE-4185-8100-8875C9BAF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6A9C9C-F546-48C8-A47B-B160E892C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BCD8BF-0F2E-436E-960B-BEA447C8F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B31C3D-B780-4654-841C-598FDF547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7C6C56-390E-4999-BC36-394805E23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3F525A-0EB6-41EB-B1B3-3810003B7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7BEDEB-9859-4321-A1A5-6CFBF6E5E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14986D-0749-4F91-B852-F49AB752F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A7DA37-7252-4485-AFC1-068B90852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336D13-22C7-4B08-8366-89B882EFA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C21E180-02B7-444D-8DE2-D54F2F50F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E9BAC-88DD-4185-BE89-AE04E1BAE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5609836-56F8-47F8-B434-7CB1F8EA4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113E92C-53A5-4B32-985D-4BFEB900A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C25AA3A-9ECA-46EE-8673-83FE0E4A3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01C11B0-92B2-4A7F-9110-E37C29E30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E21B277-2993-46C2-8C54-4D51F3E6F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5CBC6EA-F19D-4F7A-B945-E196EE525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A030285-60E6-4BAA-8F24-9CECA37FC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3B8DAF4-75D4-4979-8BDE-A2035C367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01CB189-1C7F-40F2-8B00-B5B05BF73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041F39D-F5B9-47EC-A8A6-2166E3478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E6D02-FA60-4F96-AAAA-F3344B325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99FE1F3-51AC-4514-89C5-A730B1582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CD3079F-6912-4CAE-BAF9-9007D5A2F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4EC7B18-DE8D-4775-927C-31E6389A8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BF1C090-628B-48A2-9F4C-E73C21898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71259F5-C650-4DF5-BDB5-C6FDF6B50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87D9F05-AFE1-4389-B21F-1DA3627A9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96C8468-AE95-483A-8CB3-AB321EADD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D7E39E0-E8F6-42C9-8BF5-282FDEBBC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8D866D4-AD47-4A9E-B18A-380A0B40C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EB4C47E-4FFA-4F3F-9ED8-601AB868C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FA044-AEDF-4141-AE7A-7CC27986B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E2B6769-6F3C-46F9-90AD-AA92A8325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7C36907-C7C8-4AE1-A5FA-E46D1F5EA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00A936F-DF7D-41ED-9B6D-42C803148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77E3A01-3AB4-4705-8440-C1F1E73BA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92989D3-8C60-42B9-867E-2012745AE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9A33DB7-32DC-4BC3-9708-D2C99F8D8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C454274-3E95-496D-B825-A39F36FB5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93DAF19-1B21-479D-B17E-7C209FC9C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0A578EC-BFE3-408B-85D6-0908CC4FC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E34CAF7-74E3-49BF-9A0F-7787EFEE9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FA0EF-C5BB-42D9-9B83-7032D6264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873E9E2-448A-4A5D-B252-EC765CB2C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C079770-C9E4-4D84-8D23-5EA098EE3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A123D46-C7D2-438A-8756-085EBB6B1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3DEC282-E930-46A0-BD93-30BB724F5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68B53DF-C74D-4F20-B681-0885CE6AB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67A73-F34A-4F52-841D-EF85984F9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o-RO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3E41A-2881-4E0C-8C4C-A987E3DB9CC2}" type="slidenum">
              <a:rPr b="1" lang="ro-RO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traight Connector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o-RO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A7120-1EF4-4B45-BCEE-5F43BDF66CB0}" type="slidenum">
              <a:rPr b="1" lang="ro-RO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o-RO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4C57C-D92F-495B-993B-D4F93E2B85BA}" type="slidenum">
              <a:rPr b="1" lang="ro-RO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traight Connector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o-RO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46583-1325-41B1-A5F9-A1050E99DEC3}" type="slidenum">
              <a:rPr b="1" lang="ro-RO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o-RO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F963A-6865-43D3-ACD8-0E55AAB18949}" type="slidenum">
              <a:rPr b="1" lang="ro-RO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traight Connector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Straight Connector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o-RO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D0C54-CFB8-4CD2-BBBD-4B9D5C714A15}" type="slidenum">
              <a:rPr b="1" lang="ro-RO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Oval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Straight Connector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Straight Connector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Straight Connector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traight Connector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o-RO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E4BD2-51CB-499B-A08D-290070520ADE}" type="slidenum">
              <a:rPr b="1" lang="ro-RO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mailto:carmen.pavel@jinfotours.ro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2285640" y="2714760"/>
            <a:ext cx="61722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66"/>
                </a:solidFill>
                <a:latin typeface="Verdana"/>
              </a:rPr>
              <a:t>CARMEN PAVEL</a:t>
            </a:r>
            <a:r>
              <a:rPr b="1" lang="en-US" sz="5400" spc="-1" strike="noStrike">
                <a:solidFill>
                  <a:srgbClr val="575f6d"/>
                </a:solidFill>
                <a:latin typeface="Century Schoolbook"/>
              </a:rPr>
              <a:t> </a:t>
            </a:r>
            <a:endParaRPr b="0" lang="en-US" sz="5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Presedinte J’INFO TOURS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0" name="Picture 5" descr="logo jinfo.jpg"/>
          <p:cNvPicPr/>
          <p:nvPr/>
        </p:nvPicPr>
        <p:blipFill>
          <a:blip r:embed="rId1"/>
          <a:stretch/>
        </p:blipFill>
        <p:spPr>
          <a:xfrm>
            <a:off x="6643800" y="0"/>
            <a:ext cx="2500200" cy="71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6840" y="356760"/>
            <a:ext cx="7467480" cy="17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 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 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Verdana"/>
              </a:rPr>
              <a:t>ORGANIZATORI:</a:t>
            </a:r>
            <a:br>
              <a:rPr sz="1800"/>
            </a:br>
            <a:r>
              <a:rPr b="1" lang="en-US" sz="1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PRIMARIA MUNICIPIULUI BUCURESTI </a:t>
            </a:r>
            <a:br>
              <a:rPr sz="1800"/>
            </a:b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 ORGANIZATIA FEMEILOR REFUGIATE IN ROMANIA </a:t>
            </a:r>
            <a:br>
              <a:rPr sz="1800"/>
            </a:b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 ORGANIZATIA DE FEMEI PD-L SECTOR1 </a:t>
            </a:r>
            <a:br>
              <a:rPr sz="1800"/>
            </a:b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 AGENTIA  J’INFO TOURS </a:t>
            </a:r>
            <a:br>
              <a:rPr sz="2700"/>
            </a:br>
            <a:endParaRPr b="0" lang="en-US" sz="18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86" name="Content Placeholder 5" descr="P1040685.JPG"/>
          <p:cNvPicPr/>
          <p:nvPr/>
        </p:nvPicPr>
        <p:blipFill>
          <a:blip r:embed="rId1"/>
          <a:stretch/>
        </p:blipFill>
        <p:spPr>
          <a:xfrm>
            <a:off x="1857240" y="2286000"/>
            <a:ext cx="5005440" cy="310032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6" descr="logo jinfo.jpg"/>
          <p:cNvPicPr/>
          <p:nvPr/>
        </p:nvPicPr>
        <p:blipFill>
          <a:blip r:embed="rId2"/>
          <a:stretch/>
        </p:blipFill>
        <p:spPr>
          <a:xfrm>
            <a:off x="0" y="6143760"/>
            <a:ext cx="2500200" cy="71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   </a:t>
            </a: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COMEMORARE MIHAI EMINESCU –15 IULIE </a:t>
            </a:r>
            <a:endParaRPr b="0" lang="en-US" sz="2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    </a:t>
            </a: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I</a:t>
            </a:r>
            <a:r>
              <a:rPr b="0" lang="ro-RO" sz="2400" spc="-1" strike="noStrike">
                <a:solidFill>
                  <a:srgbClr val="000066"/>
                </a:solidFill>
                <a:latin typeface="Verdana"/>
              </a:rPr>
              <a:t>n fata Ateneului</a:t>
            </a: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ro-RO" sz="2400" spc="-1" strike="noStrike">
                <a:solidFill>
                  <a:srgbClr val="000066"/>
                </a:solidFill>
                <a:latin typeface="Verdana"/>
              </a:rPr>
              <a:t>Roman, langa statuia lui Eminescu  intre orele 19 -20 h</a:t>
            </a: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R</a:t>
            </a:r>
            <a:r>
              <a:rPr b="0" lang="ro-RO" sz="2400" spc="-1" strike="noStrike">
                <a:solidFill>
                  <a:srgbClr val="000066"/>
                </a:solidFill>
                <a:latin typeface="Verdana"/>
              </a:rPr>
              <a:t>ecital de poezie </a:t>
            </a: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 din operele eminesciene </a:t>
            </a:r>
            <a:r>
              <a:rPr b="0" lang="ro-RO" sz="2400" spc="-1" strike="noStrike">
                <a:solidFill>
                  <a:srgbClr val="000066"/>
                </a:solidFill>
                <a:latin typeface="Verdana"/>
              </a:rPr>
              <a:t>sustinut de </a:t>
            </a: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tineri </a:t>
            </a:r>
            <a:r>
              <a:rPr b="0" lang="ro-RO" sz="2400" spc="-1" strike="noStrike">
                <a:solidFill>
                  <a:srgbClr val="000066"/>
                </a:solidFill>
                <a:latin typeface="Verdana"/>
              </a:rPr>
              <a:t>actori</a:t>
            </a: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 si public</a:t>
            </a:r>
            <a:r>
              <a:rPr b="0" lang="ro-RO" sz="2400" spc="-1" strike="noStrike">
                <a:solidFill>
                  <a:srgbClr val="000066"/>
                </a:solidFill>
                <a:latin typeface="Verdana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  </a:t>
            </a: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Obiectiv atins: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Evenimentul a urmarit implicarea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socio-culturala a publicului larg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90" name="Picture 3" descr="logo jinfo.jpg"/>
          <p:cNvPicPr/>
          <p:nvPr/>
        </p:nvPicPr>
        <p:blipFill>
          <a:blip r:embed="rId1"/>
          <a:stretch/>
        </p:blipFill>
        <p:spPr>
          <a:xfrm>
            <a:off x="6643800" y="0"/>
            <a:ext cx="2500200" cy="71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Verdana"/>
              </a:rPr>
              <a:t>     </a:t>
            </a:r>
            <a:r>
              <a:rPr b="0" lang="en-US" sz="3000" spc="-1" strike="noStrike">
                <a:solidFill>
                  <a:srgbClr val="000066"/>
                </a:solidFill>
                <a:latin typeface="Verdana"/>
              </a:rPr>
              <a:t>ORGANIZATORI EVENIMENT EMINESCU: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  </a:t>
            </a:r>
            <a:r>
              <a:rPr b="0" lang="ro-RO" sz="24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ro-RO" sz="2400" spc="-1" strike="noStrike">
                <a:solidFill>
                  <a:srgbClr val="000066"/>
                </a:solidFill>
                <a:latin typeface="Verdana"/>
              </a:rPr>
              <a:t>Primaria</a:t>
            </a: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ro-RO" sz="2400" spc="-1" strike="noStrike">
                <a:solidFill>
                  <a:srgbClr val="000066"/>
                </a:solidFill>
                <a:latin typeface="Verdana"/>
              </a:rPr>
              <a:t>Municipiului Bucuresti 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  </a:t>
            </a:r>
            <a:r>
              <a:rPr b="0" lang="ro-RO" sz="2400" spc="-1" strike="noStrike">
                <a:solidFill>
                  <a:srgbClr val="000066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   </a:t>
            </a:r>
            <a:r>
              <a:rPr b="0" lang="ro-RO" sz="2400" spc="-1" strike="noStrike">
                <a:solidFill>
                  <a:srgbClr val="000066"/>
                </a:solidFill>
                <a:latin typeface="Verdana"/>
              </a:rPr>
              <a:t>Asociatia de Pomovarea si Dezvoltare a Turismului in </a:t>
            </a: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zona Metropolitana </a:t>
            </a:r>
            <a:r>
              <a:rPr b="0" lang="ro-RO" sz="2400" spc="-1" strike="noStrike">
                <a:solidFill>
                  <a:srgbClr val="000066"/>
                </a:solidFill>
                <a:latin typeface="Verdana"/>
              </a:rPr>
              <a:t>Bucuresti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   </a:t>
            </a:r>
            <a:r>
              <a:rPr b="0" lang="ro-RO" sz="2400" spc="-1" strike="noStrike">
                <a:solidFill>
                  <a:srgbClr val="000066"/>
                </a:solidFill>
                <a:latin typeface="Verdana"/>
              </a:rPr>
              <a:t>Centrului Cultural Mihai Eminescu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A</a:t>
            </a:r>
            <a:r>
              <a:rPr b="0" lang="ro-RO" sz="2400" spc="-1" strike="noStrike">
                <a:solidFill>
                  <a:srgbClr val="000066"/>
                </a:solidFill>
                <a:latin typeface="Verdana"/>
              </a:rPr>
              <a:t>gentia</a:t>
            </a: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 de turism </a:t>
            </a:r>
            <a:r>
              <a:rPr b="1" lang="ro-RO" sz="24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ro-RO" sz="2400" spc="-1" strike="noStrike">
                <a:solidFill>
                  <a:srgbClr val="000066"/>
                </a:solidFill>
                <a:latin typeface="Verdana"/>
              </a:rPr>
              <a:t>J'Info Tours</a:t>
            </a: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93" name="Picture 3" descr="logo jinfo.jpg"/>
          <p:cNvPicPr/>
          <p:nvPr/>
        </p:nvPicPr>
        <p:blipFill>
          <a:blip r:embed="rId1"/>
          <a:stretch/>
        </p:blipFill>
        <p:spPr>
          <a:xfrm>
            <a:off x="6643800" y="0"/>
            <a:ext cx="2500200" cy="71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SARBATOAREA SFANTUL ION SI </a:t>
            </a:r>
            <a:br>
              <a:rPr sz="2800"/>
            </a:b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NOAPTEA MAGICA  – 24 IUNIE </a:t>
            </a:r>
            <a:endParaRPr b="0" lang="en-US" sz="28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95" name="Content Placeholder 7" descr="muzeul taranului roman.jpg"/>
          <p:cNvPicPr/>
          <p:nvPr/>
        </p:nvPicPr>
        <p:blipFill>
          <a:blip r:embed="rId1"/>
          <a:stretch/>
        </p:blipFill>
        <p:spPr>
          <a:xfrm>
            <a:off x="708120" y="1600200"/>
            <a:ext cx="6966000" cy="487368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8" descr="logo jinfo.jpg"/>
          <p:cNvPicPr/>
          <p:nvPr/>
        </p:nvPicPr>
        <p:blipFill>
          <a:blip r:embed="rId2"/>
          <a:stretch/>
        </p:blipFill>
        <p:spPr>
          <a:xfrm>
            <a:off x="6643800" y="0"/>
            <a:ext cx="2500200" cy="71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ACTIVITATI LA “ZI SI NOAPTE DE SANZIENE “</a:t>
            </a:r>
            <a:endParaRPr b="0" lang="en-US" sz="2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entury Schoolbook"/>
              </a:rPr>
              <a:t>      </a:t>
            </a: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Targ de mesteri populari cu obiecte din lemn si ceramica ; traistute si servete ;cosulete impletite manual ; tesaturi si cusaturi ; icoane pe sticla si lemn 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Seara spectacol de teatru in aer liber sustinut de tineri actori studenti la UNATC.</a:t>
            </a:r>
            <a:br>
              <a:rPr sz="28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99" name="Picture 3" descr="logo jinfo.jpg"/>
          <p:cNvPicPr/>
          <p:nvPr/>
        </p:nvPicPr>
        <p:blipFill>
          <a:blip r:embed="rId1"/>
          <a:stretch/>
        </p:blipFill>
        <p:spPr>
          <a:xfrm>
            <a:off x="6643800" y="0"/>
            <a:ext cx="2500200" cy="71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PROMOVARE </a:t>
            </a: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“ZI SI NOAPTE DE SANZIENE “</a:t>
            </a:r>
            <a:endParaRPr b="0" lang="en-US" sz="28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01" name="Content Placeholder 7" descr="tabu.jpg"/>
          <p:cNvPicPr/>
          <p:nvPr/>
        </p:nvPicPr>
        <p:blipFill>
          <a:blip r:embed="rId1"/>
          <a:stretch/>
        </p:blipFill>
        <p:spPr>
          <a:xfrm>
            <a:off x="457200" y="2824200"/>
            <a:ext cx="3657600" cy="296208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 txBox="1"/>
          <p:nvPr/>
        </p:nvSpPr>
        <p:spPr>
          <a:xfrm>
            <a:off x="4371840" y="2361960"/>
            <a:ext cx="3657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Parteneriate media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Radio ,TV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Comunicate de pres</a:t>
            </a:r>
            <a:r>
              <a:rPr b="0" lang="ro-RO" sz="2400" spc="-1" strike="noStrike">
                <a:solidFill>
                  <a:srgbClr val="000066"/>
                </a:solidFill>
                <a:latin typeface="Verdana"/>
              </a:rPr>
              <a:t>ă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Afi</a:t>
            </a:r>
            <a:r>
              <a:rPr b="0" lang="ro-RO" sz="2400" spc="-1" strike="noStrike">
                <a:solidFill>
                  <a:srgbClr val="000066"/>
                </a:solidFill>
                <a:latin typeface="Verdana"/>
              </a:rPr>
              <a:t>ş</a:t>
            </a: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Retele social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Word – of - mouth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489240" y="1602000"/>
            <a:ext cx="3593520" cy="594720"/>
          </a:xfrm>
          <a:prstGeom prst="rect">
            <a:avLst/>
          </a:prstGeom>
          <a:solidFill>
            <a:srgbClr val="fe8637"/>
          </a:solidFill>
          <a:ln w="0">
            <a:noFill/>
          </a:ln>
        </p:spPr>
        <p:txBody>
          <a:bodyPr anchor="ctr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4375440" y="1602000"/>
            <a:ext cx="3593520" cy="594720"/>
          </a:xfrm>
          <a:prstGeom prst="rect">
            <a:avLst/>
          </a:prstGeom>
          <a:solidFill>
            <a:srgbClr val="fe8637"/>
          </a:solidFill>
          <a:ln w="0">
            <a:noFill/>
          </a:ln>
        </p:spPr>
        <p:txBody>
          <a:bodyPr anchor="ctr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05" name="Picture 3" descr="logo jinfo.jpg"/>
          <p:cNvPicPr/>
          <p:nvPr/>
        </p:nvPicPr>
        <p:blipFill>
          <a:blip r:embed="rId2"/>
          <a:stretch/>
        </p:blipFill>
        <p:spPr>
          <a:xfrm>
            <a:off x="6643800" y="0"/>
            <a:ext cx="2500200" cy="71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Organizatori: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Muzeul Taranului Roma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Agentia J’Info Tours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66"/>
                </a:solidFill>
                <a:latin typeface="Verdana"/>
              </a:rPr>
              <a:t>Parteneri media : </a:t>
            </a:r>
            <a:r>
              <a:rPr b="0" lang="ro-RO" sz="2400" spc="-1" strike="noStrike">
                <a:solidFill>
                  <a:srgbClr val="000066"/>
                </a:solidFill>
                <a:latin typeface="Verdana"/>
              </a:rPr>
              <a:t>24-Fun, Radio Romania Actualitati, Radio Romania Cultural, RFI, Port.ro, Hot News, Observator cultural 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Obiectiv atins : </a:t>
            </a: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atragerea atentiei asupra traditiilor populare de Sfantul Ion ,solstitiu de vara intrun cadru metropolitan si  muzeului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08" name="Picture 3" descr="logo jinfo.jpg"/>
          <p:cNvPicPr/>
          <p:nvPr/>
        </p:nvPicPr>
        <p:blipFill>
          <a:blip r:embed="rId1"/>
          <a:stretch/>
        </p:blipFill>
        <p:spPr>
          <a:xfrm>
            <a:off x="6643800" y="0"/>
            <a:ext cx="2500200" cy="71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Verdana"/>
              </a:rPr>
              <a:t>TARG DE SFANTUL ILIE – 20 IULIE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42876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Locatie eveniment Piata Constitutiei , in fata Palatului Parlamentului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Activitati: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Verdana"/>
              </a:rPr>
              <a:t>● </a:t>
            </a:r>
            <a:r>
              <a:rPr b="0" lang="en-US" sz="1400" spc="-1" strike="noStrike">
                <a:solidFill>
                  <a:srgbClr val="000066"/>
                </a:solidFill>
                <a:latin typeface="Verdana"/>
              </a:rPr>
              <a:t>Mesteri populari : </a:t>
            </a:r>
            <a:r>
              <a:rPr b="0" lang="en-US" sz="1100" spc="-1" strike="noStrike">
                <a:solidFill>
                  <a:srgbClr val="000066"/>
                </a:solidFill>
                <a:latin typeface="Verdana"/>
              </a:rPr>
              <a:t>ceramica si lemn,artizanat, icoane pe sticla si lemn ,preparate din</a:t>
            </a:r>
            <a:endParaRPr b="0" lang="en-US" sz="1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66"/>
                </a:solidFill>
                <a:latin typeface="Verdana"/>
              </a:rPr>
              <a:t>branza si carne traditionale etc.</a:t>
            </a:r>
            <a:endParaRPr b="0" lang="en-US" sz="1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Verdana"/>
              </a:rPr>
              <a:t>● </a:t>
            </a:r>
            <a:r>
              <a:rPr b="0" lang="en-US" sz="1400" spc="-1" strike="noStrike">
                <a:solidFill>
                  <a:srgbClr val="000066"/>
                </a:solidFill>
                <a:latin typeface="Verdana"/>
              </a:rPr>
              <a:t>Moment artistic sustinut de : 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66"/>
                </a:solidFill>
                <a:latin typeface="Verdana"/>
              </a:rPr>
              <a:t>18:00-18:30  - Ansamblul „Carpaţi” </a:t>
            </a:r>
            <a:r>
              <a:rPr b="0" lang="en-US" sz="1200" spc="-1" strike="noStrike">
                <a:solidFill>
                  <a:srgbClr val="000066"/>
                </a:solidFill>
                <a:latin typeface="Verdana"/>
              </a:rPr>
              <a:t>Casa </a:t>
            </a:r>
            <a:r>
              <a:rPr b="0" lang="ro-RO" sz="1200" spc="-1" strike="noStrike">
                <a:solidFill>
                  <a:srgbClr val="000066"/>
                </a:solidFill>
                <a:latin typeface="Verdana"/>
              </a:rPr>
              <a:t>de Cultură Tudor   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Verdana"/>
              </a:rPr>
              <a:t>        </a:t>
            </a:r>
            <a:r>
              <a:rPr b="0" lang="ro-RO" sz="12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ro-RO" sz="12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ro-RO" sz="1200" spc="-1" strike="noStrike">
                <a:solidFill>
                  <a:srgbClr val="000066"/>
                </a:solidFill>
                <a:latin typeface="Verdana"/>
              </a:rPr>
              <a:t>     </a:t>
            </a:r>
            <a:r>
              <a:rPr b="0" lang="ro-RO" sz="1200" spc="-1" strike="noStrike">
                <a:solidFill>
                  <a:srgbClr val="000066"/>
                </a:solidFill>
                <a:latin typeface="Verdana"/>
              </a:rPr>
              <a:t>Muşatescu   - Câmpulung Muscel    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66"/>
                </a:solidFill>
                <a:latin typeface="Verdan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66"/>
                </a:solidFill>
                <a:latin typeface="Verdana"/>
              </a:rPr>
              <a:t>18:30-19:00  - Grupul de dansatori „Jilavele”- Ialomiţa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66"/>
                </a:solidFill>
                <a:latin typeface="Verdan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66"/>
                </a:solidFill>
                <a:latin typeface="Verdana"/>
              </a:rPr>
              <a:t>19:00-19:30  - Taraful Mârşa din Giurgiu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66"/>
                </a:solidFill>
                <a:latin typeface="Verdana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66"/>
                </a:solidFill>
                <a:latin typeface="Verdana"/>
              </a:rPr>
              <a:t>19:30-20:00  -  Ansamblul „Burnasul” –Alexandria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66"/>
                </a:solidFill>
                <a:latin typeface="Verdan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66"/>
                </a:solidFill>
                <a:latin typeface="Verdana"/>
              </a:rPr>
              <a:t>20:00-20:30  - Ansamblul „Ciuleandra” - Târgovişte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11" name="Picture 3" descr="logo jinfo.jpg"/>
          <p:cNvPicPr/>
          <p:nvPr/>
        </p:nvPicPr>
        <p:blipFill>
          <a:blip r:embed="rId1"/>
          <a:stretch/>
        </p:blipFill>
        <p:spPr>
          <a:xfrm>
            <a:off x="6643800" y="0"/>
            <a:ext cx="2500200" cy="71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Verdana"/>
              </a:rPr>
              <a:t>FEEDBACK-UL TARGULUI DE SFANTUL ILI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       </a:t>
            </a: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Pe langa bucuresteni evenimentul a fost foarte bine primit de turistii straini care erau in tururi de oras si care au asistat la programul artistic, dansand alaturi de artisti populari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Manifestarea a reusit sa recupereze pentru bucuresteni si oaspetii lor traditiile autentice ale acesteti sarbatori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entury Schoolbook"/>
              </a:rPr>
              <a:t>GRUPUL DE COPII  “JILAVELE “- DANSAND DE SFANTUL ILIE </a:t>
            </a:r>
            <a:endParaRPr b="0" lang="en-US" sz="24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15" name="Content Placeholder 3" descr="grupul jilavele.jpg"/>
          <p:cNvPicPr/>
          <p:nvPr/>
        </p:nvPicPr>
        <p:blipFill>
          <a:blip r:embed="rId1"/>
          <a:stretch/>
        </p:blipFill>
        <p:spPr>
          <a:xfrm>
            <a:off x="2363760" y="1600200"/>
            <a:ext cx="3654360" cy="487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571400" y="1356840"/>
            <a:ext cx="7267320" cy="3429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P</a:t>
            </a:r>
            <a:r>
              <a:rPr b="1" lang="ro-RO" sz="2800" spc="-1" strike="noStrike">
                <a:solidFill>
                  <a:srgbClr val="000066"/>
                </a:solidFill>
                <a:latin typeface="Verdana"/>
              </a:rPr>
              <a:t>ROMOVAREA OBIECTIVELOR TURISTICE PRIN EVENIMENT</a:t>
            </a: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E SI ACTIVITA</a:t>
            </a:r>
            <a:r>
              <a:rPr b="1" lang="ro-RO" sz="2800" spc="-1" strike="noStrike">
                <a:solidFill>
                  <a:srgbClr val="000066"/>
                </a:solidFill>
                <a:latin typeface="Verdana"/>
              </a:rPr>
              <a:t>Ţ</a:t>
            </a: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I</a:t>
            </a:r>
            <a:r>
              <a:rPr b="1" lang="ro-RO" sz="2800" spc="-1" strike="noStrike">
                <a:solidFill>
                  <a:srgbClr val="000066"/>
                </a:solidFill>
                <a:latin typeface="Verdana"/>
              </a:rPr>
              <a:t>, </a:t>
            </a:r>
            <a:br>
              <a:rPr sz="2800"/>
            </a:br>
            <a:br>
              <a:rPr sz="2800"/>
            </a:br>
            <a:r>
              <a:rPr b="1" lang="ro-RO" sz="2800" spc="-1" strike="noStrike">
                <a:solidFill>
                  <a:srgbClr val="000066"/>
                </a:solidFill>
                <a:latin typeface="Verdana"/>
              </a:rPr>
              <a:t>O NOUĂ MODALITATE DE ABORDARE A TURISMULUI INTERN ŞI INTERNAŢIONAL</a:t>
            </a:r>
            <a:endParaRPr b="0" lang="en-US" sz="28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62" name="Picture 4" descr="logo jinfo.jpg"/>
          <p:cNvPicPr/>
          <p:nvPr/>
        </p:nvPicPr>
        <p:blipFill>
          <a:blip r:embed="rId1"/>
          <a:stretch/>
        </p:blipFill>
        <p:spPr>
          <a:xfrm>
            <a:off x="6643800" y="0"/>
            <a:ext cx="2500200" cy="71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ORGANIZATORII TARGULUI DE SFANTUL ILIE :</a:t>
            </a:r>
            <a:endParaRPr b="0" lang="en-US" sz="2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• </a:t>
            </a: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Primaria Municipiului Bucuresti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• </a:t>
            </a:r>
            <a:r>
              <a:rPr b="0" lang="it-IT" sz="2800" spc="-1" strike="noStrike">
                <a:solidFill>
                  <a:srgbClr val="000066"/>
                </a:solidFill>
                <a:latin typeface="Verdana"/>
              </a:rPr>
              <a:t>Comisia de Cultura ,Invatamant si Sport a Consiliului General Municipiul Bucuresti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• </a:t>
            </a:r>
            <a:r>
              <a:rPr b="0" lang="it-IT" sz="2800" spc="-1" strike="noStrike">
                <a:solidFill>
                  <a:srgbClr val="000066"/>
                </a:solidFill>
                <a:latin typeface="Verdana"/>
              </a:rPr>
              <a:t>Centrul de Conservare si Valorificare  aTraditiei si Creatiei Populare al Municipiului  Bucuresti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• </a:t>
            </a: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Agentia  J’Info  Tour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18" name="Picture 4" descr="logo jinfo.jpg"/>
          <p:cNvPicPr/>
          <p:nvPr/>
        </p:nvPicPr>
        <p:blipFill>
          <a:blip r:embed="rId1"/>
          <a:stretch/>
        </p:blipFill>
        <p:spPr>
          <a:xfrm>
            <a:off x="6643800" y="0"/>
            <a:ext cx="2500200" cy="71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Verdana"/>
              </a:rPr>
              <a:t>EVENIMENTE PROGRAMATE :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Verdana"/>
              </a:rPr>
              <a:t>15 august -  Targ de Sfanta Maria  - in Parcul Cismigiu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Verdana"/>
              </a:rPr>
              <a:t>20 septembrie - Sarbatoarea Mustului –in Parcul Izvor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Verdana"/>
              </a:rPr>
              <a:t>3 octombrie - “Cosul Abundentei” Sarbatoarea Recoltei  - in Parcul Izvor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000066"/>
                </a:solidFill>
                <a:latin typeface="Verdana"/>
              </a:rPr>
              <a:t>14 noiembrie  - Carnaval Medieval  - la Curtea Veche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000066"/>
                </a:solidFill>
                <a:latin typeface="Verdana"/>
              </a:rPr>
              <a:t>5 decembrie – Targ de Sfantul Nicolae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21" name="Picture 3" descr="logo jinfo.jpg"/>
          <p:cNvPicPr/>
          <p:nvPr/>
        </p:nvPicPr>
        <p:blipFill>
          <a:blip r:embed="rId1"/>
          <a:stretch/>
        </p:blipFill>
        <p:spPr>
          <a:xfrm>
            <a:off x="6643800" y="0"/>
            <a:ext cx="2500200" cy="71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Verdana"/>
              </a:rPr>
              <a:t>CONTAC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d2611c"/>
                </a:solidFill>
                <a:uFillTx/>
                <a:latin typeface="Verdana"/>
                <a:hlinkClick r:id="rId1"/>
              </a:rPr>
              <a:t>carmen.pavel@jinfotours.r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T: </a:t>
            </a:r>
            <a:r>
              <a:rPr b="1" lang="ro-RO" sz="2400" spc="-1" strike="noStrike">
                <a:solidFill>
                  <a:srgbClr val="000066"/>
                </a:solidFill>
                <a:latin typeface="Verdana"/>
              </a:rPr>
              <a:t>0722</a:t>
            </a: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.</a:t>
            </a:r>
            <a:r>
              <a:rPr b="1" lang="ro-RO" sz="2400" spc="-1" strike="noStrike">
                <a:solidFill>
                  <a:srgbClr val="000066"/>
                </a:solidFill>
                <a:latin typeface="Verdana"/>
              </a:rPr>
              <a:t>312</a:t>
            </a: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.</a:t>
            </a:r>
            <a:r>
              <a:rPr b="1" lang="ro-RO" sz="2400" spc="-1" strike="noStrike">
                <a:solidFill>
                  <a:srgbClr val="000066"/>
                </a:solidFill>
                <a:latin typeface="Verdana"/>
              </a:rPr>
              <a:t>203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entury Schoolbook"/>
              </a:rPr>
              <a:t>http://www.carmen-pavel.blogspot.com/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www.jinfotours.ro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24" name="Picture 3" descr="logo jinfo.jpg"/>
          <p:cNvPicPr/>
          <p:nvPr/>
        </p:nvPicPr>
        <p:blipFill>
          <a:blip r:embed="rId2"/>
          <a:stretch/>
        </p:blipFill>
        <p:spPr>
          <a:xfrm>
            <a:off x="6643800" y="0"/>
            <a:ext cx="2500200" cy="71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4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99680" y="1285560"/>
            <a:ext cx="7729560" cy="350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Verdana"/>
              </a:rPr>
              <a:t>      </a:t>
            </a:r>
            <a:r>
              <a:rPr b="1" lang="en-US" sz="3600" spc="-1" strike="noStrike">
                <a:solidFill>
                  <a:srgbClr val="000066"/>
                </a:solidFill>
                <a:latin typeface="Verdana"/>
              </a:rPr>
              <a:t>In anul 2009 am demarat o serie de evenimente ce au la baza un nou concept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5" name="Picture 5" descr="logo jinfo.jpg"/>
          <p:cNvPicPr/>
          <p:nvPr/>
        </p:nvPicPr>
        <p:blipFill>
          <a:blip r:embed="rId1"/>
          <a:stretch/>
        </p:blipFill>
        <p:spPr>
          <a:xfrm>
            <a:off x="6643800" y="0"/>
            <a:ext cx="2500200" cy="71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Verdana"/>
              </a:rPr>
              <a:t>     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8" name="Rectangle 11"/>
          <p:cNvSpPr/>
          <p:nvPr/>
        </p:nvSpPr>
        <p:spPr>
          <a:xfrm>
            <a:off x="971640" y="620640"/>
            <a:ext cx="756108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Arial"/>
              </a:rPr>
              <a:t> • </a:t>
            </a:r>
            <a:r>
              <a:rPr b="0" lang="en-US" sz="4000" spc="-1" strike="noStrike">
                <a:solidFill>
                  <a:srgbClr val="000066"/>
                </a:solidFill>
                <a:latin typeface="Verdana"/>
              </a:rPr>
              <a:t>Voluntaria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4000" spc="-1" strike="noStrike">
                <a:solidFill>
                  <a:srgbClr val="000066"/>
                </a:solidFill>
                <a:latin typeface="Arial"/>
              </a:rPr>
              <a:t>• </a:t>
            </a:r>
            <a:r>
              <a:rPr b="0" lang="en-US" sz="4000" spc="-1" strike="noStrike">
                <a:solidFill>
                  <a:srgbClr val="000066"/>
                </a:solidFill>
                <a:latin typeface="Verdana"/>
              </a:rPr>
              <a:t>I</a:t>
            </a:r>
            <a:r>
              <a:rPr b="0" lang="it-IT" sz="4000" spc="-1" strike="noStrike">
                <a:solidFill>
                  <a:srgbClr val="000066"/>
                </a:solidFill>
                <a:latin typeface="Verdana"/>
              </a:rPr>
              <a:t>nteractiune social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66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4000" spc="-1" strike="noStrike">
                <a:solidFill>
                  <a:srgbClr val="000066"/>
                </a:solidFill>
                <a:latin typeface="Arial"/>
              </a:rPr>
              <a:t>• </a:t>
            </a:r>
            <a:r>
              <a:rPr b="0" lang="it-IT" sz="4000" spc="-1" strike="noStrike">
                <a:solidFill>
                  <a:srgbClr val="000066"/>
                </a:solidFill>
                <a:latin typeface="Verdana"/>
              </a:rPr>
              <a:t>Implicarea publicului in diverse roluri in cadrul  evenimentelor (role player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9" name="Picture 7" descr="logo jinfo.jpg"/>
          <p:cNvPicPr/>
          <p:nvPr/>
        </p:nvPicPr>
        <p:blipFill>
          <a:blip r:embed="rId1"/>
          <a:stretch/>
        </p:blipFill>
        <p:spPr>
          <a:xfrm>
            <a:off x="6643800" y="0"/>
            <a:ext cx="2500200" cy="71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PROMOVAM PRIN ACESTE EVENIMENTE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Implicare sociala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Dezvoltarea simtului civic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Traditiile si folclorului autentic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Monumente, muzee , orase monumentale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Rezervatii ale naturii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Siteuri arheologic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2" name="Picture 5" descr="logo jinfo.jpg"/>
          <p:cNvPicPr/>
          <p:nvPr/>
        </p:nvPicPr>
        <p:blipFill>
          <a:blip r:embed="rId1"/>
          <a:stretch/>
        </p:blipFill>
        <p:spPr>
          <a:xfrm>
            <a:off x="6643800" y="0"/>
            <a:ext cx="2500200" cy="71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66"/>
                </a:solidFill>
                <a:latin typeface="Verdana"/>
              </a:rPr>
              <a:t>   </a:t>
            </a:r>
            <a:r>
              <a:rPr b="0" lang="en-US" sz="8000" spc="-1" strike="noStrike">
                <a:solidFill>
                  <a:srgbClr val="000066"/>
                </a:solidFill>
                <a:latin typeface="Verdana"/>
              </a:rPr>
              <a:t>Evenimente </a:t>
            </a:r>
            <a:endParaRPr b="0" lang="en-US" sz="8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5" name="Picture 3" descr="logo jinfo.jpg"/>
          <p:cNvPicPr/>
          <p:nvPr/>
        </p:nvPicPr>
        <p:blipFill>
          <a:blip r:embed="rId1"/>
          <a:stretch/>
        </p:blipFill>
        <p:spPr>
          <a:xfrm>
            <a:off x="6643800" y="0"/>
            <a:ext cx="2500200" cy="71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Century Schoolbook"/>
              </a:rPr>
              <a:t>              </a:t>
            </a:r>
            <a:r>
              <a:rPr b="0" lang="en-US" sz="4000" spc="-1" strike="noStrike">
                <a:solidFill>
                  <a:srgbClr val="000066"/>
                </a:solidFill>
                <a:latin typeface="Verdana"/>
              </a:rPr>
              <a:t>ZIUA AFRICII – 25 MAI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456840" y="1599840"/>
            <a:ext cx="818676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0" lang="fr-FR" sz="2800" spc="-1" strike="noStrike">
                <a:solidFill>
                  <a:srgbClr val="000066"/>
                </a:solidFill>
                <a:latin typeface="Verdana"/>
              </a:rPr>
              <a:t>Am  organizat o inedita piata Africana in Parcul Cismigiu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Century Schoolbook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Century Schoolbook"/>
              </a:rPr>
              <a:t>    </a:t>
            </a:r>
            <a:r>
              <a:rPr b="1" lang="fr-FR" sz="2800" spc="-1" strike="noStrike">
                <a:solidFill>
                  <a:srgbClr val="000066"/>
                </a:solidFill>
                <a:latin typeface="Verdana"/>
              </a:rPr>
              <a:t>Obiective </a:t>
            </a:r>
            <a:r>
              <a:rPr b="0" lang="fr-FR" sz="2800" spc="-1" strike="noStrike">
                <a:solidFill>
                  <a:srgbClr val="000066"/>
                </a:solidFill>
                <a:latin typeface="Verdana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Verdana"/>
              </a:rPr>
              <a:t>   ● </a:t>
            </a:r>
            <a:r>
              <a:rPr b="0" lang="fr-FR" sz="2800" spc="-1" strike="noStrike">
                <a:solidFill>
                  <a:srgbClr val="000066"/>
                </a:solidFill>
                <a:latin typeface="Verdana"/>
              </a:rPr>
              <a:t>Promovarea culturii africane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Verdana"/>
              </a:rPr>
              <a:t>   ● </a:t>
            </a:r>
            <a:r>
              <a:rPr b="0" lang="fr-FR" sz="2800" spc="-1" strike="noStrike">
                <a:solidFill>
                  <a:srgbClr val="000066"/>
                </a:solidFill>
                <a:latin typeface="Verdana"/>
              </a:rPr>
              <a:t>Dezvoltarea unui cadru non-formal favorabil pentru schimburi culturale si informative intre refugiatii si imigrantii din Africa si populatia locala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8" name="Picture 3" descr="logo jinfo.jpg"/>
          <p:cNvPicPr/>
          <p:nvPr/>
        </p:nvPicPr>
        <p:blipFill>
          <a:blip r:embed="rId1"/>
          <a:stretch/>
        </p:blipFill>
        <p:spPr>
          <a:xfrm>
            <a:off x="6643800" y="0"/>
            <a:ext cx="2500200" cy="71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Verdana"/>
              </a:rPr>
              <a:t>ACTIVITATI PIATA AFRICAN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7200" y="1600200"/>
            <a:ext cx="822960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Verdana"/>
              </a:rPr>
              <a:t>Expozitie de arta, vestimentatie si accesorii : costume traditionale, bijuterii artizanale, incaltaminte, etc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Verdana"/>
              </a:rPr>
              <a:t>Gustari calde : gogosi africane, banane prajite, pui la gratar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Verdana"/>
              </a:rPr>
              <a:t>Cocktailuri exotic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fr-FR" sz="2400" spc="-1" strike="noStrike">
                <a:solidFill>
                  <a:srgbClr val="000066"/>
                </a:solidFill>
                <a:latin typeface="Verdana"/>
              </a:rPr>
              <a:t>Face painting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fr-FR" sz="2400" spc="-1" strike="noStrike">
                <a:solidFill>
                  <a:srgbClr val="000066"/>
                </a:solidFill>
                <a:latin typeface="Verdana"/>
              </a:rPr>
              <a:t>Muzica Traditional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fr-FR" sz="2400" spc="-1" strike="noStrike">
                <a:solidFill>
                  <a:srgbClr val="000066"/>
                </a:solidFill>
                <a:latin typeface="Verdana"/>
              </a:rPr>
              <a:t>Info Corner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1" name="Picture 3" descr="logo jinfo.jpg"/>
          <p:cNvPicPr/>
          <p:nvPr/>
        </p:nvPicPr>
        <p:blipFill>
          <a:blip r:embed="rId1"/>
          <a:stretch/>
        </p:blipFill>
        <p:spPr>
          <a:xfrm>
            <a:off x="6643800" y="0"/>
            <a:ext cx="2500200" cy="71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83" name="Content Placeholder 7" descr="P1040681.JPG"/>
          <p:cNvPicPr/>
          <p:nvPr/>
        </p:nvPicPr>
        <p:blipFill>
          <a:blip r:embed="rId1"/>
          <a:stretch/>
        </p:blipFill>
        <p:spPr>
          <a:xfrm>
            <a:off x="941400" y="1600200"/>
            <a:ext cx="6499080" cy="487368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8" descr="logo jinfo.jpg"/>
          <p:cNvPicPr/>
          <p:nvPr/>
        </p:nvPicPr>
        <p:blipFill>
          <a:blip r:embed="rId2"/>
          <a:stretch/>
        </p:blipFill>
        <p:spPr>
          <a:xfrm>
            <a:off x="6643800" y="0"/>
            <a:ext cx="2500200" cy="71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1T17:21:26Z</dcterms:created>
  <dc:creator>Utilizator</dc:creator>
  <dc:description/>
  <dc:language>en-US</dc:language>
  <cp:lastModifiedBy>eveniment</cp:lastModifiedBy>
  <dcterms:modified xsi:type="dcterms:W3CDTF">2009-07-23T06:44:14Z</dcterms:modified>
  <cp:revision>43</cp:revision>
  <dc:subject/>
  <dc:title>Carmen Pavel </dc:title>
</cp:coreProperties>
</file>