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C312-0483-4688-90DD-97D46327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E732-59C9-489E-A9E8-C19DCC1E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FAA6-87A6-4C23-A051-25AE2480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D75F-99F8-47FB-A042-4618062FA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FD67-C7B5-441C-8D83-B081FF7CE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AE56-FE0E-4884-AF48-34F34B1A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485A-91FD-4254-9B2B-108DB3DE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AE5C-4436-4518-93AE-3450137F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E50F-A362-41CC-85EF-74C10907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3B2B-8E0A-4331-B541-D38110D3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6E05-812F-45BA-8404-AA59D92D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5B02-C165-44E1-A84C-C7C53977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F655-FC39-4E42-AEB0-721CC0C8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EE35-B4FA-4FF1-9A0A-9E574AF0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5787-A2A6-461B-BC8E-2815189A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4ADB-44C3-499B-9BB7-AE1D947E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8C12-6729-4192-8CC6-B8389A0DC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B99EA-3C12-4A57-BFA5-B60230A5B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1D1C8-496B-43C6-9D17-3EF89A3E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9369F-2130-4FD3-8563-B7C4A9C1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8E377-F621-45FB-B005-937650E7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B09A9-7ECC-4CCB-80E4-ACB41FD4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6B2E-FA54-4FCD-B9D5-27424AB4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E7618-F91D-4E0B-911E-DB902C5A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BF1D2-F86A-46A1-A066-80F42387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97D80-5733-4227-A641-6F9D08C1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09C24-C40E-4EE0-BCBC-551CF5EF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D7679-A1EF-4594-A6A7-A394C6C1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576A6-5EB3-4B19-952D-FEB1B813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269FD-5D5C-4D1F-8570-607F3170D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79771-141A-4A41-96AC-696BDA00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AA634-B99C-4AB6-9A2F-F05A465F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95C89-59CD-4C77-8B37-B6C8E4A8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6DAC-D89E-4189-8F0D-969B5548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52F25-51C5-462A-9263-FC11D551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83AF4-C817-4326-8CBA-78EC40C3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7A91A-709F-4BDA-8A87-1FF0CBC0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4064E-63F9-4785-BA42-7C0DDB29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8218A-FAEC-4229-BBA0-196F2F0D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00E33-C3DF-4B81-8B84-59F05F26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8EB97-4F9A-46F8-A61F-F228E4C7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D3A57-8A9C-42BF-B642-13FB77973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E1F61-6A05-47BA-8A55-AC3E1287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EE1C-293F-4B94-825B-164A69DC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02B2-8884-4AFA-98B4-61CCA24D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C847-5BE6-45C0-8694-8141D2CC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2CF5-2F59-4AC1-B228-D8903B10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D86C-93B6-4676-9BB1-FA2AE753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1D95-6959-413C-B6D0-D03E101D70D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1C73-13A5-4A0C-96FC-E9A809A6AF6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7CB2-BD79-4000-BD8E-388E09A201F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C7DE-66A6-4F1E-8D60-620A1D0A917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274680" y="1255680"/>
            <a:ext cx="834552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u certitudine asigurarea de care ai nevoie 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sigurari agrico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igurarea culturilor agricole,rodului viilor si al pomilo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ui se adreseaza 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PF si PJ care au interes asupra bunului asigur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Obiect asigur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ulturi agricole,rodul pomilor si al viilor, hamei-u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iscuri asigurate 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)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enomene atmosferi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ierderi calitative si cantitative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sigurari agrico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ubscrierea riscului si incheierea asigurari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Inspectorii de asigurare pe baza Inspectiei de Risc si a datelor din Cererea Chestion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lita de asigurare se incheie oricand pe parcursul anului,dar cu 1 luna inainte de recolta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onstatarea Daune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Angajatii CERTASIG/Colaborato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lata despagubirii – numai dupa efectuarea recoltatului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sigurari agrico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igurarea animalelor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ui se adreseaza 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F si PJ care detin anima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Obiect asigurat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imale si la solicitare pasari si pes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iscuri acoperite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moartea animalelor din accident sau boala; sacrificarea animalelor dispuse de autoritatea sanitara in cazul accidentelor/epizotiil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ubscrierea riscului 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pectori de asigurare pe baza Inspectiei de Risc si datelor din Cererea Chestion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onstatarea daunei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dici veterin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ine suntem 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ERTASIG SA – companie cu capital integral priv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fiintata in 200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ructura actionariat : ROYALTON CAPITAL INVESTORS II – 92,31%; PERSOANE FIZICE – 7,69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pital social : 62,398,654.00 R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0% aport la capitalul social prin BERD si FE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Imagine 1" descr="cid:image001.png@01C895B5.EB760A60"/>
          <p:cNvPicPr/>
          <p:nvPr/>
        </p:nvPicPr>
        <p:blipFill>
          <a:blip r:embed="rId2"/>
          <a:stretch/>
        </p:blipFill>
        <p:spPr>
          <a:xfrm>
            <a:off x="3857760" y="6072120"/>
            <a:ext cx="12747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CHIPA NOASTR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pitalul uman – cel mai important capi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ipa de top management – specialisti cu experienta internationala in asigurari si banc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ipa de forta – personal inalt calificat, cu tinuta profesionala si experienta in asigur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lectia personalului in perfecta armonie  cu politica de formare si instruire a personalului propriu cat si a fortei externe de vanzar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Imagine 1" descr="cid:image001.png@01C895B5.EB760A60"/>
          <p:cNvPicPr/>
          <p:nvPr/>
        </p:nvPicPr>
        <p:blipFill>
          <a:blip r:embed="rId2"/>
          <a:stretch/>
        </p:blipFill>
        <p:spPr>
          <a:xfrm>
            <a:off x="3714840" y="6000840"/>
            <a:ext cx="12747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ERTASIG S.A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Ţ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ul compa</a:t>
            </a: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niei : 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devina o companie solida,de incredere,angaja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dusele si serviciile : de calitate, eficiente si adaptate profilului clientulu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Imagine 1" descr="cid:image001.png@01C895B5.EB760A60"/>
          <p:cNvPicPr/>
          <p:nvPr/>
        </p:nvPicPr>
        <p:blipFill>
          <a:blip r:embed="rId2"/>
          <a:stretch/>
        </p:blipFill>
        <p:spPr>
          <a:xfrm>
            <a:off x="3857760" y="5929200"/>
            <a:ext cx="12747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ALORILE NOAST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rectitud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tica profesional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ponibilitate/flexibilit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mptitud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Imagine 1" descr="cid:image001.png@01C895B5.EB760A60"/>
          <p:cNvPicPr/>
          <p:nvPr/>
        </p:nvPicPr>
        <p:blipFill>
          <a:blip r:embed="rId2"/>
          <a:stretch/>
        </p:blipFill>
        <p:spPr>
          <a:xfrm>
            <a:off x="3857760" y="5929200"/>
            <a:ext cx="12747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TEAUA DE DISTRIBUTI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uprinde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OKERI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GEN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TEA PROPRI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 7 sucursale euroregionale 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ceava, Cluj-Napoca, Timisoara, Galati,      Slatina, 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Constanta, Brasov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 Agentii : Baia Mare, Bistrita, Sibiu, Pitesti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asi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Imagine 1" descr="cid:image001.png@01C895B5.EB760A60"/>
          <p:cNvPicPr/>
          <p:nvPr/>
        </p:nvPicPr>
        <p:blipFill>
          <a:blip r:embed="rId2"/>
          <a:stretch/>
        </p:blipFill>
        <p:spPr>
          <a:xfrm>
            <a:off x="3857760" y="5929200"/>
            <a:ext cx="12747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ASIGURA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n-maritim – Broker A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ader SC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ritim –         Broker IR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ader Lloyd’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Imagine 1" descr="cid:image001.png@01C895B5.EB760A60"/>
          <p:cNvPicPr/>
          <p:nvPr/>
        </p:nvPicPr>
        <p:blipFill>
          <a:blip r:embed="rId2"/>
          <a:stretch/>
        </p:blipFill>
        <p:spPr>
          <a:xfrm>
            <a:off x="3857760" y="5929200"/>
            <a:ext cx="12747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Avantaje CERTASIG S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214280"/>
            <a:ext cx="8229600" cy="507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ientare spre vanzarea prin brokeri, agenti  si canale alternative (banci, societati de leasing,dealeri) dupa model europe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imp scurt de raspuns la solicitar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lexibilitate in formularea ofertelor in functie de profilul si solicitarile specifice ale clientulu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ternalizarea activitatii de instrumentare a daunelor, cu disponibilitate 24 h/24 si raspandire nationala si international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E- Claims Management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entru daune auto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rawford &amp; Partners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entru daune la proprietati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ori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– pentru daune medicale si asistenta la domiciliu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Imagine 1" descr="cid:image001.png@01C895B5.EB760A60"/>
          <p:cNvPicPr/>
          <p:nvPr/>
        </p:nvPicPr>
        <p:blipFill>
          <a:blip r:embed="rId2"/>
          <a:stretch/>
        </p:blipFill>
        <p:spPr>
          <a:xfrm>
            <a:off x="3857760" y="6072120"/>
            <a:ext cx="12747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sigurari Agrico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igurarea culturilor agricole,rodului viilor si al pomil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igurarea animalel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0:42:57Z</dcterms:created>
  <dc:creator>Certasig</dc:creator>
  <dc:description/>
  <dc:language>en-US</dc:language>
  <cp:lastModifiedBy>ioana.chira</cp:lastModifiedBy>
  <dcterms:modified xsi:type="dcterms:W3CDTF">2009-09-21T10:39:41Z</dcterms:modified>
  <cp:revision>162</cp:revision>
  <dc:subject/>
  <dc:title>CERTASIG  Asigurare-Reasigurare SA</dc:title>
</cp:coreProperties>
</file>