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73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2.png" ContentType="image/png"/>
  <Override PartName="/ppt/media/image41.jpeg" ContentType="image/jpeg"/>
  <Override PartName="/ppt/media/image66.png" ContentType="image/png"/>
  <Override PartName="/ppt/media/image25.png" ContentType="image/png"/>
  <Override PartName="/ppt/media/image15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67.jpeg" ContentType="image/jpeg"/>
  <Override PartName="/ppt/media/image20.jpeg" ContentType="image/jpeg"/>
  <Override PartName="/ppt/media/image76.png" ContentType="image/png"/>
  <Override PartName="/ppt/media/image30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75.png" ContentType="image/png"/>
  <Override PartName="/ppt/media/image65.jpeg" ContentType="image/jpeg"/>
  <Override PartName="/ppt/media/image71.jpeg" ContentType="image/jpeg"/>
  <Override PartName="/ppt/media/image38.jpeg" ContentType="image/jpeg"/>
  <Override PartName="/ppt/media/image72.png" ContentType="image/png"/>
  <Override PartName="/ppt/media/image70.png" ContentType="image/png"/>
  <Override PartName="/ppt/media/image26.png" ContentType="image/png"/>
  <Override PartName="/ppt/media/image69.jpeg" ContentType="image/jpeg"/>
  <Override PartName="/ppt/media/image52.jpeg" ContentType="image/jpeg"/>
  <Override PartName="/ppt/media/image1.png" ContentType="image/png"/>
  <Override PartName="/ppt/media/image68.jpeg" ContentType="image/jpeg"/>
  <Override PartName="/ppt/media/image22.png" ContentType="image/png"/>
  <Override PartName="/ppt/media/image2.png" ContentType="image/png"/>
  <Override PartName="/ppt/media/image14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74.png" ContentType="image/png"/>
  <Override PartName="/ppt/media/image16.jpeg" ContentType="image/jpeg"/>
  <Override PartName="/ppt/media/image60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23.jpeg" ContentType="image/jpe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5.jpeg" ContentType="image/jpeg"/>
  <Override PartName="/ppt/media/image47.png" ContentType="image/png"/>
  <Override PartName="/ppt/media/image31.jpeg" ContentType="image/jpeg"/>
  <Override PartName="/ppt/media/image10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474-A20B-44E1-8186-846139D0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1C22-BF3E-43DB-A167-699310FD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389-4F10-4824-9DDC-98BD2C07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131-92FB-4E0E-8B38-021D45D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332-2EFD-4C7C-9598-638F0E7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759-AEAD-45B6-A115-B2C2595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B62-F25D-4796-85F0-0052571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4760" y="-2700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740-214B-42BC-AC3A-ACD67657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9A0-6991-4165-87BB-338BB95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F0D-08E2-48C2-9DB2-0A5D3E3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546-D810-4A7F-9C73-B6B8DDF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977-437E-423E-941F-C4FB945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30F-1FEF-4E45-92DC-E78EDFDD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D2A-7433-464B-BA43-EA170D32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4760" y="-2700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468360" y="501336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324000" cy="90792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108000" y="658980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7199280" y="6453360"/>
            <a:ext cx="1944720" cy="2030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9"/>
          <p:cNvSpPr/>
          <p:nvPr/>
        </p:nvSpPr>
        <p:spPr>
          <a:xfrm>
            <a:off x="7451640" y="6642000"/>
            <a:ext cx="194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Member of New Frontier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4160" y="665496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945-C11A-4E1D-A381-D02FEFEF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pn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image" Target="../media/image62.jpeg"/><Relationship Id="rId16" Type="http://schemas.openxmlformats.org/officeDocument/2006/relationships/image" Target="../media/image63.jpeg"/><Relationship Id="rId17" Type="http://schemas.openxmlformats.org/officeDocument/2006/relationships/image" Target="../media/image64.jpeg"/><Relationship Id="rId18" Type="http://schemas.openxmlformats.org/officeDocument/2006/relationships/image" Target="../media/image65.jpeg"/><Relationship Id="rId19" Type="http://schemas.openxmlformats.org/officeDocument/2006/relationships/image" Target="../media/image66.png"/><Relationship Id="rId20" Type="http://schemas.openxmlformats.org/officeDocument/2006/relationships/image" Target="../media/image67.jpeg"/><Relationship Id="rId21" Type="http://schemas.openxmlformats.org/officeDocument/2006/relationships/image" Target="../media/image68.jpeg"/><Relationship Id="rId22" Type="http://schemas.openxmlformats.org/officeDocument/2006/relationships/image" Target="../media/image69.jpeg"/><Relationship Id="rId23" Type="http://schemas.openxmlformats.org/officeDocument/2006/relationships/image" Target="../media/image70.png"/><Relationship Id="rId24" Type="http://schemas.openxmlformats.org/officeDocument/2006/relationships/image" Target="../media/image71.jpeg"/><Relationship Id="rId25" Type="http://schemas.openxmlformats.org/officeDocument/2006/relationships/image" Target="../media/image72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radu.voicu@romsys.ro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image" Target="../media/image21.png"/><Relationship Id="rId18" Type="http://schemas.openxmlformats.org/officeDocument/2006/relationships/hyperlink" Target="http://woodrow.typepad.com/.shared/image.html?/photos/uncategorized/outlooksoft_logo.gif" TargetMode="External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image" Target="../media/image19.png"/><Relationship Id="rId30" Type="http://schemas.openxmlformats.org/officeDocument/2006/relationships/image" Target="../media/image32.jpeg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8"/>
          <p:cNvGrpSpPr/>
          <p:nvPr/>
        </p:nvGrpSpPr>
        <p:grpSpPr>
          <a:xfrm>
            <a:off x="0" y="2708280"/>
            <a:ext cx="7308360" cy="4104720"/>
            <a:chOff x="0" y="2708280"/>
            <a:chExt cx="7308360" cy="4104720"/>
          </a:xfrm>
        </p:grpSpPr>
        <p:grpSp>
          <p:nvGrpSpPr>
            <p:cNvPr id="94" name="Group 9"/>
            <p:cNvGrpSpPr/>
            <p:nvPr/>
          </p:nvGrpSpPr>
          <p:grpSpPr>
            <a:xfrm>
              <a:off x="0" y="2708280"/>
              <a:ext cx="7308360" cy="4104720"/>
              <a:chOff x="0" y="2708280"/>
              <a:chExt cx="7308360" cy="4104720"/>
            </a:xfrm>
          </p:grpSpPr>
          <p:pic>
            <p:nvPicPr>
              <p:cNvPr id="95" name="Picture 10" descr="Handshake"/>
              <p:cNvPicPr/>
              <p:nvPr/>
            </p:nvPicPr>
            <p:blipFill>
              <a:blip r:embed="rId1"/>
              <a:srcRect l="0" t="0" r="0" b="31175"/>
              <a:stretch/>
            </p:blipFill>
            <p:spPr>
              <a:xfrm>
                <a:off x="0" y="3475800"/>
                <a:ext cx="7298640" cy="33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Rectangle 11"/>
              <p:cNvSpPr/>
              <p:nvPr/>
            </p:nvSpPr>
            <p:spPr>
              <a:xfrm>
                <a:off x="0" y="2999520"/>
                <a:ext cx="1784160" cy="65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6649560" y="3221280"/>
                <a:ext cx="658800" cy="9291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929160"/>
                  <a:gd name="textAreaBottom" fmla="*/ 929520 h 929160"/>
                </a:gdLst>
                <a:ahLst/>
                <a:rect l="textAreaLeft" t="textAreaTop" r="textAreaRight" b="textAreaBottom"/>
                <a:pathLst>
                  <a:path w="664" h="472">
                    <a:moveTo>
                      <a:pt x="408" y="472"/>
                    </a:moveTo>
                    <a:lnTo>
                      <a:pt x="536" y="392"/>
                    </a:lnTo>
                    <a:lnTo>
                      <a:pt x="624" y="272"/>
                    </a:lnTo>
                    <a:lnTo>
                      <a:pt x="664" y="216"/>
                    </a:lnTo>
                    <a:lnTo>
                      <a:pt x="664" y="0"/>
                    </a:lnTo>
                    <a:lnTo>
                      <a:pt x="0" y="16"/>
                    </a:lnTo>
                    <a:lnTo>
                      <a:pt x="344" y="44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3"/>
              <p:cNvSpPr/>
              <p:nvPr/>
            </p:nvSpPr>
            <p:spPr>
              <a:xfrm>
                <a:off x="6578640" y="2708280"/>
                <a:ext cx="709560" cy="817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6700680" y="3332160"/>
                <a:ext cx="526680" cy="7488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664" h="472">
                    <a:moveTo>
                      <a:pt x="408" y="472"/>
                    </a:moveTo>
                    <a:lnTo>
                      <a:pt x="536" y="392"/>
                    </a:lnTo>
                    <a:lnTo>
                      <a:pt x="624" y="272"/>
                    </a:lnTo>
                    <a:lnTo>
                      <a:pt x="664" y="216"/>
                    </a:lnTo>
                    <a:lnTo>
                      <a:pt x="664" y="0"/>
                    </a:lnTo>
                    <a:lnTo>
                      <a:pt x="0" y="16"/>
                    </a:lnTo>
                    <a:lnTo>
                      <a:pt x="344" y="44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15"/>
            <p:cNvSpPr/>
            <p:nvPr/>
          </p:nvSpPr>
          <p:spPr>
            <a:xfrm>
              <a:off x="243360" y="6647040"/>
              <a:ext cx="178272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r" pos="90900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7115040" y="6659280"/>
              <a:ext cx="1821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7" descr="Fara-umbra.png"/>
          <p:cNvPicPr/>
          <p:nvPr/>
        </p:nvPicPr>
        <p:blipFill>
          <a:blip r:embed="rId2"/>
          <a:srcRect l="16950" t="13966" r="0" b="7375"/>
          <a:stretch/>
        </p:blipFill>
        <p:spPr>
          <a:xfrm>
            <a:off x="5894280" y="0"/>
            <a:ext cx="328608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3000"/>
              </a:srgbClr>
            </a:outerShdw>
          </a:effectLst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16040" y="1076400"/>
            <a:ext cx="4537080" cy="473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9"/>
          <p:cNvSpPr/>
          <p:nvPr/>
        </p:nvSpPr>
        <p:spPr>
          <a:xfrm>
            <a:off x="2532240" y="1413000"/>
            <a:ext cx="32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mber of New Frontier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727920" y="2670120"/>
            <a:ext cx="41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olu</a:t>
            </a:r>
            <a:r>
              <a:rPr b="1" lang="ro-RO" sz="3600" spc="-1" strike="noStrike">
                <a:solidFill>
                  <a:srgbClr val="c00000"/>
                </a:solidFill>
                <a:latin typeface="Calibri"/>
              </a:rPr>
              <a:t>ţii pentru Retai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733680" y="3598920"/>
            <a:ext cx="37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4b4b4b"/>
                </a:solidFill>
                <a:latin typeface="Calibri"/>
              </a:rPr>
              <a:t>Radu V</a:t>
            </a:r>
            <a:r>
              <a:rPr b="1" i="1" lang="ro-RO" sz="2400" spc="-1" strike="noStrike">
                <a:solidFill>
                  <a:srgbClr val="4b4b4b"/>
                </a:solidFill>
                <a:latin typeface="Calibri"/>
              </a:rPr>
              <a:t>o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4b4b4b"/>
                </a:solidFill>
                <a:latin typeface="Calibri"/>
              </a:rPr>
              <a:t>Senior Sales Lead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42960" y="5792760"/>
            <a:ext cx="57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omanian Retail Forum 2009, December 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thenee Palace Hilton, Salon Le Dip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787320" y="3421080"/>
            <a:ext cx="5856480" cy="7920"/>
          </a:xfrm>
          <a:prstGeom prst="line">
            <a:avLst/>
          </a:prstGeom>
          <a:ln w="1260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6867720" y="73080"/>
            <a:ext cx="20584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Run, Chang</a:t>
            </a:r>
            <a:r>
              <a:rPr b="1" lang="ro-RO" sz="2200" spc="-1" strike="noStrike">
                <a:solidFill>
                  <a:srgbClr val="ffffff"/>
                </a:solidFill>
                <a:latin typeface="BankGothic Md BT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ankGothic Md BT"/>
              </a:rPr>
              <a:t>a</a:t>
            </a:r>
            <a:r>
              <a:rPr b="1" lang="de-DE" sz="1600" spc="-1" strike="noStrike">
                <a:solidFill>
                  <a:srgbClr val="ffffff"/>
                </a:solidFill>
                <a:latin typeface="BankGothic Md BT"/>
              </a:rPr>
              <a:t>nd</a:t>
            </a:r>
            <a:r>
              <a:rPr b="1" lang="ro-RO" sz="1600" spc="-1" strike="noStrike">
                <a:solidFill>
                  <a:srgbClr val="ffffff"/>
                </a:solidFill>
                <a:latin typeface="BankGothic Md BT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Inno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BankGothic Md BT"/>
              </a:rPr>
              <a:t>Your </a:t>
            </a: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Business</a:t>
            </a:r>
            <a:r>
              <a:rPr b="1" lang="de-DE" sz="1800" spc="-1" strike="noStrike">
                <a:solidFill>
                  <a:srgbClr val="ffffff"/>
                </a:solidFill>
                <a:latin typeface="BankGothic M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BankGothic Md BT"/>
              </a:rPr>
              <a:t>with </a:t>
            </a:r>
            <a:r>
              <a:rPr b="1" lang="de-DE" sz="2400" spc="-1" strike="noStrike">
                <a:solidFill>
                  <a:srgbClr val="ffffff"/>
                </a:solidFill>
                <a:latin typeface="BankGothic Md BT"/>
              </a:rPr>
              <a:t>ROM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143840" y="5212800"/>
            <a:ext cx="2286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Md BT"/>
                <a:ea typeface="Calibri"/>
              </a:rPr>
              <a:t>ROM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Bucharest Business Park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12, Menuetului St., Building D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Ground floor &amp; 4th floor, District 1 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Postal code: 013713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BUCHAREST, Rom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Phone: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 +40 (0)21. 529.40.00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Fax: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 +40 (0)21. 529.40.1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www.romsys.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t3.jpg"/>
          <p:cNvPicPr/>
          <p:nvPr/>
        </p:nvPicPr>
        <p:blipFill>
          <a:blip r:embed="rId1"/>
          <a:srcRect l="2284" t="10851" r="24888" b="16073"/>
          <a:stretch/>
        </p:blipFill>
        <p:spPr>
          <a:xfrm>
            <a:off x="4786200" y="1247760"/>
            <a:ext cx="4143600" cy="4000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de Afac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45960" y="1285920"/>
            <a:ext cx="5643720" cy="51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op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ate a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e legate de dezvoltare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a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domenii principale de compe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ul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Business &amp; C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i specializate de ret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ortare van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tabilitate  per magaz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c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zvoltare aplicatii la cer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http://www.pemms.co.uk/assets/images/kpi.jpg"/>
          <p:cNvPicPr/>
          <p:nvPr/>
        </p:nvPicPr>
        <p:blipFill>
          <a:blip r:embed="rId1"/>
          <a:stretch/>
        </p:blipFill>
        <p:spPr>
          <a:xfrm>
            <a:off x="5979960" y="1487520"/>
            <a:ext cx="2962440" cy="27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4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ii de Afaceri – Managementul Performan</a:t>
            </a:r>
            <a:r>
              <a:rPr b="1" lang="ro-RO" sz="34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e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45960" y="1330200"/>
            <a:ext cx="564372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ta lucratorilor comer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ta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ortare specializata – what if, excep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4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 cos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5692" t="14589" r="10678" b="8897"/>
          <a:stretch/>
        </p:blipFill>
        <p:spPr>
          <a:xfrm>
            <a:off x="5580000" y="1428840"/>
            <a:ext cx="3357720" cy="3071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353880" y="1341360"/>
            <a:ext cx="521820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gu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rvicii de 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, referitoare la achiz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de date, administr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nteg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ul documentelor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tului(facturi, aviz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re de aplic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e  Web / Portaluri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re CRM – sales, marketing, contact center, retentie clienti, bonus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a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i de Afaceri – eBusiness 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ş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 C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ekconscious.com/images/application_development_toolkit_large.gif"/>
          <p:cNvPicPr/>
          <p:nvPr/>
        </p:nvPicPr>
        <p:blipFill>
          <a:blip r:embed="rId1"/>
          <a:stretch/>
        </p:blipFill>
        <p:spPr>
          <a:xfrm>
            <a:off x="6662880" y="1481040"/>
            <a:ext cx="2352600" cy="3243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45960" y="1330200"/>
            <a:ext cx="558324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customizate pentru nevo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spcBef>
                <a:spcPts val="499"/>
              </a:spcBef>
              <a:tabLst>
                <a:tab algn="l" pos="0"/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ens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cre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rea de proiecte u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iz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care 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i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specifice ale clien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hnologii de varf, tehnologiile cel mai des intal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i de Afaceri – Custom Develop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t4.jpg"/>
          <p:cNvPicPr/>
          <p:nvPr/>
        </p:nvPicPr>
        <p:blipFill>
          <a:blip r:embed="rId1"/>
          <a:srcRect l="23628" t="8240" r="12327" b="16073"/>
          <a:stretch/>
        </p:blipFill>
        <p:spPr>
          <a:xfrm>
            <a:off x="5500800" y="1214280"/>
            <a:ext cx="3643200" cy="4143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28760" y="1328760"/>
            <a:ext cx="51433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acitate de integrare a proceselor din interiorul companiilor 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dintre companii, oferind, la cerere, solu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 customizate si participative pentru cli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menii de inte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AP ERP for reta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pplier Relationship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fert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de solu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ustrie: Utilit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, Retail, Oil&amp;G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siness: HR, Fin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, Opera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, L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de aprovizion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Echipă d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72 consult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S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http://www.miltonalexander.com/Images/QA%20ERP%20Controls%20Project%20Management%20banner%20image%201.jpg"/>
          <p:cNvPicPr/>
          <p:nvPr/>
        </p:nvPicPr>
        <p:blipFill>
          <a:blip r:embed="rId1"/>
          <a:stretch/>
        </p:blipFill>
        <p:spPr>
          <a:xfrm>
            <a:off x="6429240" y="1476360"/>
            <a:ext cx="2683080" cy="24163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/>
          <p:cNvSpPr/>
          <p:nvPr/>
        </p:nvSpPr>
        <p:spPr>
          <a:xfrm>
            <a:off x="347760" y="1214280"/>
            <a:ext cx="701028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 set larg de procese de business integr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u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i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cii de t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ea produ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tu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e strategi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e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cost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conform 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risc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ea managementului financiar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dministrarea corpo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rea cheltuielil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executivilor d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 imediat la inform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e compan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 - E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5692" t="14589" r="10678" b="8897"/>
          <a:stretch/>
        </p:blipFill>
        <p:spPr>
          <a:xfrm>
            <a:off x="6254640" y="2071800"/>
            <a:ext cx="2889360" cy="2643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349200" y="1328760"/>
            <a:ext cx="6510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u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naliza neces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ntru anticiparea 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cl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or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entru constru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unei rel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profitabi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lun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ur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cii de t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exibilitatea neces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unei exper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inedi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rel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cu clien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e organiz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 intera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uni mai consisten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levante pe toate canalele po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osibilitatea unor procese end-to-end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cadrul l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ui valoric 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ganiz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 -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http://www.pemms.co.uk/assets/images/kpi.jpg"/>
          <p:cNvPicPr/>
          <p:nvPr/>
        </p:nvPicPr>
        <p:blipFill>
          <a:blip r:embed="rId1"/>
          <a:stretch/>
        </p:blipFill>
        <p:spPr>
          <a:xfrm>
            <a:off x="6168960" y="2048040"/>
            <a:ext cx="2962440" cy="2743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334800" y="71280"/>
            <a:ext cx="90950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de Afaceri S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47760" y="1357200"/>
            <a:ext cx="8439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u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optimizarea ope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or de business, colabo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cu partenerii, cl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, furnizori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transfo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ua de business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-un avantaj compet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are, Raport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Financ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tip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zualiz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apor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re de d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managementul ca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pentru conducere, risc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onform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sapag.co.in/sap3.jpg"/>
          <p:cNvPicPr/>
          <p:nvPr/>
        </p:nvPicPr>
        <p:blipFill>
          <a:blip r:embed="rId1"/>
          <a:stretch/>
        </p:blipFill>
        <p:spPr>
          <a:xfrm>
            <a:off x="6029280" y="1504800"/>
            <a:ext cx="2986200" cy="329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347760" y="1328760"/>
            <a:ext cx="586728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odologia de lucru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lanificare: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de Proiect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u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Sistem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are arhitecturi de Sistem,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&amp; Interf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zvol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, Interf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Sistem, Formulare &amp; Rapo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utilizator &amp; Document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s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amp;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tip roll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AP – Activi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 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ş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 Serv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demo.jpg"/>
          <p:cNvPicPr/>
          <p:nvPr/>
        </p:nvPicPr>
        <p:blipFill>
          <a:blip r:embed="rId1"/>
          <a:srcRect l="41214" t="0" r="0" b="21294"/>
          <a:stretch/>
        </p:blipFill>
        <p:spPr>
          <a:xfrm>
            <a:off x="5513400" y="1071720"/>
            <a:ext cx="3344760" cy="430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8"/>
          <p:cNvSpPr/>
          <p:nvPr/>
        </p:nvSpPr>
        <p:spPr>
          <a:xfrm>
            <a:off x="357120" y="1143000"/>
            <a:ext cx="5857920" cy="55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just"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s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er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ga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r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ervicii de automatizare a proceselor din magazine, variind de la 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 desig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 acoperind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egime totalitatea procese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Ret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Front-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ing Direct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ross S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are Cash, Check si 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n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Monitor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ip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60 de ingin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34800" y="71280"/>
            <a:ext cx="8658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Automatiz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324000" cy="90792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8592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800" y="1568520"/>
            <a:ext cx="822024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nia Roms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tofoliu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Servicii Roms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in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6858000" y="1305000"/>
            <a:ext cx="2028960" cy="3267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42720" y="70920"/>
            <a:ext cx="8443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Automatizare – Ofer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 Prod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00040" y="1328760"/>
            <a:ext cx="7215120" cy="45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h Dispen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’uri complet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steme de Depo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steme Cash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ier de 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uri aut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de Pl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exterioare de automatizare p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chiosc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5114880" y="1542960"/>
            <a:ext cx="3773520" cy="274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42720" y="70920"/>
            <a:ext cx="8443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Automatizare – Ofer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 Serv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00040" y="1357200"/>
            <a:ext cx="778680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nct singular de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Help-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de 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lare, Gar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 &amp; Post gar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ozitare, Transport &amp; Pre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338720" y="2500200"/>
            <a:ext cx="4792680" cy="3500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35244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uport Tehnic la Nivel Na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51000" y="1328760"/>
            <a:ext cx="821988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rganiza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e suport na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on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port &amp; Servicii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4272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 / Software /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sti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Apl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ntenan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istem: Total Ca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:  Menten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vent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a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, incl. pi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ftware: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g fix,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rvice Level Agre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x 8; 6 x 10; 7 x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p 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uns garan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ozit piese de schimb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714240" y="4500720"/>
            <a:ext cx="5572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omsys | Refer</a:t>
            </a: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1"/>
          <p:cNvSpPr/>
          <p:nvPr/>
        </p:nvSpPr>
        <p:spPr>
          <a:xfrm>
            <a:off x="7083720" y="976320"/>
            <a:ext cx="9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tili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4035600" y="36734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l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1" descr="romtelecom"/>
          <p:cNvPicPr/>
          <p:nvPr/>
        </p:nvPicPr>
        <p:blipFill>
          <a:blip r:embed="rId1"/>
          <a:stretch/>
        </p:blipFill>
        <p:spPr>
          <a:xfrm>
            <a:off x="3871800" y="5351400"/>
            <a:ext cx="1130400" cy="2462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12"/>
          <p:cNvGrpSpPr/>
          <p:nvPr/>
        </p:nvGrpSpPr>
        <p:grpSpPr>
          <a:xfrm>
            <a:off x="479520" y="3724200"/>
            <a:ext cx="2016000" cy="2347920"/>
            <a:chOff x="479520" y="3724200"/>
            <a:chExt cx="2016000" cy="2347920"/>
          </a:xfrm>
        </p:grpSpPr>
        <p:sp>
          <p:nvSpPr>
            <p:cNvPr id="214" name="Rectangle 31"/>
            <p:cNvSpPr/>
            <p:nvPr/>
          </p:nvSpPr>
          <p:spPr>
            <a:xfrm>
              <a:off x="881640" y="3724200"/>
              <a:ext cx="1202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inancia</a:t>
              </a:r>
              <a:r>
                <a:rPr b="1" lang="ro-RO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12"/>
            <p:cNvGrpSpPr/>
            <p:nvPr/>
          </p:nvGrpSpPr>
          <p:grpSpPr>
            <a:xfrm>
              <a:off x="479520" y="4000320"/>
              <a:ext cx="2016000" cy="358560"/>
              <a:chOff x="479520" y="4000320"/>
              <a:chExt cx="2016000" cy="358560"/>
            </a:xfrm>
          </p:grpSpPr>
          <p:pic>
            <p:nvPicPr>
              <p:cNvPr id="216" name="Picture 39" descr="ing_logo"/>
              <p:cNvPicPr/>
              <p:nvPr/>
            </p:nvPicPr>
            <p:blipFill>
              <a:blip r:embed="rId2"/>
              <a:stretch/>
            </p:blipFill>
            <p:spPr>
              <a:xfrm>
                <a:off x="1106640" y="4055760"/>
                <a:ext cx="763560" cy="2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Rectangle 66"/>
              <p:cNvSpPr/>
              <p:nvPr/>
            </p:nvSpPr>
            <p:spPr>
              <a:xfrm>
                <a:off x="479520" y="40003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11"/>
            <p:cNvGrpSpPr/>
            <p:nvPr/>
          </p:nvGrpSpPr>
          <p:grpSpPr>
            <a:xfrm>
              <a:off x="479520" y="4413240"/>
              <a:ext cx="2016000" cy="384120"/>
              <a:chOff x="479520" y="4413240"/>
              <a:chExt cx="2016000" cy="384120"/>
            </a:xfrm>
          </p:grpSpPr>
          <p:pic>
            <p:nvPicPr>
              <p:cNvPr id="219" name="Picture 35" descr="logoBCR"/>
              <p:cNvPicPr/>
              <p:nvPr/>
            </p:nvPicPr>
            <p:blipFill>
              <a:blip r:embed="rId3"/>
              <a:stretch/>
            </p:blipFill>
            <p:spPr>
              <a:xfrm>
                <a:off x="1108080" y="4413240"/>
                <a:ext cx="75888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67"/>
              <p:cNvSpPr/>
              <p:nvPr/>
            </p:nvSpPr>
            <p:spPr>
              <a:xfrm>
                <a:off x="479520" y="442584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0"/>
            <p:cNvGrpSpPr/>
            <p:nvPr/>
          </p:nvGrpSpPr>
          <p:grpSpPr>
            <a:xfrm>
              <a:off x="479520" y="4859280"/>
              <a:ext cx="2016000" cy="358560"/>
              <a:chOff x="479520" y="4859280"/>
              <a:chExt cx="2016000" cy="358560"/>
            </a:xfrm>
          </p:grpSpPr>
          <p:pic>
            <p:nvPicPr>
              <p:cNvPr id="222" name="Picture 36" descr="sigla-brd"/>
              <p:cNvPicPr/>
              <p:nvPr/>
            </p:nvPicPr>
            <p:blipFill>
              <a:blip r:embed="rId4"/>
              <a:stretch/>
            </p:blipFill>
            <p:spPr>
              <a:xfrm>
                <a:off x="866880" y="4922640"/>
                <a:ext cx="1239840" cy="23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tangle 69"/>
              <p:cNvSpPr/>
              <p:nvPr/>
            </p:nvSpPr>
            <p:spPr>
              <a:xfrm>
                <a:off x="479520" y="4859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9"/>
            <p:cNvGrpSpPr/>
            <p:nvPr/>
          </p:nvGrpSpPr>
          <p:grpSpPr>
            <a:xfrm>
              <a:off x="479520" y="5261040"/>
              <a:ext cx="2016000" cy="414360"/>
              <a:chOff x="479520" y="5261040"/>
              <a:chExt cx="2016000" cy="414360"/>
            </a:xfrm>
          </p:grpSpPr>
          <p:pic>
            <p:nvPicPr>
              <p:cNvPr id="225" name="Picture 37" descr="logo"/>
              <p:cNvPicPr/>
              <p:nvPr/>
            </p:nvPicPr>
            <p:blipFill>
              <a:blip r:embed="rId5"/>
              <a:stretch/>
            </p:blipFill>
            <p:spPr>
              <a:xfrm>
                <a:off x="1074600" y="5261040"/>
                <a:ext cx="82692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Rectangle 70"/>
              <p:cNvSpPr/>
              <p:nvPr/>
            </p:nvSpPr>
            <p:spPr>
              <a:xfrm>
                <a:off x="479520" y="528948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8"/>
            <p:cNvGrpSpPr/>
            <p:nvPr/>
          </p:nvGrpSpPr>
          <p:grpSpPr>
            <a:xfrm>
              <a:off x="479520" y="5713560"/>
              <a:ext cx="2016000" cy="358560"/>
              <a:chOff x="479520" y="5713560"/>
              <a:chExt cx="2016000" cy="358560"/>
            </a:xfrm>
          </p:grpSpPr>
          <p:pic>
            <p:nvPicPr>
              <p:cNvPr id="228" name="Picture 38" descr="csa_logo"/>
              <p:cNvPicPr/>
              <p:nvPr/>
            </p:nvPicPr>
            <p:blipFill>
              <a:blip r:embed="rId6"/>
              <a:stretch/>
            </p:blipFill>
            <p:spPr>
              <a:xfrm>
                <a:off x="1216080" y="5789520"/>
                <a:ext cx="541080" cy="2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71"/>
              <p:cNvSpPr/>
              <p:nvPr/>
            </p:nvSpPr>
            <p:spPr>
              <a:xfrm>
                <a:off x="479520" y="57135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88"/>
          <p:cNvGrpSpPr/>
          <p:nvPr/>
        </p:nvGrpSpPr>
        <p:grpSpPr>
          <a:xfrm>
            <a:off x="6515280" y="1325520"/>
            <a:ext cx="2016000" cy="358560"/>
            <a:chOff x="6515280" y="1325520"/>
            <a:chExt cx="2016000" cy="358560"/>
          </a:xfrm>
        </p:grpSpPr>
        <p:pic>
          <p:nvPicPr>
            <p:cNvPr id="231" name="Picture 4" descr="EON_n_GaR_RGB"/>
            <p:cNvPicPr/>
            <p:nvPr/>
          </p:nvPicPr>
          <p:blipFill>
            <a:blip r:embed="rId7"/>
            <a:stretch/>
          </p:blipFill>
          <p:spPr>
            <a:xfrm>
              <a:off x="6934320" y="1358640"/>
              <a:ext cx="11761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9"/>
            <p:cNvSpPr/>
            <p:nvPr/>
          </p:nvSpPr>
          <p:spPr>
            <a:xfrm>
              <a:off x="6515280" y="132552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7"/>
          <p:cNvGrpSpPr/>
          <p:nvPr/>
        </p:nvGrpSpPr>
        <p:grpSpPr>
          <a:xfrm>
            <a:off x="6516720" y="1752480"/>
            <a:ext cx="2016000" cy="358920"/>
            <a:chOff x="6516720" y="1752480"/>
            <a:chExt cx="2016000" cy="358920"/>
          </a:xfrm>
        </p:grpSpPr>
        <p:pic>
          <p:nvPicPr>
            <p:cNvPr id="234" name="Picture 5" descr="Logo Distrigaz"/>
            <p:cNvPicPr/>
            <p:nvPr/>
          </p:nvPicPr>
          <p:blipFill>
            <a:blip r:embed="rId8"/>
            <a:stretch/>
          </p:blipFill>
          <p:spPr>
            <a:xfrm>
              <a:off x="6904080" y="1790640"/>
              <a:ext cx="123984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80"/>
            <p:cNvSpPr/>
            <p:nvPr/>
          </p:nvSpPr>
          <p:spPr>
            <a:xfrm>
              <a:off x="6516720" y="175248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5"/>
          <p:cNvGrpSpPr/>
          <p:nvPr/>
        </p:nvGrpSpPr>
        <p:grpSpPr>
          <a:xfrm>
            <a:off x="6516720" y="2614680"/>
            <a:ext cx="2016000" cy="358560"/>
            <a:chOff x="6516720" y="2614680"/>
            <a:chExt cx="2016000" cy="358560"/>
          </a:xfrm>
        </p:grpSpPr>
        <p:pic>
          <p:nvPicPr>
            <p:cNvPr id="237" name="Picture 6" descr="sigla petrom"/>
            <p:cNvPicPr/>
            <p:nvPr/>
          </p:nvPicPr>
          <p:blipFill>
            <a:blip r:embed="rId9"/>
            <a:stretch/>
          </p:blipFill>
          <p:spPr>
            <a:xfrm>
              <a:off x="7300800" y="2647800"/>
              <a:ext cx="44784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82"/>
            <p:cNvSpPr/>
            <p:nvPr/>
          </p:nvSpPr>
          <p:spPr>
            <a:xfrm>
              <a:off x="6516720" y="261468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4"/>
          <p:cNvGrpSpPr/>
          <p:nvPr/>
        </p:nvGrpSpPr>
        <p:grpSpPr>
          <a:xfrm>
            <a:off x="6516720" y="3036960"/>
            <a:ext cx="2016000" cy="358560"/>
            <a:chOff x="6516720" y="3036960"/>
            <a:chExt cx="2016000" cy="358560"/>
          </a:xfrm>
        </p:grpSpPr>
        <p:pic>
          <p:nvPicPr>
            <p:cNvPr id="240" name="Picture 20" descr="enel"/>
            <p:cNvPicPr/>
            <p:nvPr/>
          </p:nvPicPr>
          <p:blipFill>
            <a:blip r:embed="rId10"/>
            <a:stretch/>
          </p:blipFill>
          <p:spPr>
            <a:xfrm>
              <a:off x="7216560" y="3062160"/>
              <a:ext cx="615960" cy="3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83"/>
            <p:cNvSpPr/>
            <p:nvPr/>
          </p:nvSpPr>
          <p:spPr>
            <a:xfrm>
              <a:off x="6516720" y="303696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04"/>
          <p:cNvGrpSpPr/>
          <p:nvPr/>
        </p:nvGrpSpPr>
        <p:grpSpPr>
          <a:xfrm>
            <a:off x="3429000" y="3943440"/>
            <a:ext cx="2016000" cy="485640"/>
            <a:chOff x="3429000" y="3943440"/>
            <a:chExt cx="2016000" cy="485640"/>
          </a:xfrm>
        </p:grpSpPr>
        <p:pic>
          <p:nvPicPr>
            <p:cNvPr id="243" name="Picture 52" descr="stacked_20red_20vodafone_20logo"/>
            <p:cNvPicPr/>
            <p:nvPr/>
          </p:nvPicPr>
          <p:blipFill>
            <a:blip r:embed="rId11"/>
            <a:stretch/>
          </p:blipFill>
          <p:spPr>
            <a:xfrm>
              <a:off x="4113000" y="3943440"/>
              <a:ext cx="6476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13"/>
            <p:cNvSpPr/>
            <p:nvPr/>
          </p:nvSpPr>
          <p:spPr>
            <a:xfrm>
              <a:off x="3429000" y="400680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05"/>
          <p:cNvGrpSpPr/>
          <p:nvPr/>
        </p:nvGrpSpPr>
        <p:grpSpPr>
          <a:xfrm>
            <a:off x="3429000" y="4433760"/>
            <a:ext cx="2016000" cy="360360"/>
            <a:chOff x="3429000" y="4433760"/>
            <a:chExt cx="2016000" cy="360360"/>
          </a:xfrm>
        </p:grpSpPr>
        <p:pic>
          <p:nvPicPr>
            <p:cNvPr id="246" name="Picture 50" descr="orange-logo"/>
            <p:cNvPicPr/>
            <p:nvPr/>
          </p:nvPicPr>
          <p:blipFill>
            <a:blip r:embed="rId12"/>
            <a:stretch/>
          </p:blipFill>
          <p:spPr>
            <a:xfrm>
              <a:off x="4255920" y="443376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14"/>
            <p:cNvSpPr/>
            <p:nvPr/>
          </p:nvSpPr>
          <p:spPr>
            <a:xfrm>
              <a:off x="3429000" y="443520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06"/>
          <p:cNvGrpSpPr/>
          <p:nvPr/>
        </p:nvGrpSpPr>
        <p:grpSpPr>
          <a:xfrm>
            <a:off x="3429000" y="4869000"/>
            <a:ext cx="2016000" cy="358560"/>
            <a:chOff x="3429000" y="4869000"/>
            <a:chExt cx="2016000" cy="358560"/>
          </a:xfrm>
        </p:grpSpPr>
        <p:pic>
          <p:nvPicPr>
            <p:cNvPr id="249" name="Picture 49" descr="logo-zapp_001(1)"/>
            <p:cNvPicPr/>
            <p:nvPr/>
          </p:nvPicPr>
          <p:blipFill>
            <a:blip r:embed="rId13"/>
            <a:stretch/>
          </p:blipFill>
          <p:spPr>
            <a:xfrm>
              <a:off x="4221000" y="4887720"/>
              <a:ext cx="431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115"/>
            <p:cNvSpPr/>
            <p:nvPr/>
          </p:nvSpPr>
          <p:spPr>
            <a:xfrm>
              <a:off x="3429000" y="486900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16"/>
          <p:cNvSpPr/>
          <p:nvPr/>
        </p:nvSpPr>
        <p:spPr>
          <a:xfrm>
            <a:off x="3429000" y="5294160"/>
            <a:ext cx="2016000" cy="358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07"/>
          <p:cNvGrpSpPr/>
          <p:nvPr/>
        </p:nvGrpSpPr>
        <p:grpSpPr>
          <a:xfrm>
            <a:off x="3429000" y="5722920"/>
            <a:ext cx="2016000" cy="358920"/>
            <a:chOff x="3429000" y="5722920"/>
            <a:chExt cx="2016000" cy="358920"/>
          </a:xfrm>
        </p:grpSpPr>
        <p:pic>
          <p:nvPicPr>
            <p:cNvPr id="253" name="Picture 48" descr="alcatel_logo"/>
            <p:cNvPicPr/>
            <p:nvPr/>
          </p:nvPicPr>
          <p:blipFill>
            <a:blip r:embed="rId14"/>
            <a:stretch/>
          </p:blipFill>
          <p:spPr>
            <a:xfrm>
              <a:off x="3911400" y="5762160"/>
              <a:ext cx="10522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117"/>
            <p:cNvSpPr/>
            <p:nvPr/>
          </p:nvSpPr>
          <p:spPr>
            <a:xfrm>
              <a:off x="3429000" y="572292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1"/>
          <p:cNvGrpSpPr/>
          <p:nvPr/>
        </p:nvGrpSpPr>
        <p:grpSpPr>
          <a:xfrm>
            <a:off x="3444840" y="987480"/>
            <a:ext cx="2016000" cy="2403360"/>
            <a:chOff x="3444840" y="987480"/>
            <a:chExt cx="2016000" cy="2403360"/>
          </a:xfrm>
        </p:grpSpPr>
        <p:sp>
          <p:nvSpPr>
            <p:cNvPr id="256" name="Rectangle 55"/>
            <p:cNvSpPr/>
            <p:nvPr/>
          </p:nvSpPr>
          <p:spPr>
            <a:xfrm>
              <a:off x="3549600" y="98748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nufactu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26"/>
            <p:cNvGrpSpPr/>
            <p:nvPr/>
          </p:nvGrpSpPr>
          <p:grpSpPr>
            <a:xfrm>
              <a:off x="3444840" y="1719360"/>
              <a:ext cx="2016000" cy="417240"/>
              <a:chOff x="3444840" y="1719360"/>
              <a:chExt cx="2016000" cy="417240"/>
            </a:xfrm>
          </p:grpSpPr>
          <p:pic>
            <p:nvPicPr>
              <p:cNvPr id="258" name="Picture 60" descr="Logo ArcelorMittal couleur"/>
              <p:cNvPicPr/>
              <p:nvPr/>
            </p:nvPicPr>
            <p:blipFill>
              <a:blip r:embed="rId15"/>
              <a:stretch/>
            </p:blipFill>
            <p:spPr>
              <a:xfrm>
                <a:off x="4046400" y="1719360"/>
                <a:ext cx="812160" cy="4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Rectangle 94"/>
              <p:cNvSpPr/>
              <p:nvPr/>
            </p:nvSpPr>
            <p:spPr>
              <a:xfrm>
                <a:off x="3444840" y="174780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29"/>
            <p:cNvGrpSpPr/>
            <p:nvPr/>
          </p:nvGrpSpPr>
          <p:grpSpPr>
            <a:xfrm>
              <a:off x="3444840" y="2171520"/>
              <a:ext cx="2016000" cy="360360"/>
              <a:chOff x="3444840" y="2171520"/>
              <a:chExt cx="2016000" cy="360360"/>
            </a:xfrm>
          </p:grpSpPr>
          <p:pic>
            <p:nvPicPr>
              <p:cNvPr id="261" name="Picture 61" descr="logo_mechel_eng"/>
              <p:cNvPicPr/>
              <p:nvPr/>
            </p:nvPicPr>
            <p:blipFill>
              <a:blip r:embed="rId16"/>
              <a:stretch/>
            </p:blipFill>
            <p:spPr>
              <a:xfrm>
                <a:off x="4163760" y="2171520"/>
                <a:ext cx="57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96"/>
              <p:cNvSpPr/>
              <p:nvPr/>
            </p:nvSpPr>
            <p:spPr>
              <a:xfrm>
                <a:off x="3444840" y="217296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27"/>
            <p:cNvGrpSpPr/>
            <p:nvPr/>
          </p:nvGrpSpPr>
          <p:grpSpPr>
            <a:xfrm>
              <a:off x="3444840" y="2604960"/>
              <a:ext cx="2016000" cy="358560"/>
              <a:chOff x="3444840" y="2604960"/>
              <a:chExt cx="2016000" cy="358560"/>
            </a:xfrm>
          </p:grpSpPr>
          <p:pic>
            <p:nvPicPr>
              <p:cNvPr id="264" name="Picture 59" descr="philip morris_logo1"/>
              <p:cNvPicPr/>
              <p:nvPr/>
            </p:nvPicPr>
            <p:blipFill>
              <a:blip r:embed="rId17"/>
              <a:srcRect l="0" t="0" r="0" b="14044"/>
              <a:stretch/>
            </p:blipFill>
            <p:spPr>
              <a:xfrm>
                <a:off x="4236840" y="2628720"/>
                <a:ext cx="431280" cy="30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98"/>
              <p:cNvSpPr/>
              <p:nvPr/>
            </p:nvSpPr>
            <p:spPr>
              <a:xfrm>
                <a:off x="3444840" y="26049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28"/>
            <p:cNvGrpSpPr/>
            <p:nvPr/>
          </p:nvGrpSpPr>
          <p:grpSpPr>
            <a:xfrm>
              <a:off x="3444840" y="3032280"/>
              <a:ext cx="2016000" cy="358560"/>
              <a:chOff x="3444840" y="3032280"/>
              <a:chExt cx="2016000" cy="358560"/>
            </a:xfrm>
          </p:grpSpPr>
          <p:pic>
            <p:nvPicPr>
              <p:cNvPr id="267" name="Picture 58" descr="nestle"/>
              <p:cNvPicPr/>
              <p:nvPr/>
            </p:nvPicPr>
            <p:blipFill>
              <a:blip r:embed="rId18"/>
              <a:stretch/>
            </p:blipFill>
            <p:spPr>
              <a:xfrm>
                <a:off x="4090680" y="3062520"/>
                <a:ext cx="72504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Rectangle 100"/>
              <p:cNvSpPr/>
              <p:nvPr/>
            </p:nvSpPr>
            <p:spPr>
              <a:xfrm>
                <a:off x="3444840" y="3032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01"/>
            <p:cNvGrpSpPr/>
            <p:nvPr/>
          </p:nvGrpSpPr>
          <p:grpSpPr>
            <a:xfrm>
              <a:off x="3444840" y="1312920"/>
              <a:ext cx="2016000" cy="358560"/>
              <a:chOff x="3444840" y="1312920"/>
              <a:chExt cx="2016000" cy="358560"/>
            </a:xfrm>
          </p:grpSpPr>
          <p:pic>
            <p:nvPicPr>
              <p:cNvPr id="270" name="Picture 150" descr="dacia_new"/>
              <p:cNvPicPr/>
              <p:nvPr/>
            </p:nvPicPr>
            <p:blipFill>
              <a:blip r:embed="rId19"/>
              <a:srcRect l="34877" t="28402" r="34877" b="31075"/>
              <a:stretch/>
            </p:blipFill>
            <p:spPr>
              <a:xfrm>
                <a:off x="4271760" y="1317600"/>
                <a:ext cx="360360" cy="33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149"/>
              <p:cNvSpPr/>
              <p:nvPr/>
            </p:nvSpPr>
            <p:spPr>
              <a:xfrm>
                <a:off x="3444840" y="13129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07"/>
          <p:cNvGrpSpPr/>
          <p:nvPr/>
        </p:nvGrpSpPr>
        <p:grpSpPr>
          <a:xfrm>
            <a:off x="6531120" y="3676680"/>
            <a:ext cx="2016000" cy="2418840"/>
            <a:chOff x="6531120" y="3676680"/>
            <a:chExt cx="2016000" cy="2418840"/>
          </a:xfrm>
        </p:grpSpPr>
        <p:sp>
          <p:nvSpPr>
            <p:cNvPr id="273" name="Rectangle 64"/>
            <p:cNvSpPr/>
            <p:nvPr/>
          </p:nvSpPr>
          <p:spPr>
            <a:xfrm>
              <a:off x="7022160" y="3676680"/>
              <a:ext cx="108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uca</a:t>
              </a: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ţ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lang="ro-RO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96"/>
            <p:cNvGrpSpPr/>
            <p:nvPr/>
          </p:nvGrpSpPr>
          <p:grpSpPr>
            <a:xfrm>
              <a:off x="6531120" y="4006800"/>
              <a:ext cx="2016000" cy="358560"/>
              <a:chOff x="6531120" y="4006800"/>
              <a:chExt cx="2016000" cy="358560"/>
            </a:xfrm>
          </p:grpSpPr>
          <p:sp>
            <p:nvSpPr>
              <p:cNvPr id="275" name="Rectangle 119"/>
              <p:cNvSpPr/>
              <p:nvPr/>
            </p:nvSpPr>
            <p:spPr>
              <a:xfrm>
                <a:off x="6531120" y="400680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159" descr="roedunet-164"/>
              <p:cNvPicPr/>
              <p:nvPr/>
            </p:nvPicPr>
            <p:blipFill>
              <a:blip r:embed="rId20"/>
              <a:stretch/>
            </p:blipFill>
            <p:spPr>
              <a:xfrm>
                <a:off x="7053120" y="4042080"/>
                <a:ext cx="97164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Group 100"/>
            <p:cNvGrpSpPr/>
            <p:nvPr/>
          </p:nvGrpSpPr>
          <p:grpSpPr>
            <a:xfrm>
              <a:off x="6531120" y="5705640"/>
              <a:ext cx="2016000" cy="389880"/>
              <a:chOff x="6531120" y="5705640"/>
              <a:chExt cx="2016000" cy="389880"/>
            </a:xfrm>
          </p:grpSpPr>
          <p:sp>
            <p:nvSpPr>
              <p:cNvPr id="278" name="Rectangle 123"/>
              <p:cNvSpPr/>
              <p:nvPr/>
            </p:nvSpPr>
            <p:spPr>
              <a:xfrm>
                <a:off x="6531120" y="571824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161" descr="Rectorat1"/>
              <p:cNvPicPr/>
              <p:nvPr/>
            </p:nvPicPr>
            <p:blipFill>
              <a:blip r:embed="rId21"/>
              <a:stretch/>
            </p:blipFill>
            <p:spPr>
              <a:xfrm>
                <a:off x="6746760" y="5724360"/>
                <a:ext cx="504720" cy="3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162"/>
              <p:cNvSpPr/>
              <p:nvPr/>
            </p:nvSpPr>
            <p:spPr>
              <a:xfrm>
                <a:off x="7294320" y="5705640"/>
                <a:ext cx="90612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imisoa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98"/>
            <p:cNvGrpSpPr/>
            <p:nvPr/>
          </p:nvGrpSpPr>
          <p:grpSpPr>
            <a:xfrm>
              <a:off x="6531120" y="4859280"/>
              <a:ext cx="2016000" cy="358560"/>
              <a:chOff x="6531120" y="4859280"/>
              <a:chExt cx="2016000" cy="358560"/>
            </a:xfrm>
          </p:grpSpPr>
          <p:sp>
            <p:nvSpPr>
              <p:cNvPr id="282" name="Rectangle 121"/>
              <p:cNvSpPr/>
              <p:nvPr/>
            </p:nvSpPr>
            <p:spPr>
              <a:xfrm>
                <a:off x="6531120" y="4859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157" descr="120px-Tuiasi_mare"/>
              <p:cNvPicPr/>
              <p:nvPr/>
            </p:nvPicPr>
            <p:blipFill>
              <a:blip r:embed="rId22"/>
              <a:stretch/>
            </p:blipFill>
            <p:spPr>
              <a:xfrm>
                <a:off x="6842160" y="4873320"/>
                <a:ext cx="27936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163"/>
              <p:cNvSpPr/>
              <p:nvPr/>
            </p:nvSpPr>
            <p:spPr>
              <a:xfrm>
                <a:off x="7293960" y="4900320"/>
                <a:ext cx="11120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Ias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99"/>
            <p:cNvGrpSpPr/>
            <p:nvPr/>
          </p:nvGrpSpPr>
          <p:grpSpPr>
            <a:xfrm>
              <a:off x="6531120" y="5295960"/>
              <a:ext cx="2016000" cy="358560"/>
              <a:chOff x="6531120" y="5295960"/>
              <a:chExt cx="2016000" cy="358560"/>
            </a:xfrm>
          </p:grpSpPr>
          <p:sp>
            <p:nvSpPr>
              <p:cNvPr id="286" name="Rectangle 122"/>
              <p:cNvSpPr/>
              <p:nvPr/>
            </p:nvSpPr>
            <p:spPr>
              <a:xfrm>
                <a:off x="6531120" y="52959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Picture 154" descr="sigla"/>
              <p:cNvPicPr/>
              <p:nvPr/>
            </p:nvPicPr>
            <p:blipFill>
              <a:blip r:embed="rId23"/>
              <a:srcRect l="30847" t="-8548" r="30847" b="56744"/>
              <a:stretch/>
            </p:blipFill>
            <p:spPr>
              <a:xfrm>
                <a:off x="6842160" y="5340240"/>
                <a:ext cx="358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Rectangle 164"/>
              <p:cNvSpPr/>
              <p:nvPr/>
            </p:nvSpPr>
            <p:spPr>
              <a:xfrm>
                <a:off x="7292880" y="5343480"/>
                <a:ext cx="113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Clu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97"/>
            <p:cNvGrpSpPr/>
            <p:nvPr/>
          </p:nvGrpSpPr>
          <p:grpSpPr>
            <a:xfrm>
              <a:off x="6531120" y="4432320"/>
              <a:ext cx="2016000" cy="358560"/>
              <a:chOff x="6531120" y="4432320"/>
              <a:chExt cx="2016000" cy="358560"/>
            </a:xfrm>
          </p:grpSpPr>
          <p:sp>
            <p:nvSpPr>
              <p:cNvPr id="290" name="Rectangle 120"/>
              <p:cNvSpPr/>
              <p:nvPr/>
            </p:nvSpPr>
            <p:spPr>
              <a:xfrm>
                <a:off x="6531120" y="44323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66"/>
              <p:cNvSpPr/>
              <p:nvPr/>
            </p:nvSpPr>
            <p:spPr>
              <a:xfrm>
                <a:off x="6730920" y="4483080"/>
                <a:ext cx="1616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at SuperComp Cen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95"/>
          <p:cNvGrpSpPr/>
          <p:nvPr/>
        </p:nvGrpSpPr>
        <p:grpSpPr>
          <a:xfrm>
            <a:off x="6516720" y="2181240"/>
            <a:ext cx="2016000" cy="360360"/>
            <a:chOff x="6516720" y="2181240"/>
            <a:chExt cx="2016000" cy="360360"/>
          </a:xfrm>
        </p:grpSpPr>
        <p:pic>
          <p:nvPicPr>
            <p:cNvPr id="293" name="Picture 87" descr="hidroelectrica.jpg"/>
            <p:cNvPicPr/>
            <p:nvPr/>
          </p:nvPicPr>
          <p:blipFill>
            <a:blip r:embed="rId24"/>
            <a:stretch/>
          </p:blipFill>
          <p:spPr>
            <a:xfrm>
              <a:off x="6858000" y="219888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81"/>
            <p:cNvSpPr/>
            <p:nvPr/>
          </p:nvSpPr>
          <p:spPr>
            <a:xfrm>
              <a:off x="6516720" y="218124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8"/>
            <p:cNvSpPr/>
            <p:nvPr/>
          </p:nvSpPr>
          <p:spPr>
            <a:xfrm>
              <a:off x="7134840" y="2276280"/>
              <a:ext cx="12016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868686"/>
                  </a:solidFill>
                  <a:latin typeface="Arial"/>
                </a:rPr>
                <a:t>HIDROELECT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89"/>
          <p:cNvSpPr/>
          <p:nvPr/>
        </p:nvSpPr>
        <p:spPr>
          <a:xfrm>
            <a:off x="7131600" y="2378160"/>
            <a:ext cx="913680" cy="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868686"/>
                </a:solidFill>
                <a:latin typeface="Arial"/>
                <a:ea typeface="Arial"/>
              </a:rPr>
              <a:t>Puterea noastra este apa!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355680" y="111240"/>
            <a:ext cx="83185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  <a:ea typeface="Arial"/>
              </a:rPr>
              <a:t>Customer References – Top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0"/>
          <p:cNvGrpSpPr/>
          <p:nvPr/>
        </p:nvGrpSpPr>
        <p:grpSpPr>
          <a:xfrm>
            <a:off x="473040" y="987480"/>
            <a:ext cx="2022480" cy="2441520"/>
            <a:chOff x="473040" y="987480"/>
            <a:chExt cx="2022480" cy="2441520"/>
          </a:xfrm>
        </p:grpSpPr>
        <p:sp>
          <p:nvSpPr>
            <p:cNvPr id="299" name="Rectangle 45"/>
            <p:cNvSpPr/>
            <p:nvPr/>
          </p:nvSpPr>
          <p:spPr>
            <a:xfrm>
              <a:off x="1068480" y="98748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90"/>
            <p:cNvGrpSpPr/>
            <p:nvPr/>
          </p:nvGrpSpPr>
          <p:grpSpPr>
            <a:xfrm>
              <a:off x="473040" y="1363680"/>
              <a:ext cx="2018880" cy="358560"/>
              <a:chOff x="473040" y="1363680"/>
              <a:chExt cx="2018880" cy="35856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1601280" y="1431720"/>
                <a:ext cx="8906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200" spc="-1" strike="noStrike">
                    <a:solidFill>
                      <a:srgbClr val="000000"/>
                    </a:solidFill>
                    <a:latin typeface="Calibri"/>
                  </a:rPr>
                  <a:t>Servicii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04"/>
              <p:cNvSpPr/>
              <p:nvPr/>
            </p:nvSpPr>
            <p:spPr>
              <a:xfrm>
                <a:off x="473040" y="136368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91"/>
            <p:cNvGrpSpPr/>
            <p:nvPr/>
          </p:nvGrpSpPr>
          <p:grpSpPr>
            <a:xfrm>
              <a:off x="473040" y="1782720"/>
              <a:ext cx="2019960" cy="358560"/>
              <a:chOff x="473040" y="1782720"/>
              <a:chExt cx="2019960" cy="358560"/>
            </a:xfrm>
          </p:grpSpPr>
          <p:sp>
            <p:nvSpPr>
              <p:cNvPr id="304" name="Rectangle 105"/>
              <p:cNvSpPr/>
              <p:nvPr/>
            </p:nvSpPr>
            <p:spPr>
              <a:xfrm>
                <a:off x="473040" y="178272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44"/>
              <p:cNvSpPr/>
              <p:nvPr/>
            </p:nvSpPr>
            <p:spPr>
              <a:xfrm>
                <a:off x="1553400" y="1850760"/>
                <a:ext cx="9396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etwor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92"/>
            <p:cNvGrpSpPr/>
            <p:nvPr/>
          </p:nvGrpSpPr>
          <p:grpSpPr>
            <a:xfrm>
              <a:off x="473040" y="2216160"/>
              <a:ext cx="2019240" cy="358560"/>
              <a:chOff x="473040" y="2216160"/>
              <a:chExt cx="2019240" cy="358560"/>
            </a:xfrm>
          </p:grpSpPr>
          <p:sp>
            <p:nvSpPr>
              <p:cNvPr id="307" name="Rectangle 106"/>
              <p:cNvSpPr/>
              <p:nvPr/>
            </p:nvSpPr>
            <p:spPr>
              <a:xfrm>
                <a:off x="473040" y="221616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46"/>
              <p:cNvSpPr/>
              <p:nvPr/>
            </p:nvSpPr>
            <p:spPr>
              <a:xfrm>
                <a:off x="1601280" y="2273040"/>
                <a:ext cx="89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2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rvicii S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93"/>
            <p:cNvGrpSpPr/>
            <p:nvPr/>
          </p:nvGrpSpPr>
          <p:grpSpPr>
            <a:xfrm>
              <a:off x="473040" y="2646360"/>
              <a:ext cx="2022480" cy="360360"/>
              <a:chOff x="473040" y="2646360"/>
              <a:chExt cx="2022480" cy="360360"/>
            </a:xfrm>
          </p:grpSpPr>
          <p:sp>
            <p:nvSpPr>
              <p:cNvPr id="310" name="Rectangle 107"/>
              <p:cNvSpPr/>
              <p:nvPr/>
            </p:nvSpPr>
            <p:spPr>
              <a:xfrm>
                <a:off x="473040" y="2646360"/>
                <a:ext cx="2016360" cy="3603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47"/>
              <p:cNvSpPr/>
              <p:nvPr/>
            </p:nvSpPr>
            <p:spPr>
              <a:xfrm>
                <a:off x="1590840" y="2679480"/>
                <a:ext cx="9046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etwor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4"/>
            <p:cNvGrpSpPr/>
            <p:nvPr/>
          </p:nvGrpSpPr>
          <p:grpSpPr>
            <a:xfrm>
              <a:off x="473040" y="3070440"/>
              <a:ext cx="2016720" cy="358560"/>
              <a:chOff x="473040" y="3070440"/>
              <a:chExt cx="2016720" cy="358560"/>
            </a:xfrm>
          </p:grpSpPr>
          <p:sp>
            <p:nvSpPr>
              <p:cNvPr id="313" name="Rectangle 108"/>
              <p:cNvSpPr/>
              <p:nvPr/>
            </p:nvSpPr>
            <p:spPr>
              <a:xfrm>
                <a:off x="473040" y="3070440"/>
                <a:ext cx="201672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48"/>
              <p:cNvSpPr/>
              <p:nvPr/>
            </p:nvSpPr>
            <p:spPr>
              <a:xfrm>
                <a:off x="974880" y="3121200"/>
                <a:ext cx="18468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5" name="Picture 105" descr=""/>
            <p:cNvPicPr/>
            <p:nvPr/>
          </p:nvPicPr>
          <p:blipFill>
            <a:blip r:embed="rId25"/>
            <a:stretch/>
          </p:blipFill>
          <p:spPr>
            <a:xfrm>
              <a:off x="521280" y="3107520"/>
              <a:ext cx="714600" cy="2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06" descr=""/>
            <p:cNvPicPr/>
            <p:nvPr/>
          </p:nvPicPr>
          <p:blipFill>
            <a:blip r:embed="rId26"/>
            <a:srcRect l="0" t="36984" r="0" b="36984"/>
            <a:stretch/>
          </p:blipFill>
          <p:spPr>
            <a:xfrm>
              <a:off x="544320" y="1844640"/>
              <a:ext cx="881280" cy="2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07" descr=""/>
            <p:cNvPicPr/>
            <p:nvPr/>
          </p:nvPicPr>
          <p:blipFill>
            <a:blip r:embed="rId27"/>
            <a:stretch/>
          </p:blipFill>
          <p:spPr>
            <a:xfrm>
              <a:off x="496800" y="2239920"/>
              <a:ext cx="9813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08" descr=""/>
            <p:cNvPicPr/>
            <p:nvPr/>
          </p:nvPicPr>
          <p:blipFill>
            <a:blip r:embed="rId28"/>
            <a:srcRect l="0" t="0" r="0" b="6972"/>
            <a:stretch/>
          </p:blipFill>
          <p:spPr>
            <a:xfrm>
              <a:off x="496800" y="1374120"/>
              <a:ext cx="4287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146"/>
            <p:cNvSpPr/>
            <p:nvPr/>
          </p:nvSpPr>
          <p:spPr>
            <a:xfrm>
              <a:off x="1569600" y="3130560"/>
              <a:ext cx="924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bri"/>
                </a:rPr>
                <a:t>Data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09" descr=""/>
            <p:cNvPicPr/>
            <p:nvPr/>
          </p:nvPicPr>
          <p:blipFill>
            <a:blip r:embed="rId29"/>
            <a:srcRect l="4402" t="53970" r="0" b="24470"/>
            <a:stretch/>
          </p:blipFill>
          <p:spPr>
            <a:xfrm>
              <a:off x="496800" y="2702160"/>
              <a:ext cx="114336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714240" y="1285920"/>
            <a:ext cx="8143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Detalii Contac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 Radu Vo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nior Sales Leader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mail: </a:t>
            </a:r>
            <a:r>
              <a:rPr b="0" lang="en-US" sz="40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radu.voicu@romsys.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el. 0720 880 28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57120" y="730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Comp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1000" y="1341360"/>
            <a:ext cx="679284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i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tembrie 199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ital Social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% Privat (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gaj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ii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iu Central – Bucu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1250"/>
              </a:spcBef>
              <a:tabLst>
                <a:tab algn="l" pos="0"/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fil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636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e a New Frontier Hold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ze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Cehia, Ungaria, Slovacia, Ro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a, SU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636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inderea acoperirii prin parteneriate c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sia/ C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11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ientul Mijlo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85840" y="4500720"/>
            <a:ext cx="7429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omsys | Portfoliu &amp; Servicii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78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Portofoli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Placinta.jpg"/>
          <p:cNvPicPr/>
          <p:nvPr/>
        </p:nvPicPr>
        <p:blipFill>
          <a:blip r:embed="rId1"/>
          <a:stretch/>
        </p:blipFill>
        <p:spPr>
          <a:xfrm>
            <a:off x="1908000" y="620640"/>
            <a:ext cx="5635800" cy="542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4508640"/>
            <a:ext cx="2708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mprove your busines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ontrol business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372360" y="4508640"/>
            <a:ext cx="288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Inno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rive best-in class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Outperform in cli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reate unique competitiv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02560" y="1413000"/>
            <a:ext cx="1930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Efficien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educ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40" y="1341360"/>
            <a:ext cx="2541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Auto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elf service your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elf enable your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Automate services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8680" y="70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Parteneri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63"/>
          <p:cNvGrpSpPr/>
          <p:nvPr/>
        </p:nvGrpSpPr>
        <p:grpSpPr>
          <a:xfrm>
            <a:off x="1643040" y="1071720"/>
            <a:ext cx="5500800" cy="5072040"/>
            <a:chOff x="1643040" y="1071720"/>
            <a:chExt cx="5500800" cy="507204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rcRect l="8752" t="9087" r="11249" b="7871"/>
            <a:stretch/>
          </p:blipFill>
          <p:spPr>
            <a:xfrm>
              <a:off x="1643040" y="1071720"/>
              <a:ext cx="5500800" cy="507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39"/>
            <p:cNvGrpSpPr/>
            <p:nvPr/>
          </p:nvGrpSpPr>
          <p:grpSpPr>
            <a:xfrm>
              <a:off x="2015640" y="1666080"/>
              <a:ext cx="2823480" cy="1325160"/>
              <a:chOff x="2015640" y="1666080"/>
              <a:chExt cx="2823480" cy="1325160"/>
            </a:xfrm>
          </p:grpSpPr>
          <p:pic>
            <p:nvPicPr>
              <p:cNvPr id="127" name="Picture 32" descr="_18_wincor"/>
              <p:cNvPicPr/>
              <p:nvPr/>
            </p:nvPicPr>
            <p:blipFill>
              <a:blip r:embed="rId2"/>
              <a:stretch/>
            </p:blipFill>
            <p:spPr>
              <a:xfrm>
                <a:off x="2806920" y="2225520"/>
                <a:ext cx="621720" cy="27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Rectangle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5640" y="1666080"/>
                <a:ext cx="1490400" cy="3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1440" y="2557440"/>
                <a:ext cx="7513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Rectangl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015640" y="2624040"/>
                <a:ext cx="1490400" cy="3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Rectangle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3318480" y="1666080"/>
                <a:ext cx="152064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36"/>
            <p:cNvGrpSpPr/>
            <p:nvPr/>
          </p:nvGrpSpPr>
          <p:grpSpPr>
            <a:xfrm>
              <a:off x="4748400" y="1649520"/>
              <a:ext cx="1841400" cy="1657800"/>
              <a:chOff x="4748400" y="1649520"/>
              <a:chExt cx="1841400" cy="1657800"/>
            </a:xfrm>
          </p:grpSpPr>
          <p:pic>
            <p:nvPicPr>
              <p:cNvPr id="133" name="Picture 27" descr="_40_check_point"/>
              <p:cNvPicPr/>
              <p:nvPr/>
            </p:nvPicPr>
            <p:blipFill>
              <a:blip r:embed="rId7"/>
              <a:stretch/>
            </p:blipFill>
            <p:spPr>
              <a:xfrm>
                <a:off x="5970600" y="2908080"/>
                <a:ext cx="353160" cy="39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28" descr="_73_Symantec1"/>
              <p:cNvPicPr/>
              <p:nvPr/>
            </p:nvPicPr>
            <p:blipFill>
              <a:blip r:embed="rId8"/>
              <a:stretch/>
            </p:blipFill>
            <p:spPr>
              <a:xfrm>
                <a:off x="5714640" y="1649520"/>
                <a:ext cx="875160" cy="21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29" descr="_87_dell"/>
              <p:cNvPicPr/>
              <p:nvPr/>
            </p:nvPicPr>
            <p:blipFill>
              <a:blip r:embed="rId9"/>
              <a:stretch/>
            </p:blipFill>
            <p:spPr>
              <a:xfrm>
                <a:off x="4949640" y="1683000"/>
                <a:ext cx="510120" cy="1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30" descr="nexans"/>
              <p:cNvPicPr/>
              <p:nvPr/>
            </p:nvPicPr>
            <p:blipFill>
              <a:blip r:embed="rId10"/>
              <a:srcRect l="0" t="0" r="15873" b="24366"/>
              <a:stretch/>
            </p:blipFill>
            <p:spPr>
              <a:xfrm>
                <a:off x="4779720" y="3021120"/>
                <a:ext cx="7862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31" descr="_36_Sun"/>
              <p:cNvPicPr/>
              <p:nvPr/>
            </p:nvPicPr>
            <p:blipFill>
              <a:blip r:embed="rId11"/>
              <a:stretch/>
            </p:blipFill>
            <p:spPr>
              <a:xfrm>
                <a:off x="4916880" y="2687040"/>
                <a:ext cx="5184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32" descr="EMC_logo_hardware"/>
              <p:cNvPicPr/>
              <p:nvPr/>
            </p:nvPicPr>
            <p:blipFill>
              <a:blip r:embed="rId12"/>
              <a:srcRect l="0" t="23886" r="0" b="0"/>
              <a:stretch/>
            </p:blipFill>
            <p:spPr>
              <a:xfrm>
                <a:off x="4893480" y="1957320"/>
                <a:ext cx="577800" cy="26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33" descr="cisco logo"/>
              <p:cNvPicPr/>
              <p:nvPr/>
            </p:nvPicPr>
            <p:blipFill>
              <a:blip r:embed="rId13"/>
              <a:stretch/>
            </p:blipFill>
            <p:spPr>
              <a:xfrm>
                <a:off x="5716080" y="2338200"/>
                <a:ext cx="8719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35" descr="VMware.jpg"/>
              <p:cNvPicPr/>
              <p:nvPr/>
            </p:nvPicPr>
            <p:blipFill>
              <a:blip r:embed="rId14"/>
              <a:stretch/>
            </p:blipFill>
            <p:spPr>
              <a:xfrm>
                <a:off x="4748400" y="2309400"/>
                <a:ext cx="81756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35" descr="C:\stefan\2009\BPEM1XC_.GIF"/>
              <p:cNvPicPr/>
              <p:nvPr/>
            </p:nvPicPr>
            <p:blipFill>
              <a:blip r:embed="rId15"/>
              <a:stretch/>
            </p:blipFill>
            <p:spPr>
              <a:xfrm>
                <a:off x="5805360" y="2010600"/>
                <a:ext cx="741600" cy="335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" name="Group 38"/>
            <p:cNvGrpSpPr/>
            <p:nvPr/>
          </p:nvGrpSpPr>
          <p:grpSpPr>
            <a:xfrm>
              <a:off x="1962360" y="4002120"/>
              <a:ext cx="2324520" cy="1557720"/>
              <a:chOff x="1962360" y="4002120"/>
              <a:chExt cx="2324520" cy="1557720"/>
            </a:xfrm>
          </p:grpSpPr>
          <p:pic>
            <p:nvPicPr>
              <p:cNvPr id="143" name="Picture 20" descr="http://www.adobe.com/products/flex/images/business_objects_logo_rgb_160x75.jpg"/>
              <p:cNvPicPr/>
              <p:nvPr/>
            </p:nvPicPr>
            <p:blipFill>
              <a:blip r:embed="rId16"/>
              <a:stretch/>
            </p:blipFill>
            <p:spPr>
              <a:xfrm>
                <a:off x="1962360" y="5199480"/>
                <a:ext cx="647280" cy="28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22" descr="http://www.selectica.com/Selectica_web/logos/sap_logo.gif"/>
              <p:cNvPicPr/>
              <p:nvPr/>
            </p:nvPicPr>
            <p:blipFill>
              <a:blip r:embed="rId17"/>
              <a:stretch/>
            </p:blipFill>
            <p:spPr>
              <a:xfrm>
                <a:off x="2058120" y="4002120"/>
                <a:ext cx="700200" cy="44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22" descr="Outlooksoft_logo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2054520" y="4692240"/>
                <a:ext cx="703440" cy="23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Box 33"/>
              <p:cNvSpPr/>
              <p:nvPr/>
            </p:nvSpPr>
            <p:spPr>
              <a:xfrm>
                <a:off x="3333600" y="4140720"/>
                <a:ext cx="95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Tahoma"/>
                    <a:ea typeface="Tahoma"/>
                  </a:rPr>
                  <a:t>Horizontal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Tahoma"/>
                    <a:ea typeface="Tahoma"/>
                  </a:rPr>
                  <a:t>Solu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Box 52"/>
              <p:cNvSpPr/>
              <p:nvPr/>
            </p:nvSpPr>
            <p:spPr>
              <a:xfrm>
                <a:off x="3323520" y="5131080"/>
                <a:ext cx="8316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c40000"/>
                    </a:solidFill>
                    <a:latin typeface="Tahoma"/>
                    <a:ea typeface="Tahoma"/>
                  </a:rPr>
                  <a:t>Industr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c40000"/>
                    </a:solidFill>
                    <a:latin typeface="Tahoma"/>
                    <a:ea typeface="Tahoma"/>
                  </a:rPr>
                  <a:t>Solu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5" descr="C:\Documents and Settings\alice\Desktop\logo_SAP_Partner.jpg"/>
              <p:cNvPicPr/>
              <p:nvPr/>
            </p:nvPicPr>
            <p:blipFill>
              <a:blip r:embed="rId20"/>
              <a:stretch/>
            </p:blipFill>
            <p:spPr>
              <a:xfrm>
                <a:off x="3055680" y="4615920"/>
                <a:ext cx="817560" cy="45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Group 37"/>
            <p:cNvGrpSpPr/>
            <p:nvPr/>
          </p:nvGrpSpPr>
          <p:grpSpPr>
            <a:xfrm>
              <a:off x="4616280" y="3726000"/>
              <a:ext cx="2300760" cy="2019600"/>
              <a:chOff x="4616280" y="3726000"/>
              <a:chExt cx="2300760" cy="2019600"/>
            </a:xfrm>
          </p:grpSpPr>
          <p:pic>
            <p:nvPicPr>
              <p:cNvPr id="150" name="Picture 48" descr="alfresco-logo_mic_site"/>
              <p:cNvPicPr/>
              <p:nvPr/>
            </p:nvPicPr>
            <p:blipFill>
              <a:blip r:embed="rId21"/>
              <a:stretch/>
            </p:blipFill>
            <p:spPr>
              <a:xfrm>
                <a:off x="4616280" y="3862800"/>
                <a:ext cx="806040" cy="26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53" descr="logo_cognos"/>
              <p:cNvPicPr/>
              <p:nvPr/>
            </p:nvPicPr>
            <p:blipFill>
              <a:blip r:embed="rId22"/>
              <a:stretch/>
            </p:blipFill>
            <p:spPr>
              <a:xfrm>
                <a:off x="4690440" y="4273920"/>
                <a:ext cx="761400" cy="15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2" descr="oracle_logo"/>
              <p:cNvPicPr/>
              <p:nvPr/>
            </p:nvPicPr>
            <p:blipFill>
              <a:blip r:embed="rId23"/>
              <a:stretch/>
            </p:blipFill>
            <p:spPr>
              <a:xfrm>
                <a:off x="6102720" y="5232960"/>
                <a:ext cx="8143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4616280" y="5268600"/>
                <a:ext cx="72324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28" descr="logoAB.jpg"/>
              <p:cNvPicPr/>
              <p:nvPr/>
            </p:nvPicPr>
            <p:blipFill>
              <a:blip r:embed="rId25"/>
              <a:stretch/>
            </p:blipFill>
            <p:spPr>
              <a:xfrm>
                <a:off x="5731200" y="3726000"/>
                <a:ext cx="771120" cy="4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31" descr="_36_Sun"/>
              <p:cNvPicPr/>
              <p:nvPr/>
            </p:nvPicPr>
            <p:blipFill>
              <a:blip r:embed="rId26"/>
              <a:stretch/>
            </p:blipFill>
            <p:spPr>
              <a:xfrm>
                <a:off x="6177240" y="5506920"/>
                <a:ext cx="556560" cy="2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9" descr="microsoft-net-has-a-new-logo"/>
              <p:cNvPicPr/>
              <p:nvPr/>
            </p:nvPicPr>
            <p:blipFill>
              <a:blip r:embed="rId27"/>
              <a:srcRect l="33265" t="0" r="0" b="0"/>
              <a:stretch/>
            </p:blipFill>
            <p:spPr>
              <a:xfrm>
                <a:off x="6102720" y="4753440"/>
                <a:ext cx="586080" cy="30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39" descr="Java.jpg"/>
              <p:cNvPicPr/>
              <p:nvPr/>
            </p:nvPicPr>
            <p:blipFill>
              <a:blip r:embed="rId28"/>
              <a:srcRect l="14435" t="2900" r="19094" b="1760"/>
              <a:stretch/>
            </p:blipFill>
            <p:spPr>
              <a:xfrm>
                <a:off x="5508000" y="5027400"/>
                <a:ext cx="406080" cy="53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34" descr="C:\stefan\2009\BPEM1XC_.GIF"/>
              <p:cNvPicPr/>
              <p:nvPr/>
            </p:nvPicPr>
            <p:blipFill>
              <a:blip r:embed="rId29"/>
              <a:stretch/>
            </p:blipFill>
            <p:spPr>
              <a:xfrm>
                <a:off x="5879880" y="4273920"/>
                <a:ext cx="74160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2" descr="C:\My Documents\SIGLE\sigle_parteneri\Microsoft + Gold\Gold_Partner_rgb_7_2_1.jpg"/>
              <p:cNvPicPr/>
              <p:nvPr/>
            </p:nvPicPr>
            <p:blipFill>
              <a:blip r:embed="rId30"/>
              <a:srcRect l="0" t="0" r="64718" b="0"/>
              <a:stretch/>
            </p:blipFill>
            <p:spPr>
              <a:xfrm>
                <a:off x="4821480" y="4688640"/>
                <a:ext cx="852120" cy="39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t2.jpg"/>
          <p:cNvPicPr/>
          <p:nvPr/>
        </p:nvPicPr>
        <p:blipFill>
          <a:blip r:embed="rId1"/>
          <a:srcRect l="0" t="13462" r="27400" b="8240"/>
          <a:stretch/>
        </p:blipFill>
        <p:spPr>
          <a:xfrm>
            <a:off x="4941720" y="260280"/>
            <a:ext cx="4131000" cy="4286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55680" y="1392120"/>
            <a:ext cx="5643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ts val="1998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operire tot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erviciilor de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entru de 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ecuri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Organ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ncte n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e de prez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u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e parts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57120" y="3909960"/>
            <a:ext cx="578664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e Level Agre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26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re Apel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on site/ la dis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de urg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afara orelor de luc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nscdiscovery.org/ll/images/IT-support-png%5B1%5D.png"/>
          <p:cNvPicPr/>
          <p:nvPr/>
        </p:nvPicPr>
        <p:blipFill>
          <a:blip r:embed="rId1"/>
          <a:stretch/>
        </p:blipFill>
        <p:spPr>
          <a:xfrm>
            <a:off x="6546960" y="1474920"/>
            <a:ext cx="2511360" cy="3219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4776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 – Servicii de Su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53880" y="1236600"/>
            <a:ext cx="5932800" cy="422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nct  singular de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e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uport pentru tehnologia de 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f a compan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ere prevent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zarea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up d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ch &amp; Upgrade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, OS &amp; applic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 adresam clientilor din retail cu raspandire natio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rcRect l="0" t="0" r="7210" b="0"/>
          <a:stretch/>
        </p:blipFill>
        <p:spPr>
          <a:xfrm>
            <a:off x="6643800" y="1347840"/>
            <a:ext cx="2149200" cy="3029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351000" y="1338120"/>
            <a:ext cx="62863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desig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strategi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tim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ged Communication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fied Messag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Contact Cent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Protocol Television (IPT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Mobilit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Securitate a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Management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4776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 - Comunica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4:38:27Z</dcterms:created>
  <dc:creator>monica</dc:creator>
  <dc:description/>
  <dc:language>en-US</dc:language>
  <cp:lastModifiedBy>raduvoicu</cp:lastModifiedBy>
  <dcterms:modified xsi:type="dcterms:W3CDTF">2009-12-07T15:40:10Z</dcterms:modified>
  <cp:revision>254</cp:revision>
  <dc:subject/>
  <dc:title>Slide 1</dc:title>
</cp:coreProperties>
</file>