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2F3-2011-403C-802A-B21FD903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F7C-CA95-4F0F-B29C-5D41CBE5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920-74AD-4FA2-A971-101BD615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48B-C236-46E7-8E22-749F8435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747D-FCBC-4618-8005-39CF8ADD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2E9-B919-4174-A365-3D5F49F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4FDE-90E8-4025-B584-9CBD09DC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2408-8D7C-411A-9A37-6F79F1ED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22D2-BB69-4B28-B182-4FA7DB7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C80-763C-49D0-84D3-28D7A13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DF9-EDAA-4342-8F47-D25D719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5A8-8FCD-471C-BD58-C9D9197F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7B1A-7A4F-4936-92CE-ECFC8C0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0206-27BF-42CC-97EF-00B42A5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074-A5C2-49DD-87B3-2B64466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5AC2-4818-4304-87CF-9E9F25F3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776-A7FB-4D0E-BC56-5630123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95F-5416-4B42-BAF0-CBB271C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46E-EE49-4E32-8187-6F056F1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FF0-0B2E-4201-9A7D-A6DF38A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43F-4964-4E17-A33E-A3F6E37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425-8FC2-4B89-B51D-5ABCFF2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9C3-F98A-437A-BB81-2CA7931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B79-7FCA-441B-A49F-451A3E7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Click to edit the title text format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F40F-6D00-4746-B554-783918198E0A}" type="slidenum"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59640" y="6021360"/>
            <a:ext cx="1584360" cy="52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0808"/>
                </a:solidFill>
                <a:latin typeface="Impact"/>
              </a:rPr>
              <a:t>Click to edit the title text format</a:t>
            </a:r>
            <a:endParaRPr b="0" lang="en-US" sz="21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B5F-B68B-4347-8CB2-E666B1926AC5}" type="slidenum">
              <a:rPr b="0" lang="ro-RO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Click to edit the outline text format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Cum s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 trat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m eficient problema pierderilor din retail 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ntr-un an de criz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12000" y="5157720"/>
            <a:ext cx="3132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0808"/>
                </a:solidFill>
                <a:latin typeface="Impact"/>
              </a:rPr>
              <a:t>Dorel Com</a:t>
            </a:r>
            <a:r>
              <a:rPr b="0" lang="ro-RO" sz="21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100" spc="-1" strike="noStrike">
                <a:solidFill>
                  <a:srgbClr val="080808"/>
                </a:solidFill>
                <a:latin typeface="Impact"/>
              </a:rPr>
              <a:t>ni</a:t>
            </a:r>
            <a:r>
              <a:rPr b="0" lang="ro-RO" sz="2100" spc="-1" strike="noStrike">
                <a:solidFill>
                  <a:srgbClr val="080808"/>
                </a:solidFill>
                <a:latin typeface="Impact"/>
              </a:rPr>
              <a:t>ţă</a:t>
            </a:r>
            <a:endParaRPr b="0" lang="en-US" sz="2100" spc="-1" strike="noStrike">
              <a:solidFill>
                <a:srgbClr val="080808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0808"/>
                </a:solidFill>
                <a:latin typeface="Impact"/>
              </a:rPr>
              <a:t>Administrator Softmatic</a:t>
            </a:r>
            <a:endParaRPr b="0" lang="en-US" sz="21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62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8 Decembrie 200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8960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Parteneriat strategic Softmatic - Altworx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Altworx este un sistem de monitorizare inteligent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a afacerii dumneavoastr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. V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transmite informa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i cu privire la: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Unde pute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 economisi?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Cum pute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 deveni mai eficient ?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Impact"/>
            </a:endParaRPr>
          </a:p>
          <a:p>
            <a:pPr lvl="1" marL="7430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Prima companie care beneficiaz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de un astfel de in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s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trument de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1" marL="7430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analiz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a businessului  este Carrefour Rom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nia. 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32000" y="5373720"/>
            <a:ext cx="3240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Cuprins</a:t>
            </a:r>
            <a:endParaRPr b="0" lang="en-US" sz="30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Pia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a de retail 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n 2009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Parteneriat Checkpoint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Parteneriat Altworx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Pia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a de retail </a:t>
            </a:r>
            <a:r>
              <a:rPr b="0" lang="ro-RO" sz="30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3000" spc="-1" strike="noStrike">
                <a:solidFill>
                  <a:srgbClr val="080808"/>
                </a:solidFill>
                <a:latin typeface="Impact"/>
              </a:rPr>
              <a:t>n Europa</a:t>
            </a:r>
            <a:endParaRPr b="0" lang="en-US" sz="30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Criza economică a determinat la nivel global creşterea pierderilor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din retail şi nu numai. S-a observat de asemenea o creştere a numarului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infracţiunilor, în special a celor care fac uz de arme de foc.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Pe fondul scăderilor vânzărilor şi a profitului, companiile au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diminuat fondurile alocate pentru securitate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, cea mai mare sc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dere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registr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du-se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cazul sistemelor de supraveghere video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 a protec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ei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fondului de marf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(antene antifurt)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. 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Astfel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,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 situaţia la nivel european 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prezint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41,2%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dintre retaileri au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registrat o cre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tere a furturilor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2009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19,5%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dintre retaileri au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registrat cre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terea furturilor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randul angaja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lor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1/3 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dintre retaileri atribuie cre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terea num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rului de furturi crizei economice</a:t>
            </a: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Cre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terea num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rului infrac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iunilor 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i a pierderilor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44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Pierderile medii 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î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n 2009 sunt de aproximativ 1,33% din total v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â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nz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ri, 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î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nregistr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â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nd astfel o cre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tere de +4,7% fa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ţă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 de 2008.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Procentul pierderilor  din v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nz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ri</a:t>
            </a:r>
            <a:endParaRPr b="0" lang="en-US" sz="1600" spc="-1" strike="noStrike">
              <a:solidFill>
                <a:srgbClr val="080808"/>
              </a:solidFill>
              <a:latin typeface="Impact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63640" y="2205000"/>
          <a:ext cx="69850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205000"/>
                    <a:ext cx="69850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Rata pierderilor pe 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ţă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ri 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n 2009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1268280"/>
            <a:ext cx="759636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Cele mai mari rate a pierderilor (ca procent din v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z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ri)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2009, s-au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registrat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Turcia (1,67%), Cehia (1,47%)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 Slovacia (1,45%). Cele mai mici, ca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anii preceden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, s-au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registrat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Austria (0,99%), Elve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a (1,03%)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 Germania (1,17%).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Aceste pierderi i-au costat pe retaileri 32,285 milioane de euro!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47640" y="3068640"/>
          <a:ext cx="7596360" cy="378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3068640"/>
                    <a:ext cx="7596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Cre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terea pierderilor pe tipuri de activit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ăţ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i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587700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Pierderile ca procent din v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nz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rile din retai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7208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208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Surse ale pierderilor - concluzii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700280"/>
            <a:ext cx="7380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Furturile externe – principala surs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 a pierderilo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Furturile 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n r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ndul angaja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ilor continu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 s</a:t>
            </a:r>
            <a:r>
              <a:rPr b="0" lang="ro-RO" sz="16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 reprezinte peste 30% din pierderi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Impact"/>
              </a:rPr>
              <a:t>31,4% dintre produsele “cel mai mult furate” nu sunt protejate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76360" y="3260880"/>
          <a:ext cx="7667640" cy="33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260880"/>
                    <a:ext cx="766764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Cum s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 trat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m eficient problema pierderilor din retail 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ntr-un an de criz</a:t>
            </a:r>
            <a:r>
              <a:rPr b="0" lang="ro-RO" sz="25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 ?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9152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Controlul eficient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al furturilor, pierderilor 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 a efectelor negative cauzate de neglijen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a personalului poate aduce contribu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i semnificative 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n ceea ce prive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te profitabilitatea afacerii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marL="315360" indent="-315360" algn="just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Managementul eficient al pierderilor necesit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implicarea activ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 a top managementului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  <a:p>
            <a:pPr marL="315360" indent="-315360" algn="just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Î</a:t>
            </a:r>
            <a:r>
              <a:rPr b="0" lang="en-US" sz="2000" spc="-1" strike="noStrike">
                <a:solidFill>
                  <a:srgbClr val="ff3300"/>
                </a:solidFill>
                <a:latin typeface="Impact"/>
              </a:rPr>
              <a:t>ncheierea de parteneriate</a:t>
            </a:r>
            <a:r>
              <a:rPr b="0" lang="ro-RO" sz="2000" spc="-1" strike="noStrike">
                <a:solidFill>
                  <a:srgbClr val="ff3300"/>
                </a:solidFill>
                <a:latin typeface="Impact"/>
              </a:rPr>
              <a:t> strategice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cu furnizori de top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,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capabili s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analizeze situa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a specific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 s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 ofere solu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ile cele mai sustenabile 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i eficiente 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n ceea ce prive</a:t>
            </a:r>
            <a:r>
              <a:rPr b="0" lang="ro-RO" sz="20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2000" spc="-1" strike="noStrike">
                <a:solidFill>
                  <a:srgbClr val="080808"/>
                </a:solidFill>
                <a:latin typeface="Impact"/>
              </a:rPr>
              <a:t>te costurile</a:t>
            </a:r>
            <a:endParaRPr b="0" lang="en-US" sz="20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373720"/>
            <a:ext cx="766764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IMINUAREA PIERDERILO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                                               CRESTEREA PROFITURILO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7372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Impact"/>
              </a:rPr>
              <a:t>Parteneriat strategic Softmatic - Checkpoint Systems </a:t>
            </a:r>
            <a:endParaRPr b="0" lang="en-US" sz="2500" spc="-1" strike="noStrike">
              <a:solidFill>
                <a:srgbClr val="080808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Checkpoint Systems este lider mondial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î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 furnizarea de sisteme antifurt dedicate spa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ţ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ilor comerciale. Compania ofer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cea mai variat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gam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 de senzori antifurt 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ş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i un concept global de etichetare la surs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ă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, av</a:t>
            </a:r>
            <a:r>
              <a:rPr b="0" lang="ro-RO" sz="1800" spc="-1" strike="noStrike">
                <a:solidFill>
                  <a:srgbClr val="080808"/>
                </a:solidFill>
                <a:latin typeface="Impact"/>
              </a:rPr>
              <a:t>â</a:t>
            </a:r>
            <a:r>
              <a:rPr b="0" lang="en-US" sz="1800" spc="-1" strike="noStrike">
                <a:solidFill>
                  <a:srgbClr val="080808"/>
                </a:solidFill>
                <a:latin typeface="Impact"/>
              </a:rPr>
              <a:t>nd suport online – CheckNet.</a:t>
            </a:r>
            <a:r>
              <a:rPr b="0" lang="en-US" sz="2400" spc="-1" strike="noStrike">
                <a:solidFill>
                  <a:srgbClr val="080808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80808"/>
              </a:solidFill>
              <a:latin typeface="Impac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3068640"/>
          <a:ext cx="7667640" cy="35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3068640"/>
                    <a:ext cx="766764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42:18Z</dcterms:created>
  <dc:creator>andreea.maris</dc:creator>
  <dc:description/>
  <cp:keywords/>
  <dc:language>en-US</dc:language>
  <cp:lastModifiedBy>andreea.maris</cp:lastModifiedBy>
  <dcterms:modified xsi:type="dcterms:W3CDTF">2009-12-07T15:21:08Z</dcterms:modified>
  <cp:revision>9</cp:revision>
  <dc:subject/>
  <dc:title>Cum să tratăm eficient problema pierderilor din retail într-un an de criză 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8</vt:lpwstr>
  </property>
</Properties>
</file>