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E51-B587-413F-8E24-93E15AAF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11D-8D5F-46BC-ACB2-F6F4979A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C25-21C9-4705-B139-1C112985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6BD-68AA-4E6F-BCE1-AA469D89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660-C910-4034-9DB2-A62286F7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BCD-D899-42A7-8A33-DBB047DD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878-CBE3-475B-8ADD-D01A02AE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9D1-2139-4810-A706-97D082DA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68C-A6A5-4717-B783-C0F947DB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8CB-0884-4B90-9F65-4ECEF81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B2F-9E5F-4C3D-BD09-7BDEE5FF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817-A654-4731-B72D-D5171F4B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8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5D9AD-30A9-4FB9-BF21-1707711B7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 13.png"/>
          <p:cNvPicPr/>
          <p:nvPr/>
        </p:nvPicPr>
        <p:blipFill>
          <a:blip r:embed="rId1"/>
          <a:stretch/>
        </p:blipFill>
        <p:spPr>
          <a:xfrm>
            <a:off x="933480" y="2425680"/>
            <a:ext cx="7277040" cy="200664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505320" y="5029200"/>
            <a:ext cx="1904760" cy="6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icture 12.png"/>
          <p:cNvPicPr/>
          <p:nvPr/>
        </p:nvPicPr>
        <p:blipFill>
          <a:blip r:embed="rId1"/>
          <a:stretch/>
        </p:blipFill>
        <p:spPr>
          <a:xfrm>
            <a:off x="393840" y="463680"/>
            <a:ext cx="4929120" cy="3498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762120" y="44956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Generate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immediate,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incremental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revenue by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improving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the customer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experience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whilst, at the same time,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producing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double digit savings in energy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costs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335280" y="1447920"/>
            <a:ext cx="18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American Typewriter"/>
              </a:rPr>
              <a:t>R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304920" y="190512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Investing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time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and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money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in technologies &amp; processes should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improve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the customer shopping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experience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Shouldn’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609480" y="190512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Unfortunately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reality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proves that the same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people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you involved to define and implement the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processes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don't always live them - for whatever </a:t>
            </a:r>
            <a:r>
              <a:rPr b="0" i="1" lang="en-US" sz="2800" spc="-1" strike="noStrike">
                <a:solidFill>
                  <a:srgbClr val="4f81bd"/>
                </a:solidFill>
                <a:latin typeface="American Typewriter"/>
              </a:rPr>
              <a:t>reason</a:t>
            </a:r>
            <a:r>
              <a:rPr b="0" i="1" lang="en-US" sz="2800" spc="-1" strike="noStrike">
                <a:solidFill>
                  <a:srgbClr val="7f7f7f"/>
                </a:solidFill>
                <a:latin typeface="American Typewriter"/>
              </a:rPr>
              <a:t> and not always on purpose.</a:t>
            </a:r>
            <a:r>
              <a:rPr b="0" lang="en-US" sz="2800" spc="-1" strike="noStrike">
                <a:solidFill>
                  <a:srgbClr val="7f7f7f"/>
                </a:solidFill>
                <a:latin typeface="American Typewriter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80880" y="9907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What does it mean i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Freezer doors are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left open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for more than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one hour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Loading Bay doors are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open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but there is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no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Frozen products are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delivered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but the freezers have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not be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Customers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leave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because the checkout line is too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long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or too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09480" y="1066680"/>
            <a:ext cx="77724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Of course all this is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not supposed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to happen - and again - in an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ideal world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, with all the technology, this shouldn’t even happen -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but it does 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- every day – many times. It’s not the technology which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fails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, it’s the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human factor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And there are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many more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examples and you </a:t>
            </a:r>
            <a:r>
              <a:rPr b="0" i="1" lang="en-US" sz="2400" spc="-1" strike="noStrike">
                <a:solidFill>
                  <a:srgbClr val="4f81bd"/>
                </a:solidFill>
                <a:latin typeface="American Typewriter"/>
              </a:rPr>
              <a:t>know</a:t>
            </a:r>
            <a:r>
              <a:rPr b="0" i="1" lang="en-US" sz="2400" spc="-1" strike="noStrike">
                <a:solidFill>
                  <a:srgbClr val="7f7f7f"/>
                </a:solidFill>
                <a:latin typeface="American Typewriter"/>
              </a:rPr>
              <a:t> them very well. The solution is here – </a:t>
            </a:r>
            <a:r>
              <a:rPr b="0" i="1" lang="en-US" sz="3200" spc="-1" strike="noStrike">
                <a:solidFill>
                  <a:srgbClr val="4f81bd"/>
                </a:solidFill>
                <a:latin typeface="American Typewriter"/>
              </a:rPr>
              <a:t>Altwo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48680" cy="317844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3480" y="304920"/>
            <a:ext cx="654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merican Typewriter Condensed"/>
              </a:rPr>
              <a:t>What are our Retail </a:t>
            </a:r>
            <a:r>
              <a:rPr b="0" lang="en-GB" sz="2800" spc="-1" strike="noStrike">
                <a:solidFill>
                  <a:srgbClr val="4f81bd"/>
                </a:solidFill>
                <a:latin typeface="American Typewriter Condensed"/>
              </a:rPr>
              <a:t>challenges</a:t>
            </a:r>
            <a:r>
              <a:rPr b="0" lang="en-GB" sz="2800" spc="-1" strike="noStrike">
                <a:solidFill>
                  <a:srgbClr val="7f7f7f"/>
                </a:solidFill>
                <a:latin typeface="American Typewriter Condensed"/>
              </a:rPr>
              <a:t> to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09480" y="1184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1)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Decreasing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 risk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Human error 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that can lead to financial loss, accident, reputation da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Theft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 (internal and ex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Uncertainty,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609480" y="392904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2)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Cost savings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Improve respons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609480" y="380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3)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Optimisation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 of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Ensure our processes are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in line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 with “by the books” rules 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and are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efficient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09480" y="17524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4) Customers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satisfaction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Safety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 of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Comfort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 at 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HVAC,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45080" y="3535200"/>
            <a:ext cx="579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5)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Conformity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 with legal and insu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Freez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Emergency ex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12120" y="5257800"/>
            <a:ext cx="44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6) Equipment </a:t>
            </a:r>
            <a:r>
              <a:rPr b="0" lang="en-GB" sz="2400" spc="-1" strike="noStrike">
                <a:solidFill>
                  <a:srgbClr val="4f81bd"/>
                </a:solidFill>
                <a:latin typeface="American Typewriter Condensed"/>
              </a:rPr>
              <a:t>maintenance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merican Typewriter Condensed"/>
              </a:rPr>
              <a:t>- Failure detection and 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701280" y="762120"/>
            <a:ext cx="60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How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ALTWORX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addresses the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609480" y="14479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Recover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lost sales by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improv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the shopping experience at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checkout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– Incremental percentage revenues achieved through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pro-active 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Reduc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store activity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energy consumption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by up to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18 % 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through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rigorou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monitoring of operati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Annual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saving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of more than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30 %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in guarding costs achieved through performance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Minimiz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stock write-offs and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ensur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vendor SLA performance in “at the store” supply chain by enabling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compliance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with business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09480" y="121932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Continuou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operational process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improvement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through, role specific,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immediate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notification and verification of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critical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process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Improv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implementation time of agreed process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enhancement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Discover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“normally hidden” criminal events to further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reduce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merican Typewriter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Interfac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with your business based on your own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rule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and seeing behaviors you had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“no idea” 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3962520" y="60948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You know your Rules &amp; Practices.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Altworx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takes the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relevant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data fragments to show you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only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what you want to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see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and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know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Picture 9.png"/>
          <p:cNvPicPr/>
          <p:nvPr/>
        </p:nvPicPr>
        <p:blipFill>
          <a:blip r:embed="rId1"/>
          <a:stretch/>
        </p:blipFill>
        <p:spPr>
          <a:xfrm>
            <a:off x="0" y="0"/>
            <a:ext cx="3494160" cy="344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Picture 8.png"/>
          <p:cNvPicPr/>
          <p:nvPr/>
        </p:nvPicPr>
        <p:blipFill>
          <a:blip r:embed="rId2"/>
          <a:stretch/>
        </p:blipFill>
        <p:spPr>
          <a:xfrm>
            <a:off x="3733920" y="2743200"/>
            <a:ext cx="5410080" cy="3379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228600" y="44719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Altworx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 measures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consequence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and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implication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837720" y="-50760"/>
            <a:ext cx="53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merican Typewriter"/>
              </a:rPr>
              <a:t>Atworx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3200" spc="-1" strike="noStrike">
                <a:solidFill>
                  <a:srgbClr val="7f7f7f"/>
                </a:solidFill>
                <a:latin typeface="American Typewriter"/>
              </a:rPr>
              <a:t>Business Browser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256720" y="45720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merican Typewriter"/>
              </a:rPr>
              <a:t>Single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28600" y="8380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merican Typewriter"/>
              </a:rPr>
              <a:t>Security Management 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2649600" y="844560"/>
            <a:ext cx="18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merican Typewriter"/>
              </a:rPr>
              <a:t>Buildin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merican Typewriter"/>
              </a:rPr>
              <a:t>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5499000" y="990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merican Typewriter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merican Typewriter"/>
              </a:rPr>
              <a:t>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7834320" y="990720"/>
            <a:ext cx="13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merican Typewriter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merican Typewriter"/>
              </a:rPr>
              <a:t>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Picture 7.p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446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307800" y="518148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…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It logically and contextually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“translates” 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the originally unrelated and, maybe inconspicuous, data into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”Business Inform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Picture 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31399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380880" y="3657600"/>
            <a:ext cx="838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Altworx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Business Pages describing what is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happen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to your business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now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, in ‘real time’, when it happens, not in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spreadsheet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and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dashboard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months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later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-where you can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save money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, where you are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wast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resource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, where you can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add revenue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, where you can become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more efficient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Picture 11.pn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5160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380880" y="51814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We also offer a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"catalogue" 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of these business pages –&gt;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covering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the most typical or important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situation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–&gt; for different  </a:t>
            </a:r>
            <a:r>
              <a:rPr b="0" lang="en-US" sz="2400" spc="-1" strike="noStrike">
                <a:solidFill>
                  <a:srgbClr val="4f81bd"/>
                </a:solidFill>
                <a:latin typeface="American Typewriter"/>
              </a:rPr>
              <a:t>verticals</a:t>
            </a:r>
            <a:r>
              <a:rPr b="0" lang="en-US" sz="2400" spc="-1" strike="noStrike">
                <a:solidFill>
                  <a:srgbClr val="7f7f7f"/>
                </a:solidFill>
                <a:latin typeface="American Typewriter"/>
              </a:rPr>
              <a:t> and different ro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WWW.SOFTMATI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595959"/>
                </a:solidFill>
                <a:latin typeface="Calibri"/>
              </a:rPr>
              <a:t>WWW.ALTWORX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8:10:15Z</dcterms:created>
  <dc:creator>Salford</dc:creator>
  <dc:description/>
  <dc:language>en-US</dc:language>
  <cp:lastModifiedBy>Admin</cp:lastModifiedBy>
  <cp:lastPrinted>2009-08-28T16:21:57Z</cp:lastPrinted>
  <dcterms:modified xsi:type="dcterms:W3CDTF">2009-12-08T06:35:41Z</dcterms:modified>
  <cp:revision>47</cp:revision>
  <dc:subject/>
  <dc:title>Slide 1</dc:title>
</cp:coreProperties>
</file>