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D90B-DF1B-4D39-A382-FE895822A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50D9-D41E-4331-8B14-FABFEAA19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71424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02800" y="4371480"/>
            <a:ext cx="5032440" cy="42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1FEC-44DE-4134-91D8-97ACF4AD5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9480" y="714240"/>
            <a:ext cx="4559040" cy="34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802800" y="4371480"/>
            <a:ext cx="5032440" cy="42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E035-7814-4589-9AAE-7BAB6B86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221B-401B-4C8D-B574-2A62AD54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7031-AE75-40DA-99CB-823A6FC7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12DD-7C0F-4DFC-88DB-03666AA1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F417-F692-42B6-9C00-CC6EBF95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C8BE-350A-40D0-97D6-4AE88A96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9487-8725-496E-BF24-74FD763A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E056-D0F1-4564-BC6A-2BE53310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18F9-422D-4964-93B6-5EF93854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A32D-AD33-45CF-AFEF-94E6213E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36FD-376B-4FA3-B9F0-F9C64E10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2AD1-8675-474D-9D9E-3D84FD45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E739-771D-4DEF-A1FC-D5235B3D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7642-4F87-43E9-9927-059CB9F9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4CF8-05B8-45AC-A6B3-1AC31C03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8EDA-217A-411F-A206-718D58D5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3D1D-8178-459F-B2E8-522C1611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F286-1FBD-4B85-BE2E-11D4EC00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34FD-12D3-446C-A967-8E739F2D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F1E3-0160-4BAD-8C5D-CF588AB8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84746-C061-4878-AB1A-396A49C7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EE34-2558-4430-96DC-47EE1641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1FE32-C05B-4155-92B3-E4187F81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1AE5-97CD-488C-AB8F-17C61E04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716E-F4A7-4BA8-B87C-BA85C03BB1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D4BA-9A1F-459B-90BB-4F321F4273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80880" y="220968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URAN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ALIMENTELOR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 S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ECTORU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DE RETA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OM</a:t>
            </a:r>
            <a:r>
              <a:rPr b="1" lang="ro-RO" sz="2000" spc="-1" strike="noStrike">
                <a:solidFill>
                  <a:srgbClr val="ffff00"/>
                </a:solidFill>
                <a:latin typeface="Arial"/>
              </a:rPr>
              <a:t>Â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IA RETAIL FORUM 200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5 noiembrie 200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106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8908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304920"/>
            <a:ext cx="1219320" cy="1295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518148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irector General: Dr. Liviu RUS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ŢIA GENERALǍ SIGURANŢA ALIMENTE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AUTORITATEA NATIONALǍ</a:t>
            </a:r>
            <a:r>
              <a:rPr b="1" lang="ro-RO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ANITARǍ VETERINARǍ </a:t>
            </a:r>
            <a:r>
              <a:rPr b="1" lang="ro-RO" sz="1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 PENTRU SIGURANTA ALIMENTE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4335-EA77-47AB-9BFD-D54AD135F2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Cerinţe privind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asabilitate</a:t>
            </a: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(</a:t>
            </a: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R CE 178-2002)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(1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unc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onarea pie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i alimentelor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 furajelor este supus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unui risc ori de c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e ori este imposibil s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urm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i traseul pe care l-au parcurs acestea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e necesar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stabilirea unui sistem clar al trasabilit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i tuturor alimentelor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 furajelor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 cadrul desf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ş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r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ii activit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i operatorilor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 domeniu astfel ca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- S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poata fi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treprinse retrageri corecte ale produselor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nta sau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- S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poata fi date informa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i corecte consumatorilor atunci c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d este necesar sau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 cazul controalelor oficiale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F5CD-34F3-4176-AAED-E7DE32DDE1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Cerinţ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ivind trasabilitatea</a:t>
            </a: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R CE 178-2002)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(2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urnizorii care nu pot face fa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cerin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lor li se poate interzice accesul pe pia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European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, acest lucru neavind nici o leg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ur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cu pre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rile, calitatea sau competitivitatea produselor lo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unea European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– introducerea conceptului de trasabilitate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 vederea cre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erii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crederii consumatorilor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 siguran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lan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lui furnizorilor de produse alimentare,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credere care a fost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 ultimii ani zdruncinat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din cauza unor crize succesive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 sistemul de siguran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al alimentelor.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Trasabilitatea necesit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conformitatea cu cerin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le de siguran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a alimentelor,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 mod special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 cazul rechem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rii de pe pia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a produselor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 vederea asigur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rii standardelor pe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ntregul lan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alimentar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D6DC-5872-4C76-AEB6-98B04892B7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o-RO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peratorii din sectorul alimentar trebuie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ă poată identifica orice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ersoană de la care au fost aprovizionați cu un produs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limentar, o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rană pentru animale, un animal de la care se obțin produse alimentare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au orice substanță destinată sau prevăzută să fie încorporată într-un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dus alimentar sau hrană pentru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nimale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- să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ispun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de sisteme și proceduri care permit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 aceste informații să fie puse la dispoziția autorităților competente, la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rere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- să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ispun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de sisteme și proceduri pentru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dentificarea celorlalte societăți către care au fost furnizate produsele 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0"/>
            <a:ext cx="8610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Cerinţe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ivind trasabilitatea (</a:t>
            </a: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R CE 178-2002)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81E2-8641-41E5-9848-0FF9CE05ED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0"/>
            <a:ext cx="8229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0"/>
            <a:ext cx="8591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Trasabilitatea - curent </a:t>
            </a:r>
            <a:r>
              <a:rPr b="0" lang="ro-RO" sz="3200" spc="-1" strike="noStrike">
                <a:solidFill>
                  <a:srgbClr val="ffff66"/>
                </a:solidFill>
                <a:latin typeface="Garamond"/>
              </a:rPr>
              <a:t>ş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i contracurent</a:t>
            </a:r>
            <a:r>
              <a:rPr b="1" lang="en-US" sz="4000" spc="-1" strike="noStrike">
                <a:solidFill>
                  <a:srgbClr val="e5e5ff"/>
                </a:solidFill>
                <a:latin typeface="News Goth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09480" y="914400"/>
            <a:ext cx="6400440" cy="5091840"/>
            <a:chOff x="609480" y="914400"/>
            <a:chExt cx="6400440" cy="5091840"/>
          </a:xfrm>
        </p:grpSpPr>
        <p:sp>
          <p:nvSpPr>
            <p:cNvPr id="135" name=""/>
            <p:cNvSpPr/>
            <p:nvPr/>
          </p:nvSpPr>
          <p:spPr>
            <a:xfrm>
              <a:off x="2957760" y="914400"/>
              <a:ext cx="1737000" cy="70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Materie prim</a:t>
              </a:r>
              <a:r>
                <a:rPr b="0" lang="ro-RO" sz="2000" spc="-1" strike="noStrike">
                  <a:solidFill>
                    <a:srgbClr val="ffff66"/>
                  </a:solidFill>
                  <a:latin typeface="Arial"/>
                </a:rPr>
                <a:t>ă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Furnizor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38960" y="2171520"/>
              <a:ext cx="19407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Produc</a:t>
              </a:r>
              <a:r>
                <a:rPr b="0" lang="ro-RO" sz="2400" spc="-1" strike="noStrike">
                  <a:solidFill>
                    <a:srgbClr val="ffff66"/>
                  </a:solidFill>
                  <a:latin typeface="Arial"/>
                </a:rPr>
                <a:t>ă</a:t>
              </a: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38960" y="3108240"/>
              <a:ext cx="1940760" cy="70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0" lang="ro-RO" sz="2000" spc="-1" strike="noStrike">
                  <a:solidFill>
                    <a:srgbClr val="ffff66"/>
                  </a:solidFill>
                  <a:latin typeface="Arial"/>
                </a:rPr>
                <a:t>â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nzare en-gros/Distribu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38960" y="4403520"/>
              <a:ext cx="1940760" cy="91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0" lang="ro-RO" sz="1800" spc="-1" strike="noStrike">
                  <a:solidFill>
                    <a:srgbClr val="ffff66"/>
                  </a:solidFill>
                  <a:latin typeface="Arial"/>
                </a:rPr>
                <a:t>â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nzare cu amanuntul -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94960" y="5546520"/>
              <a:ext cx="195984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Consumator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8320" y="923760"/>
              <a:ext cx="1737000" cy="70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Materie prim</a:t>
              </a:r>
              <a:r>
                <a:rPr b="0" lang="ro-RO" sz="2000" spc="-1" strike="noStrike">
                  <a:solidFill>
                    <a:srgbClr val="ffff66"/>
                  </a:solidFill>
                  <a:latin typeface="Arial"/>
                </a:rPr>
                <a:t>ă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Furnizor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800" y="923760"/>
              <a:ext cx="1737000" cy="70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Materie prim</a:t>
              </a:r>
              <a:r>
                <a:rPr b="0" lang="ro-RO" sz="2000" spc="-1" strike="noStrike">
                  <a:solidFill>
                    <a:srgbClr val="ffff66"/>
                  </a:solidFill>
                  <a:latin typeface="Arial"/>
                </a:rPr>
                <a:t>ă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Furnizor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68800" y="4403520"/>
              <a:ext cx="1941120" cy="91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0" lang="ro-RO" sz="1800" spc="-1" strike="noStrike">
                  <a:solidFill>
                    <a:srgbClr val="ffff66"/>
                  </a:solidFill>
                  <a:latin typeface="Arial"/>
                </a:rPr>
                <a:t>â</a:t>
              </a: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nzare cu amanuntul -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9480" y="4403520"/>
              <a:ext cx="1940760" cy="703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V</a:t>
              </a:r>
              <a:r>
                <a:rPr b="0" lang="ro-RO" sz="2000" spc="-1" strike="noStrike">
                  <a:solidFill>
                    <a:srgbClr val="ffff66"/>
                  </a:solidFill>
                  <a:latin typeface="Arial"/>
                </a:rPr>
                <a:t>â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nzare cu amanuntul -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45880" y="1739880"/>
              <a:ext cx="0" cy="43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45880" y="5268600"/>
              <a:ext cx="0" cy="36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45880" y="3971880"/>
              <a:ext cx="0" cy="43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45880" y="2676240"/>
              <a:ext cx="0" cy="432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16400" y="1739880"/>
              <a:ext cx="1149480" cy="64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779720" y="1739880"/>
              <a:ext cx="1224360" cy="64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542960" y="3539880"/>
              <a:ext cx="1224360" cy="792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80080" y="3468600"/>
              <a:ext cx="1295640" cy="86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16400" y="5268600"/>
              <a:ext cx="933840" cy="49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068800" y="5268600"/>
              <a:ext cx="1008720" cy="493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308720" y="256536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308720" y="1125000"/>
            <a:ext cx="0" cy="129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5280" y="1484280"/>
            <a:ext cx="194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tracu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= Urmar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33560" y="3933720"/>
            <a:ext cx="174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u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= Depist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E215-EBBC-4FA0-A3F5-134DD8DCA6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228600"/>
            <a:ext cx="8229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855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Argum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55720" indent="-3906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estionarea lan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lui de distribu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55720" indent="-3906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iferen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erea produselo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55720" indent="-3906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iguran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 alimentelor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 controlul calit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ţi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55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66"/>
                </a:solidFill>
                <a:uFillTx/>
                <a:latin typeface="Arial"/>
              </a:rPr>
              <a:t>Benefic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55720" indent="-3906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sturi sc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zute ale sistemelor de distribu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55720" indent="-3906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z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i crescute ale produselor cu valoare ridicat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55720" indent="-3906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re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erea echit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ii brand-ului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855720" indent="-3906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um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ul de cazuri de retragere de pe pia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ţ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sc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zut, costuri sc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zut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rasabilitatea – Argumente pentru pia</a:t>
            </a: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ţă</a:t>
            </a:r>
            <a:r>
              <a:rPr b="0" lang="en-US" sz="3200" spc="-1" strike="noStrike">
                <a:solidFill>
                  <a:srgbClr val="ffff66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EFF7C-71CA-48D9-9520-77962BDF2C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cluzii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ratorii domeniului Retail  - rol deosebit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 sigur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alimentelo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cesitatea solici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i de ac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a a dovezilor din partea furnizorilor care s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teste faptul 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produsele achizi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ate sunt sigure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igurarea respect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ii continue a  ceri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or de igie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 alimentelor, reglementate prin pachetul de igie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 alimentelor 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 legisla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a specific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8E07-8C61-4436-B403-1C7852F027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olul oficial al alimentelor (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ntroalele oficiale se desf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oar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în vederea verificării respectării normelor care vizează în specia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evenirea, eliminarea sau reducerea la niveluri acceptabile a riscurilor care ar putea apărea pentru oameni, fie direct, fie prin mediu ș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arantarea practicilor loiale în comerțul cu produse alimentare și protejarea intereselor consumatorilor, inclusiv etichetarea produselor alimentare și orice alte forme de informații pentru consumat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DE54-1EB3-44A4-AC13-BFB993FFB3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olul oficial al alimentelor (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o-RO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SVSA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tilizeaza metode și tehnici de control adecvate, cum ar f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nitorizare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praveghere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erificarea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uditul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specția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levarea de probe și analiz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D3E2-4888-46EE-BA78-0E442B01FD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ntrolul oficial al alimentelor (3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Controalele oficiale privind produsele alimentare includ, între altele, următoarele activități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Examinarea oricărui sistem de control aplicat de operatori si  rezultatele obținute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nspecția 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- unit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lor,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a produselor comercializate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- procedurilor de curățare și întreținere, precum și pesticidelor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- conditiilor de ambalare a produselor,etc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Verificări cu privire la condițiile de igienă din unitate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Bunele practici de igienă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şi producţie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GMP, GHP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și HACCP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Verificarea asigur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rii trasabilit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ăţ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i produselor alimentar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FEBB-D0E6-4490-85FB-35F0E24587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lan Unic de Control Na</a:t>
            </a: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onal Multianual Integrat (PNC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1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NSVSA 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preun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cu celelalte autorit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ţ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 competente pentru organizarea 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 efectuarea de controale oficiale 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 Rom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ia a elaborat 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plan unic de control na</a:t>
            </a:r>
            <a:r>
              <a:rPr b="1" i="1" lang="ro-RO" sz="18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ional multianual integrat (PNC)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care trebuie furnizat, la cerere Comisiei Europen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NC con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ne informa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i generale cu privire la structura 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 organ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zarea sistemelor de control precum si planurile de realizare a controalelor oficiale pe o perioada de 5 an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doptarea 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 implementarea PNC asigur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existen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ţ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 unui sistem comprehensiv 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 integrat de controale oficiale “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de la ferm</a:t>
            </a:r>
            <a:r>
              <a:rPr b="0" i="1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 la furculit</a:t>
            </a:r>
            <a:r>
              <a:rPr b="0" i="1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” care va contribui la protejarea s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ţ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i publice, a s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t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ţ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i 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 bun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rii animalelor precum 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ş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i la protejarea intereselor consumatorilo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 fiecare an Rom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â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ia 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inteaz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Comisiei Europene un raport privind implementarea PNC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ffff66"/>
                </a:solidFill>
                <a:latin typeface="Arial"/>
              </a:rPr>
              <a:t>PNC este revizuit anual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B59B-E340-4500-830A-BA2D978B74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533520" y="838080"/>
          <a:ext cx="8152920" cy="5427720"/>
        </p:xfrm>
        <a:graphic>
          <a:graphicData uri="http://schemas.openxmlformats.org/drawingml/2006/table">
            <a:tbl>
              <a:tblPr/>
              <a:tblGrid>
                <a:gridCol w="2392560"/>
                <a:gridCol w="1370520"/>
                <a:gridCol w="1484280"/>
                <a:gridCol w="1025640"/>
                <a:gridCol w="940680"/>
                <a:gridCol w="939240"/>
              </a:tblGrid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I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umar total unitati inregistrate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umar total unitati evaluate si incadrate in grupe de risc din car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ati care au obtinut calificativ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isc scaz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isc medi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risc ridica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omert cu ridicata si amanuntul (comert en-gros, magazine alimentare, supermarketuri si alte unitati de comert cu amanuntul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6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7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9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ati de  alimentatie publica (restaurante, baruri, cantine,catering,bufet si alte unitati de preparare a hrane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8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1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14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9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5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553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abel nr.1 Evaluarea unitatilor pana la data de 31.10 2008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4CCC6-5338-4455-8539-8E9554B12A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52280" y="755640"/>
          <a:ext cx="8763120" cy="5840280"/>
        </p:xfrm>
        <a:graphic>
          <a:graphicData uri="http://schemas.openxmlformats.org/drawingml/2006/table">
            <a:tbl>
              <a:tblPr/>
              <a:tblGrid>
                <a:gridCol w="1676520"/>
                <a:gridCol w="1143000"/>
                <a:gridCol w="914400"/>
                <a:gridCol w="1219320"/>
                <a:gridCol w="1218960"/>
                <a:gridCol w="1371600"/>
                <a:gridCol w="1219320"/>
              </a:tblGrid>
              <a:tr h="12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T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umar contro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Numar amenz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Cuantum amenzi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(RO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ati cu activitate suspend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ati inchise ulterior suspendarii activitat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Unitati cu activitate interzi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ert cu ridic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.7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61.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omert cu amanuntul (exclusiv supermarketuri/hipermarketur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.1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78.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upermarket/hipermark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.5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2.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Restaura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.5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46.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Baru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.3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7.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Cantine si alte unitati de preparare a hranei (catering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8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9.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8.1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1.065.4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Tabel nr.2 Numarul de controale si masurile aplicate la data de 31.10 2008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91942-7224-4F27-AC81-7A949B8E23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Arial"/>
              </a:rPr>
              <a:t>Cerinţe privind igiena alimentelor (R CE 852/2004)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ponsabilitatea principală pentru siguranța alimentară revine operatorului din sectorul aliment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licarea generală a procedurilor bazate pe principiile HACCP, împreună cu utilizarea unor bune practici de igienă trebuie să întărească responsabilitatea operatorului din sectorul alimenta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hidurile de bună practică reprezintă un instrument prețios care ajută operatorii din sectorul alimentar, în toate etapele lanțului alimentar, să respecte normele de igienă alimentară și să aplice principiile HACCP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B9E4-82E3-4975-9F20-B82EAB574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Ghiduri de bune practici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 pentru sectorul de retail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aprobate de ANSVSA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Ghid de bune practici – Sistemul de siguran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a alimentelor HACCP – alimentaţie publică – produse culinare (ANAMOB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Ghid de bune practici pentru siguranţa alimentelor  - Sistemul de siguranţa alimentelor HACCP – Produse de patiserie şi cofetărie (ROMPA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Ghid de bune practici pentru siguranţa alimentelor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- Sistemul de siguranţa alimentelor HACCP – Produse de patiserie şi cofetărie (ANAMOB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hid de bune practici privind retragerea/rechemarea produselor alimentare (ROMALIMENT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A523-76EF-44AE-89AF-273121E8F8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</cp:lastModifiedBy>
  <dcterms:modified xsi:type="dcterms:W3CDTF">2008-11-25T08:08:38Z</dcterms:modified>
  <cp:revision>539</cp:revision>
  <dc:subject/>
  <dc:title>PowerPoint Presentation</dc:title>
</cp:coreProperties>
</file>