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80121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4320" y="3854160"/>
            <a:ext cx="80121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4320" y="385416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9760" y="385416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3320" y="136980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2680" y="136980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4320" y="385416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3320" y="385416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2680" y="385416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14320" y="1369800"/>
            <a:ext cx="801216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801216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9480" y="409320"/>
            <a:ext cx="768960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14320" y="385416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4320" y="1369800"/>
            <a:ext cx="801216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19760" y="385416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4320" y="3854160"/>
            <a:ext cx="80121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80121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14320" y="3854160"/>
            <a:ext cx="80121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14320" y="385416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19760" y="385416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23320" y="136980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2680" y="136980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14320" y="385416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23320" y="385416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32680" y="385416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801216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9480" y="409320"/>
            <a:ext cx="768960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4320" y="385416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9760" y="385416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4320" y="3854160"/>
            <a:ext cx="80121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4320" y="1369800"/>
            <a:ext cx="801216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ef1c2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76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228600"/>
            <a:ext cx="32004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Sylfaen"/>
              </a:rPr>
              <a:t>Dragos Cabat, C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Sylfaen"/>
              </a:rPr>
              <a:t>Managing Partner, Financial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6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2880" y="3017880"/>
            <a:ext cx="3708360" cy="6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65080" indent="49320" algn="ctr">
              <a:spcBef>
                <a:spcPts val="476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97080" indent="74520" algn="ctr">
              <a:spcBef>
                <a:spcPts val="476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728720" indent="100080" algn="ctr">
              <a:spcBef>
                <a:spcPts val="476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728720" indent="100080">
              <a:spcBef>
                <a:spcPts val="476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728720" indent="100080">
              <a:spcBef>
                <a:spcPts val="476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3124080"/>
            <a:ext cx="3733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5638680"/>
            <a:ext cx="36576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Dragos  Cabat, C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Arial"/>
              </a:rPr>
              <a:t>Managing Partner, Financi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Arial"/>
              </a:rPr>
              <a:t>President, CFA  Rom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304920"/>
            <a:ext cx="5333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Rockwell"/>
              </a:rPr>
              <a:t>Riscurile in Retai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5867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cdc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derea cerer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cdc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derea profitabilitatii oper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cdc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zia  ratelor de default la credite de con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cdc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sibilitatea de finan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cdc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10080" y="990720"/>
            <a:ext cx="37339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caderea cerer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8680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409320"/>
            <a:ext cx="54864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caderea profitabilitatii operation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610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xplozia ratelor de defa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86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mposibilitatea de finant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83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olut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5181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f1c2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rea marjelor de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f1c2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area spatiilor de vanzare la noile conditii de p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f1c2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tarea catre/ de la furniz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40449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4:33:53Z</dcterms:created>
  <dc:creator/>
  <dc:description/>
  <dc:language>en-US</dc:language>
  <cp:lastModifiedBy>User</cp:lastModifiedBy>
  <cp:lastPrinted>2006-11-01T11:03:51Z</cp:lastPrinted>
  <dcterms:modified xsi:type="dcterms:W3CDTF">2008-11-24T22:14:48Z</dcterms:modified>
  <cp:revision>1739</cp:revision>
  <dc:subject/>
  <dc:title>Slide 1</dc:title>
</cp:coreProperties>
</file>