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90A-1FD3-4984-BBB8-28D37F3C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F5F-265D-4B32-AF54-28FE94E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477-A389-4C21-9A04-954D3E43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CDC-63EA-4562-A22D-11C16DCC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D30-5D0D-4A4A-8C5A-10E781F1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A37-1AF9-464B-B455-C9E177D9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60E-AD79-43A5-A6DE-BEA278C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010-22A5-4EA4-ACE6-CFFA380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C21-1A65-4A8B-81E9-4D0E9513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6B6-F02B-4D09-9AE9-8DF6BAE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6E0-30C5-456F-B20E-EF74F0D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E4A-6412-40E5-845F-0DB8EE6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0161-6F14-40FD-9F8E-6D30C477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990099"/>
                </a:solidFill>
                <a:latin typeface="Arial"/>
              </a:rPr>
              <a:t>PONDEREA IMPORTURILOR ÎN PRODUSELE DE LA RAFT.</a:t>
            </a:r>
            <a:br>
              <a:rPr sz="2200"/>
            </a:br>
            <a:br>
              <a:rPr sz="2200"/>
            </a:br>
            <a:r>
              <a:rPr b="1" lang="ro-RO" sz="22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udiu de caz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ELGROS Cash &amp; Carry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562720" y="4419720"/>
            <a:ext cx="2590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 MULŢUME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4419720"/>
            <a:ext cx="2895480" cy="685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0968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odusele de import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ajung pe rafturile marilor reţele comerciale prin intermediul a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3 canal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de aproviziona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581280"/>
            <a:ext cx="731520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furnizorii naţional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care livrează produse importate      -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furnizorii internaţional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care îşi importă produsele       -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mporturile propri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realizate de reţelele comercial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-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429000"/>
            <a:ext cx="6248520" cy="2209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IMPORTUL  DE PRODUSE ALI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15080" y="11430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39220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ALIMENTE DE BAZĂ / CON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362320"/>
            <a:ext cx="2133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lei, zahăr, făină, orez, sa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irodenii, oţ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9051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limente de baz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0574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75248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90512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2362320"/>
            <a:ext cx="17528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ume, fructe, tom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şte, c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9051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20574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75248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905120"/>
            <a:ext cx="2133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124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duse ex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124080"/>
            <a:ext cx="21333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7339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Produse tradiţiona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73392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9718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6576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648320"/>
            <a:ext cx="7315200" cy="1295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800600"/>
            <a:ext cx="73152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eţurile unor produse autohtone sunt mai ridica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din cauza costurilor ridicate de materie prim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n ţară perioada recoltei este scurtă, iar capacitatea de stocare este redus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4192560"/>
            <a:ext cx="3581280" cy="266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143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514600"/>
            <a:ext cx="2133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c, vită, pasă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arne proaspă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1337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0512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514600"/>
            <a:ext cx="2286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şte oceanic, pasăre, vâna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ită America de S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0574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arne congela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21337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190512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057400"/>
            <a:ext cx="2133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267080"/>
            <a:ext cx="2133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lam, cârnaţi, şuncă, al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te spe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09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eparat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962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65760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809880"/>
            <a:ext cx="21333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81480" y="278136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2438280"/>
            <a:ext cx="19051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pte, iaurturi, smântân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1981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133720"/>
            <a:ext cx="18288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oduse aproape în totalitate în Ro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1828800"/>
            <a:ext cx="39625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981080"/>
            <a:ext cx="21337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438280"/>
            <a:ext cx="1904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pte, iaurturi, u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rânzeturi, ou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81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licat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13372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828800"/>
            <a:ext cx="304776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1080"/>
            <a:ext cx="21337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5334120"/>
            <a:ext cx="2133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lemea, caşca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Brânzet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724280"/>
            <a:ext cx="396252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876920"/>
            <a:ext cx="2133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362320"/>
            <a:ext cx="304920" cy="3047760"/>
          </a:xfrm>
          <a:custGeom>
            <a:avLst/>
            <a:gdLst>
              <a:gd name="textAreaLeft" fmla="*/ 89640 w 304920"/>
              <a:gd name="textAreaRight" fmla="*/ 305280 w 304920"/>
              <a:gd name="textAreaTop" fmla="*/ 126720 h 3047760"/>
              <a:gd name="textAreaBottom" fmla="*/ 292104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124080"/>
            <a:ext cx="3047760" cy="2819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429000"/>
            <a:ext cx="304776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duse care nu se produc în ţară sau care nu au tradiţie la noi (ex.: specialităţi de brânză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alitate constantă a produselor din imp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iversificarea preferinţelor consumatorilor româ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143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DELICAT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029200"/>
            <a:ext cx="18288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oduse aproape în totalitate în Rom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200016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143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LEGUME - FRU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438280"/>
            <a:ext cx="2133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tofi, roşii, varz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nane, citrice, mere, 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9810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Legume şi Fruc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1337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82880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981080"/>
            <a:ext cx="21333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1828800"/>
            <a:ext cx="320040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3276720"/>
            <a:ext cx="320040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724280"/>
            <a:ext cx="320040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438280"/>
            <a:ext cx="19051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nane, portocale, lămâ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rape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9810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Banane şi Cit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1337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981080"/>
            <a:ext cx="21333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86200"/>
            <a:ext cx="2438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onagold, red-delicious, gra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le, China, Ol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4290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5053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42900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5334120"/>
            <a:ext cx="2133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Ol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769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ş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502920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82,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87692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438280"/>
            <a:ext cx="304920" cy="3048120"/>
          </a:xfrm>
          <a:custGeom>
            <a:avLst/>
            <a:gdLst>
              <a:gd name="textAreaLeft" fmla="*/ 89640 w 304920"/>
              <a:gd name="textAreaRight" fmla="*/ 305280 w 304920"/>
              <a:gd name="textAreaTop" fmla="*/ 126720 h 3048120"/>
              <a:gd name="textAreaBottom" fmla="*/ 2921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886200"/>
            <a:ext cx="3124080" cy="2057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114800"/>
            <a:ext cx="304776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antităţile şi diversitatea reduse oferite de către producătorii români nu acoperă cerere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odul de ambalare şi sortare nu corespund standarde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209680" cy="1939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143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DULCIURI ŞI CAF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2743200"/>
            <a:ext cx="2133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ocolată, biscuiţi, cozonac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fea, ce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ulciuri şi Caf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24382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133720"/>
            <a:ext cx="312408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28600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495680"/>
            <a:ext cx="7315200" cy="1067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267080"/>
            <a:ext cx="73152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nevoia de a acoperi anumite nişe de piaţă în continuă creştere (ex.: Espress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49544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MÂNCĂM DIN IMPORT ŞI 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143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BĂU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438280"/>
            <a:ext cx="19051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alcoolice, bere, vinur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irto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9810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Băut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1337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828800"/>
            <a:ext cx="304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981080"/>
            <a:ext cx="21333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2004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Spirto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1240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320040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7339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pă, Vin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657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3733920"/>
            <a:ext cx="2133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800600"/>
            <a:ext cx="7315200" cy="1219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648320"/>
            <a:ext cx="73152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nevoia de a satisface cerinţele consumatorului român cu articole care se produc exclusiv în anumite zone (ex.: Scoţia, Franţ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1828800"/>
            <a:ext cx="7010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multe segmente de piaţă producătorii români îşi vor menţine cota datorită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gustului consumatorulu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mezeluri, vin, brânzetur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 alte segmente de piaţă produsele româneşti îşi vor menţine cota de piaţă prin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eţ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ouă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lte segmente de piaţă vor trebui să-şi refacă strategia comercială pentru a face faţă concurenţei exter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ulei, zahă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ndustria de legume – fructe are nevoie de investiţii masive, iar dacă acest lucru se va întâmpla ea va creşte rapid în detrimentul importurilor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676520"/>
            <a:ext cx="7315200" cy="4495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>
            <a:off x="0" y="1066680"/>
            <a:ext cx="9144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80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99"/>
                </a:solidFill>
                <a:latin typeface="Arial"/>
              </a:rPr>
              <a:t>CE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VA U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taa</cp:lastModifiedBy>
  <dcterms:modified xsi:type="dcterms:W3CDTF">2008-11-24T15:01:1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