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098-CEA1-44FC-AD22-284CE3FC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234A-F562-45AD-B836-BC0CA7A2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4A6C-6FC4-4326-8673-506C981E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EB4-A3EB-4CB2-A843-73868970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A01-8BF9-47C9-B062-368522FE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9C8-2DD6-401F-808F-363CC323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C98-8F2E-438E-91CB-9220399B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6B3-063C-4FA1-8F95-E7EEFEA9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A4D-BAEB-4D02-83B0-01DAE398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361-A18E-4A61-9BFA-449D9ECC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5DB-9FBD-4F04-AD4A-F2A84F50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F6A-D4E9-4215-B8F8-7CA13C93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670A-BA57-495B-9C1C-49B206E310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B382-71F3-4253-AC6F-A94D71C78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unga ecologica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i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mpactul sau asupra consumulu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2E1C-5FDD-406B-BB71-C8440867EFE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C28D6-2C87-44C3-8B75-E71224C6B35D}" type="datetime1">
              <a:rPr lang="en-US"/>
              <a:t>07/31/26</a:t>
            </a:fld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Deseurile din ambalaje de desfac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Fabricate din materiale greu biodegradabile 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►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minim 100 a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Punga din plastic sub 0,3 microni grosime nu poate fi recic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Romania foloseste circa 90 de milioane de litri de petrol pentru producerea pungilor de plasti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Times New Roman"/>
              </a:rPr>
              <a:t>Un roman foloseste aproape zilnic o punga, dar nu pentru mai mult de 20 de minute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Consum in ultimul an de circa cinci miliarde de buc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1A30-7C96-4B10-BAA5-8780100C95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AC817-5298-493C-9162-D9F5991313D9}" type="datetime1">
              <a:rPr lang="en-US"/>
              <a:t>07/31/26</a:t>
            </a:fld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Instrumente guvernamentale actuale 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de diminuarea a consumului de ambalaje de desfacere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Taxarea pungilor de p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Masuri de acord voluntar impreuna cu marii retaileri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795-55A6-4904-B9B9-7961C6BCC50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8270A-6C46-4F90-B93F-27C082D033C2}" type="datetime1">
              <a:rPr lang="en-US"/>
              <a:t>07/31/26</a:t>
            </a:fld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Ecotaxa.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Modelul irland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Taxa de 15 centi (“plastax”) a determinat in primul an de implementare (2002) o scadere de 80% a consumului de pungi de plastic - de la 1,2 miliarde de bucati pana la 230 milioane anu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In acelaşi timp, s-au economisit circa 18 milioane de litri de pe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Unul dintre sustinatorii importanti ai taxei este Feargal Quinn, senator, fondator al celui mai mare lant de supermarketuri din Irlanda (SuperQuinn) si Presedinte EuroCommer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Feargal Quinn: “Acum protejam mediul, reducem deseurile si, intrucat nu mai platesc pentru pungile distribuite gratis, retailerii isi diminueaza costurile si reduc preturile pentru consumatori.”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005-75EC-4021-B1F2-780B8B91877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9645E-3FB8-42A1-81DA-2C9AB767E7AE}" type="datetime1">
              <a:rPr lang="en-US"/>
              <a:t>07/31/26</a:t>
            </a:fld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Ecotaxa. 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Cuantum. Obiectul de aplic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Cuantum 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► 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0,2 lei/bucata, incepand cu 1 ianuari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Obiectul de aplicare 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►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Pungile de tip sacosa - banana, cu maner aplicat sau maieu - din materiale care nu sunt biodegrad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3F1-64EA-41D9-BFEB-A0D224C4F8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DEA68-2141-4E1F-8719-1259B9654A04}" type="datetime1">
              <a:rPr lang="en-US"/>
              <a:t>07/31/26</a:t>
            </a:fld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Ecotax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Cine plates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Operatorii economici care introduc pe piata nationala astfel de amblaje de desfacere din materiale care nu sunt biodegradab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Producatorii nat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Importator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Obligati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Ecotaxa se evidentiaza distinct pe documentele de vanz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Valoarea acesteia se afiseaza la loc vizibil in vederea informarii consumatorilor fin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0044-2C8A-4492-B4E6-6AF3A894FC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2B92C-902A-46EE-8843-517771D743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00656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Evitarea Ecotaxei:</a:t>
            </a:r>
            <a:br>
              <a:rPr sz="2400"/>
            </a:b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“Eco-pungile” si costurile aces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Directiva 94/62/CE a Comisiei Europene privind amblajele si deseurile din ambalaje stabileste cerintele esentiale care trebuie respectate de ambalajele pretinse a fi “biodegradabi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Standardul european EN 13432 – Cerinte pentru ambalaje recuperabile prin compostare si biodegradare acorda automat prezumtia de conformitate cu Directiva  94/62/C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Eco-pungile” sunt produse din materiale care in principal respecta Standardul EN 1343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Se afirma existanta unor materiale plastice care respecta Standardul european EN 13432 ceea ce le-ar conferi caracter biodegradab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Conform datelor vehiculate de Ministerul Mediului pungile biodegradabile si / sau reutilizabile, confectionate din materiale de provenienta organica, hartie, textile sau plastic biodegardabil pot fi cu pana la 10% mai scumpe decat cele din material plastic convent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Producatorii locali afirma costuri de productie mai mari cu 15-20%, in functie de materialul si volumul pungi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Pretul pungilor ecologice in magazinele care au inceput sa le comercializeze variaza intre de la 1 leu si 2,5 lei pe buc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7B7-DF0A-4DF5-AC5D-81CC04A967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06254-EFB4-4A31-85BB-D30AD809FA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Conceptia comunitara actuala cu privire la ambalajele din materiale plastice biodegradab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Comisia Europena nu intentioneaza sa faca obligatorie utilizarea materialelor plastice biodegradabile, de vreme ce mai trebuie studiate inca potentialul si proprietatile benefice ale acestora asupra mediului inconjurator, </a:t>
            </a:r>
            <a:r>
              <a:rPr b="1" i="1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dar si potentialul comercial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Comisia sprijina totusi extinderea cercetarii in aceste domenii, inclusiv prin sustinerea programului BIOMAT (www.biomatnet.org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700-8DBD-4FFB-93B7-5E0870F8334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31BB0-4584-44F7-9804-9D920A864A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00620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Concluz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Taxarea distribuirii pungilor din material plastic care nu respecta Standardul EN 13432, desi va scumpi consumul pe termen scurt, nu va determina in mod semnificativ diminuarea acestu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Comercializarea pungilor reutilizabile si biodegradabile ar putea conduce, pe termen mediu si lung, la economii de cost pentru retaileri si posibila micsorare corespunzatoare a preturilor la raft, in conditiile unei schimbari durabile in obiceiurile de consum ale romanilor, respectiv folosirea cu precadere a pungilor ecolog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365-2AAE-4187-9EC8-7824DFB5A56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CA945-70CB-40D1-B350-12684A8425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7:38:06Z</dcterms:created>
  <dc:creator>SMA</dc:creator>
  <dc:description/>
  <dc:language>en-US</dc:language>
  <cp:lastModifiedBy>Adrian Manolache</cp:lastModifiedBy>
  <dcterms:modified xsi:type="dcterms:W3CDTF">2008-11-24T12:19:06Z</dcterms:modified>
  <cp:revision>22</cp:revision>
  <dc:subject/>
  <dc:title>Prezentare</dc:title>
</cp:coreProperties>
</file>