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A7D3-8007-448F-8288-0A7DEFDC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0724-38EC-46A4-B982-FC7EDD1C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4AE4-94DA-4F2B-A8E2-218D1C07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2324-FEC1-472B-810E-77ED32FD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FCD3-6032-42AE-8C87-04D95129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0A4C-F78E-4A7D-BB77-3810599F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0839-A7B3-49DF-809C-019BAE00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7B6F-EE7B-4617-9F22-30574A50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7139-4481-4CC7-8575-78165C2D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26AF-1357-4F71-8DF2-D66DD8B2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65F5-25BF-434F-8BD0-E2EA248B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92F6-FF3C-4536-89F5-4932CB7F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9021-F70A-4030-95C9-00879769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C631-6BAD-4AD2-A9DC-C0A21B84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7204-28C1-42E3-9F80-BF12C2BA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91A1-3D69-4944-9335-A8A1BD9A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E297-8BEE-497A-A978-01BCAA02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9B1C-3C06-4A78-8F5D-073709A3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7E98-85EA-4B6C-92E0-EED847FE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6A51-3560-4DE7-A803-3CB3F767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0762-F462-4549-BDC4-B0F54305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18200-6E5B-4FE8-961A-397341F4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89CB-CDEE-49C7-B883-7B652435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E6E7E-D705-4230-87B3-42E5B15C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E21D-F9D7-4B8C-8204-5A414B332D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F223-D9AC-49DA-A3D3-AAF44F321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aison-riche.ro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office@maison-riche.ro" TargetMode="External"/><Relationship Id="rId2" Type="http://schemas.openxmlformats.org/officeDocument/2006/relationships/hyperlink" Target="http://www.maison-riche.ro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AISON RICH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627280" y="4508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iata cadourilor – Consumul de produse premiu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nita ca afacere de nisa – segmentul cadourilor avand in componenta produse premi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plan international – cosurile cadou – business cu o vechime de cel mult 20 de a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ta la inceput in directia B2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le tendinte ale pietei impun o atentie deosebita asupra segmentului reta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zonalitatea – principala caracteristica a vanzaril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ul vanzarilor in ultimii 3 ani – crestere de 100% in fiecare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003400" cy="963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47600" y="63817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0571"/>
                </a:solidFill>
                <a:latin typeface="Arial"/>
              </a:rPr>
              <a:t>www.maison-riche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7280" y="620280"/>
            <a:ext cx="4535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DINTE IN PIATA CADOU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571"/>
                </a:solidFill>
                <a:latin typeface="Arial"/>
              </a:rPr>
              <a:t>Orientare spre cali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adouri avand in componenta mai putine repere dar de foarte buna calita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40044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SON RICHE : reprezinta in Rom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90571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ller Bel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90571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nthart German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90571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é-Tasse Bel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790571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scuterie Mere Poulard Fr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003400" cy="963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11280" y="4797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195640" y="4869000"/>
            <a:ext cx="2447640" cy="116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932360" y="4869000"/>
            <a:ext cx="1728720" cy="1203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6732720" y="5084640"/>
            <a:ext cx="2195280" cy="973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447600" y="63817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0571"/>
                </a:solidFill>
                <a:latin typeface="Arial"/>
              </a:rPr>
              <a:t>www.maison-riche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-18252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790571"/>
                </a:solidFill>
                <a:latin typeface="Arial"/>
              </a:rPr>
              <a:t>Design deosebit al ambalaj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003400" cy="963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64000" y="3789360"/>
            <a:ext cx="2737080" cy="19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76360" y="3645000"/>
            <a:ext cx="190656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39640" y="220500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00000"/>
              </a:lnSpc>
              <a:spcBef>
                <a:spcPts val="451"/>
              </a:spcBef>
              <a:buClr>
                <a:srgbClr val="440044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cerea de la cosurile de rachita traditionale la cele cu design deosebit si utilitate ulterioa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22050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>
              <a:lnSpc>
                <a:spcPct val="100000"/>
              </a:lnSpc>
              <a:spcBef>
                <a:spcPts val="451"/>
              </a:spcBef>
              <a:buClr>
                <a:srgbClr val="440044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une pentru ambalajul personalizat : cutie cadou personalizat, produse personaliz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549360"/>
            <a:ext cx="395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DINTE IN PIATA CADOU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7600" y="63817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0571"/>
                </a:solidFill>
                <a:latin typeface="Arial"/>
              </a:rPr>
              <a:t>www.maison-riche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571"/>
                </a:solidFill>
                <a:latin typeface="Arial"/>
              </a:rPr>
              <a:t>PROFESIONALISMUL SERVICI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rare la termenele si locatiile cerut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service profesioni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ermanent contact cu nevoile clienti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571"/>
                </a:solidFill>
                <a:latin typeface="Arial"/>
              </a:rPr>
              <a:t>ACCENT PERMANENT PE “No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son Riche – ofera pentru prima data in Romani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90571"/>
                </a:solidFill>
                <a:uFillTx/>
                <a:latin typeface="BalloonEFDropShadow"/>
              </a:rPr>
              <a:t>“</a:t>
            </a:r>
            <a:r>
              <a:rPr b="1" lang="en-US" sz="2400" spc="-1" strike="noStrike" u="sng">
                <a:solidFill>
                  <a:srgbClr val="790571"/>
                </a:solidFill>
                <a:uFillTx/>
                <a:latin typeface="BalloonEFDropShadow"/>
              </a:rPr>
              <a:t>CADOURI PENTRU PRIETENII TAI DIN EUROP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ura companie din Romania care poate prelua comenzii de cadouri cu livrare in toata Eu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49360"/>
            <a:ext cx="395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DINTE IN PIATA CADOU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003400" cy="96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47600" y="63817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0571"/>
                </a:solidFill>
                <a:latin typeface="Arial"/>
              </a:rPr>
              <a:t>www.maison-riche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353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ncolo de aceste tendinte ram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0571"/>
                </a:solidFill>
                <a:latin typeface="Arial"/>
              </a:rPr>
              <a:t>OCAZIILE pentru oferirea cadouri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versari personale sau ale companiil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var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imente deosebi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noastinta fata de un client / furniz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delizarea clientil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delizarea angajati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003400" cy="963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0" y="549360"/>
            <a:ext cx="395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OURILE MAISON RI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7600" y="638172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0571"/>
                </a:solidFill>
                <a:latin typeface="Arial"/>
              </a:rPr>
              <a:t>www.maison-riche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 gasim cadourile Maison Ric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o Cash &amp; Carry, Selgros, Agi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azine de delicate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line: </a:t>
            </a:r>
            <a:r>
              <a:rPr b="0" lang="en-US" sz="2400" spc="-1" strike="noStrike" u="sng">
                <a:solidFill>
                  <a:srgbClr val="993366"/>
                </a:solidFill>
                <a:uFillTx/>
                <a:latin typeface="Arial"/>
                <a:hlinkClick r:id="rId1"/>
              </a:rPr>
              <a:t>www.maison-riche.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azin Maison Riche – incinta hotel Parc Best W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2003400" cy="963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0" y="549360"/>
            <a:ext cx="395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OURILE MAISON RI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AISON RICH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924000" y="4868640"/>
            <a:ext cx="482436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ul. Constructorilor 16A, sector 6, Bucure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/Fax: +40 21 220 92 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: +40 728 62 22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1800" spc="-1" strike="noStrike" u="sng">
                <a:solidFill>
                  <a:srgbClr val="993366"/>
                </a:solidFill>
                <a:uFillTx/>
                <a:latin typeface="Arial"/>
                <a:hlinkClick r:id="rId1"/>
              </a:rPr>
              <a:t>office@maison-riche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: </a:t>
            </a:r>
            <a:r>
              <a:rPr b="0" lang="en-US" sz="1800" spc="-1" strike="noStrike" u="sng">
                <a:solidFill>
                  <a:srgbClr val="993366"/>
                </a:solidFill>
                <a:uFillTx/>
                <a:latin typeface="Arial"/>
                <a:hlinkClick r:id="rId2"/>
              </a:rPr>
              <a:t>www.maison-riche.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796000" y="115920"/>
            <a:ext cx="30956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21:33:58Z</dcterms:created>
  <dc:creator>Bogdan</dc:creator>
  <dc:description/>
  <dc:language>en-US</dc:language>
  <cp:lastModifiedBy>Bogdan</cp:lastModifiedBy>
  <dcterms:modified xsi:type="dcterms:W3CDTF">2007-11-04T23:27:16Z</dcterms:modified>
  <cp:revision>3</cp:revision>
  <dc:subject/>
  <dc:title>MAISON RICHE</dc:title>
</cp:coreProperties>
</file>