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4.png" ContentType="image/png"/>
  <Override PartName="/ppt/media/image6.wmf" ContentType="image/x-wmf"/>
  <Override PartName="/ppt/media/image3.png" ContentType="image/png"/>
  <Override PartName="/ppt/media/image11.wmf" ContentType="image/x-wmf"/>
  <Override PartName="/ppt/media/image7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9040" y="4876560"/>
            <a:ext cx="79214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9040" y="4876560"/>
            <a:ext cx="79214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89040" y="4876560"/>
            <a:ext cx="79214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9040" y="4876560"/>
            <a:ext cx="79214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9040" y="4876560"/>
            <a:ext cx="79214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0" y="3123720"/>
            <a:ext cx="395928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3636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363636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6691" t="0" r="0" b="0"/>
          <a:stretch/>
        </p:blipFill>
        <p:spPr>
          <a:xfrm>
            <a:off x="0" y="0"/>
            <a:ext cx="4264200" cy="449892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5292720" y="5877000"/>
            <a:ext cx="3443400" cy="671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2b37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376e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b376e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b376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376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b376e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b376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376e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b376e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2b376e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376e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b376e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376e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b376e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376e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b37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rcRect l="16695" t="22017" r="0" b="0"/>
          <a:stretch/>
        </p:blipFill>
        <p:spPr>
          <a:xfrm>
            <a:off x="0" y="0"/>
            <a:ext cx="3807000" cy="35082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250920" y="1052640"/>
            <a:ext cx="8642160" cy="5616360"/>
          </a:xfrm>
          <a:prstGeom prst="roundRect">
            <a:avLst>
              <a:gd name="adj" fmla="val 3287"/>
            </a:avLst>
          </a:prstGeom>
          <a:solidFill>
            <a:srgbClr val="ffffff">
              <a:alpha val="60000"/>
            </a:srgbClr>
          </a:solidFill>
          <a:ln w="9360">
            <a:solidFill>
              <a:srgbClr val="00000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10920" y="2550960"/>
            <a:ext cx="7916760" cy="34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2f7e2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762120" indent="-304920">
              <a:spcBef>
                <a:spcPts val="451"/>
              </a:spcBef>
              <a:buClr>
                <a:srgbClr val="2f7e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2" marL="1181160" indent="-266760">
              <a:spcBef>
                <a:spcPts val="451"/>
              </a:spcBef>
              <a:buClr>
                <a:srgbClr val="62ac1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2f7e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2f7e2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10920" y="1484280"/>
            <a:ext cx="7916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63636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796000" y="189000"/>
            <a:ext cx="2940120" cy="57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rcRect l="16695" t="22017" r="0" b="0"/>
          <a:stretch/>
        </p:blipFill>
        <p:spPr>
          <a:xfrm>
            <a:off x="0" y="0"/>
            <a:ext cx="3807000" cy="35082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1752120"/>
            <a:ext cx="791676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63636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7162920" y="304920"/>
            <a:ext cx="167328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rcRect l="6691" t="0" r="0" b="0"/>
          <a:stretch/>
        </p:blipFill>
        <p:spPr>
          <a:xfrm>
            <a:off x="0" y="0"/>
            <a:ext cx="4264200" cy="4498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0"/>
            <a:ext cx="9144000" cy="950760"/>
          </a:xfrm>
          <a:prstGeom prst="rect">
            <a:avLst/>
          </a:prstGeom>
          <a:solidFill>
            <a:srgbClr val="36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11280" y="1484280"/>
            <a:ext cx="7921440" cy="47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63636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36363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363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63636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36363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363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63636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36363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363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63636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36363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363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63636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363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63636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363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611280" y="151920"/>
            <a:ext cx="6170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213680" y="330120"/>
            <a:ext cx="1596960" cy="3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4876560"/>
            <a:ext cx="79214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63636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rcRect l="29746" t="29746" r="29888" b="15005"/>
          <a:stretch/>
        </p:blipFill>
        <p:spPr>
          <a:xfrm>
            <a:off x="4062240" y="2565360"/>
            <a:ext cx="1025640" cy="1403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65400" y="3645000"/>
            <a:ext cx="30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63636"/>
                </a:solidFill>
                <a:latin typeface="Arial"/>
              </a:rPr>
              <a:t>Multumim pentru atenti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796000" y="189000"/>
            <a:ext cx="2940120" cy="5731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900" spc="-1" strike="noStrike">
              <a:solidFill>
                <a:srgbClr val="36363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36363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6363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36363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363636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36363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6363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6363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6363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wm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2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84200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63636"/>
                </a:solidFill>
                <a:latin typeface="Arial"/>
              </a:rPr>
              <a:t>Cea mai scurta cale catre </a:t>
            </a:r>
            <a:br>
              <a:rPr sz="2800"/>
            </a:br>
            <a:r>
              <a:rPr b="1" lang="en-GB" sz="2800" spc="-1" strike="noStrike">
                <a:solidFill>
                  <a:srgbClr val="363636"/>
                </a:solidFill>
                <a:latin typeface="Arial"/>
              </a:rPr>
              <a:t>(mai mult) PROFIT</a:t>
            </a:r>
            <a:br>
              <a:rPr sz="2800"/>
            </a:br>
            <a:br>
              <a:rPr sz="1000"/>
            </a:br>
            <a:r>
              <a:rPr b="0" lang="en-GB" sz="1600" spc="-1" strike="noStrike">
                <a:solidFill>
                  <a:srgbClr val="8c8c8c"/>
                </a:solidFill>
                <a:latin typeface="Arial"/>
              </a:rPr>
              <a:t>Un “secret” cunoscut de toata lumea</a:t>
            </a:r>
            <a:endParaRPr b="0" lang="en-US" sz="16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0920" y="1484280"/>
            <a:ext cx="7916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Concluzii</a:t>
            </a:r>
            <a:endParaRPr b="0" lang="en-US" sz="24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1280" y="2550960"/>
            <a:ext cx="7921440" cy="34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2f7e2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Luarea deciziilor corecte, la momentul oportun este calea cea mai scurta si mai sigura catre profit. Pentru aceasta, este necesar sa dispunem de informatii relevante, accesibile imediat.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f7e2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Profitul este treaba tuturor oamenilor din companie/organizatie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f7e2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Oferiti-le oamenilor un instrument puternic si in acelasi timp simplu de utilizat pentru a-si urmari si analiza activitatea. Vor lua singuri deciziile potrivite pentru a-si imbunatati performantele.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724360" y="5445000"/>
            <a:ext cx="2746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363636"/>
                </a:solidFill>
                <a:uFillTx/>
                <a:latin typeface="Arial"/>
              </a:rPr>
              <a:t>Contact:</a:t>
            </a:r>
            <a:br>
              <a:rPr sz="1200"/>
            </a:br>
            <a:r>
              <a:rPr b="0" lang="en-GB" sz="1200" spc="-1" strike="noStrike">
                <a:solidFill>
                  <a:srgbClr val="363636"/>
                </a:solidFill>
                <a:latin typeface="Arial"/>
              </a:rPr>
              <a:t>Tel: 0723.50.70.60</a:t>
            </a:r>
            <a:br>
              <a:rPr sz="1200"/>
            </a:br>
            <a:r>
              <a:rPr b="0" lang="en-GB" sz="1200" spc="-1" strike="noStrike">
                <a:solidFill>
                  <a:srgbClr val="363636"/>
                </a:solidFill>
                <a:latin typeface="Arial"/>
              </a:rPr>
              <a:t>Web:    www.relevance.ro</a:t>
            </a:r>
            <a:br>
              <a:rPr sz="1200"/>
            </a:br>
            <a:r>
              <a:rPr b="0" lang="en-GB" sz="1200" spc="-1" strike="noStrike">
                <a:solidFill>
                  <a:srgbClr val="363636"/>
                </a:solidFill>
                <a:latin typeface="Arial"/>
              </a:rPr>
              <a:t>             www.qlikview.ro</a:t>
            </a:r>
            <a:br>
              <a:rPr sz="1200"/>
            </a:br>
            <a:r>
              <a:rPr b="0" lang="en-GB" sz="1200" spc="-1" strike="noStrike">
                <a:solidFill>
                  <a:srgbClr val="363636"/>
                </a:solidFill>
                <a:latin typeface="Arial"/>
              </a:rPr>
              <a:t>E-mail: office@relevance.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10920" y="2263680"/>
            <a:ext cx="799308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2f7e2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Despre piata de retail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f7e2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Profitul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2f7e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Ce este?</a:t>
            </a:r>
            <a:endParaRPr b="0" lang="en-US" sz="1600" spc="-1" strike="noStrike">
              <a:solidFill>
                <a:srgbClr val="363636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2f7e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Cine e responsabil?</a:t>
            </a:r>
            <a:endParaRPr b="0" lang="en-US" sz="1600" spc="-1" strike="noStrike">
              <a:solidFill>
                <a:srgbClr val="363636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2f7e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Secretul”</a:t>
            </a:r>
            <a:endParaRPr b="0" lang="en-US" sz="1600" spc="-1" strike="noStrike">
              <a:solidFill>
                <a:srgbClr val="363636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2f7e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Resurse necesare</a:t>
            </a:r>
            <a:endParaRPr b="0" lang="en-US" sz="1600" spc="-1" strike="noStrike">
              <a:solidFill>
                <a:srgbClr val="363636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2f7e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Putem ajuta?</a:t>
            </a:r>
            <a:endParaRPr b="0" lang="en-US" sz="1600" spc="-1" strike="noStrike">
              <a:solidFill>
                <a:srgbClr val="36363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f7e2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oncluzii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6363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10920" y="1197000"/>
            <a:ext cx="7916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36363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0920" y="1484280"/>
            <a:ext cx="7916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Piata de retail</a:t>
            </a:r>
            <a:endParaRPr b="0" lang="en-US" sz="24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2550960"/>
            <a:ext cx="3881520" cy="34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63636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63636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6337440" cy="2206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195640" y="2492280"/>
            <a:ext cx="4265640" cy="37911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2340000" y="2421000"/>
            <a:ext cx="4176720" cy="41306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3025800" y="3087720"/>
            <a:ext cx="5375160" cy="1763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433440" y="3922560"/>
            <a:ext cx="5562720" cy="1409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2736720" y="4627440"/>
            <a:ext cx="5027760" cy="2230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1547640" y="2421000"/>
            <a:ext cx="60692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10920" y="2263680"/>
            <a:ext cx="799308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2f7e2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Simplu…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6363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610920" y="1197000"/>
            <a:ext cx="7916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Profitul – ce este?</a:t>
            </a:r>
            <a:endParaRPr b="0" lang="en-US" sz="24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84360" y="313380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 = V -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43280" y="4292640"/>
            <a:ext cx="360360" cy="865080"/>
          </a:xfrm>
          <a:prstGeom prst="upArrow">
            <a:avLst>
              <a:gd name="adj1" fmla="val 50000"/>
              <a:gd name="adj2" fmla="val 60015"/>
            </a:avLst>
          </a:prstGeom>
          <a:solidFill>
            <a:srgbClr val="62ac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4292640"/>
            <a:ext cx="360360" cy="865080"/>
          </a:xfrm>
          <a:prstGeom prst="upArrow">
            <a:avLst>
              <a:gd name="adj1" fmla="val 50000"/>
              <a:gd name="adj2" fmla="val 60015"/>
            </a:avLst>
          </a:prstGeom>
          <a:solidFill>
            <a:srgbClr val="62ac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0800000">
            <a:off x="5940000" y="4365360"/>
            <a:ext cx="360360" cy="865080"/>
          </a:xfrm>
          <a:prstGeom prst="upArrow">
            <a:avLst>
              <a:gd name="adj1" fmla="val 50000"/>
              <a:gd name="adj2" fmla="val 60015"/>
            </a:avLst>
          </a:prstGeom>
          <a:solidFill>
            <a:srgbClr val="62ac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 calcmode="lin" valueType="num" to="4">
                                      <p:cBhvr additive="repl">
                                        <p:cTn id="6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48974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10920" y="2263680"/>
            <a:ext cx="799308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2f7e2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ine aduce bani? (V)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f7e2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ine cheltuie bani? (C)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6363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610920" y="1197000"/>
            <a:ext cx="7916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Profitul – cine e responsabil</a:t>
            </a:r>
            <a:endParaRPr b="0" lang="en-US" sz="24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50920" y="364500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ate departamentele din companie/organiz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0920" y="1484280"/>
            <a:ext cx="7916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Profitul - secretul</a:t>
            </a:r>
            <a:endParaRPr b="0" lang="en-US" sz="24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0920" y="2550960"/>
            <a:ext cx="7705800" cy="34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2f7e2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ea mai scurta cale spre (mai mult) profit este…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63636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63636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63636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908000" y="3573360"/>
            <a:ext cx="5146920" cy="3206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908000" y="3573360"/>
            <a:ext cx="5146920" cy="32083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403280" y="3213000"/>
            <a:ext cx="6408720" cy="398880"/>
          </a:xfrm>
          <a:prstGeom prst="rect">
            <a:avLst/>
          </a:prstGeom>
          <a:solidFill>
            <a:srgbClr val="c0c0c0">
              <a:alpha val="45000"/>
            </a:srgbClr>
          </a:solidFill>
          <a:ln w="9360">
            <a:solidFill>
              <a:srgbClr val="8c8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uarea deciziilor corecte, la momentul oportu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63280" y="47242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580720" y="623736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10920" y="2263680"/>
            <a:ext cx="799308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2f7e2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De ce resurse avem nevoie pentru a obtine profit?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63636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610920" y="1197000"/>
            <a:ext cx="7916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Profitul - resurse</a:t>
            </a:r>
            <a:endParaRPr b="0" lang="en-US" sz="24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35280" y="361944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ame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35280" y="484344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hn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54560" y="4148280"/>
            <a:ext cx="216000" cy="647640"/>
          </a:xfrm>
          <a:prstGeom prst="upDownArrow">
            <a:avLst>
              <a:gd name="adj1" fmla="val 50000"/>
              <a:gd name="adj2" fmla="val 59689"/>
            </a:avLst>
          </a:prstGeom>
          <a:solidFill>
            <a:srgbClr val="62ac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0920" y="1484280"/>
            <a:ext cx="79167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Profitul – poate Relevance sa ajute?</a:t>
            </a:r>
            <a:endParaRPr b="0" lang="en-US" sz="24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1280" y="2550960"/>
            <a:ext cx="7921440" cy="34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2f7e2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Nu stim inca – trebuie intai sa ne cunoastem.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2f7e2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63636"/>
                </a:solidFill>
                <a:uFillTx/>
                <a:latin typeface="Arial"/>
              </a:rPr>
              <a:t>Oamenii</a:t>
            </a: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: companiile dispun de oameni extrem de bine pregatiti, specialisti in domeniul lor de activitate. 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2f7e2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63636"/>
                </a:solidFill>
                <a:uFillTx/>
                <a:latin typeface="Arial"/>
              </a:rPr>
              <a:t>Tehnologie</a:t>
            </a: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: da, va putem oferi o solutie pentru a lua decizii profitabile, la momentul oportun.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6363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63636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63636"/>
              </a:solidFill>
              <a:latin typeface="Arial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11280" y="5661000"/>
            <a:ext cx="4032360" cy="368280"/>
          </a:xfrm>
          <a:prstGeom prst="rect">
            <a:avLst/>
          </a:prstGeom>
          <a:noFill/>
          <a:ln w="9360">
            <a:solidFill>
              <a:srgbClr val="8c8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ideti sa vedem un exemp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0:14:03Z</dcterms:created>
  <dc:creator/>
  <dc:description/>
  <dc:language>en-US</dc:language>
  <cp:lastModifiedBy>Ionut</cp:lastModifiedBy>
  <dcterms:modified xsi:type="dcterms:W3CDTF">2007-11-05T06:23:20Z</dcterms:modified>
  <cp:revision>94</cp:revision>
  <dc:subject/>
  <dc:title>Slide 1</dc:title>
</cp:coreProperties>
</file>