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C686-3FF2-4828-8942-EC892C4A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263-3D1C-4506-B7D0-6D0C6CD7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10A-73E3-4572-B9A8-058C4DC7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FD1-74B6-499A-960C-E7D3ED6D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023-2CF6-417F-9917-B8F80670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5E4-02EF-4F51-B14C-E3BFD6E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372-2133-462E-8D83-31AC212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166-19DE-4F26-95E7-785E76C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C2A-0074-470F-AFAE-06CB356A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F13-EAD7-43D7-AB2C-1CD8AE6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E0C-D69D-434C-AB9A-01364A5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464-FAC6-4332-9F21-2B1BC3B8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4DE7-9D3D-4478-9BD9-9077F3481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878544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Programul Naţional de Dezvoltare Rurală 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3640" y="4581360"/>
            <a:ext cx="51116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elia HARABAG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 de Sta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inisterul Agriculturii şi Dezvoltării R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E07-3A98-4A58-9016-95FC0BD79B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Noua perioadă de programare oferă posibilităţi de a ori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sprijinul către creştere economică, locuri de muncă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şi dezvolt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urabil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imele fonduri vor veni după aprobarea PNDR 2007-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Noua etapă în care ne aflăm este, fără îndoială o provocare pent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agricultură şi pentru economia românească în general, î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ă trebui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să profităm şi să o transformăm în oportunit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2C9-B8E3-49DB-9612-69A0AA998A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995640" y="4797000"/>
            <a:ext cx="48974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nelia HARABAG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ar de 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inisterul Agriculturii şi Dezvoltării Ru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ă mulţumesc pentru atenţie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508-8A5C-4B76-B787-7D45E797A4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zvoltarea satului românesc va fi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prijinită de Comunitatea European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in intermediul 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Programului Naţional de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Dezvoltare Rurală 2007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ogramul Naţional de</a:t>
            </a:r>
            <a:r>
              <a:rPr b="1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Dezvoltare Rurală -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program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dezvoltar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paţiului rural românesc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e adresează nevoilor mediului rur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cerinţelor de dezvoltare rural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vizeaz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reducerea cât mai rapidă a disparităţilor de dezvoltare socio-economică a României faţă de celelalte state membre ale Uniunii Europen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NDR - complementar programelor operaţionale finanţate din fond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tructu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D78-CACC-4CC9-8F5B-23BAB73D2A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plementarea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ogramului Naţional de Dezvoltare Rurală 2007-201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va realiza printr-o serie de măsuri grupate în patru priorităţ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reşterea competitivităţii sectorului agricol şi forestier (Axa 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bunătăţirea calităţii mediului şi a zonelor rurale (Axa 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mbunătăţirea calităţii vieţii în zonele rurale şi diversificarea economiei rurale (Axa 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movarea iniţiativelor locale de tip Leader (Axa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03D-F3FC-4C78-B13E-F2FA6FC76C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496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ndurile totale pe dezvoltare rural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022 mld. euro)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unt distribuite 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tru a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a mai mare sumă - peste 3 miliarde euro - (45% din total) este destinată îmbunătăţirii competitivităţii în sectorul agricol si silv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% pentru managementul terenurilor agricole şi protecţia mediulu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ar 27,5% - adic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ap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2 miliarde euro pentru diversificarea activităţilor econom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irca 2,5% din suma va fi alocata programului Leader, care va sprijini proiecte de dezvoltare rurală elaborate de către comunităţile locale în parteneriat public-pri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030560" y="1268280"/>
            <a:ext cx="51134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364000" y="1413000"/>
            <a:ext cx="1440000" cy="100800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ăţi direc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0 mil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1341360"/>
            <a:ext cx="1440000" cy="107964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FEAD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,522 mld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191628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219640" y="2637000"/>
            <a:ext cx="1224000" cy="115236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,17 mld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516720" y="2637000"/>
            <a:ext cx="1224000" cy="122364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A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,8 mld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2000" y="2637000"/>
            <a:ext cx="1224000" cy="115236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XA 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,5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1,97 mld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4365720"/>
            <a:ext cx="1368360" cy="100800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2,5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 mil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85080" y="4437000"/>
            <a:ext cx="1152720" cy="792360"/>
          </a:xfrm>
          <a:prstGeom prst="ellipse">
            <a:avLst/>
          </a:prstGeom>
          <a:solidFill>
            <a:srgbClr val="bbe0e3">
              <a:alpha val="4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 mil. e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789360"/>
            <a:ext cx="72072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524720" y="3789360"/>
            <a:ext cx="719280" cy="7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8F3-1E24-4F02-B91C-1B03967B9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50920" y="1268280"/>
          <a:ext cx="8713800" cy="4957920"/>
        </p:xfrm>
        <a:graphic>
          <a:graphicData uri="http://schemas.openxmlformats.org/drawingml/2006/table">
            <a:tbl>
              <a:tblPr/>
              <a:tblGrid>
                <a:gridCol w="4608360"/>
                <a:gridCol w="1368360"/>
                <a:gridCol w="1368720"/>
                <a:gridCol w="136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ăs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ublic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rivat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tot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- Formare profesională, informare şi difuzare de cunoştinţ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.019.3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.019.3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 - Instalarea tinerilor fermie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.384.9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7.384.9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- Modernizarea exploataţiilor agrico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.442.9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.713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18.156.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 - Îmbunătăţirea valorii economice a pădur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.365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.299.1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.664.6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- Creşterea valorii adăugate a produselor agricole şi foresti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1.174.1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8.598.7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89.772.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- Îmbunătăţirea şi dezvoltarea infrastructurii legate de dezvoltarea şi adaptarea agriculturii şi silviculturi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4.769.8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4.769.8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 - Sprijinirea fermelor agricole de semi-subzistenţ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096.7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096.7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 - Înfiinţarea grupurilor de producăto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.365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.365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Furnizarea de servicii de consiliere şi consultanţă pentru agricultori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692.4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692.4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F52-1136-4273-A4AB-B69673C576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50920" y="1413000"/>
          <a:ext cx="8713800" cy="4149720"/>
        </p:xfrm>
        <a:graphic>
          <a:graphicData uri="http://schemas.openxmlformats.org/drawingml/2006/table">
            <a:tbl>
              <a:tblPr/>
              <a:tblGrid>
                <a:gridCol w="4608360"/>
                <a:gridCol w="1368360"/>
                <a:gridCol w="1368720"/>
                <a:gridCol w="136836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ăs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ublic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rivat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tot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333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- Sprijin pentru fermierii din zonele defavorizate monta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8.107.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8.107.8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 - Sprijin pentru fermierii din zonele defavorizate altele decât cele monta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.940.1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.940.1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- Plaţi de agro-medi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024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024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 - Prima împădurire a terenurilor agrico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.341.337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447.1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.788.4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- Creşterea valorii adăugate a produselor agricole şi foresti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71.174.1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8.598.7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89.772.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B56-02EA-4BE7-9E60-C8EF9239C3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250920" y="1557360"/>
          <a:ext cx="8713800" cy="3003480"/>
        </p:xfrm>
        <a:graphic>
          <a:graphicData uri="http://schemas.openxmlformats.org/drawingml/2006/table">
            <a:tbl>
              <a:tblPr/>
              <a:tblGrid>
                <a:gridCol w="4608360"/>
                <a:gridCol w="1368360"/>
                <a:gridCol w="1368720"/>
                <a:gridCol w="136836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ăs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ublic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rivat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tot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339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 – Sprijin </a:t>
                      </a: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ru crearea şi dezvoltarea de micro-întreprinde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429.6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.462.1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9.891.8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 - Încurajarea activităţilor turist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.222.7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.043.0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.265.80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 – Renovarea, dezvoltarea satelor, îmbunătăţirea servicilor de bază pentru economia şi populaţia rurală şi punerea în valoare a moştenirii rura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6.087.4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30.4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79.217.8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748-F83D-46F0-9201-B1CA11DD70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50920" y="1268280"/>
          <a:ext cx="8713800" cy="4881600"/>
        </p:xfrm>
        <a:graphic>
          <a:graphicData uri="http://schemas.openxmlformats.org/drawingml/2006/table">
            <a:tbl>
              <a:tblPr/>
              <a:tblGrid>
                <a:gridCol w="4608360"/>
                <a:gridCol w="1368360"/>
                <a:gridCol w="1368720"/>
                <a:gridCol w="1368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ăs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ublic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tuială Privat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tota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355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a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Implementarea strategiilor de dezvoltare locală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.481.5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21.8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.803.4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. Creşterea competitivităţii sectoarelor agricol şi foresti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.768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56.5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525.2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 Îmbunătăţirea mediului şi a spaţiului rur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507.4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0.4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007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.Calitatea vieţii şi diversificarea economiei rura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205.3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064.8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270.1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1 Implementarea proiectelor de cooper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01.497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7.330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98.8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1 Funcţionarea Grupurilor de Acţiune Locală, dobândirea de competenţe şi animarea teritoriulu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891.8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891.8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-1. Construcţie parteneriate public-priva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7.6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7.6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1-2. Funcţionarea  Grupurilor  de Acţiune Locală, dobândirea de competenţe şi animarea teritoriulu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64.22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64.22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D34-FE04-48AA-A2BC-DA995D2801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ccesarea banilor se va realiza prin încheierea de contract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nanţare între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genţia de Plăţi pentru Dezvoltare Rurală şi Pescu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genţi economic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în calitate de beneficiari, în funcţie de tipul investiţi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olicit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utilizarea fondurilor, beneficiarii trebuie să asigure o parte 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anii necesari realizării investiţiei, adică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finanţare privat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din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su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opri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au în situaţia în care nu dispun de acestea se pot adresa une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bănci pentru obţinerea unui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credit banca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36BC-3CEC-47AF-88A3-D6577B85A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19:00Z</dcterms:created>
  <dc:creator>Raluca Sandu</dc:creator>
  <dc:description/>
  <dc:language>en-US</dc:language>
  <cp:lastModifiedBy>Mihaela STEFANICA</cp:lastModifiedBy>
  <dcterms:modified xsi:type="dcterms:W3CDTF">2007-10-31T07:57:45Z</dcterms:modified>
  <cp:revision>54</cp:revision>
  <dc:subject/>
  <dc:title>Oportunităţi pentru mediul de afaceri oferite de PNDR 2007-2013</dc:title>
</cp:coreProperties>
</file>