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5703-75D7-4F3F-A155-FA3DDC524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8920" y="4139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1F1E-3458-4BB0-AF65-5217914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444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38B5-0B53-4F44-84B6-1FD5B78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596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264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892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596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264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2E14-9536-40AA-9E22-91DE662414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09560" y="217440"/>
            <a:ext cx="547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9566-6A93-4E42-A268-D2A5F1D5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444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58920" y="4139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444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5596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264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5892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5596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264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9F799-28D7-4737-86D0-9FDEB678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BA675-C74E-45D9-BCFF-A18D92CF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63057-EBE4-4C14-9CDD-6E01E452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835E6-94A1-41EB-BBA3-8E595ED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F35C86-62E8-454D-80E3-2141C27E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09B7-4658-44F7-B852-B0D5504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9560" y="217440"/>
            <a:ext cx="547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34C32E-E8EE-4388-AAF9-EE5CE6F5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4060B-BDD9-4426-9B92-58DB47EA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9444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CB359-B112-4C55-9598-1DE9BB9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6107D-00D3-45BB-8B24-9CB0332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58920" y="4139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55437-0656-43EB-9D8C-CE2B1FE1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9444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D4075-8FEB-4859-802A-88D37AA7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5596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5264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5892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85596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5264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B12C4-B9D1-45CC-9B67-1A2EC6C2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1E78-6B67-4A6E-B04D-5A1A21A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09560" y="217440"/>
            <a:ext cx="547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9444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58920" y="4139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9444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5596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2640" y="1988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5892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85596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2640" y="4139640"/>
            <a:ext cx="24728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94AE-156A-492B-9013-2973016B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9560" y="217440"/>
            <a:ext cx="547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9CAE-A1F8-4256-B5F6-C5C9F762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0B30-FDB6-4212-942D-B79D7CA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4440" y="4139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4F5E-55B3-4987-9DEE-46949FF9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4440" y="1988640"/>
            <a:ext cx="3747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8920" y="4139640"/>
            <a:ext cx="768024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FE82-0AB2-4FFA-A8E5-441BEA8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4" marL="2057400" indent="-22860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5" marL="2057400" indent="-228600">
              <a:spcBef>
                <a:spcPts val="1125"/>
              </a:spcBef>
              <a:buClr>
                <a:srgbClr val="141f7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6" marL="2057400" indent="-228600">
              <a:spcBef>
                <a:spcPts val="1125"/>
              </a:spcBef>
              <a:buClr>
                <a:srgbClr val="141f7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5280" y="6451200"/>
            <a:ext cx="14907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78787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787878"/>
                </a:solidFill>
                <a:latin typeface="Arial"/>
              </a:rPr>
              <a:t>Noiembri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1718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5F1-10B7-49A5-8819-F0F59F55EE2B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40080" y="4113000"/>
            <a:ext cx="6323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77080" y="6524640"/>
            <a:ext cx="164448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8787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87878"/>
                </a:solidFill>
                <a:latin typeface="Arial"/>
              </a:rPr>
              <a:t>Noiembri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502000" y="5589720"/>
            <a:ext cx="4349520" cy="576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0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41f78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4fa8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41f78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141f78"/>
              </a:solidFill>
              <a:latin typeface="Arial"/>
            </a:endParaRPr>
          </a:p>
          <a:p>
            <a:pPr lvl="3" marL="1371600" algn="ctr">
              <a:buClr>
                <a:srgbClr val="4fa8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1f78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  <a:p>
            <a:pPr lvl="4" marL="1828800" algn="ctr">
              <a:buClr>
                <a:srgbClr val="4fa8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41f78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141f78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141f7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41f78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141f78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141f7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41f78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141f7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1258920" y="1988640"/>
            <a:ext cx="76802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1" marL="343080" indent="-34308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2" marL="343080" indent="-34308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3" marL="343080" indent="-34308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4" marL="343080" indent="-343080">
              <a:spcBef>
                <a:spcPts val="1125"/>
              </a:spcBef>
              <a:buClr>
                <a:srgbClr val="f7d117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5" marL="343080" indent="-343080">
              <a:spcBef>
                <a:spcPts val="1125"/>
              </a:spcBef>
              <a:buClr>
                <a:srgbClr val="141f78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  <a:p>
            <a:pPr lvl="6" marL="343080" indent="-343080">
              <a:spcBef>
                <a:spcPts val="1125"/>
              </a:spcBef>
              <a:buClr>
                <a:srgbClr val="141f78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f78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755280" y="6451200"/>
            <a:ext cx="14907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8787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87878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6"/>
          </p:nvPr>
        </p:nvSpPr>
        <p:spPr>
          <a:xfrm>
            <a:off x="2360160" y="6451200"/>
            <a:ext cx="287964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8787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87878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709560" y="217440"/>
            <a:ext cx="5470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8457840" y="61718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34AC-A629-4252-9614-57F29C5BBEE3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40080" y="4113000"/>
            <a:ext cx="6323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8"/>
          </p:nvPr>
        </p:nvSpPr>
        <p:spPr>
          <a:xfrm>
            <a:off x="6904080" y="6508800"/>
            <a:ext cx="164448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78787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78787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9"/>
          </p:nvPr>
        </p:nvSpPr>
        <p:spPr>
          <a:xfrm>
            <a:off x="2502000" y="5589720"/>
            <a:ext cx="4349520" cy="576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000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600" spc="-1" strike="noStrike">
                <a:solidFill>
                  <a:srgbClr val="78787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787878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40080" y="4113000"/>
            <a:ext cx="6323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Viitorul pietei de retail din Roma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Dir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4360" y="33336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omertul modern din Romania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1066680"/>
            <a:ext cx="0" cy="5257800"/>
          </a:xfrm>
          <a:prstGeom prst="line">
            <a:avLst/>
          </a:prstGeom>
          <a:ln w="9360">
            <a:solidFill>
              <a:srgbClr val="4a9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2480" y="3657600"/>
            <a:ext cx="8382240" cy="0"/>
          </a:xfrm>
          <a:prstGeom prst="line">
            <a:avLst/>
          </a:prstGeom>
          <a:ln w="9360">
            <a:solidFill>
              <a:srgbClr val="4a9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6720" y="1557360"/>
            <a:ext cx="11804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e1e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141f78"/>
                </a:solidFill>
                <a:latin typeface="Times New Roman"/>
              </a:rPr>
              <a:t>Puncte forte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9080" y="1628640"/>
            <a:ext cx="12034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e1e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141f78"/>
                </a:solidFill>
                <a:latin typeface="Times New Roman"/>
              </a:rPr>
              <a:t>Puncte slabe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5840" y="3759120"/>
            <a:ext cx="1223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e1e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141f78"/>
                </a:solidFill>
                <a:latin typeface="Times New Roman"/>
              </a:rPr>
              <a:t>Oportunitati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9080" y="3759120"/>
            <a:ext cx="112392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1e1e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141f78"/>
                </a:solidFill>
                <a:latin typeface="Times New Roman"/>
              </a:rPr>
              <a:t>Amenintari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2060640"/>
            <a:ext cx="419112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Cea mai atractiva forma de comert;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Putere mare de negociere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Consumatorul roman este foarte receptiv la nou;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4149720"/>
            <a:ext cx="419112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multe regiuni nu sunt inca acoperite de comertul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modern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venitul si puterea de cumparare sunt in crestere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continua; 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trecerea la standardele de calitate impuse de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aderarea la UE vor diminua volumul tranzactiilor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de pe piata neagra;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32360" y="4076640"/>
            <a:ext cx="4191120" cy="27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raportul pret/teren putere de cumparare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dezechilibrat;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dezvoltarea foarte rapida a retelelor si formatelor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concurente (toti distribuitorii au anuntat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deschideri de noi magazine);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cresterea salariilor si migratia fortei de munca (rata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 somajului la nivel national fiind de 3.9% in august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 2007, in unele orase aceasta ajungand la sub 2%-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 dificultati in recrutarea personalului);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76720" y="2060640"/>
            <a:ext cx="37594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sectorul produselor proaspete este inca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insuficient dezvoltat in Romania;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</a:t>
            </a: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Infrastructura este in curs de dezvoltare dar </a:t>
            </a:r>
            <a:br>
              <a:rPr sz="1500"/>
            </a:br>
            <a:r>
              <a:rPr b="0" lang="fr-FR" sz="1500" spc="-1" strike="noStrike">
                <a:solidFill>
                  <a:srgbClr val="141f78"/>
                </a:solidFill>
                <a:latin typeface="Times New Roman"/>
              </a:rPr>
              <a:t>  intr-un ritm lent;</a:t>
            </a: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62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51F7-B361-4E70-8987-0EBDC9AEE16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4360" y="33336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omania – Concluzii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80000" y="6381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e: Planet Retail, GfK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6920" y="1773360"/>
            <a:ext cx="7921800" cy="46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25"/>
              </a:spcBef>
              <a:buClr>
                <a:srgbClr val="141f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141f78"/>
                </a:solidFill>
                <a:latin typeface="Times New Roman"/>
              </a:rPr>
              <a:t>Piata de retail va continua dezvoltarea intr-un ritm alert cel putin pana in 2010</a:t>
            </a: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25"/>
              </a:spcBef>
              <a:buClr>
                <a:srgbClr val="141f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25"/>
              </a:spcBef>
              <a:buClr>
                <a:srgbClr val="141f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141f78"/>
                </a:solidFill>
                <a:latin typeface="Times New Roman"/>
              </a:rPr>
              <a:t>Se estimeaza ca in 2010 ponderea comertului modern va atinge 50%, existand in </a:t>
            </a:r>
            <a:br>
              <a:rPr sz="1700"/>
            </a:br>
            <a:r>
              <a:rPr b="1" lang="fr-FR" sz="1700" spc="-1" strike="noStrike">
                <a:solidFill>
                  <a:srgbClr val="141f78"/>
                </a:solidFill>
                <a:latin typeface="Times New Roman"/>
              </a:rPr>
              <a:t>   continuare potential de crestere</a:t>
            </a: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25"/>
              </a:spcBef>
              <a:buClr>
                <a:srgbClr val="141f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25"/>
              </a:spcBef>
              <a:buClr>
                <a:srgbClr val="141f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141f78"/>
                </a:solidFill>
                <a:latin typeface="Times New Roman"/>
              </a:rPr>
              <a:t>Vor exista concentrari pe aceasta piata – preluari, etc…   </a:t>
            </a: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25"/>
              </a:spcBef>
              <a:buClr>
                <a:srgbClr val="141f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25"/>
              </a:spcBef>
              <a:buClr>
                <a:srgbClr val="141f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141f78"/>
                </a:solidFill>
                <a:latin typeface="Times New Roman"/>
              </a:rPr>
              <a:t>Marile grupuri de retail vor adopta o structura multiformat</a:t>
            </a: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1992C-36A6-4DB7-9FF6-2EB3E2FB418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33336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catori macroeconomici Romania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92360" y="3139920"/>
          <a:ext cx="5688000" cy="2736720"/>
        </p:xfrm>
        <a:graphic>
          <a:graphicData uri="http://schemas.openxmlformats.org/drawingml/2006/table">
            <a:tbl>
              <a:tblPr/>
              <a:tblGrid>
                <a:gridCol w="2122560"/>
                <a:gridCol w="641160"/>
                <a:gridCol w="641520"/>
                <a:gridCol w="747720"/>
                <a:gridCol w="747720"/>
                <a:gridCol w="787320"/>
              </a:tblGrid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2007p*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2008p*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2009p*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PIB(M Euro)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78,702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96,845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115,012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128,895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140,077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PIB/locuitor (Euro)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3,525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4,342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5,163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5,794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6,305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Evolutie PIB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4.1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7.7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6.5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4.8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5.0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Rata inflatiei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9.0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6.6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4.5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5.0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3.5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Rata somajului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7.2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6.10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Arial"/>
                        </a:rPr>
                        <a:t>4.4%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Cheltuielile de consum ale populatiei (euro/locuitor/an)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2,613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3,077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3,559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3,903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4,228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Numar de gospodarii (mii)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8087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8137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41f78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endParaRPr b="0" lang="en-US" sz="12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5867280" y="638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a: Planet Retail,CNP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2560" y="1197000"/>
            <a:ext cx="828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Cu toate ca pe termen foarte scurt prognozele au fost depasite ca urmare a cresterii inflatiei, indicatorii macroeconomici si previziunile pe termen mediu arata ca economia Romaniei este pe coordonate pozitive. 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Este asteptata o crestere a consumului ca urmare a cresterii veniturilor si implicit a puterii de cumparare. </a:t>
            </a:r>
            <a:r>
              <a:rPr b="1" i="1" lang="fr-FR" sz="1600" spc="-1" strike="noStrike">
                <a:solidFill>
                  <a:srgbClr val="141f78"/>
                </a:solidFill>
                <a:latin typeface="Times New Roman"/>
              </a:rPr>
              <a:t>Salariul mediu a crescut cu 25% fata de anul trecut!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9500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41f78"/>
                </a:solidFill>
                <a:latin typeface="Times New Roman"/>
              </a:rPr>
              <a:t>* p = prognoza</a:t>
            </a:r>
            <a:endParaRPr b="0" lang="en-US" sz="14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15B9-69EB-414A-BAE1-C24FA4DED16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40464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iata de retail din Romania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2560" y="1292400"/>
            <a:ext cx="44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Valoare piata FMCG 2006: 14.7 miliarde Euro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638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a: Planet Retail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003400"/>
            <a:ext cx="439272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Caracteristici: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Piata in dezvoltare, peste 22 milioane locuitori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Aderarea la UE din 2007 a insemnat: disparitia     taxelor vamale, alienierea la standardele de calitate europene si la legislatia europeana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Pondere a comertului modern slaba (comertul    « de taraba » inca foarte prezent), pondere importanta a pieteti negre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4562640"/>
            <a:ext cx="777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Intrarea unor noi jucatori: Real (Timisoara 16 martie 2006) si Auchan (Bucuresti, 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7 octombrie 2006)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41f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 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Cresterea exagerata su nejustificata a preturilor terenurilor atat in Bucuresti si la nivel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national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83280" y="1197000"/>
          <a:ext cx="3960720" cy="292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197000"/>
                    <a:ext cx="396072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D1EE-D8FD-4EEA-953C-C190D1E6072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436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aracteristici si numar magazine pe canale de distributie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Arial"/>
              </a:rPr>
              <a:t>(sfarsitul lunii octombrie 2007)</a:t>
            </a:r>
            <a:endParaRPr b="0" lang="en-US" sz="14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638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a: Planet Retail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1268280"/>
            <a:ext cx="820872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Hypermarket: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62 magazine (Kaufland inclus)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c0416"/>
                </a:solidFill>
                <a:latin typeface="Times New Roman"/>
              </a:rPr>
              <a:t>Carrefour - lider pe acest format, cu o cota de piata de 50.5% in 2006 .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Supermarket: 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peste 560 de magazine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CBA: 56.6% cota de piata, Rewe: 27.2% cota de piata in 2006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Delhaize Group (9.2% cota de piata) in 2006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76720" y="3178080"/>
          <a:ext cx="5827680" cy="30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8080"/>
                    <a:ext cx="582768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82560" y="3311640"/>
            <a:ext cx="2809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Hard Discount: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170 magazine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Acest format a cunoscut o dezvoltare foarte rapida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Cash&amp;Carry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: 39 magazine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Metro Grup: 73.6%, 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Rewe: 26.4% in 2006;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Proximitate: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peste 1.000 de  magazine la sfarsitul anului 2006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316404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41f78"/>
                </a:solidFill>
                <a:latin typeface="Times New Roman"/>
              </a:rPr>
              <a:t>Cota de piata a diferitelor canale de distributie in 2006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1CE8-E300-40E4-8D9B-92AF471AEE9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867280" y="638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a: Planet Retail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33336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ta de piata pe piata de distributie alimentara moderna, la nivelul Romaniei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54120" y="5848200"/>
            <a:ext cx="18954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41f78"/>
                </a:solidFill>
                <a:latin typeface="Times New Roman"/>
              </a:rPr>
              <a:t>Total</a:t>
            </a:r>
            <a:endParaRPr b="0" lang="en-US" sz="11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182600"/>
            <a:ext cx="82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Calculata ca raport al cifrei de afaceri (TVA inclus) a distribuitorilor (in milioane de Euro) si valoarea estimata pentru comertul organizat (cu dominanta alimentara).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66960" y="1773360"/>
            <a:ext cx="7724520" cy="4595760"/>
            <a:chOff x="966960" y="1773360"/>
            <a:chExt cx="7724520" cy="4595760"/>
          </a:xfrm>
        </p:grpSpPr>
        <p:sp>
          <p:nvSpPr>
            <p:cNvPr id="189" name=""/>
            <p:cNvSpPr/>
            <p:nvPr/>
          </p:nvSpPr>
          <p:spPr>
            <a:xfrm>
              <a:off x="6710400" y="478152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19440" y="478152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10000" y="478152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0.4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14600" y="4781520"/>
              <a:ext cx="1895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Auchan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10400" y="447660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19440" y="447660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10000" y="447660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0.5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4600" y="4476600"/>
              <a:ext cx="1895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La Fourmi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72240" y="514368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9440" y="513396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88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81560" y="513396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.69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4120" y="4983120"/>
              <a:ext cx="18954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Artima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85680" y="5114880"/>
              <a:ext cx="60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85680" y="4809960"/>
              <a:ext cx="60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85680" y="4505400"/>
              <a:ext cx="60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81960" y="420048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8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29160" y="420048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85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81560" y="420048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2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85800" y="4200480"/>
              <a:ext cx="189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Delhaize Group(Mega Image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85680" y="4200480"/>
              <a:ext cx="60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81960" y="389556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29160" y="389556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94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9556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2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5800" y="3895560"/>
              <a:ext cx="189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Tengelman(Plus Discount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85680" y="3895560"/>
              <a:ext cx="60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1960" y="359100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8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29160" y="3591000"/>
              <a:ext cx="2152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248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81560" y="3591000"/>
              <a:ext cx="1047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5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85800" y="3591000"/>
              <a:ext cx="1895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Scwartz Group(Kaufland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85680" y="3591000"/>
              <a:ext cx="60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1960" y="328608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63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29160" y="328608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314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81560" y="328608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6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85800" y="3286080"/>
              <a:ext cx="189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Louise Delhaise (Cora, Profi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85680" y="3286080"/>
              <a:ext cx="60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81960" y="298116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453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29160" y="298116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524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81560" y="298116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5800" y="2981160"/>
              <a:ext cx="189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CBA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85680" y="2981160"/>
              <a:ext cx="60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1960" y="267660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29160" y="2676600"/>
              <a:ext cx="2152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607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81560" y="2676600"/>
              <a:ext cx="1047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2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85800" y="2676600"/>
              <a:ext cx="1895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Carrefour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85680" y="2676600"/>
              <a:ext cx="60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1960" y="237168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68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29160" y="237168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.249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81560" y="237168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24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85800" y="2371680"/>
              <a:ext cx="189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Rewe(Selgros, Billa,Penny Market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85680" y="2371680"/>
              <a:ext cx="60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81960" y="206676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31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29160" y="206676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.800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1560" y="2066760"/>
              <a:ext cx="1047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35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85800" y="2066760"/>
              <a:ext cx="1895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Metro Group(Metro,Real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85680" y="2066760"/>
              <a:ext cx="60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81960" y="1790640"/>
              <a:ext cx="19810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Nr magazine (sfarsit 2006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29160" y="1790640"/>
              <a:ext cx="21528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CA (Taxe incluse)(Mil Euro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81560" y="1790640"/>
              <a:ext cx="10476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Cota de piata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85800" y="1790640"/>
              <a:ext cx="18957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Grup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85680" y="1790640"/>
              <a:ext cx="600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Nr crt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85680" y="1790640"/>
              <a:ext cx="7677360" cy="0"/>
            </a:xfrm>
            <a:prstGeom prst="line">
              <a:avLst/>
            </a:prstGeom>
            <a:ln cap="rnd" w="1260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85680" y="2066760"/>
              <a:ext cx="7677360" cy="0"/>
            </a:xfrm>
            <a:prstGeom prst="line">
              <a:avLst/>
            </a:prstGeom>
            <a:ln cap="rnd" w="1260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2240" y="559116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002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91000" y="559116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52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0280" y="5581800"/>
              <a:ext cx="1047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3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66720" y="5457960"/>
              <a:ext cx="1895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141f78"/>
                  </a:solidFill>
                  <a:latin typeface="Times New Roman"/>
                </a:rPr>
                <a:t>Altii (proximitate:Lukoil,OMV, ITM,Mol,Eni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66960" y="5457960"/>
              <a:ext cx="599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41f78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2240" y="6064200"/>
              <a:ext cx="1981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41f78"/>
                  </a:solidFill>
                  <a:latin typeface="Times New Roman"/>
                </a:rPr>
                <a:t>1.722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19440" y="6064200"/>
              <a:ext cx="2152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41f78"/>
                  </a:solidFill>
                  <a:latin typeface="Times New Roman"/>
                </a:rPr>
                <a:t>5.205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81560" y="6046920"/>
              <a:ext cx="1047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41f78"/>
                  </a:solidFill>
                  <a:latin typeface="Times New Roman"/>
                </a:rPr>
                <a:t>100%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98640" y="6093000"/>
              <a:ext cx="7677000" cy="0"/>
            </a:xfrm>
            <a:prstGeom prst="line">
              <a:avLst/>
            </a:prstGeom>
            <a:ln cap="rnd" w="1260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71640" y="1773360"/>
              <a:ext cx="0" cy="4319640"/>
            </a:xfrm>
            <a:prstGeom prst="line">
              <a:avLst/>
            </a:prstGeom>
            <a:ln w="936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47640" y="1773360"/>
              <a:ext cx="0" cy="4319640"/>
            </a:xfrm>
            <a:prstGeom prst="line">
              <a:avLst/>
            </a:prstGeom>
            <a:ln w="936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92360" y="1773360"/>
              <a:ext cx="0" cy="4319640"/>
            </a:xfrm>
            <a:prstGeom prst="line">
              <a:avLst/>
            </a:prstGeom>
            <a:ln w="936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0" y="1773360"/>
              <a:ext cx="0" cy="4319640"/>
            </a:xfrm>
            <a:prstGeom prst="line">
              <a:avLst/>
            </a:prstGeom>
            <a:ln w="936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59640" y="1773360"/>
              <a:ext cx="0" cy="4319640"/>
            </a:xfrm>
            <a:prstGeom prst="line">
              <a:avLst/>
            </a:prstGeom>
            <a:ln w="936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75640" y="1773360"/>
              <a:ext cx="0" cy="4319640"/>
            </a:xfrm>
            <a:prstGeom prst="line">
              <a:avLst/>
            </a:prstGeom>
            <a:ln w="9360">
              <a:solidFill>
                <a:srgbClr val="141f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E6AFE-1E26-4649-814D-21A4470AFB13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4360" y="40464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omania – Cota de piata pe piata FMGC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638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a: Planet Retail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8520" y="1916280"/>
            <a:ext cx="8980560" cy="4000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6560" y="1192320"/>
            <a:ext cx="3889440" cy="580680"/>
          </a:xfrm>
          <a:prstGeom prst="rect">
            <a:avLst/>
          </a:prstGeom>
          <a:noFill/>
          <a:ln w="9360">
            <a:solidFill>
              <a:srgbClr val="141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41f78"/>
                </a:solidFill>
                <a:latin typeface="Times New Roman"/>
              </a:rPr>
              <a:t>Cota de piata a primelor 5 grupuri de distributie la nivelul comertului modern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6720" y="1125360"/>
            <a:ext cx="3889440" cy="824040"/>
          </a:xfrm>
          <a:prstGeom prst="rect">
            <a:avLst/>
          </a:prstGeom>
          <a:noFill/>
          <a:ln w="9360">
            <a:solidFill>
              <a:srgbClr val="141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41f78"/>
                </a:solidFill>
                <a:latin typeface="Times New Roman"/>
              </a:rPr>
              <a:t>Cota de piata a primelor 5 grupuri de distributie la nivelul canalului de distributie pe care opereaza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788000" y="1989000"/>
            <a:ext cx="720720" cy="276480"/>
            <a:chOff x="4788000" y="1989000"/>
            <a:chExt cx="720720" cy="276480"/>
          </a:xfrm>
        </p:grpSpPr>
        <p:sp>
          <p:nvSpPr>
            <p:cNvPr id="272" name=""/>
            <p:cNvSpPr/>
            <p:nvPr/>
          </p:nvSpPr>
          <p:spPr>
            <a:xfrm>
              <a:off x="4788000" y="198900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141f78"/>
                  </a:solidFill>
                  <a:latin typeface="Times New Roman"/>
                </a:rPr>
                <a:t>(Real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92720" y="2133720"/>
              <a:ext cx="216000" cy="0"/>
            </a:xfrm>
            <a:prstGeom prst="line">
              <a:avLst/>
            </a:prstGeom>
            <a:ln w="9360">
              <a:solidFill>
                <a:srgbClr val="141f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716360" y="2421000"/>
            <a:ext cx="792000" cy="276480"/>
            <a:chOff x="4716360" y="2421000"/>
            <a:chExt cx="792000" cy="276480"/>
          </a:xfrm>
        </p:grpSpPr>
        <p:sp>
          <p:nvSpPr>
            <p:cNvPr id="275" name=""/>
            <p:cNvSpPr/>
            <p:nvPr/>
          </p:nvSpPr>
          <p:spPr>
            <a:xfrm>
              <a:off x="4716360" y="2421000"/>
              <a:ext cx="63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141f78"/>
                  </a:solidFill>
                  <a:latin typeface="Times New Roman"/>
                </a:rPr>
                <a:t>(Cora)</a:t>
              </a:r>
              <a:endParaRPr b="0" lang="en-US" sz="1200" spc="-1" strike="noStrike">
                <a:solidFill>
                  <a:srgbClr val="141f78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71120" y="2565720"/>
              <a:ext cx="237240" cy="0"/>
            </a:xfrm>
            <a:prstGeom prst="line">
              <a:avLst/>
            </a:prstGeom>
            <a:ln w="9360">
              <a:solidFill>
                <a:srgbClr val="141f7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41f78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500720" y="3141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141f78"/>
                </a:solidFill>
                <a:latin typeface="Times New Roman"/>
              </a:rPr>
              <a:t>(Kaufland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37080" y="3286080"/>
            <a:ext cx="216000" cy="0"/>
          </a:xfrm>
          <a:prstGeom prst="line">
            <a:avLst/>
          </a:prstGeom>
          <a:ln w="9360">
            <a:solidFill>
              <a:srgbClr val="141f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141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41f78"/>
                </a:solidFill>
                <a:latin typeface="Times New Roman"/>
              </a:rPr>
              <a:t>(Billa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270828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141f78"/>
                </a:solidFill>
                <a:latin typeface="Times New Roman"/>
              </a:rPr>
              <a:t>(Mega Image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148360" y="2349360"/>
            <a:ext cx="1224000" cy="503280"/>
          </a:xfrm>
          <a:prstGeom prst="line">
            <a:avLst/>
          </a:prstGeom>
          <a:ln w="9360">
            <a:solidFill>
              <a:srgbClr val="f944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43657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141f78"/>
                </a:solidFill>
                <a:latin typeface="Times New Roman"/>
              </a:rPr>
              <a:t>(Penny Market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270828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41f78"/>
                </a:solidFill>
                <a:latin typeface="Times New Roman"/>
              </a:rPr>
              <a:t>(Plus discount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32720" y="221760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141f78"/>
                </a:solidFill>
                <a:latin typeface="Times New Roman"/>
              </a:rPr>
              <a:t>(Profi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24720" y="24210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141f78"/>
                </a:solidFill>
                <a:latin typeface="Times New Roman"/>
              </a:rPr>
              <a:t>(Selgros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12000" y="429264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41f78"/>
                </a:solidFill>
                <a:latin typeface="Times New Roman"/>
              </a:rPr>
              <a:t>(Metro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50259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141f78"/>
                </a:solidFill>
                <a:latin typeface="Times New Roman"/>
              </a:rPr>
              <a:t>(Metro,Real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4360" y="3789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141f78"/>
                </a:solidFill>
                <a:latin typeface="Times New Roman"/>
              </a:rPr>
              <a:t>(Selgros, Billa, Penny Market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63640" y="2060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141f78"/>
                </a:solidFill>
                <a:latin typeface="Times New Roman"/>
              </a:rPr>
              <a:t>(Cora, Profi)</a:t>
            </a:r>
            <a:endParaRPr b="0" lang="en-US" sz="12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18920" y="2133720"/>
            <a:ext cx="358920" cy="215640"/>
          </a:xfrm>
          <a:prstGeom prst="line">
            <a:avLst/>
          </a:prstGeom>
          <a:ln w="9360">
            <a:solidFill>
              <a:srgbClr val="141f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431C-EFB3-4AF9-8C9D-1B5F8A74ED6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4360" y="333360"/>
            <a:ext cx="57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olutie si perspective in comertul modern din Romania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00720" y="638172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e:GfK,MEMRB,Planet Retail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1268280"/>
            <a:ext cx="396072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Piata de retail din Romania este o piata cu un potential ridicat.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Fata de 2001, in 2007 ponderea comertului modern se va dubla, analistii estimand ca in 2010 aceasta va ajunge deja la 50%.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00720" y="1413000"/>
          <a:ext cx="4572000" cy="1334880"/>
        </p:xfrm>
        <a:graphic>
          <a:graphicData uri="http://schemas.openxmlformats.org/drawingml/2006/table">
            <a:tbl>
              <a:tblPr/>
              <a:tblGrid>
                <a:gridCol w="1351080"/>
                <a:gridCol w="630000"/>
                <a:gridCol w="685800"/>
                <a:gridCol w="592200"/>
                <a:gridCol w="577800"/>
                <a:gridCol w="7351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10p*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Comert modern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19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2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34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Comert traditional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81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81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78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66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84360" y="2787480"/>
          <a:ext cx="4032000" cy="3594240"/>
        </p:xfrm>
        <a:graphic>
          <a:graphicData uri="http://schemas.openxmlformats.org/drawingml/2006/table">
            <a:tbl>
              <a:tblPr/>
              <a:tblGrid>
                <a:gridCol w="1731960"/>
                <a:gridCol w="1160280"/>
                <a:gridCol w="11397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% comert modern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% comert traditional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Franta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96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8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2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Spania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74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6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Belgia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97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Grecia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Cipru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62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38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Turcia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1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9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Portugalia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78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2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Polonia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7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3%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4859280" y="3068640"/>
            <a:ext cx="396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3462480"/>
            <a:ext cx="3961080" cy="2495880"/>
          </a:xfrm>
          <a:prstGeom prst="rect">
            <a:avLst/>
          </a:prstGeom>
          <a:noFill/>
          <a:ln w="9360">
            <a:solidFill>
              <a:srgbClr val="141f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Bucuresti: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Pondere comert modern in: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141f7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2005:  49%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141f7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2006:  60% (+11%)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Cu toate acestea, Bucurestiul ramane inca o piata atractiva.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0360" y="2852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41f78"/>
                </a:solidFill>
                <a:latin typeface="Times New Roman"/>
              </a:rPr>
              <a:t>*p =previziuni</a:t>
            </a:r>
            <a:endParaRPr b="0" lang="en-US" sz="14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87E2-1ED2-41BE-9096-351C6D490B8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020000" y="6381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e: INS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126828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41f78"/>
                </a:solidFill>
                <a:latin typeface="Times New Roman"/>
              </a:rPr>
              <a:t>+36%</a:t>
            </a: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 cresterea cheltuielilor de consum din 2004 pana in primul trimestru din 2007! 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59280" y="3068640"/>
            <a:ext cx="396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755640" y="1841400"/>
          <a:ext cx="7704000" cy="2163960"/>
        </p:xfrm>
        <a:graphic>
          <a:graphicData uri="http://schemas.openxmlformats.org/drawingml/2006/table">
            <a:tbl>
              <a:tblPr/>
              <a:tblGrid>
                <a:gridCol w="4487760"/>
                <a:gridCol w="681120"/>
                <a:gridCol w="797040"/>
                <a:gridCol w="874800"/>
                <a:gridCol w="8632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Structura cheltuieli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7*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Cheltuileile pentru consum (RON/luna)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752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864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963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1,022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Cheltuieli totale (alimentar+imbracaminte si incaltaminte)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41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86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25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43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Cheltuielile pentru consum alimentar (RON/luna)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393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32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65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87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Cheltuieli pentru consum (imbracaminte si incaltaminte)(RON/luna)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5580000" y="4076640"/>
          <a:ext cx="3313080" cy="2052720"/>
        </p:xfrm>
        <a:graphic>
          <a:graphicData uri="http://schemas.openxmlformats.org/drawingml/2006/table">
            <a:tbl>
              <a:tblPr/>
              <a:tblGrid>
                <a:gridCol w="893880"/>
                <a:gridCol w="1047600"/>
                <a:gridCol w="1371600"/>
              </a:tblGrid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Pondere cheltuieli :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Alimentare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Imbracaminte si incaltaminte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2.3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6.3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0.0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6.2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8.3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6.2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2007*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47.7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41f78"/>
                          </a:solidFill>
                          <a:latin typeface="Times New Roman"/>
                          <a:ea typeface="Arial"/>
                        </a:rPr>
                        <a:t>5.40%</a:t>
                      </a:r>
                      <a:endParaRPr b="0" lang="en-US" sz="1400" spc="-1" strike="noStrike">
                        <a:solidFill>
                          <a:srgbClr val="141f7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826920" y="4581360"/>
            <a:ext cx="4680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141f78"/>
                </a:solidFill>
                <a:latin typeface="Times New Roman"/>
              </a:rPr>
              <a:t>Ponderea consumului in Romania este inca foarte mare iar cheltuielile pentru alimente si imbracaminte si incaltaminte reprezinta peste 47% din bugetul pentru consum.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407664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41f78"/>
                </a:solidFill>
                <a:latin typeface="Times New Roman"/>
              </a:rPr>
              <a:t>* = trimestrul I 2007</a:t>
            </a:r>
            <a:endParaRPr b="0" lang="en-US" sz="14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80000" y="61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41f78"/>
                </a:solidFill>
                <a:latin typeface="Times New Roman"/>
              </a:rPr>
              <a:t>* = trimestrul I 2007</a:t>
            </a:r>
            <a:endParaRPr b="0" lang="en-US" sz="14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333360"/>
            <a:ext cx="57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olutie si perspective in comertul modern din Romania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DDA4-C86E-4902-8A3E-559778ECED3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580000" y="6381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ea7"/>
                </a:solidFill>
                <a:latin typeface="Times New Roman"/>
              </a:rPr>
              <a:t>Surse: Planet Retail, GfK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1484280"/>
            <a:ext cx="7561440" cy="41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41f78"/>
                </a:solidFill>
                <a:latin typeface="Times New Roman"/>
              </a:rPr>
              <a:t>Cifre cheie: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41f78"/>
                </a:solidFill>
                <a:latin typeface="Times New Roman"/>
              </a:rPr>
              <a:t>Romania 2006</a:t>
            </a:r>
            <a:r>
              <a:rPr b="0" i="1" lang="fr-FR" sz="1600" spc="-1" strike="noStrike">
                <a:solidFill>
                  <a:srgbClr val="141f78"/>
                </a:solidFill>
                <a:latin typeface="Times New Roman"/>
              </a:rPr>
              <a:t>: 1 hypermarket/supermarket/discounter la 52.100 de locuitori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41f78"/>
                </a:solidFill>
                <a:latin typeface="Times New Roman"/>
              </a:rPr>
              <a:t>Franta 2006:</a:t>
            </a:r>
            <a:r>
              <a:rPr b="0" i="1" lang="fr-FR" sz="1600" spc="-1" strike="noStrike">
                <a:solidFill>
                  <a:srgbClr val="141f78"/>
                </a:solidFill>
                <a:latin typeface="Times New Roman"/>
              </a:rPr>
              <a:t> 1 hypermarket/supermarket/discounter la 5.638 de locuitori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141f78"/>
                </a:solidFill>
                <a:latin typeface="Times New Roman"/>
              </a:rPr>
              <a:t>Peste 2.000.000 m</a:t>
            </a:r>
            <a:r>
              <a:rPr b="1" i="1" lang="fr-FR" sz="1600" spc="-1" strike="noStrike" baseline="30000">
                <a:solidFill>
                  <a:srgbClr val="141f78"/>
                </a:solidFill>
                <a:latin typeface="Times New Roman"/>
              </a:rPr>
              <a:t>2</a:t>
            </a:r>
            <a:r>
              <a:rPr b="0" i="1" lang="fr-FR" sz="1600" spc="-1" strike="noStrike">
                <a:solidFill>
                  <a:srgbClr val="141f78"/>
                </a:solidFill>
                <a:latin typeface="Times New Roman"/>
              </a:rPr>
              <a:t> suprafata inchiriabila in centre comerciale pana in 2010 (daca toate proiectele anuntate vor fi finalizate)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41f78"/>
                </a:solidFill>
                <a:latin typeface="Times New Roman"/>
              </a:rPr>
              <a:t>Estimari ale valorii pietei de retail din Romania</a:t>
            </a:r>
            <a:endParaRPr b="0" lang="en-US" sz="18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141f78"/>
                </a:solidFill>
                <a:latin typeface="Times New Roman"/>
              </a:rPr>
              <a:t>+40 miliarde euro – piata de retail din Roamnia in 2007 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141f78"/>
                </a:solidFill>
                <a:latin typeface="Times New Roman"/>
              </a:rPr>
              <a:t>+100 miliarde de euro in 2010</a:t>
            </a:r>
            <a:endParaRPr b="0" lang="en-US" sz="16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333360"/>
            <a:ext cx="57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volutie si perspective in comertul modern din Romania</a:t>
            </a:r>
            <a:endParaRPr b="0" lang="en-US" sz="2000" spc="-1" strike="noStrike">
              <a:solidFill>
                <a:srgbClr val="141f7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F6FE-0204-4455-B122-9D515DEE764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00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0:52:22Z</dcterms:created>
  <dc:creator>Carrefour</dc:creator>
  <dc:description>Groupe Carrefour - Axe1
v1c</dc:description>
  <dc:language>en-US</dc:language>
  <cp:lastModifiedBy>amihai</cp:lastModifiedBy>
  <dcterms:modified xsi:type="dcterms:W3CDTF">2007-11-02T17:11:53Z</dcterms:modified>
  <cp:revision>171</cp:revision>
  <dc:subject/>
  <dc:title>Country ???</dc:title>
</cp:coreProperties>
</file>