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E1C-4299-4D01-8BDF-48AB9EF3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047-B8C6-4D34-8B3A-3F312183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C91-568C-4ED9-96E8-90DD17E1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D17-B111-40EC-BF8B-10F9887E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2117-AC50-4B40-B4DF-135F8435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0A48-3A19-4C2A-B6BD-98DC5FF5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B35B-F05D-4B81-9BBD-6434F091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20EA-FEDC-4C3A-B9F1-F94A28AA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162D-F167-4C52-9FE1-427A90C7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D18A-B919-41A7-933D-A8EEF554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87B7-1D14-42A0-B8CA-1B8758D7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C48-F365-49C0-95A3-832AD232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BC22-DA38-426F-B1B9-B096EA11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03F9-9E11-41DF-9793-C6D7C759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695E-85EF-4211-AAB9-D79F7AE7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834A-BBB3-49C2-9F31-85F1D042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50F9-61C7-4D35-8252-8A77C838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F42-3D34-4D16-9931-FC509075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A65-A0C0-408E-B6E8-63B16556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8F0-2B75-48F2-BC2C-8F8BADA8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136-59A8-4710-8B84-4EB698F4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4F8-FEA0-4B96-A0B3-162634A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35F-1379-47E2-9F41-B3140FBE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6BC-E46E-46D5-97B3-DA31C9C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CFB2-2715-4EA5-9C9C-841D41BF5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Logo fin"/>
          <p:cNvPicPr/>
          <p:nvPr/>
        </p:nvPicPr>
        <p:blipFill>
          <a:blip r:embed="rId3"/>
          <a:stretch/>
        </p:blipFill>
        <p:spPr>
          <a:xfrm>
            <a:off x="3581280" y="76320"/>
            <a:ext cx="3505320" cy="163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13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48640" indent="-10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67880" indent="-10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87480" indent="-109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87480" indent="-109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87480" indent="-109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8D95-766B-4B8F-AE1A-9C13E1D58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6019920"/>
            <a:ext cx="2133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2511000"/>
            <a:ext cx="75438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ENSIILE PRIVATE ÎN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5318280"/>
            <a:ext cx="70866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MIRCEA OANC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Preşedintele CSS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962520"/>
            <a:ext cx="761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rezent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diafax Talks about Private Pensions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i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tructura investiţiilor – Pilonul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hart 4" descr=""/>
          <p:cNvPicPr/>
          <p:nvPr/>
        </p:nvPicPr>
        <p:blipFill>
          <a:blip r:embed="rId2"/>
          <a:stretch/>
        </p:blipFill>
        <p:spPr>
          <a:xfrm>
            <a:off x="5181480" y="1542960"/>
            <a:ext cx="3886200" cy="3867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00200" y="1371600"/>
            <a:ext cx="3352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eea ce priveşte structura investiţiilor în cadrul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ilonului II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î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 administratori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au ales să investească în mare parte t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în instrumente cu venit fi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tructura portofoliilor a fost formată în principal d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itluri de stat – aproape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6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cţiuni –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14,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pozite bancare –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8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sfârşitul anului trecut, aproximativ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2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n activele fondurilor de pensii facultative erau plasate în ţară, iar restul 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rezentau investiţii exter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Tendinţele pieţei pensiilor private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î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14264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imări privind volumul de a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În condiţiile în care nu va apărea niciun factor extern care să afecteze programul contribuţiilor participanţilor, sectorul pensiilor private va avansa ca pondere în economie, fiind aşteptată o creşte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te 1% din P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în prima jumătate a acestui 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L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ilonul I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în urma creşterii contribuţiei lunare a participanţilor l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(cota CAS - martie 2011), se estimează că,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 finalul anului 2011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aloarea activelor nete ar fi de cir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7 miliarde de le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,8 mld. euro)*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 Comparativ cu valoarea activelor nete înregistrată la finalul anului trecut, creşterea estimat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acest an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 fi de minim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în condiţiile în care nu au fost incluşi în calcul noii participanţi, cum sunt cei din structurile militariz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Pentru această estimare s-au luat în calcul un randament de 10% obţinut de administratori pentru Pilonul II, un grad de acoperire a contribuţiilor de către participanţi de aproximativ 75% şi prognozele CNP pentru 2011 privind: balanţa forţei de muncă civil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câştigul salarial mediu brut lun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şi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cursul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mediu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 schimb lei/eu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828800" y="28951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VĂ MULŢUMI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905120" y="1036440"/>
            <a:ext cx="67816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Obiectivele CSS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ensiile private în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ilonul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ilonul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Tendinţele pieţei pensiilor priva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n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biectivele CSS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reşterea contribuţiilor la fondurile de pensii din Pilonul II, odată cu dezvoltarea solidă a sistemului pensiilor administrate priv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Necesitatea acestui mecanism ce presupune fructificarea contribuţiilor în conturi individuale poate fi cu greu contestată în condiţiile actuale de îmbătrânire a populaţiei şi de scădere a natalităţ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În 20 de ani, num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l de pensionari va cre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 considerabil drept consecin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ţă a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volu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ei bru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 a natalit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i din perioada imediat urm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are anului 1966. Prin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mare, se va accentua 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 mai mult presiunea asupra mecanismului public de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tec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e social</a:t>
            </a:r>
            <a:r>
              <a:rPr b="0" lang="ro-RO" sz="15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Îmbunătăţirea continuă a cadrului legislativ secundar aferent pensiilor 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odificări ale normelor nr. 22 şi nr. 11, ca urmare a intrării în vigoare a Legii 263/2010 privind sistemul unitar de pensii pub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odificări ale normelor privind obligaţiile de raportare şi transparenţă în Pilonul II şi în Pilonul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Acordarea de expertiză şi participarea la definitivarea cadrului legal aferent pensiilor 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Legea privind modul de plată a pensi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Implementarea legii privind înfiinţarea Fondului de Garantare a Pensiilor 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Implementarea sistemului de pensii ocupaţionale,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un capitol distinct în cadrul Legii 204/2006, având 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d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faptul că pensiile ocupaţionale fac parte din sistemul pensiilor facult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Îmbunătăţirea sistemului de supraveghere şi control în vederea trecerii graduale la metodele de supraveghere bazate pe r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larificarea situaţiei privind conturile goale din Registrul participanţ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ontinuarea informării şi educaţiei financiare a populaţiei prin intermediul campaniilor de informare publică: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n 2011, CSSPP va continua campania: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Învaţă să alegi! Pensia privată, o decizie “tânără”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lansată anul trecut, în cadrul căreia se organizează seminarii de educaţie financiară în universităţile de stat şi priv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nul trecut au fost organizate 3 seminarii, iar în 2011 vor avea lo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evenimente similare, la care participă specialişti din piaţa pensiilor private, precum şi specialişti în resurse uma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n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marti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va avea loc un seminar de educaţie financiară a studenţilor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Universităţii din Bucureşt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iar în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aprili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unul destinat studenţilor din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Universitatea Tehnică de Construcţii Bucureşt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n paralel sunt difuzate două clipuri de informare radio/TV şi bannere web cu privire la importanţa sistemul pensiilor priv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SSPP va organiza şi alte evenimente care presupun informarea populaţiei asupra importanţei şi necesităţii participării la sistemul de pensii priv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rea demersurilor pentru atragerea de finan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european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domeniile de interes pentru sistemul de pensii 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rarea proiectului „Centrul de Pregătire şi Formare Profesională al CSSPP” prin finanţarea cu fonduri nerambursabile din surse europ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600200" y="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biectivele CSS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201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 prop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dezvoltarea mecanismelor de supraveghe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d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ială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ului de pensii privat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s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jin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olid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profil, pe criterii calitative, efici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în administrare, transpar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o b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verna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iv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nsiilor private v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ga consist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cesa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veni un actor puternic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redibil în derularea unor proiecte financiare impor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ectele vor fi benefic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pentru participa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, pentru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durile vor put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a plasamente mai interesante,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entru economie,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a i se ofe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resur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fina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uplimenta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600200" y="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biectivele CSS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ensiile private î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219320"/>
            <a:ext cx="6933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contextul unui an de criză, în 2010 sistemul de pensii private a înregistrat o evoluţie constantă şi solidă a numărului de participanţi şi a valorii activel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fiecare lună a anului trecut au avut loc noi aderări în sistem. Fondurile de pensii facultative, la care înscrierea este una voluntară, au reuşit să atragă aproap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.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participanţi pe parcursul anului trecut, în condiţiile unor semnale negative privind pensiile private, pe plan internaţ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area activelor totale administrate în sistemul pensiilor private a depăşit estimările iniţiale, ajungând la un nivel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,66 miliarde le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 finele anului 2010, puţin peste nivelul estimat în iulie 201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,6 miliarde lei.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tfel,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vele din sistemul de pensii private au ajuns să reprezinte o cotă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91% din P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3911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ensiile administrate privat – Pilonul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hart 8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426744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00200" y="1324080"/>
            <a:ext cx="3352680" cy="50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aloarea activelor nete aferente celor 9 fonduri de pensii administrate privat a fost de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4,33 mil. lei (peste 1 mld. Euro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ivele nete ale fondurilor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lonul I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u crescut în cursul anului 2010 c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95 m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ld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spectiv c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1,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dintre c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52 m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u reprezentat contribuţiile nete intrate în fondur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3,5 mil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rezintă rezultatul din administrare pentru anul 2010, profit care se reflectă în mod direct în creşterea valorii din contul fiecărui participant la fondurile de pensii administrate priv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Numărul participanţilor la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ilonul I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a ajuns la aproape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5,2 m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fiind mai mare cu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5,6%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faţă de finalul anului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ensiile facultative – Pilonul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hart 3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3962160" cy="478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0200" y="1092240"/>
            <a:ext cx="35053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La finalul anului 2010, valoarea activelor nete ale celor 13 fonduri de pens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nsii facultative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nul II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a fost de circa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330 mil. lei (76 mil. euro)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 cu luna decembrie 2009, activele nete au crescut c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,7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ilonul II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ia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1.6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icipanţi, la sfârşitul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nulu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, în creştere c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,4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portat la decembrie 2009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ajorare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ost d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7%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, faţă de luna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rie 2008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ul de acoperire a fost d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n efectivul total al salariaţilor din Român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5245200"/>
            <a:ext cx="7315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in punct de vedere 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mplic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r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gajatorilor în sistemul pensiilor facultativ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tr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4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ntre participanţi contribuţiile au fost plătite de către angajator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ntre participanţi au plătit singuri contribuţiil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ntre participanţi au plătit contribuţiile împreună cu angajatorii l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tructura investiţiilor – Pilonul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3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1295280"/>
            <a:ext cx="3352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iile fondurilor de pensii au un grad satisfăcător de diversificare, iar acest lucru înseamnă un plus de siguranţă pentru participanţ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, ca şi p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ntre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cursul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nului preced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tructura portofoliilor fondurilor de pensii administrate privat a fost caracterizată de investiţii cu preponderenţă în instrumente cu venit fix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66,4%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în titluri de sta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fârşitul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nului trec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proximativ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6,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n activele fondurilor de pensii administrate privat erau plasate în ţară, iar restul 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,7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rezentau investiţii exter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03T11:30:35Z</dcterms:modified>
  <cp:revision>2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