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9A69-CCA3-4FCB-92DE-58555D91C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8804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00" y="4018680"/>
            <a:ext cx="8804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17FF-7B0D-425C-81EC-E97877A5E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00" y="40186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186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EEFC-D367-4587-A696-D5BD7EC1D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840" y="17524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5680" y="17524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00" y="40186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840" y="40186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5680" y="40186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57C7-6D00-4BB7-942B-7F404B423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DA5-EC18-4CD8-B9B1-0616D63F36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2000" y="1752480"/>
            <a:ext cx="88041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36A-050B-4B9F-9088-639A5A2657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88041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3D6-8B19-45D4-A22F-D74071E397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163-8D18-4BEE-B120-AC454A8606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BFB-EA92-493D-B427-60C7493E4F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2000" y="608040"/>
            <a:ext cx="880416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F91-C47F-4CE5-8650-7A017E9A51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2000" y="40186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CC0-B4A1-4D06-BA5B-3C151BFB7F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00" y="1752480"/>
            <a:ext cx="88041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7D47-3BA6-402A-B846-6C39906DD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40186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75D-555C-4318-947F-3796B346A6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2000" y="4018680"/>
            <a:ext cx="8804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E36-CD8D-425F-B0C1-8A6EF1EE4C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8804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2000" y="4018680"/>
            <a:ext cx="8804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7E1-9FC5-4A65-82A9-DEF6516831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2000" y="40186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40186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561-1682-4434-A95D-D93A220E40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8840" y="17524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5680" y="17524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2000" y="40186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8840" y="40186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5680" y="4018680"/>
            <a:ext cx="28346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B5E-C873-48DC-8143-BCB1C54C4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88041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B70A-75AB-4CBA-BA31-ABAE9443B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8D23-D55D-4A1D-A9A2-74640D882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B65B-C831-46E2-8929-ABA598AB5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00" y="608040"/>
            <a:ext cx="880416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C033-2710-4D0B-B1A9-EE5470F7C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00" y="40186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4B83-DE30-425B-B4EB-9B63DAEE3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186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36AC-7E1F-4F32-A716-4437FC7A0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0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752480"/>
            <a:ext cx="429624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00" y="4018680"/>
            <a:ext cx="8804160" cy="20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21FE-F3E5-477F-8766-01A846038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f050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bf0509"/>
                </a:solidFill>
                <a:latin typeface="Times New Roman"/>
              </a:rPr>
              <a:t>Februarie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bf0509"/>
                </a:solidFill>
                <a:latin typeface="Times New Roman"/>
              </a:rPr>
              <a:t>Slide </a:t>
            </a:r>
            <a:fld id="{D00744B0-3E39-44B9-990E-A1FDC6B86C6D}" type="slidenum">
              <a:rPr b="0" lang="en-GB" sz="1100" spc="-1" strike="noStrike">
                <a:solidFill>
                  <a:srgbClr val="bf050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1" marL="358920" indent="-357480">
              <a:spcBef>
                <a:spcPts val="601"/>
              </a:spcBef>
              <a:spcAft>
                <a:spcPts val="601"/>
              </a:spcAft>
              <a:buClr>
                <a:srgbClr val="bf0509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2" marL="723960" indent="-363600">
              <a:spcBef>
                <a:spcPts val="601"/>
              </a:spcBef>
              <a:spcAft>
                <a:spcPts val="601"/>
              </a:spcAft>
              <a:buClr>
                <a:srgbClr val="bf0509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3" marL="1076400" indent="-351000">
              <a:spcBef>
                <a:spcPts val="601"/>
              </a:spcBef>
              <a:spcAft>
                <a:spcPts val="601"/>
              </a:spcAft>
              <a:buClr>
                <a:srgbClr val="bf0509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4" marL="1438200" indent="-360360">
              <a:spcBef>
                <a:spcPts val="601"/>
              </a:spcBef>
              <a:spcAft>
                <a:spcPts val="601"/>
              </a:spcAft>
              <a:buClr>
                <a:srgbClr val="bf0509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5" marL="1438200" indent="-360360">
              <a:spcBef>
                <a:spcPts val="601"/>
              </a:spcBef>
              <a:spcAft>
                <a:spcPts val="601"/>
              </a:spcAft>
              <a:buClr>
                <a:srgbClr val="7b0a14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6" marL="1438200" indent="-360360">
              <a:spcBef>
                <a:spcPts val="601"/>
              </a:spcBef>
              <a:spcAft>
                <a:spcPts val="601"/>
              </a:spcAft>
              <a:buClr>
                <a:srgbClr val="7b0a14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050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0509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8120" y="6550200"/>
            <a:ext cx="215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0509"/>
                </a:solidFill>
                <a:latin typeface="Arial"/>
              </a:rPr>
              <a:t>PricewaterhouseCoopers</a:t>
            </a:r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3"/>
          </p:nvPr>
        </p:nvSpPr>
        <p:spPr>
          <a:xfrm>
            <a:off x="6810480" y="6366960"/>
            <a:ext cx="215568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f050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bf0509"/>
                </a:solidFill>
                <a:latin typeface="Times New Roman"/>
              </a:rPr>
              <a:t>Octombrie 20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bf0509"/>
                </a:solidFill>
                <a:latin typeface="Times New Roman"/>
              </a:rPr>
              <a:t>Slide </a:t>
            </a:r>
            <a:fld id="{7BE4EAAF-8E20-49F0-B537-6E95EE76EB02}" type="slidenum">
              <a:rPr b="0" lang="en-GB" sz="1100" spc="-1" strike="noStrike">
                <a:solidFill>
                  <a:srgbClr val="bf050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050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0509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1" marL="1440" indent="379440">
              <a:spcAft>
                <a:spcPts val="601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2" marL="382680" indent="360360">
              <a:spcAft>
                <a:spcPts val="601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3" marL="744480" indent="389160">
              <a:spcAft>
                <a:spcPts val="601"/>
              </a:spcAft>
              <a:buClr>
                <a:srgbClr val="bf0509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4" marL="1135080" indent="379440">
              <a:spcAft>
                <a:spcPts val="601"/>
              </a:spcAft>
              <a:buClr>
                <a:srgbClr val="bf0509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5" marL="1135080" indent="379440">
              <a:spcBef>
                <a:spcPts val="601"/>
              </a:spcBef>
              <a:buClr>
                <a:srgbClr val="7b0a1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6" marL="1135080" indent="379440">
              <a:spcBef>
                <a:spcPts val="601"/>
              </a:spcBef>
              <a:buClr>
                <a:srgbClr val="7b0a1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0a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4240" y="50760"/>
            <a:ext cx="88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nsiil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vremuri de criza</a:t>
            </a:r>
            <a:endParaRPr b="0" lang="en-US" sz="3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240" y="1415880"/>
            <a:ext cx="28670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fax talks about Private Pension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ro-R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Februarie 2008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32080" y="1547640"/>
            <a:ext cx="5797440" cy="4214520"/>
            <a:chOff x="3232080" y="1547640"/>
            <a:chExt cx="5797440" cy="421452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3232080" y="1551240"/>
              <a:ext cx="3768120" cy="4210560"/>
            </a:xfrm>
            <a:prstGeom prst="rect">
              <a:avLst/>
            </a:prstGeom>
            <a:ln w="9360">
              <a:solidFill>
                <a:srgbClr val="fdb1ad"/>
              </a:solidFill>
              <a:miter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234200" y="1547640"/>
              <a:ext cx="1788840" cy="2001960"/>
            </a:xfrm>
            <a:prstGeom prst="rect">
              <a:avLst/>
            </a:prstGeom>
            <a:ln w="9360">
              <a:solidFill>
                <a:srgbClr val="fdb1ad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7234200" y="3760200"/>
              <a:ext cx="1795320" cy="2001960"/>
            </a:xfrm>
            <a:prstGeom prst="rect">
              <a:avLst/>
            </a:prstGeom>
            <a:ln w="9360">
              <a:solidFill>
                <a:srgbClr val="fdb1ad"/>
              </a:solidFill>
              <a:miter/>
            </a:ln>
          </p:spPr>
        </p:pic>
      </p:grpSp>
      <p:sp>
        <p:nvSpPr>
          <p:cNvPr id="87" name=""/>
          <p:cNvSpPr/>
          <p:nvPr/>
        </p:nvSpPr>
        <p:spPr>
          <a:xfrm>
            <a:off x="11160" y="126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spAutoFit/>
          </a:bodyPr>
          <a:p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8280" y="4927680"/>
            <a:ext cx="30416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adu Petrescu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nior Consultant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Arial"/>
              </a:rPr>
              <a:t>Human Resource Services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3594" t="31033" r="0" b="55941"/>
          <a:stretch/>
        </p:blipFill>
        <p:spPr>
          <a:xfrm>
            <a:off x="6313320" y="6183360"/>
            <a:ext cx="273384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9840" y="1819440"/>
            <a:ext cx="8821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59% din companiile din Cehia ofera abonamente pentru servicii medicale suplimentare angajatilor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53% din companiile din Ungaria ofera asigurari de viata sau acciden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82% din companiile din Slovacia au implementat un plan de pensii pentru angajati, fata de 77% in Cehia si 20% in Ungaria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in decembre 2008, 9% din companiile din Rusia care intentionau sa implementeze un plan de pensii au renuntat 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Beneficii de protectie in CEE </a:t>
            </a:r>
            <a:br>
              <a:rPr sz="2400"/>
            </a:b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2AF8-5D1D-4B3C-8AC0-ED8F495AE0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31800" y="5742000"/>
            <a:ext cx="8337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0520" bIns="864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1300" spc="-1" strike="noStrike">
                <a:solidFill>
                  <a:srgbClr val="7b0a14"/>
                </a:solidFill>
                <a:latin typeface="Arial"/>
                <a:ea typeface="Osaka"/>
              </a:rPr>
              <a:t>Sursa: Studiile salariale 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  <a:ea typeface="Osaka"/>
              </a:rPr>
              <a:t>şi de beneficii PayWell</a:t>
            </a:r>
            <a:r>
              <a:rPr b="0" lang="en-GB" sz="1300" spc="-1" strike="noStrike">
                <a:solidFill>
                  <a:srgbClr val="7b0a14"/>
                </a:solidFill>
                <a:latin typeface="Arial"/>
                <a:ea typeface="Osaka"/>
              </a:rPr>
              <a:t> - Cehia, Slovacia, Ungaria, 2008, 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</a:rPr>
              <a:t>PricewaterhouseCooper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608040"/>
            <a:ext cx="8786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Evolutia intentiei de implementare al unui plan de pensii in Romania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1428840"/>
          <a:ext cx="724212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8840"/>
                    <a:ext cx="724212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C22D-BC89-4230-8F01-5D8B6F6737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9840" y="1819440"/>
            <a:ext cx="8821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40% din companiile participante in studiul PwC din februarie 2009 au redus  bugetele alocate in 2008 beneficiilor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10% din companii au amanat pe termen nelimitat intentia de a implementa un plan de pensii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Impactul economic asupra beneficiilor acordate angajatilor in februarie 2009</a:t>
            </a:r>
            <a:br>
              <a:rPr sz="2400"/>
            </a:b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144E-AFD7-4C39-8D62-AB14B2B738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12680" y="5632560"/>
            <a:ext cx="78361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0520" bIns="864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1300" spc="-1" strike="noStrike">
                <a:solidFill>
                  <a:srgbClr val="7b0a14"/>
                </a:solidFill>
                <a:latin typeface="Arial"/>
              </a:rPr>
              <a:t>Sursa: Studiul salarial 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</a:rPr>
              <a:t>şi de beneficii PayWell Romania 200</a:t>
            </a:r>
            <a:r>
              <a:rPr b="0" lang="en-US" sz="1300" spc="-1" strike="noStrike">
                <a:solidFill>
                  <a:srgbClr val="7b0a14"/>
                </a:solidFill>
                <a:latin typeface="Arial"/>
              </a:rPr>
              <a:t>8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</a:rPr>
              <a:t>, PricewaterhouseCoopers</a:t>
            </a:r>
            <a:r>
              <a:rPr b="0" lang="en-US" sz="1300" spc="-1" strike="noStrike">
                <a:solidFill>
                  <a:srgbClr val="7b0a14"/>
                </a:solidFill>
                <a:latin typeface="Arial"/>
              </a:rPr>
              <a:t>, 250 participati, 14 sectoare de activitat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608040"/>
            <a:ext cx="8786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Posibilile surse de redresare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063880"/>
            <a:ext cx="8786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14% din companii au strategii pentru retentia personalului talent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8B93-FB1B-47B3-A699-950D2C6C8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0a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600" y="3013200"/>
            <a:ext cx="90601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ed8d6"/>
                </a:solidFill>
                <a:latin typeface="Arial"/>
              </a:rPr>
              <a:t>Human Resource Services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ed8d6"/>
                </a:solidFill>
                <a:latin typeface="Arial"/>
              </a:rPr>
              <a:t>Creating value for your business through people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" y="126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600" y="77760"/>
            <a:ext cx="9060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ed8d6"/>
                </a:solidFill>
                <a:latin typeface="Arial"/>
              </a:rPr>
              <a:t>Multumesc!</a:t>
            </a:r>
            <a:endParaRPr b="0" lang="en-US" sz="32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3594" t="31033" r="0" b="55941"/>
          <a:stretch/>
        </p:blipFill>
        <p:spPr>
          <a:xfrm>
            <a:off x="6313320" y="6183360"/>
            <a:ext cx="273384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0a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760" y="6600960"/>
            <a:ext cx="215892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d8d6"/>
                </a:solidFill>
                <a:latin typeface="Arial"/>
              </a:rPr>
              <a:t>PricewaterhouseCoopers</a:t>
            </a:r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86440" y="6600960"/>
            <a:ext cx="215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d8d6"/>
                </a:solidFill>
                <a:latin typeface="Arial"/>
              </a:rPr>
              <a:t>Slide </a:t>
            </a:r>
            <a:fld id="{AEFD3F43-1F2F-41DA-AEE8-1A3E50FA6D4E}" type="slidenum">
              <a:rPr b="0" lang="en-US" sz="1100" spc="-1" strike="noStrike">
                <a:solidFill>
                  <a:srgbClr val="fed8d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mar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2000" y="1752480"/>
            <a:ext cx="880416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400" spc="-1" strike="noStrike">
                <a:solidFill>
                  <a:srgbClr val="fed8d6"/>
                </a:solidFill>
                <a:latin typeface="Arial"/>
              </a:rPr>
              <a:t>Prezentare companie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400" spc="-1" strike="noStrike">
                <a:solidFill>
                  <a:srgbClr val="fed8d6"/>
                </a:solidFill>
                <a:latin typeface="Arial"/>
              </a:rPr>
              <a:t>Factori care influenţează politicile de beneficii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400" spc="-1" strike="noStrike">
                <a:solidFill>
                  <a:srgbClr val="fed8d6"/>
                </a:solidFill>
                <a:latin typeface="Arial"/>
              </a:rPr>
              <a:t>Tendinte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240" y="199800"/>
            <a:ext cx="8804160" cy="82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7b0a14"/>
                </a:solidFill>
                <a:latin typeface="Arial"/>
              </a:rPr>
              <a:t>PricewaterhouseCoopers</a:t>
            </a: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 Romania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38320" y="2631960"/>
            <a:ext cx="3214800" cy="2452680"/>
          </a:xfrm>
          <a:prstGeom prst="triangle">
            <a:avLst>
              <a:gd name="adj" fmla="val 50000"/>
            </a:avLst>
          </a:prstGeom>
          <a:solidFill>
            <a:srgbClr val="fed8d6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3420000">
            <a:off x="2840400" y="3145320"/>
            <a:ext cx="5932440" cy="927000"/>
          </a:xfrm>
          <a:custGeom>
            <a:avLst/>
            <a:gdLst>
              <a:gd name="textAreaLeft" fmla="*/ 1304640 w 5932440"/>
              <a:gd name="textAreaRight" fmla="*/ 4627800 w 5932440"/>
              <a:gd name="textAreaTop" fmla="*/ 203760 h 927000"/>
              <a:gd name="textAreaBottom" fmla="*/ 72324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b3d32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180000">
            <a:off x="329040" y="3116880"/>
            <a:ext cx="5932440" cy="927000"/>
          </a:xfrm>
          <a:custGeom>
            <a:avLst/>
            <a:gdLst>
              <a:gd name="textAreaLeft" fmla="*/ 1304640 w 5932440"/>
              <a:gd name="textAreaRight" fmla="*/ 4627800 w 5932440"/>
              <a:gd name="textAreaTop" fmla="*/ 203760 h 927000"/>
              <a:gd name="textAreaBottom" fmla="*/ 72324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f0509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1314000" y="5157720"/>
            <a:ext cx="6443640" cy="743040"/>
          </a:xfrm>
          <a:custGeom>
            <a:avLst/>
            <a:gdLst>
              <a:gd name="textAreaLeft" fmla="*/ 1416960 w 6443640"/>
              <a:gd name="textAreaRight" fmla="*/ 5026680 w 6443640"/>
              <a:gd name="textAreaTop" fmla="*/ 163440 h 743040"/>
              <a:gd name="textAreaBottom" fmla="*/ 57960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7b0a14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45080" y="3871800"/>
            <a:ext cx="1584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b0a14"/>
                </a:solidFill>
                <a:latin typeface="Arial"/>
              </a:rPr>
              <a:t>Human Resource Services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89200" y="5457960"/>
            <a:ext cx="375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ed8d6"/>
                </a:solidFill>
                <a:latin typeface="Arial"/>
              </a:rPr>
              <a:t>International Assignments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3420000">
            <a:off x="4270680" y="3505680"/>
            <a:ext cx="325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ed8d6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8180000">
            <a:off x="2255040" y="3532680"/>
            <a:ext cx="195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ed8d6"/>
                </a:solidFill>
                <a:latin typeface="Arial"/>
              </a:rPr>
              <a:t>HR Management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70480" y="820800"/>
            <a:ext cx="28735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Strategie de recompensar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Design şi implementare de sisteme de recompensar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Scheme de plată variabilă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Programe de beneficii flexibil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Studii salariale şi analize de piaţă </a:t>
            </a: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– Studiul salarial si de beneficii PayWell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840" y="822240"/>
            <a:ext cx="287316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Strategie de resurse umane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Eficientizarea capitalului </a:t>
            </a: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  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uman şi a proceselor de resurse uman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PwC Saratoga – studii de benchmarking privind performanţa capitalului uman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Managementul performanţei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7b0a1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7b0a14"/>
                </a:solidFill>
                <a:latin typeface="Arial"/>
              </a:rPr>
              <a:t>Asistenţă în tranzacţii şi procese de schimbare organizaţională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3840" y="6600960"/>
            <a:ext cx="215892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0509"/>
                </a:solidFill>
                <a:latin typeface="Arial"/>
              </a:rPr>
              <a:t>Slide </a:t>
            </a:r>
            <a:fld id="{E2901973-828E-42B9-AA0A-1839A0ECA105}" type="slidenum">
              <a:rPr b="0" lang="en-US" sz="1100" spc="-1" strike="noStrike">
                <a:solidFill>
                  <a:srgbClr val="bf050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160" y="6600960"/>
            <a:ext cx="215892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0509"/>
                </a:solidFill>
                <a:latin typeface="Arial"/>
              </a:rPr>
              <a:t>PricewaterhouseCoopers</a:t>
            </a:r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9840" y="1806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7b0a14"/>
                </a:solidFill>
                <a:latin typeface="Arial"/>
              </a:rPr>
              <a:t>Beneficii de protecţie (tradiţionale)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2" marL="72396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asigurarea unui nivel suplimentar de securitat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72396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pensii, beneficii medicale, </a:t>
            </a: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asigurari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7b0a14"/>
                </a:solidFill>
                <a:latin typeface="Arial"/>
              </a:rPr>
              <a:t>Beneficii </a:t>
            </a: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de statut </a:t>
            </a:r>
            <a:endParaRPr b="0" lang="en-US" sz="2400" spc="-1" strike="noStrike">
              <a:solidFill>
                <a:srgbClr val="bf0509"/>
              </a:solidFill>
              <a:latin typeface="Arial"/>
            </a:endParaRPr>
          </a:p>
          <a:p>
            <a:pPr lvl="2" marL="72396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- r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ecunoaşterea nevoilor individuale, atât în context profesional cât şi priv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72396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- masina de serviciu, telefon mobil, acces internet,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program flexibil, timp liber (vacanţe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, zile libere, sport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 etc.), suport pentru familie, implicare în comunitat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7b0a14"/>
                </a:solidFill>
                <a:latin typeface="Arial"/>
              </a:rPr>
              <a:t>Tipuri de beneficii şi rolul lor în strategia de recompensare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83C0-59B3-42CA-977D-F27D2BDE9E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2000" y="2352600"/>
            <a:ext cx="887400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59560" tIns="0" bIns="432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Strategia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companiei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Mediul fiscal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si deductibilitatea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Oferta pieţei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si alinierea la piata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Capacitatea intern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de administrare a departamentului Resurse Umane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Tendinţe demografic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Practicile competi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iei si adaptarea la industria din care compania face parte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Contextul macroeconomic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7b0a14"/>
                </a:solidFill>
                <a:latin typeface="Arial"/>
              </a:rPr>
              <a:t>Factori care influenţează politicile de beneficii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2F3B-6C07-4CD3-BA57-A911C0CA37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04640" y="1219320"/>
          <a:ext cx="7985160" cy="4433760"/>
        </p:xfrm>
        <a:graphic>
          <a:graphicData uri="http://schemas.openxmlformats.org/drawingml/2006/table">
            <a:tbl>
              <a:tblPr/>
              <a:tblGrid>
                <a:gridCol w="2967120"/>
                <a:gridCol w="2492640"/>
                <a:gridCol w="2525400"/>
              </a:tblGrid>
              <a:tr h="85284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endParaRPr b="0" lang="en-US" sz="18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4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4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Crestere PIB*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7.9%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Somaj*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4.4%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5.5%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Inflatie* 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6.3%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63720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Curs EUR/RON**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3.67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4.28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Cresterea salariului mediu brut pe economie*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23%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GB" sz="2000" spc="-1" strike="noStrike">
                          <a:solidFill>
                            <a:srgbClr val="7b0a14"/>
                          </a:solidFill>
                          <a:latin typeface="Arial"/>
                        </a:rPr>
                        <a:t>5.8%</a:t>
                      </a:r>
                      <a:endParaRPr b="0" lang="en-US" sz="20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Contextul economic 2008 – 2009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00" y="5692680"/>
            <a:ext cx="8804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1000" spc="-1" strike="noStrike">
                <a:solidFill>
                  <a:srgbClr val="7b0a14"/>
                </a:solidFill>
                <a:latin typeface="Arial"/>
              </a:rPr>
              <a:t>*Sursa: CNP – Prognoza din 19 ianuarie 2009</a:t>
            </a:r>
            <a:br>
              <a:rPr sz="1000"/>
            </a:br>
            <a:r>
              <a:rPr b="0" lang="en-GB" sz="1000" spc="-1" strike="noStrike">
                <a:solidFill>
                  <a:srgbClr val="7b0a14"/>
                </a:solidFill>
                <a:latin typeface="Arial"/>
              </a:rPr>
              <a:t>**Sursa: BNR – cursul din 22/23 februarie 2008/2009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5F8E-9A01-42E0-8970-1A89E3B3A2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9840" y="1819440"/>
            <a:ext cx="8821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Se bazează atât pe nevoia de protecţie faţă de risc, cât şi pe potenţialul de investiţi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Utilitate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: p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ot fi folosit</a:t>
            </a: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e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 ca instrument</a:t>
            </a: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e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 de </a:t>
            </a:r>
            <a:r>
              <a:rPr b="0" lang="en-US" sz="2000" spc="-1" strike="noStrike">
                <a:solidFill>
                  <a:srgbClr val="7b0a14"/>
                </a:solidFill>
                <a:latin typeface="Arial"/>
              </a:rPr>
              <a:t>atragere si 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loializare </a:t>
            </a:r>
            <a:r>
              <a:rPr b="0" lang="en-GB" sz="2000" spc="-1" strike="noStrike">
                <a:solidFill>
                  <a:srgbClr val="7b0a14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7b0a14"/>
                </a:solidFill>
                <a:latin typeface="Arial"/>
              </a:rPr>
              <a:t>valoarea beneficiului variază în funcţie de vechimea în companie)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Pensiile private</a:t>
            </a:r>
            <a:br>
              <a:rPr sz="2400"/>
            </a:b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E374-6162-4FDA-B114-455E0374D4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73160"/>
            <a:ext cx="8786880" cy="580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61800" y="5273640"/>
            <a:ext cx="829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0520" bIns="864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1300" spc="-1" strike="noStrike">
                <a:solidFill>
                  <a:srgbClr val="7b0a14"/>
                </a:solidFill>
                <a:latin typeface="Arial"/>
                <a:ea typeface="Osaka"/>
              </a:rPr>
              <a:t>Sursa: Studiul salarial 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  <a:ea typeface="Osaka"/>
              </a:rPr>
              <a:t>şi de beneficii PayWell Romania 200</a:t>
            </a:r>
            <a:r>
              <a:rPr b="0" lang="en-US" sz="1300" spc="-1" strike="noStrike">
                <a:solidFill>
                  <a:srgbClr val="7b0a14"/>
                </a:solidFill>
                <a:latin typeface="Arial"/>
                <a:ea typeface="Osaka"/>
              </a:rPr>
              <a:t>8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  <a:ea typeface="Osaka"/>
              </a:rPr>
              <a:t>, 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</a:rPr>
              <a:t>PricewaterhouseCoopers</a:t>
            </a:r>
            <a:r>
              <a:rPr b="0" lang="en-US" sz="1300" spc="-1" strike="noStrike">
                <a:solidFill>
                  <a:srgbClr val="7b0a14"/>
                </a:solidFill>
                <a:latin typeface="Arial"/>
              </a:rPr>
              <a:t>,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7b0a14"/>
                </a:solidFill>
                <a:latin typeface="Arial"/>
                <a:ea typeface="Osaka"/>
              </a:rPr>
              <a:t>250 participati, 14 sectoare de activitat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608040"/>
            <a:ext cx="8786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Beneficii oferite tuturor angajatilor</a:t>
            </a:r>
            <a:r>
              <a:rPr b="0" lang="ro-RO" sz="2400" spc="-1" strike="noStrike">
                <a:solidFill>
                  <a:srgbClr val="7b0a14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- Romania, 2008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EEE2-66C9-4741-AFDA-159B2E4C1E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30480" y="5702400"/>
            <a:ext cx="73310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0520" bIns="864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1300" spc="-1" strike="noStrike">
                <a:solidFill>
                  <a:srgbClr val="7b0a14"/>
                </a:solidFill>
                <a:latin typeface="Arial"/>
                <a:ea typeface="Osaka"/>
              </a:rPr>
              <a:t>Sursa: Studiul salarial s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  <a:ea typeface="Osaka"/>
              </a:rPr>
              <a:t>i de beneficii PayWell Romania 200</a:t>
            </a:r>
            <a:r>
              <a:rPr b="0" lang="en-GB" sz="1300" spc="-1" strike="noStrike">
                <a:solidFill>
                  <a:srgbClr val="7b0a14"/>
                </a:solidFill>
                <a:latin typeface="Arial"/>
                <a:ea typeface="Osaka"/>
              </a:rPr>
              <a:t>5 - 2008</a:t>
            </a:r>
            <a:r>
              <a:rPr b="0" lang="ro-RO" sz="1300" spc="-1" strike="noStrike">
                <a:solidFill>
                  <a:srgbClr val="7b0a14"/>
                </a:solidFill>
                <a:latin typeface="Arial"/>
                <a:ea typeface="Osaka"/>
              </a:rPr>
              <a:t>, PricewaterhouseCooper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760" y="1884240"/>
            <a:ext cx="8975880" cy="4176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608040"/>
            <a:ext cx="8786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Evolutia beneficiilor de protectie in Romania, 2006 – 2008</a:t>
            </a:r>
            <a:br>
              <a:rPr sz="2400"/>
            </a:br>
            <a:r>
              <a:rPr b="0" lang="en-GB" sz="2400" spc="-1" strike="noStrike">
                <a:solidFill>
                  <a:srgbClr val="7b0a14"/>
                </a:solidFill>
                <a:latin typeface="Arial"/>
              </a:rPr>
              <a:t>(% crestere fata de anul anterior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48B8-745A-4C3C-B10B-5D2DF7FC86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8:46:34Z</dcterms:created>
  <dc:creator/>
  <dc:description/>
  <dc:language>en-US</dc:language>
  <cp:lastModifiedBy>Full Name</cp:lastModifiedBy>
  <dcterms:modified xsi:type="dcterms:W3CDTF">2009-02-26T06:56:17Z</dcterms:modified>
  <cp:revision>143</cp:revision>
  <dc:subject/>
  <dc:title>N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B4 template type">
    <vt:lpwstr>Onscreen</vt:lpwstr>
  </property>
  <property fmtid="{D5CDD505-2E9C-101B-9397-08002B2CF9AE}" pid="3" name="TB4 template version">
    <vt:r8>4</vt:r8>
  </property>
</Properties>
</file>