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937A-ABD9-448B-841A-1191D3322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D4F5-A3B1-48EC-B7AD-3594E3A98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D271-151D-4EB1-90AF-8B891B2BB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5894A-9F59-4010-8CE9-1E01519C32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5EB7-CBEF-4E0C-966E-80DA56B21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E039-0A85-41EF-B43E-164873B2A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668E-4505-46BE-826B-8D92A02D8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CE4C7-7EDE-4D17-9907-5BD3FF780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05C5-990D-46A0-996C-FA6974B67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2A2F-EF92-454E-A092-8DE58AA55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FFE4-B3E0-43EE-BA53-0F0E561EB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A978-2192-495A-BFE6-D80A3B643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905A-F23A-4919-AD8D-5C1EC0DBE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079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Univers"/>
                <a:ea typeface="Times New Roman"/>
              </a:rPr>
              <a:t> </a:t>
            </a:r>
            <a:r>
              <a:rPr b="1" lang="fr-FR" sz="900" spc="-1" strike="noStrike">
                <a:solidFill>
                  <a:srgbClr val="ffffff"/>
                </a:solidFill>
                <a:latin typeface="Univers"/>
                <a:ea typeface="Times New Roman"/>
              </a:rPr>
              <a:t>AIG Fond de Pensii 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Univers"/>
                <a:ea typeface="Times New Roman"/>
              </a:rPr>
              <a:t> </a:t>
            </a:r>
            <a:r>
              <a:rPr b="1" lang="fr-FR" sz="900" spc="-1" strike="noStrike">
                <a:solidFill>
                  <a:srgbClr val="ffffff"/>
                </a:solidFill>
                <a:latin typeface="Univers"/>
                <a:ea typeface="Times New Roman"/>
              </a:rPr>
              <a:t>Administrator al AIG Fond de Pensii Administrat Priv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Univers"/>
                <a:ea typeface="Times New Roman"/>
              </a:rPr>
              <a:t> </a:t>
            </a:r>
            <a:r>
              <a:rPr b="1" lang="fr-FR" sz="900" spc="-1" strike="noStrike">
                <a:solidFill>
                  <a:srgbClr val="ffffff"/>
                </a:solidFill>
                <a:latin typeface="Univers"/>
                <a:ea typeface="Times New Roman"/>
              </a:rPr>
              <a:t>www.aigpensii.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533520" y="5486400"/>
          <a:ext cx="2819160" cy="7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486400"/>
                    <a:ext cx="281916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ÎNTOARCEREA PILONULUI 2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aţa pensiilor private obligatorii la un an de la lansa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428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hai Coca-Coz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 General AIG Fond de Pensii 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u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Comitetul Director APA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HILIBRU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676520" y="2057400"/>
            <a:ext cx="2286000" cy="26668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952520" y="2057400"/>
            <a:ext cx="2057400" cy="23623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20574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840" y="1600200"/>
            <a:ext cx="28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TICIPAN</a:t>
            </a: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" y="4648320"/>
            <a:ext cx="344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OR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3400" y="4343400"/>
            <a:ext cx="3635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GUITOR 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RAVEGHE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HILIBRU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12408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HILIBRUL </a:t>
            </a: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IA</a:t>
            </a: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ŢĂ CONCURENŢIAL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0" y="3124080"/>
            <a:ext cx="84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lt;=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PARTICIPANŢ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SERVICI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REZULTAT INVESTIŢIONAL PERFORM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GARANŢI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ADMINISTRATOR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NUMĂR DE PARTICIPANŢI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ESTE A</a:t>
            </a: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ŞTEPTĂR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PROFITABILI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SERVICII FINANCIARE COMPLETE (ASIGURĂRI ŞI PENSII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LEGIUITOR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 SUPRAVEGHE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PECTAREA LEGI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RSE ADECV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GISLA</a:t>
            </a: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E MODERN</a:t>
            </a: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EFIC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ZULTATELE ECHILIBRULU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642.002: NUM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PERSOANE AD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2.704.931 RON: TOTAL 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.19% vs 6.3%: RANDAMENT ANUALIZAT PESTE INFL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%: PONDERE CONTURI GO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: DINAMICA M &amp;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: PLAT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Ă PENS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MENIN</a:t>
            </a: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 ASUPRA ECHILIBRULU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RIBU</a:t>
            </a: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ARAN</a:t>
            </a: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ŢIA LA INFLAŢI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0200</cp:lastModifiedBy>
  <dcterms:modified xsi:type="dcterms:W3CDTF">2009-02-25T08:02:30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53084818</vt:r8>
  </property>
  <property fmtid="{D5CDD505-2E9C-101B-9397-08002B2CF9AE}" pid="3" name="_AuthorEmail">
    <vt:lpwstr>Cristina.Robea@aigpensii.ro</vt:lpwstr>
  </property>
  <property fmtid="{D5CDD505-2E9C-101B-9397-08002B2CF9AE}" pid="4" name="_AuthorEmailDisplayName">
    <vt:lpwstr>Robea Cristina</vt:lpwstr>
  </property>
  <property fmtid="{D5CDD505-2E9C-101B-9397-08002B2CF9AE}" pid="5" name="_EmailSubject">
    <vt:lpwstr>prezentare ppt</vt:lpwstr>
  </property>
</Properties>
</file>