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8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298476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68400" y="744120"/>
            <a:ext cx="4952880" cy="371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7280" y="470340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4"/>
          </p:nvPr>
        </p:nvSpPr>
        <p:spPr>
          <a:xfrm>
            <a:off x="0" y="9410760"/>
            <a:ext cx="29844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5"/>
          </p:nvPr>
        </p:nvSpPr>
        <p:spPr>
          <a:xfrm>
            <a:off x="3898440" y="9410760"/>
            <a:ext cx="298476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92EE-83B0-4B8A-9D91-E069B6CB128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98800" y="9410760"/>
            <a:ext cx="29847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AD56-BB23-4DB5-87EF-0FCCC140E51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69840" y="744480"/>
            <a:ext cx="4950000" cy="37134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7280" y="4703400"/>
            <a:ext cx="50482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4F201-3A19-4A2B-ABDD-D4995601D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7920" y="1341360"/>
            <a:ext cx="7696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67920" y="3935880"/>
            <a:ext cx="7696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ED345-92D9-403B-9C41-2F1892CDC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7920" y="1341360"/>
            <a:ext cx="37555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11720" y="1341360"/>
            <a:ext cx="37555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67920" y="3935880"/>
            <a:ext cx="37555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11720" y="3935880"/>
            <a:ext cx="37555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C18D5-488F-4E49-A10C-B283B13AB7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67920" y="1341360"/>
            <a:ext cx="24778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70000" y="1341360"/>
            <a:ext cx="24778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2080" y="1341360"/>
            <a:ext cx="24778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67920" y="3935880"/>
            <a:ext cx="24778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70000" y="3935880"/>
            <a:ext cx="24778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2080" y="3935880"/>
            <a:ext cx="247788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2B89C-ACFE-4BE8-8A15-C8995757DC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67920" y="1341360"/>
            <a:ext cx="7696440" cy="49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D294A-7C63-4A1A-B42D-14CBB5FC6A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67920" y="1341360"/>
            <a:ext cx="7696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32226-30D3-4662-B227-765638EC5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7920" y="1341360"/>
            <a:ext cx="3755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11720" y="1341360"/>
            <a:ext cx="3755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BCC02-38E3-4685-A3FD-C4A93C87C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74953-F2AC-44DB-8BCD-38E582882A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58920" y="404280"/>
            <a:ext cx="76960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F373D-1CE1-44AC-BC35-DFD761436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7920" y="1341360"/>
            <a:ext cx="37555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11720" y="1341360"/>
            <a:ext cx="3755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67920" y="3935880"/>
            <a:ext cx="37555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F7345-3029-4D04-A714-C2C2209E20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7920" y="1341360"/>
            <a:ext cx="375552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11720" y="1341360"/>
            <a:ext cx="37555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11720" y="3935880"/>
            <a:ext cx="37555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B2807-7B0B-4D26-B630-A74705F7C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7920" y="1341360"/>
            <a:ext cx="37555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11720" y="1341360"/>
            <a:ext cx="375552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67920" y="3935880"/>
            <a:ext cx="7696440" cy="23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E7EF9-8D37-4CC8-B0F1-6AC441AECC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8920" y="40428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80880" y="640080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66"/>
                </a:solidFill>
                <a:latin typeface="Arial"/>
              </a:rPr>
              <a:t>PPF - Projekty ŽP</a:t>
            </a:r>
            <a:endParaRPr b="0" i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cs-CZ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09D50-7F99-4429-ABF3-71C231F5D351}" type="slidenum">
              <a:rPr b="0" i="1" lang="cs-CZ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i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267920" y="1341360"/>
            <a:ext cx="76964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808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Rectangle 18"/>
          <p:cNvSpPr/>
          <p:nvPr/>
        </p:nvSpPr>
        <p:spPr>
          <a:xfrm>
            <a:off x="0" y="-27000"/>
            <a:ext cx="9144000" cy="6476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12800"/>
                <a:tab algn="l" pos="1425600"/>
                <a:tab algn="l" pos="2138400"/>
                <a:tab algn="l" pos="2851200"/>
                <a:tab algn="l" pos="3564000"/>
                <a:tab algn="l" pos="4276800"/>
                <a:tab algn="l" pos="4989600"/>
                <a:tab algn="l" pos="5702400"/>
                <a:tab algn="l" pos="6415200"/>
                <a:tab algn="l" pos="7128000"/>
                <a:tab algn="l" pos="7840800"/>
                <a:tab algn="l" pos="8553600"/>
                <a:tab algn="l" pos="9266400"/>
                <a:tab algn="l" pos="9979200"/>
                <a:tab algn="l" pos="1069164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Helvetica Leicht"/>
              </a:rPr>
              <a:t>	</a:t>
            </a:r>
            <a:endParaRPr b="0" i="1" lang="en-US" sz="2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pic>
        <p:nvPicPr>
          <p:cNvPr id="5" name="Picture 19" descr="GRO_RGB"/>
          <p:cNvPicPr/>
          <p:nvPr/>
        </p:nvPicPr>
        <p:blipFill>
          <a:blip r:embed="rId2"/>
          <a:stretch/>
        </p:blipFill>
        <p:spPr>
          <a:xfrm>
            <a:off x="8172360" y="5300640"/>
            <a:ext cx="854280" cy="106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Zástupný symbol pro číslo snímku 5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2C8C-EC9B-4737-9C5E-D19CF52C88CD}" type="slidenum">
              <a:rPr b="0" i="1" lang="cs-CZ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i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1187280" y="4437000"/>
            <a:ext cx="795672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Generali </a:t>
            </a:r>
            <a:br>
              <a:rPr sz="2800"/>
            </a:br>
            <a:endParaRPr b="0" i="1" lang="en-US" sz="2800" spc="-1" strike="noStrike" u="sng">
              <a:solidFill>
                <a:srgbClr val="000066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oan Vreme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i="1" lang="en-US" sz="18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Zástupný symbol pro číslo snímku 4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BE9E-FA38-46A9-8C43-2D5CCDF1E416}" type="slidenum">
              <a:rPr b="0" i="1" lang="cs-CZ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i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9920" y="-27360"/>
            <a:ext cx="7696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ntem mai informati? Perspectiva participantului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6975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rticipantu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Viitorul participan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repturile noast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Zástupný symbol pro číslo snímku 4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9A95-D4B1-4FBC-9523-9BF2650998DC}" type="slidenum">
              <a:rPr b="0" i="1" lang="cs-CZ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i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9920" y="-27360"/>
            <a:ext cx="7696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Participantu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6280" y="836640"/>
            <a:ext cx="8056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te participantul informa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 – informare moderna si dinamic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150000"/>
              </a:lnSpc>
              <a:spcBef>
                <a:spcPts val="499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SSPP – buletine lunare, comparatii piat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150000"/>
              </a:lnSpc>
              <a:spcBef>
                <a:spcPts val="499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NPAS – statistici si contributii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150000"/>
              </a:lnSpc>
              <a:spcBef>
                <a:spcPts val="499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PAPR – informatii despre operatori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150000"/>
              </a:lnSpc>
              <a:spcBef>
                <a:spcPts val="499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ministratori – informatii saptamanale, scrisori anuale, acces web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te participantul mai educa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150000"/>
              </a:lnSpc>
              <a:spcBef>
                <a:spcPts val="499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a nu suficien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Zástupný symbol pro číslo snímku 4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A138-4BD2-450D-A5A1-62E0DA5FC108}" type="slidenum">
              <a:rPr b="0" i="1" lang="cs-CZ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i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9920" y="-27360"/>
            <a:ext cx="7696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e ar mai dori participantul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6280" y="836640"/>
            <a:ext cx="8056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ntributia a fost platita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fost platita la timp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fost platita la nivelul corect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ntre angajatorii mei cine a platit si cine nu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ducatia viitoa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150000"/>
              </a:lnSpc>
              <a:spcBef>
                <a:spcPts val="499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 intereseaza plata contributie la fel de mult ca  tichetele de masa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150000"/>
              </a:lnSpc>
              <a:spcBef>
                <a:spcPts val="499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 intereseaza viitorul meu financiar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ástupný symbol pro číslo snímku 4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CCD4-405F-4978-A291-0DEFA264CC50}" type="slidenum">
              <a:rPr b="0" i="1" lang="cs-CZ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i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9920" y="-27360"/>
            <a:ext cx="7696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Viitorul participant e informat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6280" y="836640"/>
            <a:ext cx="8056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inerii aflati la primul loc de munc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bligatii si drepturi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gajatorii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150000"/>
              </a:lnSpc>
              <a:spcBef>
                <a:spcPts val="45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formare redusa privitor la obligatia de a adera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150000"/>
              </a:lnSpc>
              <a:spcBef>
                <a:spcPts val="45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87% din cei nou intrati pe piata muncii sunt distribuiti aleatoriu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gajatorii joaca un rol important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anarul trebuie sa decida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-380880">
              <a:lnSpc>
                <a:spcPct val="150000"/>
              </a:lnSpc>
              <a:spcBef>
                <a:spcPts val="451"/>
              </a:spcBef>
              <a:buClr>
                <a:srgbClr val="ff99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BLIGATIA aderarii = DREPTUL la o pensie privat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838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ástupný symbol pro číslo snímku 4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000E-BBB1-46A2-82A0-0C29CF5F9DB8}" type="slidenum">
              <a:rPr b="0" i="1" lang="cs-CZ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i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9920" y="-27360"/>
            <a:ext cx="7696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repturile noastre?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6280" y="836640"/>
            <a:ext cx="8056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Generatiile tinere si cele viitoare au dreptul la o pensie civiliz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fectarea acestui drept are consecinte importante pe termen lung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diferenta poate naste dezastr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VEM DREPTUL LA UN SISTEM DE PENSII FUNCTIONA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patra putere in stat – in sprijinul tinerilo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Zástupný symbol pro číslo snímku 4"/>
          <p:cNvSpPr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43BF-FE84-416B-8A8A-D611F0E1A9F3}" type="slidenum">
              <a:rPr b="0" i="1" lang="cs-CZ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i="1" lang="en-US" sz="1200" spc="-1" strike="noStrike" u="sng">
              <a:solidFill>
                <a:srgbClr val="000066"/>
              </a:solidFill>
              <a:uFillTx/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39920" y="-27360"/>
            <a:ext cx="7696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6280" y="836640"/>
            <a:ext cx="8056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        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                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15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                        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1T13:52:59Z</dcterms:created>
  <dc:creator>Vreme</dc:creator>
  <dc:description/>
  <dc:language>en-US</dc:language>
  <cp:lastModifiedBy>y039998</cp:lastModifiedBy>
  <dcterms:modified xsi:type="dcterms:W3CDTF">2009-02-25T11:02:58Z</dcterms:modified>
  <cp:revision>789</cp:revision>
  <dc:subject/>
  <dc:title>Raport de proiec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