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4CDC-8C5A-4F20-A8CA-2576108F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68C-A50C-45B5-90FB-5EDEE7EF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5E92-EF9B-4270-9034-06EA1C00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0D00-DB3F-4B3D-B2C0-014F32D7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A26F-DFB0-4F52-85DC-D00B9596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80AF-99D4-41C7-8AF4-6D002DC2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ABB8-04B8-44EB-9A84-2568901B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F2E2-3FDE-40EE-848C-1491B989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829F-86C4-46C5-B5E9-670070C5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A486-C534-414F-BFE1-DF30D37F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7C68-B34B-4CE8-9702-C4700BC1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C531-84B3-475F-AA20-CA951921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8DF6-0E0A-4BD3-BC6F-0E458D7E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0625-4510-4933-A1B7-0B8A9039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AC87-7B81-4BE7-95D2-9832A110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2675-7BDB-429C-875B-0C3FF409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F9F4-45D2-493C-BAA1-147A2E0C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2D31-7E8C-40DF-8EC9-D9588942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4BFA-0CC1-401B-9367-044475DF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4190-6B5B-4B12-BEAA-3BE686B7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F4F5-5F28-4154-AD8D-4B163A81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4EEA-7A05-4212-BF42-CDB41703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112F-C884-41B2-A5BC-55BF3F26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1186-827B-4595-A5D9-01C3E647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8491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E993-0615-4F9C-9BDE-943A8D68CE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8491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1240"/>
            <a:ext cx="16905240" cy="10793520"/>
            <a:chOff x="-7761240" y="1461240"/>
            <a:chExt cx="16905240" cy="1079352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124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9CA7-6DC8-4F16-99BD-60332609A0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1.png"/><Relationship Id="rId6" Type="http://schemas.openxmlformats.org/officeDocument/2006/relationships/package" Target="../embeddings/oleObject3.xlsx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467480" y="15228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8600" y="1523880"/>
            <a:ext cx="8763120" cy="49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03092"/>
                </a:solidFill>
                <a:latin typeface="Arial"/>
              </a:rPr>
              <a:t>FONDURILE DE PENSII ADMINISTRATE PRIV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03092"/>
                </a:solidFill>
                <a:latin typeface="Arial"/>
              </a:rPr>
              <a:t>S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03092"/>
                </a:solidFill>
                <a:latin typeface="Arial"/>
              </a:rPr>
              <a:t>PIATA DE CAPIT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092"/>
                </a:solidFill>
                <a:latin typeface="Arial"/>
              </a:rPr>
              <a:t>Stere Farma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092"/>
                </a:solidFill>
                <a:latin typeface="Arial"/>
              </a:rPr>
              <a:t>Presedinte Director Gene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092"/>
                </a:solidFill>
                <a:latin typeface="Arial"/>
              </a:rPr>
              <a:t>Bursa de Valori Bucures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001000" y="7632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" y="380880"/>
            <a:ext cx="8060760" cy="838080"/>
            <a:chOff x="457200" y="380880"/>
            <a:chExt cx="8060760" cy="838080"/>
          </a:xfrm>
        </p:grpSpPr>
        <p:sp>
          <p:nvSpPr>
            <p:cNvPr id="165" name=""/>
            <p:cNvSpPr/>
            <p:nvPr/>
          </p:nvSpPr>
          <p:spPr>
            <a:xfrm>
              <a:off x="830160" y="433080"/>
              <a:ext cx="768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03092"/>
                  </a:solidFill>
                  <a:latin typeface="Times New Roman"/>
                </a:rPr>
                <a:t>REFORMA SISTEMULUI DE PENSII IN TARILE CE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457200" y="380880"/>
              <a:ext cx="6476760" cy="838080"/>
              <a:chOff x="457200" y="380880"/>
              <a:chExt cx="6476760" cy="838080"/>
            </a:xfrm>
          </p:grpSpPr>
          <p:sp>
            <p:nvSpPr>
              <p:cNvPr id="167" name=""/>
              <p:cNvSpPr/>
              <p:nvPr/>
            </p:nvSpPr>
            <p:spPr>
              <a:xfrm>
                <a:off x="457200" y="914040"/>
                <a:ext cx="6476760" cy="0"/>
              </a:xfrm>
              <a:prstGeom prst="line">
                <a:avLst/>
              </a:prstGeom>
              <a:ln w="381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61760" y="380880"/>
                <a:ext cx="0" cy="838080"/>
              </a:xfrm>
              <a:prstGeom prst="line">
                <a:avLst/>
              </a:prstGeom>
              <a:ln w="507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" name=""/>
          <p:cNvSpPr/>
          <p:nvPr/>
        </p:nvSpPr>
        <p:spPr>
          <a:xfrm>
            <a:off x="457200" y="1600200"/>
            <a:ext cx="7924680" cy="2590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 Narrow"/>
              </a:rPr>
              <a:t>Investing on the Exchange through financial institutions: 11.7 million via Open Pension Funds, 1.4 million via Investment Funds and 311 thousand via Individual Pension Account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 Narrow"/>
              </a:rPr>
              <a:t>The shares held by the Open Pension Funds at 2005 year-end equalled nearly PLN 28 billion, i.e. 31% more than at 2004 year end.</a:t>
            </a:r>
            <a:r>
              <a:rPr b="1" lang="pl-PL" sz="1800" spc="-1" strike="noStrike">
                <a:solidFill>
                  <a:srgbClr val="008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 Narrow"/>
              </a:rPr>
              <a:t>	</a:t>
            </a:r>
            <a:r>
              <a:rPr b="1" i="1" lang="en-US" sz="1400" spc="-1" strike="noStrike">
                <a:solidFill>
                  <a:srgbClr val="008000"/>
                </a:solidFill>
                <a:latin typeface="Arial Narrow"/>
              </a:rPr>
              <a:t>Sursa: Warsaw Stock Exchange: “Investors’ participation in the Exchange trading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45720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Avansul semnificativ pe care il are piata de capital poloneza fata de cea romaneasca se explica si prin reforma timpurie a sistemului de pensi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Structura investitorilor de la BVB se va apropia si mai mult de cea de la WSE odata cu intrarea pe piata a fondurilor de pensi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4178160"/>
          <a:ext cx="5067360" cy="260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78160"/>
                    <a:ext cx="506736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685800" y="98964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092"/>
                </a:solidFill>
                <a:latin typeface="Times New Roman"/>
              </a:rPr>
              <a:t>BV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105520" y="2666880"/>
          <a:ext cx="4317840" cy="2959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666880"/>
                    <a:ext cx="431784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5410080" y="1291680"/>
            <a:ext cx="3657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092"/>
                </a:solidFill>
                <a:latin typeface="Times New Roman"/>
              </a:rPr>
              <a:t>WARSAW STOCK EXCHAN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092"/>
                </a:solidFill>
                <a:latin typeface="Times New Roman"/>
              </a:rPr>
              <a:t>(H2 2005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8001000" y="76320"/>
            <a:ext cx="1066680" cy="91440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457200" y="380880"/>
            <a:ext cx="6476760" cy="838080"/>
            <a:chOff x="457200" y="380880"/>
            <a:chExt cx="6476760" cy="838080"/>
          </a:xfrm>
        </p:grpSpPr>
        <p:sp>
          <p:nvSpPr>
            <p:cNvPr id="179" name=""/>
            <p:cNvSpPr/>
            <p:nvPr/>
          </p:nvSpPr>
          <p:spPr>
            <a:xfrm>
              <a:off x="818280" y="479160"/>
              <a:ext cx="573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03092"/>
                  </a:solidFill>
                  <a:latin typeface="Arial"/>
                </a:rPr>
                <a:t>BVB vs. WSE: STRUCTURA INVESTITORIL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457200" y="380880"/>
              <a:ext cx="6476760" cy="838080"/>
              <a:chOff x="457200" y="380880"/>
              <a:chExt cx="6476760" cy="838080"/>
            </a:xfrm>
          </p:grpSpPr>
          <p:sp>
            <p:nvSpPr>
              <p:cNvPr id="181" name=""/>
              <p:cNvSpPr/>
              <p:nvPr/>
            </p:nvSpPr>
            <p:spPr>
              <a:xfrm>
                <a:off x="457200" y="914040"/>
                <a:ext cx="6476760" cy="0"/>
              </a:xfrm>
              <a:prstGeom prst="line">
                <a:avLst/>
              </a:prstGeom>
              <a:ln w="381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61760" y="380880"/>
                <a:ext cx="0" cy="838080"/>
              </a:xfrm>
              <a:prstGeom prst="line">
                <a:avLst/>
              </a:prstGeom>
              <a:ln w="507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83" name=""/>
          <p:cNvGraphicFramePr/>
          <p:nvPr/>
        </p:nvGraphicFramePr>
        <p:xfrm>
          <a:off x="0" y="1143000"/>
          <a:ext cx="5410080" cy="2819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1143000"/>
                    <a:ext cx="54100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4952880" y="1219320"/>
            <a:ext cx="0" cy="53337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43423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2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29420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3520" y="146124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03092"/>
                </a:solidFill>
                <a:latin typeface="Times New Roman"/>
              </a:rPr>
              <a:t>CAPITALIZAREA BURSIE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4612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03092"/>
                </a:solidFill>
                <a:latin typeface="Times New Roman"/>
              </a:rPr>
              <a:t>VALOAREA MEDIE ZILNICA A TRANZACTIIL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001000" y="76320"/>
            <a:ext cx="1066680" cy="91440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457200" y="380880"/>
            <a:ext cx="6476760" cy="838080"/>
            <a:chOff x="457200" y="380880"/>
            <a:chExt cx="6476760" cy="838080"/>
          </a:xfrm>
        </p:grpSpPr>
        <p:sp>
          <p:nvSpPr>
            <p:cNvPr id="192" name=""/>
            <p:cNvSpPr/>
            <p:nvPr/>
          </p:nvSpPr>
          <p:spPr>
            <a:xfrm>
              <a:off x="819360" y="479160"/>
              <a:ext cx="446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03092"/>
                  </a:solidFill>
                  <a:latin typeface="Arial"/>
                </a:rPr>
                <a:t>INDICATORII PIETELOR BURSIE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457200" y="380880"/>
              <a:ext cx="6476760" cy="838080"/>
              <a:chOff x="457200" y="380880"/>
              <a:chExt cx="6476760" cy="838080"/>
            </a:xfrm>
          </p:grpSpPr>
          <p:sp>
            <p:nvSpPr>
              <p:cNvPr id="194" name=""/>
              <p:cNvSpPr/>
              <p:nvPr/>
            </p:nvSpPr>
            <p:spPr>
              <a:xfrm>
                <a:off x="457200" y="914040"/>
                <a:ext cx="6476760" cy="0"/>
              </a:xfrm>
              <a:prstGeom prst="line">
                <a:avLst/>
              </a:prstGeom>
              <a:ln w="381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61760" y="380880"/>
                <a:ext cx="0" cy="838080"/>
              </a:xfrm>
              <a:prstGeom prst="line">
                <a:avLst/>
              </a:prstGeom>
              <a:ln w="507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96" name=""/>
          <p:cNvGraphicFramePr/>
          <p:nvPr/>
        </p:nvGraphicFramePr>
        <p:xfrm>
          <a:off x="0" y="1600200"/>
          <a:ext cx="4648320" cy="5257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00200"/>
                    <a:ext cx="46483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343400" y="1612800"/>
          <a:ext cx="4800600" cy="51688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1612800"/>
                    <a:ext cx="480060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557360" y="2818800"/>
            <a:ext cx="12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3092"/>
                </a:solidFill>
                <a:latin typeface="Times New Roman"/>
              </a:rPr>
              <a:t>mld.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03092"/>
                </a:solidFill>
                <a:latin typeface="Times New Roman"/>
              </a:rPr>
              <a:t>E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29360" y="2818800"/>
            <a:ext cx="12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3092"/>
                </a:solidFill>
                <a:latin typeface="Times New Roman"/>
              </a:rPr>
              <a:t>mil.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03092"/>
                </a:solidFill>
                <a:latin typeface="Times New Roman"/>
              </a:rPr>
              <a:t>E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001000" y="76320"/>
            <a:ext cx="1066680" cy="91440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457200" y="380880"/>
            <a:ext cx="6476760" cy="838080"/>
            <a:chOff x="457200" y="380880"/>
            <a:chExt cx="6476760" cy="838080"/>
          </a:xfrm>
        </p:grpSpPr>
        <p:sp>
          <p:nvSpPr>
            <p:cNvPr id="204" name=""/>
            <p:cNvSpPr/>
            <p:nvPr/>
          </p:nvSpPr>
          <p:spPr>
            <a:xfrm>
              <a:off x="817920" y="482400"/>
              <a:ext cx="582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03092"/>
                  </a:solidFill>
                  <a:latin typeface="Times New Roman"/>
                </a:rPr>
                <a:t>FONDURILE DE PENSII SI PIATA DE CAPIT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457200" y="380880"/>
              <a:ext cx="6476760" cy="838080"/>
              <a:chOff x="457200" y="380880"/>
              <a:chExt cx="6476760" cy="838080"/>
            </a:xfrm>
          </p:grpSpPr>
          <p:sp>
            <p:nvSpPr>
              <p:cNvPr id="206" name=""/>
              <p:cNvSpPr/>
              <p:nvPr/>
            </p:nvSpPr>
            <p:spPr>
              <a:xfrm>
                <a:off x="457200" y="914040"/>
                <a:ext cx="6476760" cy="0"/>
              </a:xfrm>
              <a:prstGeom prst="line">
                <a:avLst/>
              </a:prstGeom>
              <a:ln w="381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1760" y="380880"/>
                <a:ext cx="0" cy="838080"/>
              </a:xfrm>
              <a:prstGeom prst="line">
                <a:avLst/>
              </a:prstGeom>
              <a:ln w="507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345240" y="2756160"/>
            <a:ext cx="2539800" cy="212832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NDURI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 PENSI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V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23440" y="2030400"/>
            <a:ext cx="2014200" cy="785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CONSOLIDARE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CERERI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04720" y="3424320"/>
            <a:ext cx="2058120" cy="785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DIVERSIFICA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OFERTE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4990680"/>
            <a:ext cx="2057400" cy="1202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CRESTERE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CALITATI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PIETE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2438280"/>
            <a:ext cx="0" cy="3124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2438280"/>
            <a:ext cx="45720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3809880"/>
            <a:ext cx="45720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5562720"/>
            <a:ext cx="45720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3809880"/>
            <a:ext cx="76212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35200" y="1148040"/>
            <a:ext cx="5380200" cy="459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IATA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08680" y="1756080"/>
            <a:ext cx="1878120" cy="554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Times New Roman"/>
              </a:rPr>
              <a:t>LICHIDIT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Times New Roman"/>
              </a:rPr>
              <a:t>CRESCU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08680" y="2489760"/>
            <a:ext cx="1878120" cy="554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Times New Roman"/>
              </a:rPr>
              <a:t>VOLATILIT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Times New Roman"/>
              </a:rPr>
              <a:t>REDUS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08680" y="4107600"/>
            <a:ext cx="187812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Times New Roman"/>
              </a:rPr>
              <a:t>NOI PRODUSE FINANCI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08680" y="5326560"/>
            <a:ext cx="187812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Times New Roman"/>
              </a:rPr>
              <a:t>GUVERNANTA CORPORATIV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81680" y="3251520"/>
            <a:ext cx="1878120" cy="554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Times New Roman"/>
              </a:rPr>
              <a:t>INCURAJEAZ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Times New Roman"/>
              </a:rPr>
              <a:t>IP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77120" y="2057400"/>
            <a:ext cx="0" cy="685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77120" y="2057400"/>
            <a:ext cx="3045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2743200"/>
            <a:ext cx="3045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72200" y="2438280"/>
            <a:ext cx="3049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3886200"/>
            <a:ext cx="3049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7120" y="3581280"/>
            <a:ext cx="0" cy="685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3581280"/>
            <a:ext cx="3045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77120" y="4267080"/>
            <a:ext cx="3045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5562720"/>
            <a:ext cx="6094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28600" y="1523880"/>
            <a:ext cx="8763120" cy="36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092"/>
                </a:solidFill>
                <a:latin typeface="Arial"/>
              </a:rPr>
              <a:t>VA MULTUMESC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001000" y="7632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7200" y="380880"/>
            <a:ext cx="6476760" cy="838080"/>
            <a:chOff x="457200" y="380880"/>
            <a:chExt cx="6476760" cy="838080"/>
          </a:xfrm>
        </p:grpSpPr>
        <p:sp>
          <p:nvSpPr>
            <p:cNvPr id="94" name=""/>
            <p:cNvSpPr/>
            <p:nvPr/>
          </p:nvSpPr>
          <p:spPr>
            <a:xfrm>
              <a:off x="820440" y="479160"/>
              <a:ext cx="573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03092"/>
                  </a:solidFill>
                  <a:latin typeface="Arial"/>
                </a:rPr>
                <a:t>FONDURILE DE PENSII SI PIATA DE CAPIT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57200" y="380880"/>
              <a:ext cx="6476760" cy="838080"/>
              <a:chOff x="457200" y="380880"/>
              <a:chExt cx="6476760" cy="838080"/>
            </a:xfrm>
          </p:grpSpPr>
          <p:sp>
            <p:nvSpPr>
              <p:cNvPr id="96" name=""/>
              <p:cNvSpPr/>
              <p:nvPr/>
            </p:nvSpPr>
            <p:spPr>
              <a:xfrm>
                <a:off x="457200" y="914040"/>
                <a:ext cx="6476760" cy="0"/>
              </a:xfrm>
              <a:prstGeom prst="line">
                <a:avLst/>
              </a:prstGeom>
              <a:ln w="381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1760" y="380880"/>
                <a:ext cx="0" cy="838080"/>
              </a:xfrm>
              <a:prstGeom prst="line">
                <a:avLst/>
              </a:prstGeom>
              <a:ln w="507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" name=""/>
          <p:cNvSpPr/>
          <p:nvPr/>
        </p:nvSpPr>
        <p:spPr>
          <a:xfrm>
            <a:off x="6094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Legea nr.411/2004 </a:t>
            </a:r>
            <a:r>
              <a:rPr b="1" i="1" lang="en-US" sz="20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(republicata)</a:t>
            </a:r>
            <a:r>
              <a:rPr b="1" lang="en-US" sz="20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 privind fondurile de pensii administrate privat, art.1, (2)</a:t>
            </a:r>
            <a:r>
              <a:rPr b="1" lang="en-US" sz="2000" spc="-1" strike="noStrike">
                <a:solidFill>
                  <a:srgbClr val="303092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activele unui fond de pensii administrat privat sunt reprezentate de </a:t>
            </a:r>
            <a:r>
              <a:rPr b="1" lang="en-US" sz="1800" spc="-1" strike="noStrike">
                <a:solidFill>
                  <a:srgbClr val="303092"/>
                </a:solidFill>
                <a:latin typeface="Times New Roman"/>
              </a:rPr>
              <a:t>instrumente financiare, inclusiv instrumente financiare derivate</a:t>
            </a: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, precum si numerar, rezultate ca urmare a investirii activelor persona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4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Legea nr.297/2004 privind piata de capital, art.2, (11.2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nstrumente financiare înseamnă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spcBef>
                <a:spcPts val="3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92"/>
                </a:solidFill>
                <a:latin typeface="Times New Roman"/>
              </a:rPr>
              <a:t>valori mobiliare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spcBef>
                <a:spcPts val="3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92"/>
                </a:solidFill>
                <a:latin typeface="Times New Roman"/>
              </a:rPr>
              <a:t>titluri de participare la organismele de plasament colectiv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spcBef>
                <a:spcPts val="3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92"/>
                </a:solidFill>
                <a:latin typeface="Times New Roman"/>
              </a:rPr>
              <a:t>instrumente ale pieţei monetare, inclusiv titluri de stat cu scadenţă mai mică de un an şi certificate de depozi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spcBef>
                <a:spcPts val="3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92"/>
                </a:solidFill>
                <a:latin typeface="Times New Roman"/>
              </a:rPr>
              <a:t>contracte futures financiare, inclusiv contracte similare cu decontare finală în fonduri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spcBef>
                <a:spcPts val="3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92"/>
                </a:solidFill>
                <a:latin typeface="Times New Roman"/>
              </a:rPr>
              <a:t>contracte forward pe rata dobânzii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spcBef>
                <a:spcPts val="3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92"/>
                </a:solidFill>
                <a:latin typeface="Times New Roman"/>
              </a:rPr>
              <a:t>swap-uri pe rata dobânzii, pe curs de schimb şi pe acţiuni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spcBef>
                <a:spcPts val="3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92"/>
                </a:solidFill>
                <a:latin typeface="Times New Roman"/>
              </a:rPr>
              <a:t>opţiuni, inclusiv contracte similare cu decontare finală în fonduri; această categorie include şi opţiuni pe curs de schimb şi pe rata dobânzii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spcBef>
                <a:spcPts val="3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03092"/>
                </a:solidFill>
                <a:latin typeface="Times New Roman"/>
              </a:rPr>
              <a:t>instrumente financiare derivate pe mărfuri</a:t>
            </a:r>
            <a:r>
              <a:rPr b="0" lang="en-US" sz="1200" spc="-1" strike="noStrike">
                <a:solidFill>
                  <a:srgbClr val="303092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303092"/>
                </a:solidFill>
                <a:latin typeface="Times New Roman"/>
              </a:rPr>
              <a:t>(sunt excluse din definitia instrumentelor financiare preluata de Legea nr.411/2004 privind fondurile de pensii administrate privat)</a:t>
            </a:r>
            <a:r>
              <a:rPr b="0" lang="en-US" sz="1200" spc="-1" strike="noStrike">
                <a:solidFill>
                  <a:srgbClr val="303092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spcBef>
                <a:spcPts val="3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92"/>
                </a:solidFill>
                <a:latin typeface="Times New Roman"/>
              </a:rPr>
              <a:t>orice alt instrument admis la tranzacţionare pe o piaţă reglementată într-un stat membru sau pentru care s-a făcut o cerere de admitere la tranzacţionare pe o astfel de piaţă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001000" y="7632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57200" y="380880"/>
            <a:ext cx="6476760" cy="838080"/>
            <a:chOff x="457200" y="380880"/>
            <a:chExt cx="6476760" cy="838080"/>
          </a:xfrm>
        </p:grpSpPr>
        <p:sp>
          <p:nvSpPr>
            <p:cNvPr id="102" name=""/>
            <p:cNvSpPr/>
            <p:nvPr/>
          </p:nvSpPr>
          <p:spPr>
            <a:xfrm>
              <a:off x="820440" y="479160"/>
              <a:ext cx="573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03092"/>
                  </a:solidFill>
                  <a:latin typeface="Arial"/>
                </a:rPr>
                <a:t>FONDURILE DE PENSII SI PIATA DE CAPIT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457200" y="380880"/>
              <a:ext cx="6476760" cy="838080"/>
              <a:chOff x="457200" y="380880"/>
              <a:chExt cx="6476760" cy="838080"/>
            </a:xfrm>
          </p:grpSpPr>
          <p:sp>
            <p:nvSpPr>
              <p:cNvPr id="104" name=""/>
              <p:cNvSpPr/>
              <p:nvPr/>
            </p:nvSpPr>
            <p:spPr>
              <a:xfrm>
                <a:off x="457200" y="914040"/>
                <a:ext cx="6476760" cy="0"/>
              </a:xfrm>
              <a:prstGeom prst="line">
                <a:avLst/>
              </a:prstGeom>
              <a:ln w="381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1760" y="380880"/>
                <a:ext cx="0" cy="838080"/>
              </a:xfrm>
              <a:prstGeom prst="line">
                <a:avLst/>
              </a:prstGeom>
              <a:ln w="507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>
            <a:off x="6094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451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Investirea activelor fondurilor de pensii administrate privat se va face cu respectarea urmatoarelor reguli </a:t>
            </a:r>
            <a:r>
              <a:rPr b="0" i="1" lang="en-US" sz="18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(selectie)</a:t>
            </a:r>
            <a:r>
              <a:rPr b="1" lang="en-US" sz="1800" spc="-1" strike="noStrike">
                <a:solidFill>
                  <a:srgbClr val="303092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374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03092"/>
                </a:solidFill>
                <a:latin typeface="Times New Roman"/>
              </a:rPr>
              <a:t>investirea într-un mod care să asigure securitatea, calitatea, lichiditatea şi profitabilitatea;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374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03092"/>
                </a:solidFill>
                <a:latin typeface="Times New Roman"/>
              </a:rPr>
              <a:t>investirea să se efectueze preponderent în </a:t>
            </a:r>
            <a:r>
              <a:rPr b="1" lang="en-GB" sz="1500" spc="-1" strike="noStrike">
                <a:solidFill>
                  <a:srgbClr val="303092"/>
                </a:solidFill>
                <a:latin typeface="Times New Roman"/>
              </a:rPr>
              <a:t>instrumente tranzacţionate pe o piaţă reglementată</a:t>
            </a:r>
            <a:r>
              <a:rPr b="0" lang="en-GB" sz="1500" spc="-1" strike="noStrike">
                <a:solidFill>
                  <a:srgbClr val="303092"/>
                </a:solidFill>
                <a:latin typeface="Times New Roman"/>
              </a:rPr>
              <a:t>;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374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03092"/>
                </a:solidFill>
                <a:latin typeface="Times New Roman"/>
              </a:rPr>
              <a:t>investiţiile în instrumente care nu sunt tranzacţionate pe o piaţă reglementată trebuie să nu depăşească niveluri prudenţiale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400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451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Administratorul unui fond de pensii poate investi in </a:t>
            </a:r>
            <a:r>
              <a:rPr b="0" i="1" lang="en-US" sz="18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(selectie)</a:t>
            </a:r>
            <a:r>
              <a:rPr b="1" lang="en-US" sz="18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374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03092"/>
                </a:solidFill>
                <a:latin typeface="Times New Roman"/>
              </a:rPr>
              <a:t>valori mobiliare tranzacţionate pe pieţe reglementate şi supravegheate din România, statele membre ale Uniunii Europene sau aparţinând Spaţiului Economic European, </a:t>
            </a:r>
            <a:r>
              <a:rPr b="1" lang="en-GB" sz="1500" spc="-1" strike="noStrike">
                <a:solidFill>
                  <a:srgbClr val="303092"/>
                </a:solidFill>
                <a:latin typeface="Times New Roman"/>
              </a:rPr>
              <a:t>în procent de până la 50% din valoarea totală a activelor fondului de pensii</a:t>
            </a:r>
            <a:r>
              <a:rPr b="0" lang="en-GB" sz="1500" spc="-1" strike="noStrike">
                <a:solidFill>
                  <a:srgbClr val="303092"/>
                </a:solidFill>
                <a:latin typeface="Times New Roman"/>
              </a:rPr>
              <a:t>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374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03092"/>
                </a:solidFill>
                <a:latin typeface="Times New Roman"/>
              </a:rPr>
              <a:t>obligaţiuni şi alte valori mobiliare emise de autorităţile administraţiei publice locale din România sau din statele membre ale Uniunii Europene ori aparţinând Spaţiului Economic European, în </a:t>
            </a:r>
            <a:r>
              <a:rPr b="1" lang="en-GB" sz="1500" spc="-1" strike="noStrike">
                <a:solidFill>
                  <a:srgbClr val="303092"/>
                </a:solidFill>
                <a:latin typeface="Times New Roman"/>
              </a:rPr>
              <a:t>procent de până la 30% din valoarea totală a activelor fondului de pensii</a:t>
            </a:r>
            <a:r>
              <a:rPr b="0" lang="en-GB" sz="1500" spc="-1" strike="noStrike">
                <a:solidFill>
                  <a:srgbClr val="303092"/>
                </a:solidFill>
                <a:latin typeface="Times New Roman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451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spcBef>
                <a:spcPts val="451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092"/>
                </a:solidFill>
                <a:latin typeface="Times New Roman"/>
              </a:rPr>
              <a:t>Investitiile in instrumente financiare derivate sunt permise doar in masura in care contribuie la scaderea riscurilor investitiei sau facilitează gestionarea eficienta a portofoliulu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001000" y="7632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7200" y="380880"/>
            <a:ext cx="6476760" cy="838080"/>
            <a:chOff x="457200" y="380880"/>
            <a:chExt cx="6476760" cy="838080"/>
          </a:xfrm>
        </p:grpSpPr>
        <p:sp>
          <p:nvSpPr>
            <p:cNvPr id="110" name=""/>
            <p:cNvSpPr/>
            <p:nvPr/>
          </p:nvSpPr>
          <p:spPr>
            <a:xfrm>
              <a:off x="820440" y="479160"/>
              <a:ext cx="573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03092"/>
                  </a:solidFill>
                  <a:latin typeface="Arial"/>
                </a:rPr>
                <a:t>FONDURILE DE PENSII SI PIATA DE CAPIT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457200" y="380880"/>
              <a:ext cx="6476760" cy="838080"/>
              <a:chOff x="457200" y="380880"/>
              <a:chExt cx="6476760" cy="838080"/>
            </a:xfrm>
          </p:grpSpPr>
          <p:sp>
            <p:nvSpPr>
              <p:cNvPr id="112" name=""/>
              <p:cNvSpPr/>
              <p:nvPr/>
            </p:nvSpPr>
            <p:spPr>
              <a:xfrm>
                <a:off x="457200" y="914040"/>
                <a:ext cx="6476760" cy="0"/>
              </a:xfrm>
              <a:prstGeom prst="line">
                <a:avLst/>
              </a:prstGeom>
              <a:ln w="381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61760" y="380880"/>
                <a:ext cx="0" cy="838080"/>
              </a:xfrm>
              <a:prstGeom prst="line">
                <a:avLst/>
              </a:prstGeom>
              <a:ln w="507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" name=""/>
          <p:cNvSpPr/>
          <p:nvPr/>
        </p:nvSpPr>
        <p:spPr>
          <a:xfrm>
            <a:off x="6094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Obiectivele principale ale reformelor in cadrul sistemelor de pensii</a:t>
            </a:r>
            <a:r>
              <a:rPr b="1" lang="en-US" sz="2000" spc="-1" strike="noStrike">
                <a:solidFill>
                  <a:srgbClr val="303092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asigurarea de beneficii sustenabile pentru membrii fondurilor de pensii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crearea unei legaturi puternice intre nivelul contributiilor la fondurile de pensii si cel al beneficiil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Dezvoltarea pietei de capital nu se regaseste printre obiectivele explicite ale reformei sistemului de pensi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este insa o consecinta evidenta a infiintarii fondurilor de pensii administrate priv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Efectele asupra pietei de capital din Romani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cantitativ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calitativ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001000" y="7632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380880"/>
            <a:ext cx="6476760" cy="838080"/>
            <a:chOff x="457200" y="380880"/>
            <a:chExt cx="6476760" cy="838080"/>
          </a:xfrm>
        </p:grpSpPr>
        <p:sp>
          <p:nvSpPr>
            <p:cNvPr id="118" name=""/>
            <p:cNvSpPr/>
            <p:nvPr/>
          </p:nvSpPr>
          <p:spPr>
            <a:xfrm>
              <a:off x="821520" y="479160"/>
              <a:ext cx="293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03092"/>
                  </a:solidFill>
                  <a:latin typeface="Arial"/>
                </a:rPr>
                <a:t>EFECTE CANTITATIV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457200" y="380880"/>
              <a:ext cx="6476760" cy="838080"/>
              <a:chOff x="457200" y="380880"/>
              <a:chExt cx="6476760" cy="838080"/>
            </a:xfrm>
          </p:grpSpPr>
          <p:sp>
            <p:nvSpPr>
              <p:cNvPr id="120" name=""/>
              <p:cNvSpPr/>
              <p:nvPr/>
            </p:nvSpPr>
            <p:spPr>
              <a:xfrm>
                <a:off x="457200" y="914040"/>
                <a:ext cx="6476760" cy="0"/>
              </a:xfrm>
              <a:prstGeom prst="line">
                <a:avLst/>
              </a:prstGeom>
              <a:ln w="381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1760" y="380880"/>
                <a:ext cx="0" cy="838080"/>
              </a:xfrm>
              <a:prstGeom prst="line">
                <a:avLst/>
              </a:prstGeom>
              <a:ln w="507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60948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Fondurile de pensii au capacitatea de a atrage resurse financiare relativ importante pentru piata de capital din Romani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in doar cativa ani activele fondurilor de pensii administrate privat vor atinge valori de ordinul miliardelor de eu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Fondurile de pensii administrate privat atrag resurse financiare pe termen lu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creste astfel suma totala disponibila pentru investitii pe piata bursier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se va consolida componenta investitorilor institutionali in structura cererii manifestate pe pia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Vor exercita presiuni pentru dezvoltarea pietelor financiare din Romani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companiile ar trebui sa “concureze” pentru a obtine acces la resursele financiare acumulate la nivelul fondurilor de pensii (cresterea numarului de IPO, cresterea capitalizarii bursier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vor exista sume suplimentare potential a fi plasate pe pietele bursiere locale (cresterea lichiditatii pietei bursier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 algn="just">
              <a:spcBef>
                <a:spcPts val="451"/>
              </a:spcBef>
              <a:buClr>
                <a:srgbClr val="303092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001000" y="7632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57200" y="380880"/>
            <a:ext cx="6476760" cy="838080"/>
            <a:chOff x="457200" y="380880"/>
            <a:chExt cx="6476760" cy="838080"/>
          </a:xfrm>
        </p:grpSpPr>
        <p:sp>
          <p:nvSpPr>
            <p:cNvPr id="126" name=""/>
            <p:cNvSpPr/>
            <p:nvPr/>
          </p:nvSpPr>
          <p:spPr>
            <a:xfrm>
              <a:off x="821880" y="479160"/>
              <a:ext cx="27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03092"/>
                  </a:solidFill>
                  <a:latin typeface="Arial"/>
                  <a:ea typeface="Arial"/>
                </a:rPr>
                <a:t>EFECTE CALITATIV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57200" y="380880"/>
              <a:ext cx="6476760" cy="838080"/>
              <a:chOff x="457200" y="380880"/>
              <a:chExt cx="6476760" cy="838080"/>
            </a:xfrm>
          </p:grpSpPr>
          <p:sp>
            <p:nvSpPr>
              <p:cNvPr id="128" name=""/>
              <p:cNvSpPr/>
              <p:nvPr/>
            </p:nvSpPr>
            <p:spPr>
              <a:xfrm>
                <a:off x="457200" y="914040"/>
                <a:ext cx="6476760" cy="0"/>
              </a:xfrm>
              <a:prstGeom prst="line">
                <a:avLst/>
              </a:prstGeom>
              <a:ln w="381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1760" y="380880"/>
                <a:ext cx="0" cy="838080"/>
              </a:xfrm>
              <a:prstGeom prst="line">
                <a:avLst/>
              </a:prstGeom>
              <a:ln w="507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60948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Dincolo de consecintele de natura cantitativa (lichiditate crescuta, capitalizare mai ridicata) prezenta pe piata a fondurilor de pensii va determina si modificari de natura calitativ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Principalele modificari de natura calitativ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diversificarea gamei de instrumente financiare disponibile pe piata (inovatia financiara)</a:t>
            </a:r>
            <a:r>
              <a:rPr b="1" lang="en-US" sz="1800" spc="-1" strike="noStrike">
                <a:solidFill>
                  <a:srgbClr val="303092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 algn="just">
              <a:lnSpc>
                <a:spcPct val="90000"/>
              </a:lnSpc>
              <a:spcBef>
                <a:spcPts val="400"/>
              </a:spcBef>
              <a:buClr>
                <a:srgbClr val="303092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92"/>
                </a:solidFill>
                <a:latin typeface="Times New Roman"/>
              </a:rPr>
              <a:t>in special a instrumentelor financiare care concura la o administrare eficienta a riscurilor (produsele derivat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modernizarea mecanismelor utilizate pe piata bursier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 algn="just">
              <a:spcBef>
                <a:spcPts val="400"/>
              </a:spcBef>
              <a:buClr>
                <a:srgbClr val="303092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short selling, imprumutul de actiuni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promovarea principiilor de guvernare corporativa</a:t>
            </a:r>
            <a:r>
              <a:rPr b="0" lang="en-GB" sz="18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 algn="just">
              <a:spcBef>
                <a:spcPts val="400"/>
              </a:spcBef>
              <a:buClr>
                <a:srgbClr val="303092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de regula, fondurile de pensii nu se implica direct in managementul companiilor, dar sunt extrem de exigente referitor la transparent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reducerea volatilitatii generale a pietei</a:t>
            </a:r>
            <a:r>
              <a:rPr b="0" lang="en-GB" sz="18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 algn="just">
              <a:spcBef>
                <a:spcPts val="400"/>
              </a:spcBef>
              <a:buClr>
                <a:srgbClr val="303092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datorita profilului lor de investitori pe termen mediu si lung fondurile de pensii sunt inclinate catre analiza fundamentala si reactioneaza mai putin la semnalele date de analiza tehnic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 algn="just">
              <a:spcBef>
                <a:spcPts val="400"/>
              </a:spcBef>
              <a:buClr>
                <a:srgbClr val="303092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3520" y="146124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03092"/>
                </a:solidFill>
                <a:latin typeface="Times New Roman"/>
              </a:rPr>
              <a:t>EVOLUTIA INDICILOR BVB IN 20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14612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03092"/>
                </a:solidFill>
                <a:latin typeface="Times New Roman"/>
              </a:rPr>
              <a:t>BET vs. BUX &amp; WIG20 (in 200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001000" y="76320"/>
            <a:ext cx="1066680" cy="91440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457200" y="380880"/>
            <a:ext cx="6476760" cy="838080"/>
            <a:chOff x="457200" y="380880"/>
            <a:chExt cx="6476760" cy="838080"/>
          </a:xfrm>
        </p:grpSpPr>
        <p:sp>
          <p:nvSpPr>
            <p:cNvPr id="135" name=""/>
            <p:cNvSpPr/>
            <p:nvPr/>
          </p:nvSpPr>
          <p:spPr>
            <a:xfrm>
              <a:off x="820080" y="479160"/>
              <a:ext cx="374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03092"/>
                  </a:solidFill>
                  <a:latin typeface="Arial"/>
                </a:rPr>
                <a:t>INDICII PIETELOR BURSIE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457200" y="380880"/>
              <a:ext cx="6476760" cy="838080"/>
              <a:chOff x="457200" y="380880"/>
              <a:chExt cx="6476760" cy="838080"/>
            </a:xfrm>
          </p:grpSpPr>
          <p:sp>
            <p:nvSpPr>
              <p:cNvPr id="137" name=""/>
              <p:cNvSpPr/>
              <p:nvPr/>
            </p:nvSpPr>
            <p:spPr>
              <a:xfrm>
                <a:off x="457200" y="914040"/>
                <a:ext cx="6476760" cy="0"/>
              </a:xfrm>
              <a:prstGeom prst="line">
                <a:avLst/>
              </a:prstGeom>
              <a:ln w="381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1760" y="380880"/>
                <a:ext cx="0" cy="838080"/>
              </a:xfrm>
              <a:prstGeom prst="line">
                <a:avLst/>
              </a:prstGeom>
              <a:ln w="507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39" name=""/>
          <p:cNvGraphicFramePr/>
          <p:nvPr/>
        </p:nvGraphicFramePr>
        <p:xfrm>
          <a:off x="0" y="1819440"/>
          <a:ext cx="4343400" cy="5038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19440"/>
                    <a:ext cx="4343400" cy="50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4495680" y="1828800"/>
          <a:ext cx="4343400" cy="50292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95680" y="1828800"/>
                    <a:ext cx="4343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371600" y="2635920"/>
            <a:ext cx="12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092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2665800"/>
            <a:ext cx="12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092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001000" y="76320"/>
            <a:ext cx="1066680" cy="91440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457200" y="380880"/>
            <a:ext cx="6476760" cy="838080"/>
            <a:chOff x="457200" y="380880"/>
            <a:chExt cx="6476760" cy="838080"/>
          </a:xfrm>
        </p:grpSpPr>
        <p:sp>
          <p:nvSpPr>
            <p:cNvPr id="147" name=""/>
            <p:cNvSpPr/>
            <p:nvPr/>
          </p:nvSpPr>
          <p:spPr>
            <a:xfrm>
              <a:off x="820800" y="479160"/>
              <a:ext cx="467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03092"/>
                  </a:solidFill>
                  <a:latin typeface="Arial"/>
                </a:rPr>
                <a:t>LICHIDITATEA PIETELOR BURSIE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457200" y="380880"/>
              <a:ext cx="6476760" cy="838080"/>
              <a:chOff x="457200" y="380880"/>
              <a:chExt cx="6476760" cy="838080"/>
            </a:xfrm>
          </p:grpSpPr>
          <p:sp>
            <p:nvSpPr>
              <p:cNvPr id="149" name=""/>
              <p:cNvSpPr/>
              <p:nvPr/>
            </p:nvSpPr>
            <p:spPr>
              <a:xfrm>
                <a:off x="457200" y="914040"/>
                <a:ext cx="6476760" cy="0"/>
              </a:xfrm>
              <a:prstGeom prst="line">
                <a:avLst/>
              </a:prstGeom>
              <a:ln w="381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61760" y="380880"/>
                <a:ext cx="0" cy="838080"/>
              </a:xfrm>
              <a:prstGeom prst="line">
                <a:avLst/>
              </a:prstGeom>
              <a:ln w="507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51" name=""/>
          <p:cNvGraphicFramePr/>
          <p:nvPr/>
        </p:nvGraphicFramePr>
        <p:xfrm>
          <a:off x="762120" y="1981080"/>
          <a:ext cx="7315200" cy="3581640"/>
        </p:xfrm>
        <a:graphic>
          <a:graphicData uri="http://schemas.openxmlformats.org/drawingml/2006/table">
            <a:tbl>
              <a:tblPr/>
              <a:tblGrid>
                <a:gridCol w="1179360"/>
                <a:gridCol w="954000"/>
                <a:gridCol w="1371600"/>
                <a:gridCol w="1828800"/>
                <a:gridCol w="1981440"/>
              </a:tblGrid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03092"/>
                          </a:solidFill>
                          <a:latin typeface="Arial"/>
                          <a:ea typeface="Arial"/>
                        </a:rPr>
                        <a:t>Bur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03092"/>
                          </a:solidFill>
                          <a:latin typeface="Arial"/>
                          <a:ea typeface="Arial"/>
                        </a:rPr>
                        <a:t>Variatia lunara a indicil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03092"/>
                          </a:solidFill>
                          <a:latin typeface="Arial"/>
                          <a:ea typeface="Arial"/>
                        </a:rPr>
                        <a:t>(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03092"/>
                          </a:solidFill>
                          <a:latin typeface="Arial"/>
                          <a:ea typeface="Arial"/>
                        </a:rPr>
                        <a:t>Turnover_200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03092"/>
                          </a:solidFill>
                          <a:latin typeface="Arial"/>
                          <a:ea typeface="Arial"/>
                        </a:rPr>
                        <a:t>Medie zilnic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03092"/>
                          </a:solidFill>
                          <a:latin typeface="Arial"/>
                          <a:ea typeface="Arial"/>
                        </a:rPr>
                        <a:t>(mil. EUR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03092"/>
                          </a:solidFill>
                          <a:latin typeface="Arial"/>
                          <a:ea typeface="Arial"/>
                        </a:rPr>
                        <a:t>Turnover_Ian 20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03092"/>
                          </a:solidFill>
                          <a:latin typeface="Arial"/>
                          <a:ea typeface="Arial"/>
                        </a:rPr>
                        <a:t>medie_zilnic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03092"/>
                          </a:solidFill>
                          <a:latin typeface="Arial"/>
                          <a:ea typeface="Arial"/>
                        </a:rPr>
                        <a:t>(mil. EUR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03092"/>
                          </a:solidFill>
                          <a:latin typeface="Arial"/>
                          <a:ea typeface="Arial"/>
                        </a:rPr>
                        <a:t>Variatia valorii medii zilnice de tranzactionare in ianuarie 200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03092"/>
                          </a:solidFill>
                          <a:latin typeface="Arial"/>
                          <a:ea typeface="Arial"/>
                        </a:rPr>
                        <a:t>fata de media anului 20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03092"/>
                          </a:solidFill>
                          <a:latin typeface="Arial"/>
                          <a:ea typeface="Arial"/>
                        </a:rPr>
                        <a:t>(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33"/>
                          </a:solidFill>
                          <a:latin typeface="Arial"/>
                          <a:ea typeface="Arial"/>
                        </a:rPr>
                        <a:t>Bulgar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33"/>
                          </a:solidFill>
                          <a:latin typeface="Arial"/>
                          <a:ea typeface="Arial"/>
                        </a:rPr>
                        <a:t>-20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33"/>
                          </a:solidFill>
                          <a:latin typeface="Arial"/>
                          <a:ea typeface="Arial"/>
                        </a:rPr>
                        <a:t>18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33"/>
                          </a:solidFill>
                          <a:latin typeface="Arial"/>
                          <a:ea typeface="Arial"/>
                        </a:rPr>
                        <a:t>9.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33"/>
                          </a:solidFill>
                          <a:latin typeface="Arial"/>
                          <a:ea typeface="Arial"/>
                        </a:rPr>
                        <a:t>-49.8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33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33"/>
                          </a:solidFill>
                          <a:latin typeface="Arial"/>
                          <a:ea typeface="Arial"/>
                        </a:rPr>
                        <a:t>-23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33"/>
                          </a:solidFill>
                          <a:latin typeface="Arial"/>
                          <a:ea typeface="Arial"/>
                        </a:rPr>
                        <a:t>21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33"/>
                          </a:solidFill>
                          <a:latin typeface="Arial"/>
                          <a:ea typeface="Arial"/>
                        </a:rPr>
                        <a:t>13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33"/>
                          </a:solidFill>
                          <a:latin typeface="Arial"/>
                          <a:ea typeface="Arial"/>
                        </a:rPr>
                        <a:t>-40.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03092"/>
                          </a:solidFill>
                          <a:latin typeface="Arial"/>
                          <a:ea typeface="Arial"/>
                        </a:rPr>
                        <a:t>Ungar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03092"/>
                          </a:solidFill>
                          <a:latin typeface="Arial"/>
                          <a:ea typeface="Arial"/>
                        </a:rPr>
                        <a:t>-10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03092"/>
                          </a:solidFill>
                          <a:latin typeface="Arial"/>
                          <a:ea typeface="Arial"/>
                        </a:rPr>
                        <a:t>138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03092"/>
                          </a:solidFill>
                          <a:latin typeface="Arial"/>
                          <a:ea typeface="Arial"/>
                        </a:rPr>
                        <a:t>122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03092"/>
                          </a:solidFill>
                          <a:latin typeface="Arial"/>
                          <a:ea typeface="Arial"/>
                        </a:rPr>
                        <a:t>-11.4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Polon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-14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55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93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+14.8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Ceh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-17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46.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22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+51.8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533520" y="1431720"/>
            <a:ext cx="76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092"/>
                </a:solidFill>
                <a:latin typeface="Times New Roman"/>
              </a:rPr>
              <a:t>EVOLUTIA LICHIDITATII PIETELOR BURSIERE IN LUNA IANUARIE 200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5882400"/>
            <a:ext cx="7619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03092"/>
                </a:solidFill>
                <a:latin typeface="Times New Roman"/>
              </a:rPr>
              <a:t>Prezenta mai activa pe piata bursiera a investitorilor institutionali locali (asa cum sunt fondurile private de pensii) a facut ca lichiditatea generala a pietelor din Ungaria, Cehia sau Polonia sa aiba mai putin de suferit in luna ianuarie a anului 2008 (</a:t>
            </a:r>
            <a:r>
              <a:rPr b="1" i="1" lang="en-US" sz="1200" spc="-1" strike="noStrike">
                <a:solidFill>
                  <a:srgbClr val="303092"/>
                </a:solidFill>
                <a:latin typeface="Times New Roman"/>
              </a:rPr>
              <a:t>chiar si in in conditiile turbulentelor de la nivel international</a:t>
            </a:r>
            <a:r>
              <a:rPr b="1" lang="en-US" sz="1200" spc="-1" strike="noStrike">
                <a:solidFill>
                  <a:srgbClr val="303092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001000" y="7632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57200" y="380880"/>
            <a:ext cx="6673680" cy="838080"/>
            <a:chOff x="457200" y="380880"/>
            <a:chExt cx="6673680" cy="838080"/>
          </a:xfrm>
        </p:grpSpPr>
        <p:sp>
          <p:nvSpPr>
            <p:cNvPr id="157" name=""/>
            <p:cNvSpPr/>
            <p:nvPr/>
          </p:nvSpPr>
          <p:spPr>
            <a:xfrm>
              <a:off x="820800" y="479160"/>
              <a:ext cx="631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03092"/>
                  </a:solidFill>
                  <a:latin typeface="Arial"/>
                </a:rPr>
                <a:t>REFORMA SISTEMULUI DE PENSII IN TARILE CE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457200" y="380880"/>
              <a:ext cx="6476760" cy="838080"/>
              <a:chOff x="457200" y="380880"/>
              <a:chExt cx="6476760" cy="838080"/>
            </a:xfrm>
          </p:grpSpPr>
          <p:sp>
            <p:nvSpPr>
              <p:cNvPr id="159" name=""/>
              <p:cNvSpPr/>
              <p:nvPr/>
            </p:nvSpPr>
            <p:spPr>
              <a:xfrm>
                <a:off x="457200" y="914040"/>
                <a:ext cx="6476760" cy="0"/>
              </a:xfrm>
              <a:prstGeom prst="line">
                <a:avLst/>
              </a:prstGeom>
              <a:ln w="381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61760" y="380880"/>
                <a:ext cx="0" cy="838080"/>
              </a:xfrm>
              <a:prstGeom prst="line">
                <a:avLst/>
              </a:prstGeom>
              <a:ln w="507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1" name=""/>
          <p:cNvSpPr/>
          <p:nvPr/>
        </p:nvSpPr>
        <p:spPr>
          <a:xfrm>
            <a:off x="60948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Experienta altor tari din regiune confirma relatia dintre reforma sistemului de pensii – dezvoltarea pietei de capit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Ungari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in anul 1998 este adoptat un nou sistem de pensii (</a:t>
            </a: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multi-pillar system), cu finantare mixt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valoarea medie zilnica a tranzactiilor pe piata bursiera ungara se situeaza in 2007 la aproape 140 milioane eur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la Budapest Stock Exchange se tranzactioneaza actiuni, obligatiuni, contracte futures, contracte options, ET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Poloni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Times New Roman"/>
                <a:ea typeface="Times New Roman"/>
              </a:rPr>
              <a:t>in anul 1999 se realizeaza o reforma fundamentala a sistemului de pensii</a:t>
            </a: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valoarea medie zilnica a tranzactiilor pe piata bursiera poloneza se situa in 2007 la peste 250 milioane eur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la Warsaw Stock Exchange se tranzactioneaza actiuni, obligatiuni, contracte futures, contracte options, warrante, ETF, produse structur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 algn="just">
              <a:spcBef>
                <a:spcPts val="451"/>
              </a:spcBef>
              <a:buClr>
                <a:srgbClr val="303092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6T11:56:52Z</dcterms:created>
  <dc:creator>Marchidann Elena</dc:creator>
  <dc:description/>
  <dc:language>en-US</dc:language>
  <cp:lastModifiedBy>MARIAN</cp:lastModifiedBy>
  <cp:lastPrinted>2003-06-25T07:30:40Z</cp:lastPrinted>
  <dcterms:modified xsi:type="dcterms:W3CDTF">2008-03-11T01:21:46Z</dcterms:modified>
  <cp:revision>2661</cp:revision>
  <dc:subject/>
  <dc:title>No Slide Title</dc:title>
</cp:coreProperties>
</file>