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F21-F5F8-4E46-B2FC-51A94280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17D-21B6-4299-9426-5092B1AB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C9D-CBE0-4C48-A68C-0B12D93D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ED3-FCE4-41DB-BF52-CD8871C6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40B-250B-40BF-AA6D-7EC3F9B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C0A-0363-424B-8173-79C1CB91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969-54BE-4DCD-993B-DF87AC6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818-5C10-4DCF-B0B5-78AD6574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D79-FF66-41EC-92B9-EE21D3E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21C-DE05-4A3C-945A-D95705E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75E-FD28-4FCB-AC36-BDE7015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F28-085B-4E52-9E43-C03BF7B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1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dalacra.files.wordpress.com/2007/10/atentie1.jp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5240" y="1189080"/>
            <a:ext cx="806472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ilonii Pilonului II </a:t>
            </a: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area campanie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-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120" y="4408560"/>
            <a:ext cx="352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ona DI</a:t>
            </a: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ŢESCU, Director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BCR Administrare Fond de Pensi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antiile sistemului de pensii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ceasta reforma este reglementata si supravegheata de catre Comisia de Supraveghere a Sistemului de Pensii Private (CSSPP), a carei activitate este reglementata de catre Parlamentul Romani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dul de garantare a pensiilor - fondul infiintat din contributii ale administratorilor şi ale furnizorilor de pensii, avand scopul de a proteja drepturile participantilor şi beneficiarilor, dupa caz, dobandite in cadrul sistemului de pensii administrate privat, reglementat si supravegheat de Comisi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Un fond de pensii nu poate fi declarat în stare de faliment.</a:t>
            </a:r>
            <a:r>
              <a:rPr b="0" lang="ro-RO" sz="1800" spc="-1" strike="noStrike">
                <a:solidFill>
                  <a:srgbClr val="003366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G</a:t>
            </a:r>
            <a:r>
              <a:rPr b="0" lang="ro-RO" sz="1800" spc="-1" strike="noStrike">
                <a:solidFill>
                  <a:srgbClr val="003366"/>
                </a:solidFill>
                <a:latin typeface="Arial"/>
                <a:ea typeface="굴림"/>
              </a:rPr>
              <a:t>arantia rentabilitatii relativa la piata – in cazul in care rata de rentabilitate a unui fond de pensii private este mai mica decat rata de rentabilitate minima a tuturor fondurilor de pensii din Romania timp de 4 trimestre consecutive, CSSPP retrage autorizatia de administrare, aplicand procedura de administrare special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 </a:t>
            </a:r>
            <a:r>
              <a:rPr b="0" lang="ro-RO" sz="1800" spc="-1" strike="noStrike">
                <a:solidFill>
                  <a:srgbClr val="003366"/>
                </a:solidFill>
                <a:latin typeface="Arial"/>
                <a:ea typeface="굴림"/>
              </a:rPr>
              <a:t>(modul de calcul nu este definit de CSSPP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44792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25146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41148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rea campaniei din 200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lonul II: 2008 -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5280" y="1188000"/>
            <a:ext cx="702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e mai participa in sistem incepand cu 200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5360" y="4594680"/>
            <a:ext cx="4032360" cy="71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ii care au aderat deja dar doresc transferul la alt 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930040"/>
            <a:ext cx="415620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anele angajate cu varsta cuprinsa intre 35-45 ani care nu au aderat la un fond de pensii in perioada campan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21320" y="1755000"/>
            <a:ext cx="4002120" cy="1015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anele pana in 35 de ani angajate pentru prim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720" y="1786680"/>
            <a:ext cx="3319560" cy="736200"/>
          </a:xfrm>
          <a:custGeom>
            <a:avLst/>
            <a:gdLst>
              <a:gd name="textAreaLeft" fmla="*/ 518400 w 3319560"/>
              <a:gd name="textAreaRight" fmla="*/ 2904840 w 331956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BLIGATOR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43520" y="3156840"/>
            <a:ext cx="1782720" cy="736200"/>
          </a:xfrm>
          <a:custGeom>
            <a:avLst/>
            <a:gdLst>
              <a:gd name="textAreaLeft" fmla="*/ 222840 w 1782720"/>
              <a:gd name="textAreaRight" fmla="*/ 1559880 w 178272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79800" y="4436280"/>
            <a:ext cx="1782720" cy="736200"/>
          </a:xfrm>
          <a:custGeom>
            <a:avLst/>
            <a:gdLst>
              <a:gd name="textAreaLeft" fmla="*/ 222840 w 1782720"/>
              <a:gd name="textAreaRight" fmla="*/ 1559880 w 178272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rea campaniei din 200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ul angajato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9360" y="3940920"/>
            <a:ext cx="909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ajatorul are un rol important in consilierea categoriei de angajati de mai 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3560" y="4530240"/>
            <a:ext cx="4002120" cy="1015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anele pana in 35 de ani angajate pentru prim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35360"/>
            <a:ext cx="834732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orm proiectului de norma care reglementeaza aderarea continu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ajatii care se afla la primul loc de munca au la dispozitie 4 luni in care sa-si manifeste optiunea pentru un anume fond de pens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zul in care nu-si exercita optiunea acestia vor fi repartizati aleatoriu catre unul din fondurile de pensii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76680" y="3300480"/>
            <a:ext cx="766800" cy="704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6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rea campaniei d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e acest proces de aderare reversib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163548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ata aderati, participantii nu au dreptul sa se retraga din sistemul de pensii administrat pri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ii se pot transfera de la un fond de pensii administr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 la altul trimestrial, în cursu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ilor februarie, mai, august şi noiembrie ale fiecărui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9440" y="4389480"/>
            <a:ext cx="7162560" cy="580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 derogare de la prevederile alin.(1)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din norma CSSPP nr. 3/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rim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ă de procesare de către CNPAS 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erilor de transfer este august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5520" y="1765440"/>
            <a:ext cx="366840" cy="214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19240" y="2981160"/>
            <a:ext cx="366480" cy="214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20689200">
            <a:off x="1080" y="4037760"/>
            <a:ext cx="1959120" cy="1287360"/>
          </a:xfrm>
          <a:prstGeom prst="irregularSeal2">
            <a:avLst/>
          </a:prstGeom>
          <a:gradFill rotWithShape="0">
            <a:gsLst>
              <a:gs pos="0">
                <a:srgbClr val="bbe0e3"/>
              </a:gs>
              <a:gs pos="100000">
                <a:srgbClr val="ff3300"/>
              </a:gs>
            </a:gsLst>
            <a:lin ang="90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Excep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CR Administrare Fond de Pen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ema de pen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36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5520" y="868320"/>
          <a:ext cx="8988480" cy="428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20" y="868320"/>
                    <a:ext cx="89884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76280" y="4900680"/>
            <a:ext cx="8153280" cy="82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CR FOND DE PENSII ADMINISTRAT PRIVAT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are grad de risc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D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84040" y="4965840"/>
            <a:ext cx="1216080" cy="59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84040" y="4068720"/>
            <a:ext cx="1150920" cy="704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040" y="3365640"/>
            <a:ext cx="1150920" cy="61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84040" y="2597040"/>
            <a:ext cx="1216080" cy="70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97000" y="2058840"/>
            <a:ext cx="115092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84040" y="1508040"/>
            <a:ext cx="115092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atie Pilon II in 11 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228600" y="1143000"/>
          <a:ext cx="8631360" cy="4419720"/>
        </p:xfrm>
        <a:graphic>
          <a:graphicData uri="http://schemas.openxmlformats.org/drawingml/2006/table">
            <a:tbl>
              <a:tblPr/>
              <a:tblGrid>
                <a:gridCol w="1316160"/>
                <a:gridCol w="1373040"/>
                <a:gridCol w="3300480"/>
                <a:gridCol w="1425600"/>
                <a:gridCol w="121608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ibut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a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Polon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ersoane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persoane int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si 50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-15% (2002-20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Ungar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entru nou intratii in campul muncii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entru ceilalti angaj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(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Bulg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pation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ntru meserii cu grad  ridicat de risc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obligatoriu cei cu varsta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ani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omentul lansarii (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8% (20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Slova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Nou angajatii si liberii profesionisti inrolati auto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angajatii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n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   10%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entru nou angajati dar si pentru angajatii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an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la lans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ersoane cu varste int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si 40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toti angajatii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ni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omentul lansarii (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angajatii int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si 50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101680" y="41720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10480" y="685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8093160" y="165240"/>
            <a:ext cx="412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9240" y="4516560"/>
            <a:ext cx="1023840" cy="579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0680" y="3300480"/>
            <a:ext cx="1023840" cy="660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20680" y="2532240"/>
            <a:ext cx="1023840" cy="64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31840" y="4197240"/>
            <a:ext cx="1011240" cy="276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19240" y="1700280"/>
            <a:ext cx="1023840" cy="636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atie Pilon II in 11 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95120" y="1123920"/>
          <a:ext cx="8796240" cy="4024440"/>
        </p:xfrm>
        <a:graphic>
          <a:graphicData uri="http://schemas.openxmlformats.org/drawingml/2006/table">
            <a:tbl>
              <a:tblPr/>
              <a:tblGrid>
                <a:gridCol w="1052280"/>
                <a:gridCol w="1150920"/>
                <a:gridCol w="3841920"/>
                <a:gridCol w="1535040"/>
                <a:gridCol w="1216080"/>
              </a:tblGrid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ibut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. Administ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a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cfca2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toti angajatii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a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omentul lansar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angajatii int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si 60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ultativ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au scheme de pens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pationale obligator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ii ocupationale suplimentare, obligatorii pentru anumite sectoare, facultativ pentru altele, cu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D</a:t>
                      </a: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83676"/>
                          </a:solidFill>
                          <a:latin typeface="Arial"/>
                        </a:rPr>
                        <a:t>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ecare salariat, poate alege da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 ramana in sistemul public de pensii sau sa vire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a de 10%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 venit pe care oricum o datora statului intr-un sistem privat de administra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u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ultativ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Lansat in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   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u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persoanele &lt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ţional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persoanele varsta cu într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şi 45  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743120" y="4799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10480" y="685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8093160" y="165240"/>
            <a:ext cx="412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7960" y="76320"/>
            <a:ext cx="6807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040" y="355752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040" y="534996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040" y="426096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6840" y="1252440"/>
            <a:ext cx="814716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676"/>
                </a:solidFill>
                <a:latin typeface="Arial"/>
                <a:ea typeface="굴림"/>
              </a:rPr>
              <a:t>Pilonii pilonului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Contributiile participan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Randamentul investit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83676"/>
                </a:solidFill>
                <a:latin typeface="Arial"/>
                <a:ea typeface="굴림"/>
              </a:rPr>
              <a:t>Garantiile siste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676"/>
                </a:solidFill>
                <a:latin typeface="Arial"/>
                <a:ea typeface="굴림"/>
              </a:rPr>
              <a:t>Continuarea campaniei</a:t>
            </a:r>
            <a:r>
              <a:rPr b="1" lang="en-US" sz="24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676"/>
                </a:solidFill>
                <a:latin typeface="Arial"/>
                <a:ea typeface="굴림"/>
              </a:rPr>
              <a:t>Politica Investitionala BCR Administrare Fond de Pen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676"/>
                </a:solidFill>
                <a:latin typeface="Arial"/>
                <a:ea typeface="굴림"/>
              </a:rPr>
              <a:t>Caracteristici pensii private obligatorii (pilon II) in alte 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08240" y="240516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08240" y="189216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08240" y="298116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3809880"/>
            <a:ext cx="8763120" cy="1600200"/>
          </a:xfrm>
          <a:prstGeom prst="bevel">
            <a:avLst>
              <a:gd name="adj" fmla="val 8991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lonul II in Romania – contributiile participantului - caracteris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3880"/>
            <a:ext cx="8458200" cy="43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Pana i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n prezent: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asiguratul plateste 9,5% din salariul brut la sistemul  de asigurari sociale (CA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D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upa subscriere (2008): 2% din salariul brut se vireaza la un fond de pensii privat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     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     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7,5% din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salariul brut se vireaza la CAS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I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n urmatorii 8 ani: contributie la fondul privat creste cu 0,5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anual pana la 6% din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             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salariul brut lun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plata contributie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* angajatorul vireaza contributia de 9,5% catre institutia de colectare (ANAF)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* institutia de colectare transfera (in maximum 3 zile) cota de 2% in contul 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fondului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 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de pensii deschis la banca depozita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343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77840" y="1600200"/>
            <a:ext cx="190440" cy="190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03040" y="2298600"/>
            <a:ext cx="190800" cy="190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03040" y="2819520"/>
            <a:ext cx="190800" cy="190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ibutii in sistemul de pensii privat obligato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72" name="DownRibbonSharp"/>
          <p:cNvSpPr/>
          <p:nvPr/>
        </p:nvSpPr>
        <p:spPr>
          <a:xfrm>
            <a:off x="0" y="5105520"/>
            <a:ext cx="8991720" cy="914400"/>
          </a:xfrm>
          <a:custGeom>
            <a:avLst/>
            <a:gdLst>
              <a:gd name="textAreaLeft" fmla="*/ 1219320 w 8991720"/>
              <a:gd name="textAreaRight" fmla="*/ 7772400 w 899172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29" y="0"/>
                </a:lnTo>
                <a:lnTo>
                  <a:pt x="5629" y="2700"/>
                </a:lnTo>
                <a:lnTo>
                  <a:pt x="15971" y="2700"/>
                </a:lnTo>
                <a:lnTo>
                  <a:pt x="15971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671" y="18900"/>
                </a:lnTo>
                <a:lnTo>
                  <a:pt x="18671" y="21600"/>
                </a:lnTo>
                <a:lnTo>
                  <a:pt x="2929" y="21600"/>
                </a:lnTo>
                <a:lnTo>
                  <a:pt x="2929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629" y="2700"/>
                </a:moveTo>
                <a:lnTo>
                  <a:pt x="2929" y="2700"/>
                </a:lnTo>
                <a:lnTo>
                  <a:pt x="2929" y="18900"/>
                </a:lnTo>
              </a:path>
              <a:path fill="none" w="21600" h="21600">
                <a:moveTo>
                  <a:pt x="2929" y="2700"/>
                </a:moveTo>
                <a:lnTo>
                  <a:pt x="5629" y="0"/>
                </a:lnTo>
              </a:path>
              <a:path fill="none" w="21600" h="21600">
                <a:moveTo>
                  <a:pt x="15971" y="2700"/>
                </a:moveTo>
                <a:lnTo>
                  <a:pt x="18671" y="2700"/>
                </a:lnTo>
                <a:lnTo>
                  <a:pt x="18671" y="18900"/>
                </a:lnTo>
              </a:path>
              <a:path fill="none" w="21600" h="21600">
                <a:moveTo>
                  <a:pt x="18671" y="2700"/>
                </a:moveTo>
                <a:lnTo>
                  <a:pt x="15971" y="0"/>
                </a:ln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În termen de 8 ani de la începerea colectării, cota de contribuţie se majorează la 6%, cu o creştere de 0,5 puncte procentuale pe an, începând cu data de 1 ianuarie a fiecărui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996840"/>
          <a:ext cx="8064720" cy="396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996840"/>
                    <a:ext cx="806472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1447920"/>
            <a:ext cx="8305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f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iecare participant are un cont individual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t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oate contributiile si transferurile se vor vira in contul sau individual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p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articipantul este proprietarul activului personal din contul sa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a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ctivul personal (contul) nu poate face obiectul unei executari silite, nu poate fi cesionat, gajat sau folosit in alte scopur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v</a:t>
            </a:r>
            <a:r>
              <a:rPr b="1" lang="ro-RO" sz="1600" spc="-1" strike="noStrike">
                <a:solidFill>
                  <a:srgbClr val="083676"/>
                </a:solidFill>
                <a:latin typeface="Arial"/>
              </a:rPr>
              <a:t>aloarea neta a contului (total contributii virate – taxele de adiministrare) se converteste in unitati de fond  (pentru inceput: 1 unitate de fond  = 10 RON)</a:t>
            </a:r>
            <a:r>
              <a:rPr b="1" lang="en-US" sz="1600" spc="-1" strike="noStrike">
                <a:solidFill>
                  <a:srgbClr val="083676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ul participan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286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286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286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tici Investitionale si randamen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3360" y="1440720"/>
            <a:ext cx="8076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Activele fondului de pensii se investesc in scopul maximizarii veniturilor, in interesul exclusiv al participan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Politica de investitii trebuie sa asig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- </a:t>
            </a: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administrarea prudenta a activelor fondului de pensi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- </a:t>
            </a: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obtinerea unor randamente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bune</a:t>
            </a: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 cu volatilitate scazut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- </a:t>
            </a: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calitatea active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- </a:t>
            </a: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diminuarea riscurilor investi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Instrument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굴림"/>
              </a:rPr>
              <a:t>le investitionale </a:t>
            </a:r>
            <a:r>
              <a:rPr b="1" lang="ro-RO" sz="1600" spc="-1" strike="noStrike">
                <a:solidFill>
                  <a:srgbClr val="003366"/>
                </a:solidFill>
                <a:latin typeface="Arial"/>
              </a:rPr>
              <a:t>sunt reglementate prin 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520" y="150804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318643"/>
                <a:lnTo>
                  <a:pt x="13817" y="21152"/>
                </a:lnTo>
                <a:lnTo>
                  <a:pt x="21600" y="16391"/>
                </a:lnTo>
                <a:lnTo>
                  <a:pt x="13817" y="10734"/>
                </a:lnTo>
                <a:lnTo>
                  <a:pt x="13817" y="12894"/>
                </a:lnTo>
                <a:arcTo wR="21600" hR="6671" stAng="8481357" swAng="1777572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240" y="234144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318643"/>
                <a:lnTo>
                  <a:pt x="13817" y="21152"/>
                </a:lnTo>
                <a:lnTo>
                  <a:pt x="21600" y="16391"/>
                </a:lnTo>
                <a:lnTo>
                  <a:pt x="13817" y="10734"/>
                </a:lnTo>
                <a:lnTo>
                  <a:pt x="13817" y="12894"/>
                </a:lnTo>
                <a:arcTo wR="21600" hR="6671" stAng="8481357" swAng="1777572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240" y="400536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58680 h 380880"/>
              <a:gd name="textAreaBottom" fmla="*/ 284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318643"/>
                <a:lnTo>
                  <a:pt x="13817" y="21152"/>
                </a:lnTo>
                <a:lnTo>
                  <a:pt x="21600" y="16391"/>
                </a:lnTo>
                <a:lnTo>
                  <a:pt x="13817" y="10734"/>
                </a:lnTo>
                <a:lnTo>
                  <a:pt x="13817" y="12894"/>
                </a:lnTo>
                <a:arcTo wR="21600" hR="6671" stAng="8481357" swAng="1777572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tici Investitionale si randamen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4040" y="1380960"/>
            <a:ext cx="3903840" cy="3711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굴림"/>
              </a:rPr>
              <a:t>Sistemul de pensii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굴림"/>
              </a:rPr>
              <a:t>din Rom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aza jucatorii de pe piata la un nivel maxim de comisio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eaza nivele clare de investitii in functie de gradul de risc al activ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de tip contributii de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11360" y="1380600"/>
            <a:ext cx="3667320" cy="372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arantia minima la nivel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atei inflatiei ar conduce 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area in masura si mai mare a investitiilor, respec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inerea de ran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potentialul pie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0" y="2852640"/>
            <a:ext cx="831960" cy="639720"/>
          </a:xfrm>
          <a:prstGeom prst="rightArrow">
            <a:avLst>
              <a:gd name="adj1" fmla="val 50000"/>
              <a:gd name="adj2" fmla="val 325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mplu pensie lunara obtinuta din sistemul privat – randament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240" y="1060560"/>
            <a:ext cx="6016320" cy="454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35560" y="1258920"/>
            <a:ext cx="290844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 facut pe o perioada de acumulare de 35 de 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ament anual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tie salariu: 2,000 RON – 5,784 RON pe intreaga du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ranta de viata – 75 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nsia obtinuta in sistemul privat se adauga la cea din  sistemul exist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1120" y="5221440"/>
          <a:ext cx="3071880" cy="272880"/>
        </p:xfrm>
        <a:graphic>
          <a:graphicData uri="http://schemas.openxmlformats.org/drawingml/2006/table">
            <a:tbl>
              <a:tblPr/>
              <a:tblGrid>
                <a:gridCol w="1447920"/>
                <a:gridCol w="16239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ensie lun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ON            7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83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mplu pensie lunara obtinuta din sistemul privat – randament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34320" y="6095880"/>
            <a:ext cx="1828800" cy="300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00720" y="1123200"/>
            <a:ext cx="2843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 facut pe o perioada de acumulare de 35 de 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ament anual: 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tie salariu: 2,000 RON – 5,784 RON pe intreaga du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ranta de viata – 75 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nsia obtinuta in sistemul privat se adauga la cea din sistemul exist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240" y="1060560"/>
            <a:ext cx="6145200" cy="44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11120" y="5157720"/>
          <a:ext cx="3008520" cy="273240"/>
        </p:xfrm>
        <a:graphic>
          <a:graphicData uri="http://schemas.openxmlformats.org/drawingml/2006/table">
            <a:tbl>
              <a:tblPr/>
              <a:tblGrid>
                <a:gridCol w="1560600"/>
                <a:gridCol w="14479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ensie lun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o-RO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ON          7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a.Moisescu</cp:lastModifiedBy>
  <dcterms:modified xsi:type="dcterms:W3CDTF">2008-03-10T16:21:25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