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F8D16A-2828-4ECE-A706-88CD738BEE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EA3E16-31E8-4F16-A226-AD3BEE7BC1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pensions are less expensive and more power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the life insurance policies paid by the employer for its employee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ributions to a voluntary pension fund does not represent an advantag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Fiscal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xes paid by the employer for any benefit in kind equals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7 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enefit’s valu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ntributio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mploymen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s from the employ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ment refusal: The employers refuse to pay the employees’ individual contributions due to the fact that they do not know the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pproval of law: They do not approve the law that binds them to pay the individual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 work and supplementary costs: The voluntary pensions require extra work for the staff involved and additional costs, such as payment of the bank transfer com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funds: Employees may choose to sign with various funds from different administ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stantial differentiation of product rang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s a result of the private pension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ary pensions provide the opportunity to access all categories of clients (lower and middle income 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ed agents currently have the possibility to be financial consultants: offer a variety of financial products for all income catego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insurance market registered 18% real growth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arter 2007, below the growth pace of the non-life insurance =&gt; life insurance was sold with less effort, but focus was on 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stantial differentiation of product rang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s a result of the private pension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ary pensions provide the opportunity to access all categories of clients (lower and middle income 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ed agents currently have the possibility to be financial consultants: offer a variety of financial products for all income catego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insurance market registered 18% real growth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arter 2007, below the growth pace of the non-life insurance =&gt; life insurance was sold with less effort, but focus was on 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pensions are less expensive and more power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the life insurance policies paid by the employer for its employee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ributions to a voluntary pension fund does not represent an advantag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Fiscal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xes paid by the employer for any benefit in kind equals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7 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enefit’s valu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ntributio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mploymen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pensions are less expensive and more power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the life insurance policies paid by the employer for its employee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ributions to a voluntary pension fund does not represent an advantag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Fiscal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xes paid by the employer for any benefit in kind equals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7 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enefit’s valu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ntributio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mploymen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y Group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responding companies, 10 Domestic, 7 Joint ventures and 118 foreign owned. The vast majority of these companies are based in Bucharest. The sectors where the companies are present include: FMCG (fast moving consumer goods), insurance, banking, automotive, information technology, service, telecommunic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erence date for this survey is May,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responding companies contribute to a supplementary allowance for health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responding companies offer life, work and professional illnesses insurance to their employees, in 75% of companies it is a group insurance and in 25% it is an individual insurance. 3% of the companies which offer life, work and professional illnesses insurance extend the insurance coverage also to employees’ fami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% of responding companies contribute to employee’s voluntary pension funds and 58% of companies intend to offer contribution to voluntary pension fund as an above legal benefit for their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present ING ra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 terms of unit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 term of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 term of ass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G started in line with the envisaged market share at mid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end of 2007, BCR registered a pick in sales due to enrolment in P3 of all employees of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G stared to regain market share at the beginning of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3 market potential is just at its beginning, so there is high opportunity for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pensions are less expensive and more power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the life insurance policies paid by the employer for its employee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ributions to a voluntary pension fund does not represent an advantag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Fiscal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xes paid by the employer for any benefit in kind equals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7 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enefit’s valu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ntributio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mploymen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EA3A-92C0-4056-8648-FB101E1D7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8378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1360" y="3672720"/>
            <a:ext cx="8378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E947-73EE-493C-B43E-BA77FFCFE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1360" y="367272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734720" y="367272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EA4C-540F-4234-9BC3-B190C3331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74560" y="119016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7760" y="119016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41360" y="367272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74560" y="367272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07760" y="367272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6950-BCA9-46DB-9F4E-AEC8047E0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41360" y="1190160"/>
            <a:ext cx="8378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8378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91680" y="201960"/>
            <a:ext cx="8356680" cy="2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41360" y="367272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41360" y="1190160"/>
            <a:ext cx="8378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F27A-0497-4F41-B060-4E0C5A140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34720" y="367272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1360" y="3672720"/>
            <a:ext cx="8378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8378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1360" y="3672720"/>
            <a:ext cx="8378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1360" y="367272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34720" y="367272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74560" y="119016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07760" y="119016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1360" y="367272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74560" y="367272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07760" y="3672720"/>
            <a:ext cx="2697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8378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EBC8-7245-4ADB-9876-D7F0985E6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CDED-337F-4702-801B-E9BBC4D68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8B9F-A1BD-4EBE-8C40-C1A60C986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91680" y="201960"/>
            <a:ext cx="8356680" cy="2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C582-DF39-4AD7-9C8E-B4B2C49BA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1360" y="367272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69AF-42E8-4E2A-998F-0E8212FF5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34720" y="367272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E318-07BE-48FB-83C2-889AF686B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36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4720" y="1190160"/>
            <a:ext cx="408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1360" y="3672720"/>
            <a:ext cx="8378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8640-59D8-488D-96E2-94A431AA2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720800" y="6109200"/>
            <a:ext cx="1598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Do not put content </a:t>
            </a:r>
            <a:br>
              <a:rPr sz="1300"/>
            </a:b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on the brand signature area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41360" y="1190160"/>
            <a:ext cx="8378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27120" indent="-181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181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43160" indent="-176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f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704960" indent="-181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704960" indent="-181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704960" indent="-181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39760" y="6544800"/>
            <a:ext cx="3960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788cc8"/>
                </a:solidFill>
                <a:latin typeface="Times New Roman"/>
              </a:defRPr>
            </a:lvl1pPr>
          </a:lstStyle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88cc8"/>
                </a:solidFill>
                <a:latin typeface="Times New Roman"/>
              </a:rPr>
              <a:t>&lt;footer&gt;</a:t>
            </a:r>
            <a:r>
              <a:rPr b="0" lang="en-GB" sz="1000" spc="-1" strike="noStrike">
                <a:solidFill>
                  <a:srgbClr val="788cc8"/>
                </a:solidFill>
                <a:latin typeface="Times New Roman"/>
              </a:rPr>
              <a:t>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4354200" y="6544800"/>
            <a:ext cx="431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788c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BE61-F4D4-4D20-8DB9-CC766EDBC71F}" type="slidenum">
              <a:rPr b="0" lang="nl-NL" sz="1000" spc="-1" strike="noStrike">
                <a:solidFill>
                  <a:srgbClr val="788cc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91680" y="201960"/>
            <a:ext cx="8356680" cy="4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173640"/>
            <a:ext cx="8858160" cy="312840"/>
            <a:chOff x="0" y="6173640"/>
            <a:chExt cx="8858160" cy="31284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7926480" y="6173640"/>
              <a:ext cx="93168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0" y="6486480"/>
              <a:ext cx="8848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0" y="981000"/>
            <a:ext cx="9144000" cy="54000"/>
          </a:xfrm>
          <a:prstGeom prst="rect">
            <a:avLst/>
          </a:prstGeom>
          <a:solidFill>
            <a:srgbClr val="b4c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873000"/>
            <a:ext cx="9144000" cy="10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-987480" y="5964120"/>
            <a:ext cx="914400" cy="890640"/>
            <a:chOff x="-987480" y="5964120"/>
            <a:chExt cx="914400" cy="890640"/>
          </a:xfrm>
        </p:grpSpPr>
        <p:sp>
          <p:nvSpPr>
            <p:cNvPr id="11" name=""/>
            <p:cNvSpPr/>
            <p:nvPr/>
          </p:nvSpPr>
          <p:spPr>
            <a:xfrm>
              <a:off x="-987480" y="5964120"/>
              <a:ext cx="91440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987480" y="6854760"/>
              <a:ext cx="91440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9259920" y="5964120"/>
            <a:ext cx="914400" cy="890640"/>
            <a:chOff x="9259920" y="5964120"/>
            <a:chExt cx="914400" cy="890640"/>
          </a:xfrm>
        </p:grpSpPr>
        <p:sp>
          <p:nvSpPr>
            <p:cNvPr id="14" name=""/>
            <p:cNvSpPr/>
            <p:nvPr/>
          </p:nvSpPr>
          <p:spPr>
            <a:xfrm flipH="1">
              <a:off x="9259920" y="5964120"/>
              <a:ext cx="91440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9259920" y="6854760"/>
              <a:ext cx="91440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9325080" y="6109200"/>
            <a:ext cx="1598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Do not put content </a:t>
            </a:r>
            <a:br>
              <a:rPr sz="1300"/>
            </a:b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on the brand signature area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-2581200" y="0"/>
            <a:ext cx="2257200" cy="2990880"/>
            <a:chOff x="-2581200" y="0"/>
            <a:chExt cx="2257200" cy="2990880"/>
          </a:xfrm>
        </p:grpSpPr>
        <p:sp>
          <p:nvSpPr>
            <p:cNvPr id="18" name=""/>
            <p:cNvSpPr/>
            <p:nvPr/>
          </p:nvSpPr>
          <p:spPr>
            <a:xfrm>
              <a:off x="-2581200" y="714240"/>
              <a:ext cx="2257200" cy="2276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652320" y="1136520"/>
              <a:ext cx="215640" cy="21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2197080" y="1145520"/>
              <a:ext cx="14540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65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</a:rPr>
                <a:t>Orang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 algn="r">
                <a:lnSpc>
                  <a:spcPct val="65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</a:rPr>
                <a:t>RGB= 255,102,00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-652320" y="1571760"/>
              <a:ext cx="215640" cy="215640"/>
            </a:xfrm>
            <a:prstGeom prst="rect">
              <a:avLst/>
            </a:prstGeom>
            <a:solidFill>
              <a:srgbClr val="b4c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-2197080" y="1596240"/>
              <a:ext cx="14540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65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</a:rPr>
                <a:t>Light blu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 algn="r">
                <a:lnSpc>
                  <a:spcPct val="65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</a:rPr>
                <a:t>RGB= 180,195,22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-652320" y="2058840"/>
              <a:ext cx="21564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-2197080" y="2067840"/>
              <a:ext cx="14540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65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</a:rPr>
                <a:t>Dark blue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 algn="r">
                <a:lnSpc>
                  <a:spcPct val="65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</a:rPr>
                <a:t>RGB= 000,000,10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-652320" y="2527200"/>
              <a:ext cx="215640" cy="216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-2197080" y="2535840"/>
              <a:ext cx="14540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65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</a:rPr>
                <a:t>Grey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 algn="r">
                <a:lnSpc>
                  <a:spcPct val="65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</a:rPr>
                <a:t>RGB= 150,150,15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-2382840" y="812880"/>
              <a:ext cx="196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NG  colour balance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" name=""/>
            <p:cNvGrpSpPr/>
            <p:nvPr/>
          </p:nvGrpSpPr>
          <p:grpSpPr>
            <a:xfrm>
              <a:off x="-2581200" y="0"/>
              <a:ext cx="2257200" cy="689040"/>
              <a:chOff x="-2581200" y="0"/>
              <a:chExt cx="2257200" cy="689040"/>
            </a:xfrm>
          </p:grpSpPr>
          <p:sp>
            <p:nvSpPr>
              <p:cNvPr id="29" name=""/>
              <p:cNvSpPr/>
              <p:nvPr/>
            </p:nvSpPr>
            <p:spPr>
              <a:xfrm>
                <a:off x="-2581200" y="0"/>
                <a:ext cx="2257200" cy="68904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180000" tIns="180000" bIns="1800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-2505240" y="8640"/>
                <a:ext cx="20894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Guideline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nl-NL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www.ing-presentations.intranet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80000" bIns="1800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557440"/>
            <a:ext cx="9144000" cy="755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2640"/>
            <a:ext cx="9144000" cy="1512720"/>
          </a:xfrm>
          <a:prstGeom prst="rect">
            <a:avLst/>
          </a:prstGeom>
          <a:solidFill>
            <a:srgbClr val="b4c3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215120" y="5937120"/>
            <a:ext cx="1644840" cy="411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146600"/>
            <a:ext cx="7550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720800" y="5902560"/>
            <a:ext cx="1598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Do not put content </a:t>
            </a:r>
            <a:br>
              <a:rPr sz="1300"/>
            </a:b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on the brand signature area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987480" y="5603760"/>
            <a:ext cx="914400" cy="1251000"/>
            <a:chOff x="-987480" y="5603760"/>
            <a:chExt cx="914400" cy="1251000"/>
          </a:xfrm>
        </p:grpSpPr>
        <p:sp>
          <p:nvSpPr>
            <p:cNvPr id="74" name=""/>
            <p:cNvSpPr/>
            <p:nvPr/>
          </p:nvSpPr>
          <p:spPr>
            <a:xfrm>
              <a:off x="-987480" y="5603760"/>
              <a:ext cx="91440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-987480" y="6854760"/>
              <a:ext cx="91440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259920" y="5603760"/>
            <a:ext cx="914400" cy="1251000"/>
            <a:chOff x="9259920" y="5603760"/>
            <a:chExt cx="914400" cy="1251000"/>
          </a:xfrm>
        </p:grpSpPr>
        <p:sp>
          <p:nvSpPr>
            <p:cNvPr id="77" name=""/>
            <p:cNvSpPr/>
            <p:nvPr/>
          </p:nvSpPr>
          <p:spPr>
            <a:xfrm flipH="1">
              <a:off x="9259920" y="5603760"/>
              <a:ext cx="91440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259920" y="6854760"/>
              <a:ext cx="91440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9325080" y="5902560"/>
            <a:ext cx="1598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Do not put content </a:t>
            </a:r>
            <a:br>
              <a:rPr sz="1300"/>
            </a:b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on the brand signature area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486480"/>
            <a:ext cx="8864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38040" y="6224760"/>
            <a:ext cx="4003920" cy="128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164360" y="5910120"/>
            <a:ext cx="171936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04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06400"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9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166760"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fa"/>
              </a:buClr>
              <a:buSzPct val="9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523880"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523880">
              <a:spcBef>
                <a:spcPts val="4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523880">
              <a:spcBef>
                <a:spcPts val="4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radu.vasilescu@ing.ro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79280" y="48686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79280" y="783000"/>
            <a:ext cx="878544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Pensiile facultative: tendinte si oportunitati in 2008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4005360"/>
            <a:ext cx="41036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du Vasilescu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rector General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ING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nd de Pensi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1 Martie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 20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40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000066"/>
                </a:solidFill>
                <a:latin typeface="Arial"/>
              </a:rPr>
              <a:t>vantaje fisc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049400"/>
            <a:ext cx="8713800" cy="12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spcBef>
                <a:spcPts val="1250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66"/>
                </a:solidFill>
                <a:latin typeface="Arial"/>
              </a:rPr>
              <a:t>Sa luam ca exemplu 1.000 RON salariul lunar brut si echivalentul in lei a 200 de euro ca si contributie anuala pentru angajat la un fond de pensii facultative                         50 RON / lun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1520" y="2241720"/>
          <a:ext cx="8345520" cy="3879720"/>
        </p:xfrm>
        <a:graphic>
          <a:graphicData uri="http://schemas.openxmlformats.org/drawingml/2006/table">
            <a:tbl>
              <a:tblPr/>
              <a:tblGrid>
                <a:gridCol w="3048120"/>
                <a:gridCol w="2700000"/>
                <a:gridCol w="2597400"/>
              </a:tblGrid>
              <a:tr h="587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ributie la un fond de pensii facultativ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onus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nit impozabi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0 </a:t>
                      </a:r>
                      <a:r>
                        <a:rPr b="0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+ 50 </a:t>
                      </a: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= 1.05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ributii obligatorii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maj+sanatate+pensie=17%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8,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za impozab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0 – 170 </a:t>
                      </a:r>
                      <a:r>
                        <a:rPr b="0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– 50 </a:t>
                      </a: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= 78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50 – 178,5 = 871,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mpozit pe venit (16%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,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9,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stiguri nete primite de angaj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755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50 T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ngibili indirect</a:t>
                      </a:r>
                      <a:r>
                        <a:rPr b="0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705 T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ngibili direct</a:t>
                      </a:r>
                      <a:r>
                        <a:rPr b="0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(1.000 – 170 – 124,8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732</a:t>
                      </a:r>
                      <a:r>
                        <a:rPr b="0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(1.050 – 178,5 – 139,4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332080" y="1954080"/>
            <a:ext cx="604800" cy="163800"/>
          </a:xfrm>
          <a:prstGeom prst="rightArrow">
            <a:avLst>
              <a:gd name="adj1" fmla="val 50000"/>
              <a:gd name="adj2" fmla="val 92308"/>
            </a:avLst>
          </a:prstGeom>
          <a:solidFill>
            <a:srgbClr val="b4c3e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-97920" bIns="-9792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4A85-E2FB-4F5C-818D-40B7426DAF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403920"/>
            <a:ext cx="835668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66"/>
                </a:solidFill>
                <a:latin typeface="Arial"/>
              </a:rPr>
              <a:t>Exemplu – scutire de impozit pentru angaja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25360"/>
          <a:ext cx="4097160" cy="4817880"/>
        </p:xfrm>
        <a:graphic>
          <a:graphicData uri="http://schemas.openxmlformats.org/drawingml/2006/table">
            <a:tbl>
              <a:tblPr/>
              <a:tblGrid>
                <a:gridCol w="2977920"/>
                <a:gridCol w="1119240"/>
              </a:tblGrid>
              <a:tr h="1287000">
                <a:tc gridSpan="2"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Compania plateste </a:t>
                      </a:r>
                      <a:r>
                        <a:rPr b="1" lang="ro-RO" sz="14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bonusuri</a:t>
                      </a:r>
                      <a:r>
                        <a:rPr b="1" lang="ro-RO" sz="14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pentru angajat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100 angajat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onus anual pe angajat – 700 RON (~200 EURO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&amp;L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00 RON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nit total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e cheltuieli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 Bonusuri platite ca si salarii catre angajat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 Impozit pe salariu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eltuieli salariale cu bonusur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1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.2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1.2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eltuieli total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91.2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fit inainte de taxar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8.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mpozit pe profit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5.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fit dupa taxar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43.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427640" y="1125360"/>
          <a:ext cx="4105080" cy="4745160"/>
        </p:xfrm>
        <a:graphic>
          <a:graphicData uri="http://schemas.openxmlformats.org/drawingml/2006/table">
            <a:tbl>
              <a:tblPr/>
              <a:tblGrid>
                <a:gridCol w="2873160"/>
                <a:gridCol w="1231920"/>
              </a:tblGrid>
              <a:tr h="1211400">
                <a:tc gridSpan="2"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Compania contribuie pentru angajati la un </a:t>
                      </a:r>
                      <a:r>
                        <a:rPr b="1" lang="ro-RO" sz="14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fond de pensii facultativ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100 angajat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onus anual pe angajat– 700 RON (~200 EUR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8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&amp;L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00 RON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nit total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e cheltuiel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ributia pentru angajati la fondul de pensii facultativ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eltuieli total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fit inainte de taxar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mpozit pe profit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8.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fit dupa taxar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61.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276720" y="5562720"/>
            <a:ext cx="63324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25640" bIns="1256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5486400"/>
            <a:ext cx="633240" cy="384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91800" bIns="91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848720" y="5157720"/>
            <a:ext cx="755640" cy="480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59640" y="4797360"/>
            <a:ext cx="64800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26000" bIns="1260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4724280"/>
            <a:ext cx="898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 u="sng">
                <a:solidFill>
                  <a:srgbClr val="000066"/>
                </a:solidFill>
                <a:uFillTx/>
                <a:latin typeface="Arial"/>
              </a:rPr>
              <a:t>+ 5 %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DE5E-D92A-4E4E-A9BD-FAB4357992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43800"/>
            <a:ext cx="91440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66"/>
                </a:solidFill>
                <a:latin typeface="Arial"/>
              </a:rPr>
              <a:t>Cele mai bune randamente pentru fondurile 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-179640" bIns="-1796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1197000"/>
            <a:ext cx="8208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052640"/>
            <a:ext cx="8964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6600"/>
                </a:solidFill>
                <a:latin typeface="Arial"/>
              </a:rPr>
              <a:t>Fondurile ING de pensii private au inregistrat cresteri constante ale valorii unitatii de fond, ajungand in prezent la 10.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87</a:t>
            </a:r>
            <a:r>
              <a:rPr b="1" lang="ro-RO" sz="1400" spc="-1" strike="noStrike">
                <a:solidFill>
                  <a:srgbClr val="ff6600"/>
                </a:solidFill>
                <a:latin typeface="Arial"/>
              </a:rPr>
              <a:t> pentru ING Optim si 10.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76</a:t>
            </a:r>
            <a:r>
              <a:rPr b="1" lang="ro-RO" sz="1400" spc="-1" strike="noStrike">
                <a:solidFill>
                  <a:srgbClr val="ff6600"/>
                </a:solidFill>
                <a:latin typeface="Arial"/>
              </a:rPr>
              <a:t> pentru ING Clasi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732720" cy="43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ABDE-3705-4812-9A3B-364175A2D9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981000"/>
            <a:ext cx="7812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Aplicatie web de plat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Un instrument puternic dezvoltat de ING care ajuta la administrarea in timp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real a contributiilor angajatilor la Fondurile de Pensii Private ING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Ofera o situatie exacta a platilor in toate etapele lor: ne-efectuate, in curs de efectuare si ef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tuat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66"/>
                </a:solidFill>
                <a:latin typeface="Arial"/>
              </a:rPr>
              <a:t>Servicii post-vanz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2192400" cy="1093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511280" cy="1719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3141720"/>
            <a:ext cx="517176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Call Center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dedicat – pentru suport si asistent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21)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02 83 9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pentru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ngajat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21)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03 83 08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pentru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angajator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i</a:t>
            </a:r>
            <a:br>
              <a:rPr sz="1400"/>
            </a:b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4332240"/>
            <a:ext cx="7812000" cy="22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www.ingpensii.r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Furnizeaza informatii despre fondurile de pensii facultative ING (prospectele schemelor de pensii; evolutia zilnica a unitatilor de fond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Pune la dispozitie formularele necesare pentru anuntarea diverselor modificari ale actului de aderare (modificarea datelor angajatorului; schimbarea, suspendarea sau reluarea contributiilor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8A6A-4524-49AF-B912-F919EE2578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4825800" cy="3861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2059920"/>
            <a:ext cx="835668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puneri de modificari pentru Pilonul II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8C1D-41EB-4CF2-8129-9DD45CF079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440560" y="1825560"/>
            <a:ext cx="358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343800"/>
            <a:ext cx="835668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e s-a intamplat cu Pilonul III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3108" t="13169" r="3108" b="4390"/>
          <a:stretch/>
        </p:blipFill>
        <p:spPr>
          <a:xfrm>
            <a:off x="179280" y="1268280"/>
            <a:ext cx="4897440" cy="3044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2205000"/>
            <a:ext cx="6840720" cy="378684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ariere impuse de si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eput intarziat in vanza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ocu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Pil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ul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ariere impuse de angajator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uzul efectuarii platil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zaprobarea legi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forturi si costuri suplimenta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erarea la fonduri diferen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E0B8-038C-4AFF-A494-FF30B31AE6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43800"/>
            <a:ext cx="91440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puneri de modificari pentru Pilonul II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1125360"/>
            <a:ext cx="6985080" cy="504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Posibilitatea efectuarii platii contributiilor direct si de catre angajat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resterea nivelului deductibilitatii fiscale la 1.000 euro/an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pentru ca aceasta suma sa devina relevanta pentru participanti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laxarea structurii investitiona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0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relaxarea limitelor investitiona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ductibilitatea fiscala sa poata fi cumulata de unul dintre cei doi platitor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486080" cy="19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7359-3538-4B71-A102-AFE958C466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4136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Va multumesc!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66"/>
                </a:solidFill>
                <a:latin typeface="Arial"/>
              </a:rPr>
              <a:t>Radu Vasilescu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66"/>
                </a:solidFill>
                <a:latin typeface="Arial"/>
              </a:rPr>
              <a:t>Director General ING Fond de Pensii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</a:rPr>
              <a:t>E: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 u="sng">
                <a:solidFill>
                  <a:srgbClr val="000066"/>
                </a:solidFill>
                <a:uFillTx/>
                <a:latin typeface="Arial"/>
                <a:hlinkClick r:id="rId1"/>
              </a:rPr>
              <a:t>radu.vasilescu@ing.r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</a:rPr>
              <a:t>M: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</a:rPr>
              <a:t> 0721 254 936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F: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021 / 402 85 8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174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E11C0-3FBC-45F5-8458-8490F57B8D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42900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08360" y="1557360"/>
            <a:ext cx="518472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ilonul III in prim pl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erta ING de pensii faculta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puneri de modificari pentru Pilonul II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67A4-EA82-4600-BD57-8F5A92A166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4825800" cy="3861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2059920"/>
            <a:ext cx="835668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ilonul III in prim pla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C056-F588-4004-830D-28060AFC94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43800"/>
            <a:ext cx="835668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nsiile facultative in centrul atentie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1871640" cy="18720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539640" y="2565000"/>
            <a:ext cx="2519640" cy="3251160"/>
            <a:chOff x="539640" y="2565000"/>
            <a:chExt cx="2519640" cy="3251160"/>
          </a:xfrm>
        </p:grpSpPr>
        <p:sp>
          <p:nvSpPr>
            <p:cNvPr id="137" name=""/>
            <p:cNvSpPr/>
            <p:nvPr/>
          </p:nvSpPr>
          <p:spPr>
            <a:xfrm rot="16200000">
              <a:off x="173880" y="2930760"/>
              <a:ext cx="3251160" cy="2519640"/>
            </a:xfrm>
            <a:prstGeom prst="downArrowCallout">
              <a:avLst>
                <a:gd name="adj1" fmla="val 32261"/>
                <a:gd name="adj2" fmla="val 32258"/>
                <a:gd name="adj3" fmla="val 16667"/>
                <a:gd name="adj4" fmla="val 66667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83880" y="3308400"/>
              <a:ext cx="2554920" cy="15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dus accesibil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 o contributie pe care oricine si-o poate permit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1197000"/>
            <a:ext cx="2736720" cy="2232000"/>
            <a:chOff x="3276720" y="1197000"/>
            <a:chExt cx="2736720" cy="2232000"/>
          </a:xfrm>
        </p:grpSpPr>
        <p:sp>
          <p:nvSpPr>
            <p:cNvPr id="140" name=""/>
            <p:cNvSpPr/>
            <p:nvPr/>
          </p:nvSpPr>
          <p:spPr>
            <a:xfrm>
              <a:off x="3276720" y="1197000"/>
              <a:ext cx="2736720" cy="2232000"/>
            </a:xfrm>
            <a:prstGeom prst="downArrowCallout">
              <a:avLst>
                <a:gd name="adj1" fmla="val 30656"/>
                <a:gd name="adj2" fmla="val 30653"/>
                <a:gd name="adj3" fmla="val 16667"/>
                <a:gd name="adj4" fmla="val 66667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6720" y="1484280"/>
              <a:ext cx="273672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ngajatii cer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chet de benefici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, nu numai salariu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084360" y="2709720"/>
            <a:ext cx="2519640" cy="2989440"/>
            <a:chOff x="6084360" y="2709720"/>
            <a:chExt cx="2519640" cy="2989440"/>
          </a:xfrm>
        </p:grpSpPr>
        <p:sp>
          <p:nvSpPr>
            <p:cNvPr id="143" name=""/>
            <p:cNvSpPr/>
            <p:nvPr/>
          </p:nvSpPr>
          <p:spPr>
            <a:xfrm rot="5400000">
              <a:off x="5849280" y="2944440"/>
              <a:ext cx="2989440" cy="2519640"/>
            </a:xfrm>
            <a:prstGeom prst="downArrowCallout">
              <a:avLst>
                <a:gd name="adj1" fmla="val 29664"/>
                <a:gd name="adj2" fmla="val 29661"/>
                <a:gd name="adj3" fmla="val 16667"/>
                <a:gd name="adj4" fmla="val 66667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20000" y="2997360"/>
              <a:ext cx="1511280" cy="228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Instrument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ai putin costisito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si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ai puternic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decat  alte beneficii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C0DE-3EE2-4737-AA6C-4DE83A2263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41800" y="1773360"/>
            <a:ext cx="4102200" cy="2730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1822320"/>
            <a:ext cx="384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680" y="260352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25360"/>
            <a:ext cx="914400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Pentru a motiva si retine angajatii, un numar din ce in ce mai mare de companii ofera pachete complete de beneficii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%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- contribuie suplimentar la un fond de sana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8%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- ofera asigurari de viata sau de boli profesion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75%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sigurare de grup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5%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sigurare individual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cum, angajatorii pot adauga pensiile facultative la oferta lor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% - contribuie la fondurile de pensii facultative ale angajatilor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58% - intentioneaza sa ofere o contributie la un fond de pensii facultativ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021360"/>
            <a:ext cx="1476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Sursa: Hay Group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0280"/>
            <a:ext cx="889308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erere puternica pentru pensiile facultat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24E58-B71D-4FF2-9D6C-4ED32E664E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627280" y="1268280"/>
            <a:ext cx="4527720" cy="4527720"/>
            <a:chOff x="2627280" y="1268280"/>
            <a:chExt cx="4527720" cy="452772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2627280" y="1268280"/>
              <a:ext cx="4527720" cy="452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708360" y="4149720"/>
              <a:ext cx="2232000" cy="8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Intentie de cumparar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in urmatoarele 12 lun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23280" y="2492280"/>
              <a:ext cx="2100960" cy="15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180000" tIns="180000" bIns="1800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6600"/>
                  </a:solidFill>
                  <a:latin typeface="Arial"/>
                </a:rPr>
                <a:t>40</a:t>
              </a:r>
              <a:r>
                <a:rPr b="1" lang="en-US" sz="5400" spc="-1" strike="noStrike">
                  <a:solidFill>
                    <a:srgbClr val="ff6600"/>
                  </a:solidFill>
                  <a:latin typeface="Arial"/>
                </a:rPr>
                <a:t>%</a:t>
              </a:r>
              <a:endParaRPr b="0" lang="en-US" sz="5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15080"/>
            <a:ext cx="89647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mise favorabile pentru Pilonul II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-179640" bIns="-1796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373720"/>
            <a:ext cx="46087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Sursa: Studiu Nielsen, Octombrie 2007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268280"/>
            <a:ext cx="3743280" cy="1584360"/>
          </a:xfrm>
          <a:prstGeom prst="wedgeRectCallout">
            <a:avLst>
              <a:gd name="adj1" fmla="val -2671"/>
              <a:gd name="adj2" fmla="val 84768"/>
            </a:avLst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tentia de cumparare pentru pensii facultative este puternica in randul angajatilor cu varste cuprinse intre 25-52 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7B19-7359-4242-99D7-1E9A631988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4825800" cy="3861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2059920"/>
            <a:ext cx="835668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ferta ING de pensii facultat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0D44-1A58-4257-9194-E27047B580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16880"/>
            <a:ext cx="89647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08 va fi anul pensiilor facultat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543320"/>
            <a:ext cx="6984720" cy="440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ctr">
            <a:spAutoFit/>
          </a:bodyPr>
          <a:p>
            <a:pPr marL="87480" indent="-87480">
              <a:spcBef>
                <a:spcPts val="1125"/>
              </a:spcBef>
              <a:buClr>
                <a:srgbClr val="4d4d4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007 a marcat inceputul transferului responsabilitatii sociale in sectorul priva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marL="87480" indent="-87480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ributia la un fond de pensii obligatorii nu este suficienta pentru o retragere linisti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marL="87480" indent="-87480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nsia facultativa este un produs de masa; se adreseaza tuturor categoriilor de venitur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marL="87480" indent="-87480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iata se va concentra asupra pensiilor faculta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2800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 serie de noi jucatori si-au anuntat intentia de a intra pe piata: vor fi 10-11 administratori pana la sfarsitul lui 2008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1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marL="87480" indent="-87480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bunatatirea perspectivelor macro-econom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443640" y="1197000"/>
            <a:ext cx="2541600" cy="1728720"/>
          </a:xfrm>
          <a:prstGeom prst="rect">
            <a:avLst/>
          </a:prstGeom>
          <a:ln w="9360">
            <a:solidFill>
              <a:srgbClr val="000066"/>
            </a:solidFill>
            <a:prstDash val="dash"/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F156-A101-43C1-BF6C-EDD00CE7B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158080"/>
            <a:ext cx="9144000" cy="1051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43800"/>
            <a:ext cx="91440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66"/>
                </a:solidFill>
                <a:latin typeface="Arial"/>
              </a:rPr>
              <a:t>Fondurile de pensii facultative 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1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6600"/>
                </a:solidFill>
                <a:latin typeface="Arial"/>
              </a:rPr>
              <a:t>Doua fonduri autorizate: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Aceeasi structura de active (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70%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instrumente cu venit fix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si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30%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actiuni), garantii diferit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32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Font typeface="Arial"/>
              <a:buChar char="•"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ff6600"/>
                </a:solidFill>
                <a:latin typeface="Arial"/>
              </a:rPr>
              <a:t>ING OPTI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80316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Font typeface="Arial"/>
              <a:buChar char="•"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6600"/>
                </a:solidFill>
                <a:latin typeface="Arial"/>
              </a:rPr>
              <a:t>Singurul fond care ofera garantia 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CONTRIBUTIILOR NETE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”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80316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Font typeface="Arial"/>
              <a:buChar char="•"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Cel mai bun randament, cea mai mare valoare unitara a activului net</a:t>
            </a: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80316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Font typeface="Arial"/>
              <a:buChar char="•"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Garantia de performanta relativa la piat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32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Font typeface="Arial"/>
              <a:buChar char="•"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ff6600"/>
                </a:solidFill>
                <a:latin typeface="Arial"/>
              </a:rPr>
              <a:t>ING CLASI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80316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Font typeface="Arial"/>
              <a:buChar char="•"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Al doilea fond ca randament, dupa ING Opti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80316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Font typeface="Arial"/>
              <a:buChar char="•"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66"/>
                </a:solidFill>
                <a:latin typeface="Arial"/>
              </a:rPr>
              <a:t>Garantia de performanta relativa la piat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Comisioane competitiv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32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Font typeface="Arial"/>
              <a:buChar char="•"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6600"/>
                </a:solidFill>
                <a:latin typeface="Arial"/>
              </a:rPr>
              <a:t>3,95% din contributiile platite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32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Font typeface="Arial"/>
              <a:buChar char="•"/>
              <a:tabLst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6600"/>
                </a:solidFill>
                <a:latin typeface="Arial"/>
              </a:rPr>
              <a:t>1.36%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(Optim) si 1.24% (Clasic) </a:t>
            </a:r>
            <a:r>
              <a:rPr b="1" lang="ro-RO" sz="1400" spc="-1" strike="noStrike">
                <a:solidFill>
                  <a:srgbClr val="ff6600"/>
                </a:solidFill>
                <a:latin typeface="Arial"/>
              </a:rPr>
              <a:t>pe an din activele nete ale Fondului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523880"/>
                <a:tab algn="l" pos="815652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G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va incasa comisionul de administrare din activele fondului doar din momentul in care valoarea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activelor Fondului va atinge suma de 7.000.000 RON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Totodata, ING va suporta din fonduri proprii chetuielile cu depozitarea si auditul fondului pana cand fondul va atrage suma mentionata anterior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96360" y="1989000"/>
            <a:ext cx="1223640" cy="16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5694-5CAE-4AED-A0C8-6252EEAF75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3:43:29Z</dcterms:created>
  <dc:creator>vratnam</dc:creator>
  <dc:description/>
  <dc:language>en-US</dc:language>
  <cp:lastModifiedBy>EY95EW</cp:lastModifiedBy>
  <cp:lastPrinted>2007-03-02T10:09:17Z</cp:lastPrinted>
  <dcterms:modified xsi:type="dcterms:W3CDTF">2008-03-10T12:38:58Z</dcterms:modified>
  <cp:revision>539</cp:revision>
  <dc:subject/>
  <dc:title>Formula 1 Activation Idea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73816</vt:r8>
  </property>
  <property fmtid="{D5CDD505-2E9C-101B-9397-08002B2CF9AE}" pid="3" name="_AuthorEmail">
    <vt:lpwstr>delia.carstean@ing.ro</vt:lpwstr>
  </property>
  <property fmtid="{D5CDD505-2E9C-101B-9397-08002B2CF9AE}" pid="4" name="_AuthorEmailDisplayName">
    <vt:lpwstr>Carstean, D.A. (Delia)</vt:lpwstr>
  </property>
  <property fmtid="{D5CDD505-2E9C-101B-9397-08002B2CF9AE}" pid="5" name="_EmailSubject">
    <vt:lpwstr>Prezentare ING</vt:lpwstr>
  </property>
  <property fmtid="{D5CDD505-2E9C-101B-9397-08002B2CF9AE}" pid="6" name="_NewReviewCycle">
    <vt:lpwstr/>
  </property>
  <property fmtid="{D5CDD505-2E9C-101B-9397-08002B2CF9AE}" pid="7" name="_PreviousAdHocReviewCycleID">
    <vt:r8>2042239865</vt:r8>
  </property>
</Properties>
</file>