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72F-527A-4995-95CA-9964F487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7AA-51DC-486A-AF1E-F32F382C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DC6-9AE6-40D3-8BFB-090FDDE3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80D-8CE8-4901-8E5B-E910CD1D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8C2A-C4E7-4828-B55A-DC785D39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EB4-EE7B-4B44-BB23-4FE90B5B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A917-1EC6-4FAE-AA75-3495337C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FBC5-A6E7-49FF-9E0D-F0ADCE83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CA4-97E8-40FD-A112-3AEA719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268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0FB9-5E7D-416E-873D-99EEC02D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BF2F-87C1-4CBE-861A-08761E5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B10-F1E9-4CA9-8510-AF5A61C9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D9A5-AC38-4AA3-8DED-6FD98E58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7856-49ED-4808-8036-49757AC1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A29C-9436-43E8-8AED-12359C2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5C8B-B9ED-4D99-B960-E60FE8A0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51A9-61F3-4D96-84C4-DA60723C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301D-372F-41D3-B9CB-6C248DC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6771-9CB8-41F0-A7E9-35E5195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9E60-6AFC-439E-A495-6C0E5F7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A676-86FA-481D-B0AC-C2C66E47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8826-0FC4-4AD0-B75A-931BE208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43B-804D-4732-AA92-77A1CF58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8268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0AEA-DF75-415F-B55F-8D5DD2A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331C5-E95E-430B-AB88-5D60377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5BB1-CD6D-4B66-8865-B0E86A7E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33A2-7480-429E-B455-54B0C26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206D-C8FE-4EC8-9214-3DC640F5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287A-E3B2-4834-BBBF-6DBC2761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B08E-2807-47D1-B099-48B6EF9F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EE6-1CB2-4C6E-AAD1-6A846B3F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B18-82CE-4134-9295-8E793B2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268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64C-B382-49E5-AA73-F1A1C41E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C48-8658-4089-9277-A38FB2E0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1C9C-8339-4236-BE86-C3CBD588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63B-9E85-4E42-A86C-171EBC9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70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212720"/>
            <a:ext cx="8229600" cy="27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9160" indent="-2091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2295-24BE-419D-AD9D-3B079397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7E220-6911-46AB-9C0B-782B3DB9B32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363600" indent="-3636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6EAB6-8CF5-4B5F-8F1D-5FEAC839ED3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office@bcrasigviata.ro" TargetMode="External"/><Relationship Id="rId2" Type="http://schemas.openxmlformats.org/officeDocument/2006/relationships/hyperlink" Target="http://www.pensiibcr.ro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15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angajat motivat, o organizatie mai puternica 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2276640"/>
            <a:ext cx="73152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ond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l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de pensii facult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BC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ministr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de BCR Asigurari de Viata 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7242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365720"/>
            <a:ext cx="7675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hai Belic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ru Directo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CR Asigurari de Viata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. Etapa de beneficii (PILON 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4000"/>
          </a:bodyPr>
          <a:p>
            <a:pPr marL="341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nsion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reptul la pensia facultativa se deschide la cererea participantului, cu indeplinire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urmatoarelor conditii cumul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) participantul a implinit varsta de 60 de 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) au fost platite minimum 90 de contributii lu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) activul personal net este cel putin egal cu suma neces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6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obtinerii unei pensii facultative min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ta pensiilor facultativ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e va face conform prevederilor din legea speciala privind organizarea si functionarea sistemului de plata a pensiilor reglementate si supravegheate de CSS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caz 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Invalid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nuitati, valoarea contului este cel putin egala cu limita stabilita de le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uma existenta in contul participantului ca plata unica sau plati esalonate in rate pe o durata de maximum 5 ani daca valoarea contului este mai mica decat minimul stabilit de le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Beneficiarilor participantulu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e inseamna fondul de pens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facultativ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CR - PRUDENT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entru ANGAJ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strument de motivare evoluat, accesibil atracti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instrument eficient de management al resurselor uma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solutie avantajoasa, deoarece beneficiati de DEDUCTIBILITATE  FISCALA in limita a 200 Euro/fiecare angajat/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mediu de lucru perform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rata de retentie ridicata a personalul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crutarea angajatilor valorosi, motivarea si pastrarea angajatilor performa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entru ANGAJ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resterea economiilor pentru perioada de pensionare prin contributiile platite de angaja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entinerea standardului de viata si in perioada de pension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guranta, confort, liniste, resp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solutie avantajoasa, deoarece beneficiati de DEDUCTIBILITATE  FISCALA in limita a 200 Euro, echivalentul in RON/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425080" cy="93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ondul de pensii facultative </a:t>
            </a:r>
            <a:br>
              <a:rPr sz="3200"/>
            </a:b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C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PRUD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ndul de Pensii Facultative B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UDENT, primul fond autoriz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isc: scaz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a minima 35 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pozitar: BRD – Groupe Societe Gene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uditorul financiar: Ernst&amp;Young Assurance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952880"/>
            <a:ext cx="236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4876920"/>
            <a:ext cx="0" cy="761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5105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347400"/>
            <a:ext cx="8353440" cy="633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ndul de pensii facultativ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CR-PRUD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4392720" cy="46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uantum si tipuri de 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55640" y="2205000"/>
          <a:ext cx="8002440" cy="2743200"/>
        </p:xfrm>
        <a:graphic>
          <a:graphicData uri="http://schemas.openxmlformats.org/drawingml/2006/table">
            <a:tbl>
              <a:tblPr/>
              <a:tblGrid>
                <a:gridCol w="4313160"/>
                <a:gridCol w="368928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uma minima contribuita lunar (le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Valori mobili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nstrumente ale pietei monet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nstrumente financiare cu venit 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Volatili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scazu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Valoarea initiala a unitatii de fond (le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omision de administrare in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4% din contributiile plat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omision de administrare perma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ual, 2% din activul 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omision de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5% din  activul net (sub 2 an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685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CR ASIGURARI DE VIATA</a:t>
            </a:r>
            <a:br>
              <a:rPr sz="3200"/>
            </a:b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urnizoru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s. de pensii facultative priv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6000"/>
          </a:bodyPr>
          <a:p>
            <a:pPr marL="34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eneficii pentru ANGAJ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arantia unui parteneriat de succ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ferta diversificata: fonduri de pensii  facultative, asigurari de viata si sana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urnizam suport educational pentru angajati prin intermediul specialistilor nost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rand-ul BCR: un brand puternic, al  liderului de servicii financi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bancare, cu o solidă experienţă şi angajare pe piaţa româneasc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celenţa în domeniul relaţiei cu clienţii, asigurată de o dezvoltare profesionistă a unei importante reţele de vanzare acoperind întreaga ţ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eneficii pentru ANGAJ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arantia unui furnizor de pensii de incred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arantia unui management corect si performat al investitii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sultanta prin intermediul specialistilor nost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ata fondurilor de pensii facultativ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9 februarie 2008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557360"/>
          <a:ext cx="440208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4402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580000" y="1268280"/>
            <a:ext cx="237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umarul participantil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3800" y="1268280"/>
            <a:ext cx="3195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loarea activelor administr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356000" y="1844640"/>
          <a:ext cx="4676760" cy="359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844640"/>
                    <a:ext cx="46767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55640" y="4941720"/>
            <a:ext cx="7704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CR Asigurari de Viata ocupa locul in functie de valoarea activelor administrate si a numarului de participan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BCR ASIGURARI DE VIATA S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dministrator 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ond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de pensii facultative BC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PR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. Rabat nr. 21, sector 1, Bucurest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Rom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el: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1 206 90 40; 021 206 90 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ax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1 230 63 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ffice@bcrasigviata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ensiibcr.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pr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 Noul sistem de pensii “Multi - Pil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nd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facultat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pensii private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(pilonul 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3. Etapele procesului de aderare la Pilonul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4. Fondul de pensii facultative BCR - PR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oul sistem de pensi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“Multi-Pilon”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8720" y="4652640"/>
            <a:ext cx="2303280" cy="896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I – Sistemul asigurarilor soci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PAY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32000" y="4652640"/>
            <a:ext cx="6012000" cy="896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Sistemul de stat (Legea 19/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onduri de pensii administrate privat (Legea 411/2004 &amp; 23/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onduri de pensii facultative administrat privat (Legea 204/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76280" y="1341360"/>
            <a:ext cx="65804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419040"/>
            <a:ext cx="8075520" cy="633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nduril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acultati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de pensii private (pilonul 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ilonul III – Privat Facultativ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sistem de “contributii definite” prin care participantii contribuie lunar catre un fond facultativ de pens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articipanti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tribuabili asigurati prin sistemul de contributii sociale de stat (L19/20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tributii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tributii in conturi individuale de pensie realizate de angajati si / sau angajatori ce nu pot depasi cumulat 15% din venitul brut lu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duceri fisc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uale aplicabile contributiilor angajatilor si angajatori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tributii permise la unul sau mai multe fonduri facultative de pens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andament minim garantat (calculat pe baza performantei medii a tuturor fondurilor de pensii existente in piat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419040"/>
            <a:ext cx="8075520" cy="633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nduril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facultati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de pensii private (pilonul 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-a finalizat legislatia, respectiv legea 204/2006 impreuna cu un set d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orm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luna iunie 2007 a inceput vanzarea pensiilor facul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u fost autoriz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ocietati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re a fondurilor de pensii facultativ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 fonduri de pensii facultative,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banc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zitare,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ompanii de audit si consultanta financi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6 agenti persoane juridice si 10047 agenti de marketing persoane fiz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 2007 -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BCR Asigurari de Viata a lansat Fondul de pensii facultative BCR-PRUD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09080" cy="719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.Etapele procesului de aderare la </a:t>
            </a:r>
            <a:br>
              <a:rPr sz="3200"/>
            </a:b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pilonul I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tapa de inscriere in si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tapa de contributie / acumu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tapa de benefic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. Etapa de inscriere in siste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PILON 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gentii nostri de marketing prezinta catre angajator/ reprezentatii angajatilor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indicat/ angajati Fondul de pensii facultative B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derarea la un fond de pensii este o optiune individu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participant poate contribui la mai multe fonduri de pens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iitorul participant va semna actul de aderare cu BCR Asigurari de Viata 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ngajatorul are optiunea de a contribui in sistem in numele angajatilor sa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ngajatorul poate propune angajatilor sai participarea la un fond de pensii facultative cu mentionarea acest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in contractul colectiv de mun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. Etapa de contributii/acumul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Limita  minima a contributie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la Fondul de pensii facultative BCR – PRUDENT este 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ON/luna/persoana, iar cea maxima nu poate depasi 15% din venitul lunar brut al angajatului (cumulat angajat si angajato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tributia se colecteaza in baza CNP-ului si a numarului actului de ader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in conturile individuale ale participanti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tributia lunar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platita este transformata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R Asigurari de Viata S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48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 colec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in unita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fon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area initiala a unitatii de fond este 10 le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lata contributiei se face lunar prin intermediul angajator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are colec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i vi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ontributiile o data cu contributia la asigurarile sociale 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anatate in cont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ndului de pens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cultativ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CR – PR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26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B. Etapa de contributii/acumul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nzactii permi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cazul schimbarii locului de munca, a domiciliului sau resedintei intr-o alta tara, participantii opteaza intre a plati in continuare contributiile la fondul de pensii facultative din Romania sau a plati la un alt fond de pensi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odificarea cuantumului contribut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spendarea contributiei, caz in care participantul isi pastreaza drepturile conform regulilor Fondului de pensii facultative BCR - PRUD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ransferul participantului la un alt f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7:19:37Z</dcterms:created>
  <dc:creator>Olga Folescu</dc:creator>
  <dc:description/>
  <dc:language>en-US</dc:language>
  <cp:lastModifiedBy>Olga Folescu</cp:lastModifiedBy>
  <dcterms:modified xsi:type="dcterms:W3CDTF">2008-03-10T10:24:02Z</dcterms:modified>
  <cp:revision>81</cp:revision>
  <dc:subject/>
  <dc:title>Slide 1</dc:title>
</cp:coreProperties>
</file>