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4F9-DAF3-4CEA-BDFB-B038E9648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6A0-36D1-4A5D-9CD0-5803F753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591-CC17-4B18-A62A-8E38A3D7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64AA-20EA-4FEF-B5D9-BADC205F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529-F5EA-46DA-B7FE-448E1996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A2B-988D-444C-B076-79C4BECC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3F79-8F14-4F27-8A2D-168FD417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20F-D340-4FBF-AD14-F79A971A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490-8706-42E9-B94B-155C0835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A0C-BE0D-4162-9521-B9256A24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813-68E1-4519-BCBD-1BCB73D7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0F3-AEBB-49C1-8347-3676F6DA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1083-10FA-4465-9994-37B88C129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87520" y="1787400"/>
          <a:ext cx="7702560" cy="42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7520" y="1787400"/>
                    <a:ext cx="77025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835280" y="1052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 pe grupe de varsta si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ersoanelor cu acte de aderare va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farsitul perioadei de aderare initiala 17.09.2007-25.01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32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900000" y="685800"/>
          <a:ext cx="8064720" cy="617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85800"/>
                    <a:ext cx="80647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547640" y="90792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arul actelor de aderare validate pe Fondu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mulat la sfarsitul perioadei de aderare initiala 17.09.2007 - 25.01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32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36720" y="1052640"/>
          <a:ext cx="8207280" cy="66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1052640"/>
                    <a:ext cx="820728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763640" y="476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umarul actelor de aderare validate in transele bilun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sfarsitul perioadei de aderare initiala 17.09.2007 - 25.01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32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71640" y="1125360"/>
          <a:ext cx="7512120" cy="50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751212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1258920" y="981000"/>
            <a:ext cx="763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ntul actelor de aderare validate pe Fondu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farsitul perioadei de aderare initiala 17.09.2007 - 25.01.200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32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26920" y="1052640"/>
          <a:ext cx="7848720" cy="54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84872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250920" y="981000"/>
            <a:ext cx="87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ntul actelor de aderare va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ru primele 8 fond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farsitul perioadei de aderare initiala 17.09.2008 - 25.01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32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1197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ntul actelor de aderare validate si al invalidar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farsitul perioadei de aderare initiala 17.09.2007-25.01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557360"/>
          <a:ext cx="822960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229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32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13413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ntul actelor de aderare validate final si validate cu rezerva din total acte va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farsitul perioadei de aderare initiala 17.09.2007-25.01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4360" y="1714680"/>
          <a:ext cx="7867440" cy="453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14680"/>
                    <a:ext cx="786744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32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12536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 pe categorii de varsta a persoane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 acte de aderare val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farsitul perioadei de aderare initiala 17.09.2007 - 25.01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900000" y="1557360"/>
          <a:ext cx="73962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3962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32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6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11280" y="1865160"/>
          <a:ext cx="7921440" cy="437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65160"/>
                    <a:ext cx="792144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908000" y="11970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nte pe categorii de sex a persoanelor cu acte de aderare validate la sfarsitul perioadei de aderare initia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09.2007 - 25.01.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7324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4:07:27Z</dcterms:created>
  <dc:creator>magdas</dc:creator>
  <dc:description/>
  <dc:language>en-US</dc:language>
  <cp:lastModifiedBy>magdas</cp:lastModifiedBy>
  <dcterms:modified xsi:type="dcterms:W3CDTF">2008-02-19T07:22:39Z</dcterms:modified>
  <cp:revision>38</cp:revision>
  <dc:subject/>
  <dc:title>Slide 1</dc:title>
</cp:coreProperties>
</file>