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18920" y="1197000"/>
            <a:ext cx="6877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18920" y="2112840"/>
            <a:ext cx="6877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18920" y="119700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42960" y="119700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18920" y="211284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242960" y="211284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18920" y="1197000"/>
            <a:ext cx="2214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4160" y="1197000"/>
            <a:ext cx="2214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69040" y="1197000"/>
            <a:ext cx="2214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18920" y="2112840"/>
            <a:ext cx="2214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44160" y="2112840"/>
            <a:ext cx="2214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369040" y="2112840"/>
            <a:ext cx="2214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18920" y="1197000"/>
            <a:ext cx="6877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18920" y="1197000"/>
            <a:ext cx="6877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18920" y="1197000"/>
            <a:ext cx="3355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242960" y="1197000"/>
            <a:ext cx="3355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18920" y="539280"/>
            <a:ext cx="68770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18920" y="119700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242960" y="1197000"/>
            <a:ext cx="3355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18920" y="211284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18920" y="1197000"/>
            <a:ext cx="6877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18920" y="1197000"/>
            <a:ext cx="3355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42960" y="119700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242960" y="211284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18920" y="119700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42960" y="119700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18920" y="2112840"/>
            <a:ext cx="6877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18920" y="1197000"/>
            <a:ext cx="6877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18920" y="2112840"/>
            <a:ext cx="6877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18920" y="119700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42960" y="119700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18920" y="211284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242960" y="211284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8920" y="1197000"/>
            <a:ext cx="2214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44160" y="1197000"/>
            <a:ext cx="2214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69040" y="1197000"/>
            <a:ext cx="2214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18920" y="2112840"/>
            <a:ext cx="2214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044160" y="2112840"/>
            <a:ext cx="2214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369040" y="2112840"/>
            <a:ext cx="2214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18920" y="1197000"/>
            <a:ext cx="6877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18920" y="1197000"/>
            <a:ext cx="6877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18920" y="1197000"/>
            <a:ext cx="3355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242960" y="1197000"/>
            <a:ext cx="3355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18920" y="1197000"/>
            <a:ext cx="6877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18920" y="539280"/>
            <a:ext cx="68770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18920" y="119700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42960" y="1197000"/>
            <a:ext cx="3355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18920" y="211284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18920" y="1197000"/>
            <a:ext cx="3355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42960" y="119700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242960" y="211284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18920" y="119700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42960" y="119700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18920" y="2112840"/>
            <a:ext cx="6877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18920" y="1197000"/>
            <a:ext cx="6877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8920" y="2112840"/>
            <a:ext cx="6877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18920" y="119700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242960" y="119700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18920" y="211284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242960" y="211284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18920" y="1197000"/>
            <a:ext cx="2214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044160" y="1197000"/>
            <a:ext cx="2214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369040" y="1197000"/>
            <a:ext cx="2214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718920" y="2112840"/>
            <a:ext cx="2214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044160" y="2112840"/>
            <a:ext cx="2214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369040" y="2112840"/>
            <a:ext cx="2214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718920" y="1197000"/>
            <a:ext cx="6877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18920" y="1197000"/>
            <a:ext cx="6877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8920" y="1197000"/>
            <a:ext cx="3355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242960" y="1197000"/>
            <a:ext cx="3355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18920" y="1197000"/>
            <a:ext cx="3355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42960" y="1197000"/>
            <a:ext cx="3355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718920" y="539280"/>
            <a:ext cx="68770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18920" y="119700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242960" y="1197000"/>
            <a:ext cx="3355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718920" y="211284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18920" y="1197000"/>
            <a:ext cx="3355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242960" y="119700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242960" y="211284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18920" y="119700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242960" y="119700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718920" y="2112840"/>
            <a:ext cx="6877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18920" y="1197000"/>
            <a:ext cx="6877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718920" y="2112840"/>
            <a:ext cx="6877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18920" y="119700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42960" y="119700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18920" y="211284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242960" y="211284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8920" y="1197000"/>
            <a:ext cx="2214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044160" y="1197000"/>
            <a:ext cx="2214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369040" y="1197000"/>
            <a:ext cx="2214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718920" y="2112840"/>
            <a:ext cx="2214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044160" y="2112840"/>
            <a:ext cx="2214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369040" y="2112840"/>
            <a:ext cx="2214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718920" y="1197000"/>
            <a:ext cx="6877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18920" y="1197000"/>
            <a:ext cx="6877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18920" y="1197000"/>
            <a:ext cx="3355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242960" y="1197000"/>
            <a:ext cx="3355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718920" y="539280"/>
            <a:ext cx="68770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18920" y="119700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242960" y="1197000"/>
            <a:ext cx="3355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718920" y="211284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18920" y="1197000"/>
            <a:ext cx="3355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242960" y="119700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242960" y="211284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18920" y="119700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242960" y="119700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18920" y="2112840"/>
            <a:ext cx="6877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18920" y="1197000"/>
            <a:ext cx="6877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718920" y="2112840"/>
            <a:ext cx="6877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18920" y="119700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42960" y="119700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718920" y="211284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242960" y="211284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18920" y="539280"/>
            <a:ext cx="68770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18920" y="1197000"/>
            <a:ext cx="2214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044160" y="1197000"/>
            <a:ext cx="2214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369040" y="1197000"/>
            <a:ext cx="2214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8920" y="2112840"/>
            <a:ext cx="2214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044160" y="2112840"/>
            <a:ext cx="2214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369040" y="2112840"/>
            <a:ext cx="2214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718920" y="1197000"/>
            <a:ext cx="6877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18920" y="1197000"/>
            <a:ext cx="6877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18920" y="1197000"/>
            <a:ext cx="3355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242960" y="1197000"/>
            <a:ext cx="3355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718920" y="539280"/>
            <a:ext cx="68770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18920" y="119700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42960" y="1197000"/>
            <a:ext cx="3355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718920" y="211284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18920" y="1197000"/>
            <a:ext cx="3355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42960" y="119700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242960" y="211284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18920" y="119700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242960" y="119700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18920" y="2112840"/>
            <a:ext cx="6877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18920" y="119700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242960" y="1197000"/>
            <a:ext cx="3355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18920" y="211284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18920" y="1197000"/>
            <a:ext cx="6877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718920" y="2112840"/>
            <a:ext cx="6877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18920" y="119700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242960" y="119700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718920" y="211284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242960" y="211284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18920" y="1197000"/>
            <a:ext cx="2214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44160" y="1197000"/>
            <a:ext cx="2214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369040" y="1197000"/>
            <a:ext cx="2214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718920" y="2112840"/>
            <a:ext cx="2214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044160" y="2112840"/>
            <a:ext cx="2214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369040" y="2112840"/>
            <a:ext cx="2214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718920" y="1197000"/>
            <a:ext cx="6877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18920" y="1197000"/>
            <a:ext cx="6877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18920" y="1197000"/>
            <a:ext cx="3355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242960" y="1197000"/>
            <a:ext cx="3355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718920" y="539280"/>
            <a:ext cx="68770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18920" y="119700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242960" y="1197000"/>
            <a:ext cx="3355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8920" y="211284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18920" y="1197000"/>
            <a:ext cx="3355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242960" y="119700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242960" y="211284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18920" y="1197000"/>
            <a:ext cx="3355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242960" y="119700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242960" y="211284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18920" y="119700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242960" y="119700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718920" y="2112840"/>
            <a:ext cx="6877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18920" y="1197000"/>
            <a:ext cx="6877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718920" y="2112840"/>
            <a:ext cx="6877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18920" y="119700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242960" y="119700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718920" y="211284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242960" y="211284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18920" y="1197000"/>
            <a:ext cx="2214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44160" y="1197000"/>
            <a:ext cx="2214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369040" y="1197000"/>
            <a:ext cx="2214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718920" y="2112840"/>
            <a:ext cx="2214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044160" y="2112840"/>
            <a:ext cx="2214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369040" y="2112840"/>
            <a:ext cx="2214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718920" y="1197000"/>
            <a:ext cx="6877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18920" y="1197000"/>
            <a:ext cx="6877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18920" y="1197000"/>
            <a:ext cx="3355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42960" y="1197000"/>
            <a:ext cx="3355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18920" y="119700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42960" y="119700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18920" y="2112840"/>
            <a:ext cx="6877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718920" y="539280"/>
            <a:ext cx="68770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18920" y="119700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242960" y="1197000"/>
            <a:ext cx="3355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18920" y="211284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18920" y="1197000"/>
            <a:ext cx="3355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42960" y="119700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242960" y="211284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18920" y="119700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42960" y="119700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718920" y="2112840"/>
            <a:ext cx="6877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18920" y="1197000"/>
            <a:ext cx="6877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718920" y="2112840"/>
            <a:ext cx="6877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18920" y="119700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242960" y="119700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718920" y="211284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242960" y="2112840"/>
            <a:ext cx="3355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18920" y="1197000"/>
            <a:ext cx="2214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044160" y="1197000"/>
            <a:ext cx="2214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369040" y="1197000"/>
            <a:ext cx="2214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718920" y="2112840"/>
            <a:ext cx="2214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044160" y="2112840"/>
            <a:ext cx="2214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5369040" y="2112840"/>
            <a:ext cx="2214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e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28640"/>
            <a:ext cx="9144000" cy="522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18920" y="476280"/>
            <a:ext cx="687708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2bc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18920" y="1988640"/>
            <a:ext cx="68770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84320" indent="-182880"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-176040">
              <a:spcAft>
                <a:spcPts val="1125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46120" indent="-182520"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1360" indent="-163800">
              <a:spcAft>
                <a:spcPts val="1125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1360" indent="-163800">
              <a:spcAft>
                <a:spcPts val="1125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1360" indent="-163800">
              <a:spcAft>
                <a:spcPts val="1125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476360" cy="112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e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72bc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476360" cy="1122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2bc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72bc"/>
              </a:solidFill>
              <a:latin typeface="Arial"/>
            </a:endParaRPr>
          </a:p>
          <a:p>
            <a:pPr lvl="1" marL="1440" indent="0" algn="ctr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85760" algn="ctr">
              <a:spcAft>
                <a:spcPts val="1125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363600" algn="ctr"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547560" algn="ctr">
              <a:spcAft>
                <a:spcPts val="1125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54756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54756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e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628640"/>
            <a:ext cx="9144000" cy="522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18920" y="476280"/>
            <a:ext cx="687708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2bc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18920" y="1988640"/>
            <a:ext cx="68770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84320" indent="-182880"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-176040">
              <a:spcAft>
                <a:spcPts val="1125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46120" indent="-182520"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1360" indent="-163800">
              <a:spcAft>
                <a:spcPts val="1125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1360" indent="-163800">
              <a:spcAft>
                <a:spcPts val="1125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1360" indent="-163800">
              <a:spcAft>
                <a:spcPts val="1125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1"/>
          </p:nvPr>
        </p:nvSpPr>
        <p:spPr>
          <a:xfrm>
            <a:off x="719280" y="6476760"/>
            <a:ext cx="770400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224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2244"/>
                </a:solidFill>
                <a:latin typeface="Times New Roman"/>
              </a:rPr>
              <a:t>&lt;footer&gt;</a:t>
            </a:r>
            <a:r>
              <a:rPr b="0" lang="en-US" sz="800" spc="-1" strike="noStrike">
                <a:solidFill>
                  <a:srgbClr val="002244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2244"/>
                </a:solidFill>
                <a:latin typeface="Times New Roman"/>
              </a:rPr>
              <a:t>&lt;date/time&gt;</a:t>
            </a:r>
            <a:r>
              <a:rPr b="0" lang="en-US" sz="800" spc="-1" strike="noStrike">
                <a:solidFill>
                  <a:srgbClr val="002244"/>
                </a:solidFill>
                <a:latin typeface="Times New Roman"/>
              </a:rPr>
              <a:t>  page </a:t>
            </a:r>
            <a:fld id="{979DB178-6F21-4575-9583-A0EE1142C97A}" type="slidenum">
              <a:rPr b="0" lang="en-US" sz="800" spc="-1" strike="noStrike">
                <a:solidFill>
                  <a:srgbClr val="002244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476360" cy="112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e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3429000"/>
            <a:ext cx="914400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72bc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ftr" idx="2"/>
          </p:nvPr>
        </p:nvSpPr>
        <p:spPr>
          <a:xfrm>
            <a:off x="718920" y="6476760"/>
            <a:ext cx="6877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224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2244"/>
                </a:solidFill>
                <a:latin typeface="Times New Roman"/>
              </a:rPr>
              <a:t>&lt;footer&gt;</a:t>
            </a:r>
            <a:r>
              <a:rPr b="0" lang="en-US" sz="800" spc="-1" strike="noStrike">
                <a:solidFill>
                  <a:srgbClr val="002244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2244"/>
                </a:solidFill>
                <a:latin typeface="Times New Roman"/>
              </a:rPr>
              <a:t>&lt;date/time&gt;</a:t>
            </a:r>
            <a:r>
              <a:rPr b="0" lang="en-US" sz="800" spc="-1" strike="noStrike">
                <a:solidFill>
                  <a:srgbClr val="002244"/>
                </a:solidFill>
                <a:latin typeface="Times New Roman"/>
              </a:rPr>
              <a:t>  page </a:t>
            </a:r>
            <a:fld id="{869A19BA-20AF-41F6-A743-33835D1787A5}" type="slidenum">
              <a:rPr b="0" lang="en-US" sz="800" spc="-1" strike="noStrike">
                <a:solidFill>
                  <a:srgbClr val="002244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667640" y="146160"/>
            <a:ext cx="1476360" cy="112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e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1628640"/>
            <a:ext cx="9144000" cy="522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18920" y="476280"/>
            <a:ext cx="687708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2bc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18920" y="1988640"/>
            <a:ext cx="68770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84320" indent="-182880"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-176040">
              <a:spcAft>
                <a:spcPts val="1125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46120" indent="-182520"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1360" indent="-163800">
              <a:spcAft>
                <a:spcPts val="1125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1360" indent="-163800">
              <a:spcAft>
                <a:spcPts val="1125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1360" indent="-163800">
              <a:spcAft>
                <a:spcPts val="1125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3"/>
          </p:nvPr>
        </p:nvSpPr>
        <p:spPr>
          <a:xfrm>
            <a:off x="719280" y="6476760"/>
            <a:ext cx="770400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224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2244"/>
                </a:solidFill>
                <a:latin typeface="Times New Roman"/>
              </a:rPr>
              <a:t>&lt;footer&gt;</a:t>
            </a:r>
            <a:r>
              <a:rPr b="0" lang="en-US" sz="800" spc="-1" strike="noStrike">
                <a:solidFill>
                  <a:srgbClr val="002244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2244"/>
                </a:solidFill>
                <a:latin typeface="Times New Roman"/>
              </a:rPr>
              <a:t>&lt;date/time&gt;</a:t>
            </a:r>
            <a:r>
              <a:rPr b="0" lang="en-US" sz="800" spc="-1" strike="noStrike">
                <a:solidFill>
                  <a:srgbClr val="002244"/>
                </a:solidFill>
                <a:latin typeface="Times New Roman"/>
              </a:rPr>
              <a:t>  page </a:t>
            </a:r>
            <a:fld id="{90C83A02-59BF-4608-A771-4B60F02DB09E}" type="slidenum">
              <a:rPr b="0" lang="en-US" sz="800" spc="-1" strike="noStrike">
                <a:solidFill>
                  <a:srgbClr val="002244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476360" cy="112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e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18920" y="474840"/>
            <a:ext cx="687708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72bc"/>
                </a:solidFill>
                <a:latin typeface="Arial"/>
              </a:rPr>
              <a:t>Click to edit the title text format</a:t>
            </a:r>
            <a:endParaRPr b="0" lang="en-US" sz="2300" spc="-1" strike="noStrike">
              <a:solidFill>
                <a:srgbClr val="0072b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e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1628640"/>
            <a:ext cx="9144000" cy="522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18920" y="476280"/>
            <a:ext cx="687708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2bc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18920" y="1988640"/>
            <a:ext cx="68770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84320" indent="-182880"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61800" indent="-176040">
              <a:spcAft>
                <a:spcPts val="1125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46120" indent="-182520"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1360" indent="-163800">
              <a:spcAft>
                <a:spcPts val="1125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1360" indent="-163800">
              <a:spcAft>
                <a:spcPts val="1125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1360" indent="-163800">
              <a:spcAft>
                <a:spcPts val="1125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ftr" idx="4"/>
          </p:nvPr>
        </p:nvSpPr>
        <p:spPr>
          <a:xfrm>
            <a:off x="719280" y="6476760"/>
            <a:ext cx="770400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224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2244"/>
                </a:solidFill>
                <a:latin typeface="Times New Roman"/>
              </a:rPr>
              <a:t>&lt;footer&gt;</a:t>
            </a:r>
            <a:r>
              <a:rPr b="0" lang="en-US" sz="800" spc="-1" strike="noStrike">
                <a:solidFill>
                  <a:srgbClr val="002244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2244"/>
                </a:solidFill>
                <a:latin typeface="Times New Roman"/>
              </a:rPr>
              <a:t>&lt;date/time&gt;</a:t>
            </a:r>
            <a:r>
              <a:rPr b="0" lang="en-US" sz="800" spc="-1" strike="noStrike">
                <a:solidFill>
                  <a:srgbClr val="002244"/>
                </a:solidFill>
                <a:latin typeface="Times New Roman"/>
              </a:rPr>
              <a:t>  page </a:t>
            </a:r>
            <a:fld id="{E873C8EC-F2AD-4D84-AD04-E88F7AD44C06}" type="slidenum">
              <a:rPr b="0" lang="en-US" sz="800" spc="-1" strike="noStrike">
                <a:solidFill>
                  <a:srgbClr val="002244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476360" cy="112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e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18920" y="53928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72bc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72bc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476360" cy="112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e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755640" y="620280"/>
            <a:ext cx="741672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spcAft>
                <a:spcPts val="2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59b337"/>
                </a:solidFill>
                <a:latin typeface="Arial"/>
              </a:rPr>
              <a:t>Asigurările de viaţă</a:t>
            </a:r>
            <a:r>
              <a:rPr b="1" lang="en-US" sz="3600" spc="-1" strike="noStrike">
                <a:solidFill>
                  <a:srgbClr val="59b337"/>
                </a:solidFill>
                <a:latin typeface="Arial"/>
              </a:rPr>
              <a:t>/</a:t>
            </a:r>
            <a:r>
              <a:rPr b="1" lang="ro-RO" sz="3600" spc="-1" strike="noStrike">
                <a:solidFill>
                  <a:srgbClr val="59b337"/>
                </a:solidFill>
                <a:latin typeface="Arial"/>
              </a:rPr>
              <a:t>Fondurile mutuale vs. Pensii facultative</a:t>
            </a:r>
            <a:endParaRPr b="0" lang="en-US" sz="3600" spc="-1" strike="noStrike">
              <a:solidFill>
                <a:srgbClr val="0072bc"/>
              </a:solidFill>
              <a:latin typeface="Arial"/>
            </a:endParaRPr>
          </a:p>
          <a:p>
            <a:pPr>
              <a:spcAft>
                <a:spcPts val="2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156000" y="4941720"/>
            <a:ext cx="2440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2bc"/>
                </a:solidFill>
                <a:latin typeface="Arial"/>
              </a:rPr>
              <a:t>Eugen Voi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2bc"/>
                </a:solidFill>
                <a:latin typeface="Arial"/>
              </a:rPr>
              <a:t>CEO, Aviva Pensi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2bc"/>
                </a:solidFill>
                <a:latin typeface="Arial"/>
              </a:rPr>
              <a:t>&amp; Certinv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5004000" cy="40766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11280" y="6424560"/>
            <a:ext cx="5651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7ac9"/>
                </a:solidFill>
                <a:latin typeface="Arial"/>
              </a:rPr>
              <a:t>MEDIAFAX TALKS ABOUT PRIVATE PENSIONS  11 MAR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e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80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72bc"/>
                </a:solidFill>
                <a:latin typeface="Arial"/>
              </a:rPr>
              <a:t>Concluzii </a:t>
            </a:r>
            <a:endParaRPr b="0" lang="en-US" sz="36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8000" y="2204640"/>
            <a:ext cx="8064360" cy="37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500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46ad"/>
                </a:solidFill>
                <a:latin typeface="Arial"/>
              </a:rPr>
              <a:t>Finanţele personale trebuie gestionate după o strategie care să acopere toate nevoile financiare pe termen lu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46ad"/>
                </a:solidFill>
                <a:latin typeface="Arial"/>
              </a:rPr>
              <a:t>Asigurările de viaţă, fondurile de investiţii şi cele de pensii nu se exclud, ci se completeaz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46ad"/>
                </a:solidFill>
                <a:latin typeface="Arial"/>
              </a:rPr>
              <a:t>Fondurile de investiţii reprezintă un instrument investiţional important pentru fondurile de pensii şi companiile de asigură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46ad"/>
                </a:solidFill>
                <a:latin typeface="Arial"/>
              </a:rPr>
              <a:t>Fondurile de investiţii oferă fondurilor de pensii expertiză, risk management şi performanţ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11280" y="6424560"/>
            <a:ext cx="5651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7ac9"/>
                </a:solidFill>
                <a:latin typeface="Arial"/>
              </a:rPr>
              <a:t>MEDIAFAX TALKS ABOUT PRIVATE PENSIONS  11 MAR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e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2627280" y="2852640"/>
            <a:ext cx="3960720" cy="17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Aft>
                <a:spcPts val="2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59b337"/>
                </a:solidFill>
                <a:latin typeface="Arial"/>
              </a:rPr>
              <a:t>Mulţumesc</a:t>
            </a:r>
            <a:endParaRPr b="0" lang="en-US" sz="36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500720" y="4941720"/>
            <a:ext cx="43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2bc"/>
                </a:solidFill>
                <a:latin typeface="Arial"/>
              </a:rPr>
              <a:t>Eugen Voi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2bc"/>
                </a:solidFill>
                <a:latin typeface="Arial"/>
              </a:rPr>
              <a:t>CEO, Aviva Pensii</a:t>
            </a:r>
            <a:r>
              <a:rPr b="1" lang="ro-RO" sz="2000" spc="-1" strike="noStrike">
                <a:solidFill>
                  <a:srgbClr val="0072b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2bc"/>
                </a:solidFill>
                <a:latin typeface="Arial"/>
              </a:rPr>
              <a:t>&amp; Certinv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11280" y="6424560"/>
            <a:ext cx="5651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7ac9"/>
                </a:solidFill>
                <a:latin typeface="Arial"/>
              </a:rPr>
              <a:t>MEDIAFAX TALKS ABOUT PRIVATE PENSIONS  11 MAR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e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0" y="4365720"/>
            <a:ext cx="768240" cy="12240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7956720" y="3429000"/>
            <a:ext cx="907920" cy="122400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280360" cy="10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72bc"/>
                </a:solidFill>
                <a:latin typeface="Arial"/>
              </a:rPr>
              <a:t>Asigurări de viaţă</a:t>
            </a:r>
            <a:r>
              <a:rPr b="1" lang="en-US" sz="3200" spc="-1" strike="noStrike">
                <a:solidFill>
                  <a:srgbClr val="0072bc"/>
                </a:solidFill>
                <a:latin typeface="Arial"/>
              </a:rPr>
              <a:t>/</a:t>
            </a:r>
            <a:r>
              <a:rPr b="1" lang="ro-RO" sz="3200" spc="-1" strike="noStrike">
                <a:solidFill>
                  <a:srgbClr val="0072bc"/>
                </a:solidFill>
                <a:latin typeface="Arial"/>
              </a:rPr>
              <a:t>Pensii facultative vs. Fonduri mutuale</a:t>
            </a:r>
            <a:endParaRPr b="0" lang="en-US" sz="32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7813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Aft>
                <a:spcPts val="1349"/>
              </a:spcAft>
              <a:buClr>
                <a:srgbClr val="59b3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59b337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59b337"/>
                </a:solidFill>
                <a:latin typeface="Arial"/>
              </a:rPr>
              <a:t>asigurările de viaţă, pensiile facultative şi fondurile mutuale reprezintă instrumente investiţionale ce nu se exclud între ele, acestea având obiective dife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46ad"/>
                </a:solidFill>
                <a:latin typeface="Arial"/>
              </a:rPr>
              <a:t>         </a:t>
            </a:r>
            <a:r>
              <a:rPr b="1" lang="ro-RO" sz="1600" spc="-1" strike="noStrike">
                <a:solidFill>
                  <a:srgbClr val="0046ad"/>
                </a:solidFill>
                <a:latin typeface="Arial"/>
              </a:rPr>
              <a:t>Asigurarea de viaţă are ca scop principal protejarea de un eventual </a:t>
            </a:r>
            <a:r>
              <a:rPr b="1" lang="ro-RO" sz="1600" spc="-1" strike="noStrike">
                <a:solidFill>
                  <a:srgbClr val="0046ad"/>
                </a:solidFill>
                <a:latin typeface="Arial"/>
              </a:rPr>
              <a:t>	</a:t>
            </a:r>
            <a:r>
              <a:rPr b="1" lang="ro-RO" sz="1600" spc="-1" strike="noStrike">
                <a:solidFill>
                  <a:srgbClr val="0046ad"/>
                </a:solidFill>
                <a:latin typeface="Arial"/>
              </a:rPr>
              <a:t>eveniment negativ (deces, accident, etc.) </a:t>
            </a:r>
            <a:r>
              <a:rPr b="1" lang="en-US" sz="1600" spc="-1" strike="noStrike">
                <a:solidFill>
                  <a:srgbClr val="0046ad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46ad"/>
                </a:solidFill>
                <a:latin typeface="Arial"/>
              </a:rPr>
              <a:t>         </a:t>
            </a:r>
            <a:r>
              <a:rPr b="1" lang="ro-RO" sz="1600" spc="-1" strike="noStrike">
                <a:solidFill>
                  <a:srgbClr val="0046ad"/>
                </a:solidFill>
                <a:latin typeface="Arial"/>
              </a:rPr>
              <a:t>Pensia facultativă vizează în principal suplimentarea sumei primite după </a:t>
            </a:r>
            <a:r>
              <a:rPr b="1" lang="ro-RO" sz="1600" spc="-1" strike="noStrike">
                <a:solidFill>
                  <a:srgbClr val="0046ad"/>
                </a:solidFill>
                <a:latin typeface="Arial"/>
              </a:rPr>
              <a:t>	</a:t>
            </a:r>
            <a:r>
              <a:rPr b="1" lang="ro-RO" sz="1600" spc="-1" strike="noStrike">
                <a:solidFill>
                  <a:srgbClr val="0046ad"/>
                </a:solidFill>
                <a:latin typeface="Arial"/>
              </a:rPr>
              <a:t>ieşirea la pens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46ad"/>
                </a:solidFill>
                <a:latin typeface="Arial"/>
              </a:rPr>
              <a:t>         </a:t>
            </a:r>
            <a:r>
              <a:rPr b="1" lang="ro-RO" sz="1600" spc="-1" strike="noStrike">
                <a:solidFill>
                  <a:srgbClr val="0046ad"/>
                </a:solidFill>
                <a:latin typeface="Arial"/>
              </a:rPr>
              <a:t>Fondurile mutuale au o componentă investiţională ridicată fiind destinate </a:t>
            </a:r>
            <a:r>
              <a:rPr b="1" lang="ro-RO" sz="1600" spc="-1" strike="noStrike">
                <a:solidFill>
                  <a:srgbClr val="0046ad"/>
                </a:solidFill>
                <a:latin typeface="Arial"/>
              </a:rPr>
              <a:t>	</a:t>
            </a:r>
            <a:r>
              <a:rPr b="1" lang="ro-RO" sz="1600" spc="-1" strike="noStrike">
                <a:solidFill>
                  <a:srgbClr val="0046ad"/>
                </a:solidFill>
                <a:latin typeface="Arial"/>
              </a:rPr>
              <a:t>creşterii activelor personale pe termen mediu şi l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349"/>
              </a:spcAft>
              <a:buClr>
                <a:srgbClr val="59b3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59b337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59b337"/>
                </a:solidFill>
                <a:latin typeface="Arial"/>
              </a:rPr>
              <a:t>alegerea unui instrument investiţional sau / şi a altuia la un moment dat se bazează pe planificarea şi prioritizarea obiectivelor pers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103320" y="2637000"/>
            <a:ext cx="706320" cy="10080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11280" y="6424560"/>
            <a:ext cx="5651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7ac9"/>
                </a:solidFill>
                <a:latin typeface="Arial"/>
              </a:rPr>
              <a:t>MEDIAFAX TALKS ABOUT PRIVATE PENSIONS  11 MAR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e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885080" cy="11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7ac9"/>
                </a:solidFill>
                <a:latin typeface="Arial"/>
              </a:rPr>
              <a:t>Asigurări de viaţă vs. Pensii facultative – obiective şi mecanism</a:t>
            </a:r>
            <a:endParaRPr b="0" lang="en-US" sz="32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9640" y="2133720"/>
            <a:ext cx="676908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3" marL="932040">
              <a:lnSpc>
                <a:spcPct val="75000"/>
              </a:lnSpc>
              <a:spcAft>
                <a:spcPts val="975"/>
              </a:spcAft>
              <a:buClr>
                <a:srgbClr val="0046a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1397160" indent="-285840">
              <a:lnSpc>
                <a:spcPct val="75000"/>
              </a:lnSpc>
              <a:spcAft>
                <a:spcPts val="1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932040">
              <a:lnSpc>
                <a:spcPct val="75000"/>
              </a:lnSpc>
              <a:spcAft>
                <a:spcPts val="1125"/>
              </a:spcAft>
              <a:buClr>
                <a:srgbClr val="0046a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468360" y="1708200"/>
          <a:ext cx="8136000" cy="4762440"/>
        </p:xfrm>
        <a:graphic>
          <a:graphicData uri="http://schemas.openxmlformats.org/drawingml/2006/table">
            <a:tbl>
              <a:tblPr/>
              <a:tblGrid>
                <a:gridCol w="4068720"/>
                <a:gridCol w="4067280"/>
              </a:tblGrid>
              <a:tr h="86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Aft>
                          <a:spcPts val="18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Asigurări de viaţ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6ad"/>
                      </a:solidFill>
                    </a:lnL>
                    <a:lnR w="5760">
                      <a:solidFill>
                        <a:srgbClr val="0046ad"/>
                      </a:solidFill>
                    </a:lnR>
                    <a:lnT w="5760">
                      <a:solidFill>
                        <a:srgbClr val="0046ad"/>
                      </a:solidFill>
                    </a:lnT>
                    <a:lnB w="5760">
                      <a:solidFill>
                        <a:srgbClr val="0046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Aft>
                          <a:spcPts val="18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Pensii faculta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6ad"/>
                      </a:solidFill>
                    </a:lnL>
                    <a:lnR w="5760">
                      <a:solidFill>
                        <a:srgbClr val="0046ad"/>
                      </a:solidFill>
                    </a:lnR>
                    <a:lnT w="5760">
                      <a:solidFill>
                        <a:srgbClr val="0046ad"/>
                      </a:solidFill>
                    </a:lnT>
                    <a:lnB w="5760">
                      <a:solidFill>
                        <a:srgbClr val="0046ad"/>
                      </a:solidFill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9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Obiectiv: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Protecţia în cazul în care are loc un dec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6ad"/>
                      </a:solidFill>
                    </a:lnL>
                    <a:lnR w="5760">
                      <a:solidFill>
                        <a:srgbClr val="0046ad"/>
                      </a:solidFill>
                    </a:lnR>
                    <a:lnT w="5760">
                      <a:solidFill>
                        <a:srgbClr val="0046ad"/>
                      </a:solidFill>
                    </a:lnT>
                    <a:lnB w="5760">
                      <a:solidFill>
                        <a:srgbClr val="0046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9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Obiectiv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: O sumă mai mare după ieşirea la pensi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6ad"/>
                      </a:solidFill>
                    </a:lnL>
                    <a:lnR w="5760">
                      <a:solidFill>
                        <a:srgbClr val="0046ad"/>
                      </a:solidFill>
                    </a:lnR>
                    <a:lnT w="5760">
                      <a:solidFill>
                        <a:srgbClr val="0046ad"/>
                      </a:solidFill>
                    </a:lnT>
                    <a:lnB w="5760">
                      <a:solidFill>
                        <a:srgbClr val="0046ad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9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Componenta de protecţi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75"/>
                        </a:spcAft>
                        <a:buClr>
                          <a:srgbClr val="0046a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asigurare în caz de deces pe perioada contractului </a:t>
                      </a:r>
                      <a:r>
                        <a:rPr b="0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(+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6ad"/>
                      </a:solidFill>
                    </a:lnL>
                    <a:lnR w="5760">
                      <a:solidFill>
                        <a:srgbClr val="0046ad"/>
                      </a:solidFill>
                    </a:lnR>
                    <a:lnT w="5760">
                      <a:solidFill>
                        <a:srgbClr val="0046ad"/>
                      </a:solidFill>
                    </a:lnT>
                    <a:lnB w="5760">
                      <a:solidFill>
                        <a:srgbClr val="0046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9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Componenta de economisi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75"/>
                        </a:spcAft>
                        <a:buClr>
                          <a:srgbClr val="0046a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pensie suplimentară disponibilă după împlinirea vârstei de 60 de ani </a:t>
                      </a:r>
                      <a:r>
                        <a:rPr b="0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(+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6ad"/>
                      </a:solidFill>
                    </a:lnL>
                    <a:lnR w="5760">
                      <a:solidFill>
                        <a:srgbClr val="0046ad"/>
                      </a:solidFill>
                    </a:lnR>
                    <a:lnT w="5760">
                      <a:solidFill>
                        <a:srgbClr val="0046ad"/>
                      </a:solidFill>
                    </a:lnT>
                    <a:lnB w="5760">
                      <a:solidFill>
                        <a:srgbClr val="0046ad"/>
                      </a:solidFill>
                    </a:lnB>
                    <a:noFill/>
                  </a:tcPr>
                </a:tc>
              </a:tr>
              <a:tr h="12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9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Componenta investiţional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75"/>
                        </a:spcAft>
                        <a:buClr>
                          <a:srgbClr val="0046a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primele plătite cumpără unit-uri (unităţi de cont) în fondurile financiare constituite de asigurător în proporţia stabilită de benefici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6ad"/>
                      </a:solidFill>
                    </a:lnL>
                    <a:lnR w="5760">
                      <a:solidFill>
                        <a:srgbClr val="0046ad"/>
                      </a:solidFill>
                    </a:lnR>
                    <a:lnT w="5760">
                      <a:solidFill>
                        <a:srgbClr val="0046ad"/>
                      </a:solidFill>
                    </a:lnT>
                    <a:lnB w="5760">
                      <a:solidFill>
                        <a:srgbClr val="0046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9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Componenta investiţional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75"/>
                        </a:spcAft>
                        <a:buClr>
                          <a:srgbClr val="0046a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contribuţiile lunare (max. 15% din venitul brut </a:t>
                      </a:r>
                      <a:r>
                        <a:rPr b="0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(-)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sunt investite în diverse categorii de instrumente financiare, conform profilului de risc asumat de fondul de pensii al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6ad"/>
                      </a:solidFill>
                    </a:lnL>
                    <a:lnR w="5760">
                      <a:solidFill>
                        <a:srgbClr val="0046ad"/>
                      </a:solidFill>
                    </a:lnR>
                    <a:lnT w="5760">
                      <a:solidFill>
                        <a:srgbClr val="0046ad"/>
                      </a:solidFill>
                    </a:lnT>
                    <a:lnB w="5760">
                      <a:solidFill>
                        <a:srgbClr val="0046ad"/>
                      </a:solidFill>
                    </a:lnB>
                    <a:noFill/>
                  </a:tcPr>
                </a:tc>
              </a:tr>
              <a:tr h="13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9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Persoane eligibi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75"/>
                        </a:spcAft>
                        <a:buClr>
                          <a:srgbClr val="0046a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limită de vârstă </a:t>
                      </a:r>
                      <a:r>
                        <a:rPr b="0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(-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      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Femei cu vârsta cuprinsă între 18 şi 52 an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      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Bărbaţi cu vârsta cuprinsă între 18 şi 57 an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6ad"/>
                      </a:solidFill>
                    </a:lnL>
                    <a:lnR w="5760">
                      <a:solidFill>
                        <a:srgbClr val="0046ad"/>
                      </a:solidFill>
                    </a:lnR>
                    <a:lnT w="5760">
                      <a:solidFill>
                        <a:srgbClr val="0046ad"/>
                      </a:solidFill>
                    </a:lnT>
                    <a:lnB w="5760">
                      <a:solidFill>
                        <a:srgbClr val="0046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9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Persoane eligibi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75"/>
                        </a:spcAft>
                        <a:buClr>
                          <a:srgbClr val="0046a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limită de vârstă (</a:t>
                      </a:r>
                      <a:r>
                        <a:rPr b="0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-)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      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persoane cu vârsta cuprinsă între 18 şi 52,5 ani ce desfăşoară activităţi remunerate pe teritoriul statului româ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6ad"/>
                      </a:solidFill>
                    </a:lnL>
                    <a:lnR w="5760">
                      <a:solidFill>
                        <a:srgbClr val="0046ad"/>
                      </a:solidFill>
                    </a:lnR>
                    <a:lnT w="5760">
                      <a:solidFill>
                        <a:srgbClr val="0046ad"/>
                      </a:solidFill>
                    </a:lnT>
                    <a:lnB w="5760">
                      <a:solidFill>
                        <a:srgbClr val="0046a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"/>
          <p:cNvSpPr/>
          <p:nvPr/>
        </p:nvSpPr>
        <p:spPr>
          <a:xfrm>
            <a:off x="611280" y="6424560"/>
            <a:ext cx="5651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7ac9"/>
                </a:solidFill>
                <a:latin typeface="Arial"/>
              </a:rPr>
              <a:t>MEDIAFAX TALKS ABOUT PRIVATE PENSIONS  11 MAR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e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7813800" cy="11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7ac9"/>
                </a:solidFill>
                <a:latin typeface="Arial"/>
              </a:rPr>
              <a:t>Asigurări de viaţă vs. Pensii facultative – contribuţie şi costuri</a:t>
            </a:r>
            <a:endParaRPr b="0" lang="en-US" sz="32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9640" y="1989000"/>
            <a:ext cx="676908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4" marL="1397160" indent="-285840">
              <a:lnSpc>
                <a:spcPct val="75000"/>
              </a:lnSpc>
              <a:spcAft>
                <a:spcPts val="1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932040">
              <a:lnSpc>
                <a:spcPct val="75000"/>
              </a:lnSpc>
              <a:spcAft>
                <a:spcPts val="1125"/>
              </a:spcAft>
              <a:buClr>
                <a:srgbClr val="0046a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395280" y="1773360"/>
          <a:ext cx="8207280" cy="4606920"/>
        </p:xfrm>
        <a:graphic>
          <a:graphicData uri="http://schemas.openxmlformats.org/drawingml/2006/table">
            <a:tbl>
              <a:tblPr/>
              <a:tblGrid>
                <a:gridCol w="4105080"/>
                <a:gridCol w="4102200"/>
              </a:tblGrid>
              <a:tr h="532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Aft>
                          <a:spcPts val="18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Asigurări de viaţ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6ad"/>
                      </a:solidFill>
                    </a:lnL>
                    <a:lnR w="5760">
                      <a:solidFill>
                        <a:srgbClr val="0046ad"/>
                      </a:solidFill>
                    </a:lnR>
                    <a:lnT w="5760">
                      <a:solidFill>
                        <a:srgbClr val="0046ad"/>
                      </a:solidFill>
                    </a:lnT>
                    <a:lnB w="5760">
                      <a:solidFill>
                        <a:srgbClr val="0046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Aft>
                          <a:spcPts val="18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Pensii faculta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6ad"/>
                      </a:solidFill>
                    </a:lnL>
                    <a:lnR w="5760">
                      <a:solidFill>
                        <a:srgbClr val="0046ad"/>
                      </a:solidFill>
                    </a:lnR>
                    <a:lnT w="5760">
                      <a:solidFill>
                        <a:srgbClr val="0046ad"/>
                      </a:solidFill>
                    </a:lnT>
                    <a:lnB w="5760">
                      <a:solidFill>
                        <a:srgbClr val="0046ad"/>
                      </a:solidFill>
                    </a:lnB>
                    <a:noFill/>
                  </a:tcPr>
                </a:tc>
              </a:tr>
              <a:tr h="21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9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Contribuţie</a:t>
                      </a:r>
                      <a:r>
                        <a:rPr b="1" lang="ro-RO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75"/>
                        </a:spcAft>
                        <a:buClr>
                          <a:srgbClr val="0046a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prime a căror frecvenţă este stabilită de comun acord cu asigurătoru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75"/>
                        </a:spcAft>
                        <a:buClr>
                          <a:srgbClr val="0046a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nu există limită pentru primă sau valoarea asigurată </a:t>
                      </a:r>
                      <a:r>
                        <a:rPr b="0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(+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75"/>
                        </a:spcAft>
                        <a:buClr>
                          <a:srgbClr val="0046a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persistenţă mai mică decât în cazul pensiilor</a:t>
                      </a:r>
                      <a:r>
                        <a:rPr b="0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 (+/-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6ad"/>
                      </a:solidFill>
                    </a:lnL>
                    <a:lnR w="5760">
                      <a:solidFill>
                        <a:srgbClr val="0046ad"/>
                      </a:solidFill>
                    </a:lnR>
                    <a:lnT w="5760">
                      <a:solidFill>
                        <a:srgbClr val="0046ad"/>
                      </a:solidFill>
                    </a:lnT>
                    <a:lnB w="5760">
                      <a:solidFill>
                        <a:srgbClr val="0046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9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Contribuţi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75"/>
                        </a:spcAft>
                        <a:buClr>
                          <a:srgbClr val="0046a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contribuţie lunară în limita a 15% din venitul brut al participantulu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75"/>
                        </a:spcAft>
                        <a:buClr>
                          <a:srgbClr val="0046a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contribuţia poate veni din partea beneficiarului sau a angajatorului </a:t>
                      </a:r>
                      <a:r>
                        <a:rPr b="0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(+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75"/>
                        </a:spcAft>
                        <a:buClr>
                          <a:srgbClr val="0046a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deductibilitate fiscală</a:t>
                      </a:r>
                      <a:r>
                        <a:rPr b="1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(+)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în limita a 200 euro anual (momentan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75"/>
                        </a:spcAft>
                        <a:buClr>
                          <a:srgbClr val="0046a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sistem de colectare mai eficient </a:t>
                      </a:r>
                      <a:r>
                        <a:rPr b="0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(+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6ad"/>
                      </a:solidFill>
                    </a:lnL>
                    <a:lnR w="5760">
                      <a:solidFill>
                        <a:srgbClr val="0046ad"/>
                      </a:solidFill>
                    </a:lnR>
                    <a:lnT w="5760">
                      <a:solidFill>
                        <a:srgbClr val="0046ad"/>
                      </a:solidFill>
                    </a:lnT>
                    <a:lnB w="5760">
                      <a:solidFill>
                        <a:srgbClr val="0046ad"/>
                      </a:solidFill>
                    </a:lnB>
                    <a:noFill/>
                  </a:tcPr>
                </a:tc>
              </a:tr>
              <a:tr h="190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9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Costuri - mai mari </a:t>
                      </a:r>
                      <a:r>
                        <a:rPr b="0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(-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75"/>
                        </a:spcAft>
                        <a:buClr>
                          <a:srgbClr val="0046a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comision cumpărare unit-ur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75"/>
                        </a:spcAft>
                        <a:buClr>
                          <a:srgbClr val="0046a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comision administrar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75"/>
                        </a:spcAft>
                        <a:buClr>
                          <a:srgbClr val="0046a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comision de acoperire a riscului asigura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75"/>
                        </a:spcAft>
                        <a:buClr>
                          <a:srgbClr val="0046a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comision aplicat unit-urilor initia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75"/>
                        </a:spcAft>
                        <a:buClr>
                          <a:srgbClr val="0046a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comision distribuţi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6ad"/>
                      </a:solidFill>
                    </a:lnL>
                    <a:lnR w="5760">
                      <a:solidFill>
                        <a:srgbClr val="0046ad"/>
                      </a:solidFill>
                    </a:lnR>
                    <a:lnT w="5760">
                      <a:solidFill>
                        <a:srgbClr val="0046ad"/>
                      </a:solidFill>
                    </a:lnT>
                    <a:lnB w="5760">
                      <a:solidFill>
                        <a:srgbClr val="0046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9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Costuri – scăzute </a:t>
                      </a:r>
                      <a:r>
                        <a:rPr b="0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(+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75"/>
                        </a:spcAft>
                        <a:buClr>
                          <a:srgbClr val="0046a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comision iniţial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75"/>
                        </a:spcAft>
                        <a:buClr>
                          <a:srgbClr val="0046a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comision administra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6ad"/>
                      </a:solidFill>
                    </a:lnL>
                    <a:lnR w="5760">
                      <a:solidFill>
                        <a:srgbClr val="0046ad"/>
                      </a:solidFill>
                    </a:lnR>
                    <a:lnT w="5760">
                      <a:solidFill>
                        <a:srgbClr val="0046ad"/>
                      </a:solidFill>
                    </a:lnT>
                    <a:lnB w="5760">
                      <a:solidFill>
                        <a:srgbClr val="0046a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4" name=""/>
          <p:cNvSpPr/>
          <p:nvPr/>
        </p:nvSpPr>
        <p:spPr>
          <a:xfrm>
            <a:off x="611280" y="6424560"/>
            <a:ext cx="5651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7ac9"/>
                </a:solidFill>
                <a:latin typeface="Arial"/>
              </a:rPr>
              <a:t>MEDIAFAX TALKS ABOUT PRIVATE PENSIONS  11 MAR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e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774072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7ac9"/>
                </a:solidFill>
                <a:latin typeface="Arial"/>
              </a:rPr>
              <a:t>Asigurări de viaţă vs. Pensii facultative – beneficii şi randamente</a:t>
            </a:r>
            <a:endParaRPr b="0" lang="en-US" sz="3200" spc="-1" strike="noStrike">
              <a:solidFill>
                <a:srgbClr val="0072bc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684360" y="1844640"/>
          <a:ext cx="7775280" cy="4457880"/>
        </p:xfrm>
        <a:graphic>
          <a:graphicData uri="http://schemas.openxmlformats.org/drawingml/2006/table">
            <a:tbl>
              <a:tblPr/>
              <a:tblGrid>
                <a:gridCol w="3887640"/>
                <a:gridCol w="3887640"/>
              </a:tblGrid>
              <a:tr h="82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Aft>
                          <a:spcPts val="18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Asigurări de viaţ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6ad"/>
                      </a:solidFill>
                    </a:lnL>
                    <a:lnR w="5760">
                      <a:solidFill>
                        <a:srgbClr val="0046ad"/>
                      </a:solidFill>
                    </a:lnR>
                    <a:lnT w="5760">
                      <a:solidFill>
                        <a:srgbClr val="0046ad"/>
                      </a:solidFill>
                    </a:lnT>
                    <a:lnB w="5760">
                      <a:solidFill>
                        <a:srgbClr val="0046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Aft>
                          <a:spcPts val="18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Pensii faculta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6ad"/>
                      </a:solidFill>
                    </a:lnL>
                    <a:lnR w="5760">
                      <a:solidFill>
                        <a:srgbClr val="0046ad"/>
                      </a:solidFill>
                    </a:lnR>
                    <a:lnT w="5760">
                      <a:solidFill>
                        <a:srgbClr val="0046ad"/>
                      </a:solidFill>
                    </a:lnT>
                    <a:lnB w="5760">
                      <a:solidFill>
                        <a:srgbClr val="0046ad"/>
                      </a:solidFill>
                    </a:lnB>
                    <a:noFill/>
                  </a:tcPr>
                </a:tc>
              </a:tr>
              <a:tr h="16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9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Benefici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75"/>
                        </a:spcAft>
                        <a:buClr>
                          <a:srgbClr val="0046a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în caz de deces, plata sumei asigurate / valorii contului (dacă este superior sumei asigurate) </a:t>
                      </a:r>
                      <a:r>
                        <a:rPr b="0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(+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75"/>
                        </a:spcAft>
                        <a:buClr>
                          <a:srgbClr val="0046a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preluarea plăţii primelor în caz de accident </a:t>
                      </a:r>
                      <a:r>
                        <a:rPr b="0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(+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6ad"/>
                      </a:solidFill>
                    </a:lnL>
                    <a:lnR w="5760">
                      <a:solidFill>
                        <a:srgbClr val="0046ad"/>
                      </a:solidFill>
                    </a:lnR>
                    <a:lnT w="5760">
                      <a:solidFill>
                        <a:srgbClr val="0046ad"/>
                      </a:solidFill>
                    </a:lnT>
                    <a:lnB w="5760">
                      <a:solidFill>
                        <a:srgbClr val="0046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9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Benefici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75"/>
                        </a:spcAft>
                        <a:buClr>
                          <a:srgbClr val="0046a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plata unei pensii suplimentare lunare odată cu ieşirea la pensie </a:t>
                      </a:r>
                      <a:r>
                        <a:rPr b="0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(+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75"/>
                        </a:spcAft>
                        <a:buClr>
                          <a:srgbClr val="59b33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folosirea activului personal acumulat în caz de invaliditate</a:t>
                      </a:r>
                      <a:r>
                        <a:rPr b="0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 (+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75"/>
                        </a:spcAft>
                        <a:buClr>
                          <a:srgbClr val="59b33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există un mecanism de garantare al contribuţţil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6ad"/>
                      </a:solidFill>
                    </a:lnL>
                    <a:lnR w="5760">
                      <a:solidFill>
                        <a:srgbClr val="0046ad"/>
                      </a:solidFill>
                    </a:lnR>
                    <a:lnT w="5760">
                      <a:solidFill>
                        <a:srgbClr val="0046ad"/>
                      </a:solidFill>
                    </a:lnT>
                    <a:lnB w="5760">
                      <a:solidFill>
                        <a:srgbClr val="0046ad"/>
                      </a:solidFill>
                    </a:lnB>
                    <a:noFill/>
                  </a:tcPr>
                </a:tc>
              </a:tr>
              <a:tr h="197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9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Randamen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75"/>
                        </a:spcAft>
                        <a:buClr>
                          <a:srgbClr val="0046a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randamente mai mici (datorită costurilor de protecţie) </a:t>
                      </a:r>
                      <a:r>
                        <a:rPr b="0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(-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75"/>
                        </a:spcAft>
                        <a:buClr>
                          <a:srgbClr val="0046a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investiţii prudente în instrumente cu grad de risc scăzut</a:t>
                      </a:r>
                      <a:r>
                        <a:rPr b="0" lang="en-US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(+/-)</a:t>
                      </a:r>
                      <a:r>
                        <a:rPr b="0" lang="en-US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= 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randamente scăzute datorită specificului activităţii de asigurare</a:t>
                      </a:r>
                      <a:r>
                        <a:rPr b="0" lang="en-US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6ad"/>
                      </a:solidFill>
                    </a:lnL>
                    <a:lnR w="5760">
                      <a:solidFill>
                        <a:srgbClr val="0046ad"/>
                      </a:solidFill>
                    </a:lnR>
                    <a:lnT w="5760">
                      <a:solidFill>
                        <a:srgbClr val="0046ad"/>
                      </a:solidFill>
                    </a:lnT>
                    <a:lnB w="5760">
                      <a:solidFill>
                        <a:srgbClr val="0046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9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Randamen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75"/>
                        </a:spcAft>
                        <a:buClr>
                          <a:srgbClr val="0046a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Administrare mai dinamică </a:t>
                      </a:r>
                      <a:r>
                        <a:rPr b="0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(+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75"/>
                        </a:spcAft>
                        <a:buClr>
                          <a:srgbClr val="0046a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Randamente superioare datorită competiţiei dintre administratorii de fonduri de pensii </a:t>
                      </a:r>
                      <a:r>
                        <a:rPr b="0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(+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75"/>
                        </a:spcAft>
                        <a:buClr>
                          <a:srgbClr val="0046a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Orizont de timp îndelungat </a:t>
                      </a:r>
                      <a:r>
                        <a:rPr b="0" lang="en-US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=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capitalizare mai bună </a:t>
                      </a:r>
                      <a:r>
                        <a:rPr b="0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(+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6ad"/>
                      </a:solidFill>
                    </a:lnL>
                    <a:lnR w="5760">
                      <a:solidFill>
                        <a:srgbClr val="0046ad"/>
                      </a:solidFill>
                    </a:lnR>
                    <a:lnT w="5760">
                      <a:solidFill>
                        <a:srgbClr val="0046ad"/>
                      </a:solidFill>
                    </a:lnT>
                    <a:lnB w="5760">
                      <a:solidFill>
                        <a:srgbClr val="0046a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7" name=""/>
          <p:cNvSpPr/>
          <p:nvPr/>
        </p:nvSpPr>
        <p:spPr>
          <a:xfrm>
            <a:off x="611280" y="6424560"/>
            <a:ext cx="5651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7ac9"/>
                </a:solidFill>
                <a:latin typeface="Arial"/>
              </a:rPr>
              <a:t>MEDIAFAX TALKS ABOUT PRIVATE PENSIONS  11 MAR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e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-360" y="404280"/>
            <a:ext cx="8280360" cy="11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72bc"/>
                </a:solidFill>
                <a:latin typeface="Arial"/>
              </a:rPr>
              <a:t>Fondurile mutuale vs. Pensiile facultative </a:t>
            </a:r>
            <a:endParaRPr b="0" lang="en-US" sz="3200" spc="-1" strike="noStrike">
              <a:solidFill>
                <a:srgbClr val="0072bc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611280" y="1739880"/>
          <a:ext cx="7992720" cy="4703760"/>
        </p:xfrm>
        <a:graphic>
          <a:graphicData uri="http://schemas.openxmlformats.org/drawingml/2006/table">
            <a:tbl>
              <a:tblPr/>
              <a:tblGrid>
                <a:gridCol w="3997800"/>
                <a:gridCol w="3994920"/>
              </a:tblGrid>
              <a:tr h="78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Aft>
                          <a:spcPts val="18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Fonduri mutu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6ad"/>
                      </a:solidFill>
                    </a:lnL>
                    <a:lnR w="5760">
                      <a:solidFill>
                        <a:srgbClr val="0046ad"/>
                      </a:solidFill>
                    </a:lnR>
                    <a:lnT w="5760">
                      <a:solidFill>
                        <a:srgbClr val="0046ad"/>
                      </a:solidFill>
                    </a:lnT>
                    <a:lnB w="5760">
                      <a:solidFill>
                        <a:srgbClr val="0046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Aft>
                          <a:spcPts val="18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Pensii faculta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6ad"/>
                      </a:solidFill>
                    </a:lnL>
                    <a:lnR w="5760">
                      <a:solidFill>
                        <a:srgbClr val="0046ad"/>
                      </a:solidFill>
                    </a:lnR>
                    <a:lnT w="5760">
                      <a:solidFill>
                        <a:srgbClr val="0046ad"/>
                      </a:solidFill>
                    </a:lnT>
                    <a:lnB w="5760">
                      <a:solidFill>
                        <a:srgbClr val="0046ad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9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Obiectiv: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creşterea activelor personale pe termen mediu şi lung </a:t>
                      </a:r>
                      <a:r>
                        <a:rPr b="0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(+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6ad"/>
                      </a:solidFill>
                    </a:lnL>
                    <a:lnR w="5760">
                      <a:solidFill>
                        <a:srgbClr val="0046ad"/>
                      </a:solidFill>
                    </a:lnR>
                    <a:lnT w="5760">
                      <a:solidFill>
                        <a:srgbClr val="0046ad"/>
                      </a:solidFill>
                    </a:lnT>
                    <a:lnB w="5760">
                      <a:solidFill>
                        <a:srgbClr val="0046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Obiectiv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: O sumă mai mare după ieşirea la pensi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6ad"/>
                      </a:solidFill>
                    </a:lnL>
                    <a:lnR w="5760">
                      <a:solidFill>
                        <a:srgbClr val="0046ad"/>
                      </a:solidFill>
                    </a:lnR>
                    <a:lnT w="5760">
                      <a:solidFill>
                        <a:srgbClr val="0046ad"/>
                      </a:solidFill>
                    </a:lnT>
                    <a:lnB w="5760">
                      <a:solidFill>
                        <a:srgbClr val="0046ad"/>
                      </a:solidFill>
                    </a:lnB>
                    <a:noFill/>
                  </a:tcPr>
                </a:tc>
              </a:tr>
              <a:tr h="875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9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Componenta investiţional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75"/>
                        </a:spcAft>
                        <a:buClr>
                          <a:srgbClr val="0046a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sumele investite sunt destinate cumpărării de unităţi de investiţie în fondul de investiţii al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6ad"/>
                      </a:solidFill>
                    </a:lnL>
                    <a:lnR w="5760">
                      <a:solidFill>
                        <a:srgbClr val="0046ad"/>
                      </a:solidFill>
                    </a:lnR>
                    <a:lnT w="5760">
                      <a:solidFill>
                        <a:srgbClr val="0046ad"/>
                      </a:solidFill>
                    </a:lnT>
                    <a:lnB w="5760">
                      <a:solidFill>
                        <a:srgbClr val="0046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9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Componenta de economisi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75"/>
                        </a:spcAft>
                        <a:buClr>
                          <a:srgbClr val="0046a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pensie suplimentară disponibilă după împlinirea vârstei de 60 de ani </a:t>
                      </a:r>
                      <a:r>
                        <a:rPr b="0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(+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6ad"/>
                      </a:solidFill>
                    </a:lnL>
                    <a:lnR w="5760">
                      <a:solidFill>
                        <a:srgbClr val="0046ad"/>
                      </a:solidFill>
                    </a:lnR>
                    <a:lnT w="5760">
                      <a:solidFill>
                        <a:srgbClr val="0046ad"/>
                      </a:solidFill>
                    </a:lnT>
                    <a:lnB w="5760">
                      <a:solidFill>
                        <a:srgbClr val="0046ad"/>
                      </a:solidFill>
                    </a:lnB>
                    <a:noFill/>
                  </a:tcPr>
                </a:tc>
              </a:tr>
              <a:tr h="121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9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Componenta investiţional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75"/>
                        </a:spcAft>
                        <a:buClr>
                          <a:srgbClr val="0046a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contribuţiile lunare (max. 15% din venitul brut) </a:t>
                      </a:r>
                      <a:r>
                        <a:rPr b="0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(-)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sunt investite în diverse categorii de instrumente financiare, conform profilului de risc asumat de fondul de pensii al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6ad"/>
                      </a:solidFill>
                    </a:lnL>
                    <a:lnR w="5760">
                      <a:solidFill>
                        <a:srgbClr val="0046ad"/>
                      </a:solidFill>
                    </a:lnR>
                    <a:lnT w="5760">
                      <a:solidFill>
                        <a:srgbClr val="0046ad"/>
                      </a:solidFill>
                    </a:lnT>
                    <a:lnB w="5760">
                      <a:solidFill>
                        <a:srgbClr val="0046ad"/>
                      </a:solidFill>
                    </a:lnB>
                    <a:noFill/>
                  </a:tcPr>
                </a:tc>
              </a:tr>
              <a:tr h="13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9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Persoane eligibi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75"/>
                        </a:spcAft>
                        <a:buClr>
                          <a:srgbClr val="0046a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nu există limită de vârstă </a:t>
                      </a:r>
                      <a:r>
                        <a:rPr b="0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(+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6ad"/>
                      </a:solidFill>
                    </a:lnL>
                    <a:lnR w="5760">
                      <a:solidFill>
                        <a:srgbClr val="0046ad"/>
                      </a:solidFill>
                    </a:lnR>
                    <a:lnT w="5760">
                      <a:solidFill>
                        <a:srgbClr val="0046ad"/>
                      </a:solidFill>
                    </a:lnT>
                    <a:lnB w="5760">
                      <a:solidFill>
                        <a:srgbClr val="0046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9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Persoane eligibi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75"/>
                        </a:spcAft>
                        <a:buClr>
                          <a:srgbClr val="0046a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limită de vârstă </a:t>
                      </a:r>
                      <a:r>
                        <a:rPr b="0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(-)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        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persoane cu vârsta cuprinsă între 18 şi 52,5 ani ce desfăşoară activităţi remunerate pe teritoriul statului româ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6ad"/>
                      </a:solidFill>
                    </a:lnL>
                    <a:lnR w="5760">
                      <a:solidFill>
                        <a:srgbClr val="0046ad"/>
                      </a:solidFill>
                    </a:lnR>
                    <a:lnT w="5760">
                      <a:solidFill>
                        <a:srgbClr val="0046ad"/>
                      </a:solidFill>
                    </a:lnT>
                    <a:lnB w="5760">
                      <a:solidFill>
                        <a:srgbClr val="0046a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" name=""/>
          <p:cNvSpPr/>
          <p:nvPr/>
        </p:nvSpPr>
        <p:spPr>
          <a:xfrm>
            <a:off x="611280" y="6424560"/>
            <a:ext cx="5651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7ac9"/>
                </a:solidFill>
                <a:latin typeface="Arial"/>
              </a:rPr>
              <a:t>MEDIAFAX TALKS ABOUT PRIVATE PENSIONS  11 MAR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e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813440" cy="11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7ac9"/>
                </a:solidFill>
                <a:latin typeface="Arial"/>
              </a:rPr>
              <a:t>Fonduri mutuale vs. Pensii facultative – contribuţie şi costuri</a:t>
            </a:r>
            <a:endParaRPr b="0" lang="en-US" sz="3200" spc="-1" strike="noStrike">
              <a:solidFill>
                <a:srgbClr val="0072bc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39640" y="1989000"/>
            <a:ext cx="676908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4" marL="1397160" indent="-285840">
              <a:lnSpc>
                <a:spcPct val="75000"/>
              </a:lnSpc>
              <a:spcAft>
                <a:spcPts val="1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932040">
              <a:lnSpc>
                <a:spcPct val="75000"/>
              </a:lnSpc>
              <a:spcAft>
                <a:spcPts val="1125"/>
              </a:spcAft>
              <a:buClr>
                <a:srgbClr val="0046a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395280" y="1844640"/>
          <a:ext cx="8424720" cy="4368960"/>
        </p:xfrm>
        <a:graphic>
          <a:graphicData uri="http://schemas.openxmlformats.org/drawingml/2006/table">
            <a:tbl>
              <a:tblPr/>
              <a:tblGrid>
                <a:gridCol w="4248000"/>
                <a:gridCol w="4176720"/>
              </a:tblGrid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Aft>
                          <a:spcPts val="18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Fonduri mutu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6ad"/>
                      </a:solidFill>
                    </a:lnL>
                    <a:lnR w="5760">
                      <a:solidFill>
                        <a:srgbClr val="0046ad"/>
                      </a:solidFill>
                    </a:lnR>
                    <a:lnT w="5760">
                      <a:solidFill>
                        <a:srgbClr val="0046ad"/>
                      </a:solidFill>
                    </a:lnT>
                    <a:lnB w="5760">
                      <a:solidFill>
                        <a:srgbClr val="0046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Aft>
                          <a:spcPts val="18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Pensii faculta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6ad"/>
                      </a:solidFill>
                    </a:lnL>
                    <a:lnR w="5760">
                      <a:solidFill>
                        <a:srgbClr val="0046ad"/>
                      </a:solidFill>
                    </a:lnR>
                    <a:lnT w="5760">
                      <a:solidFill>
                        <a:srgbClr val="0046ad"/>
                      </a:solidFill>
                    </a:lnT>
                    <a:lnB w="5760">
                      <a:solidFill>
                        <a:srgbClr val="0046ad"/>
                      </a:solidFill>
                    </a:lnB>
                    <a:noFill/>
                  </a:tcPr>
                </a:tc>
              </a:tr>
              <a:tr h="21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9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Contribuţi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75"/>
                        </a:spcAft>
                        <a:buClr>
                          <a:srgbClr val="0046a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Accesibilitate mare - investiţiile pot fi făcute oricând şi cu orice sumă </a:t>
                      </a:r>
                      <a:r>
                        <a:rPr b="0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(+)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75"/>
                        </a:spcAft>
                        <a:buClr>
                          <a:srgbClr val="0046a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6ad"/>
                      </a:solidFill>
                    </a:lnL>
                    <a:lnR w="5760">
                      <a:solidFill>
                        <a:srgbClr val="0046ad"/>
                      </a:solidFill>
                    </a:lnR>
                    <a:lnT w="5760">
                      <a:solidFill>
                        <a:srgbClr val="0046ad"/>
                      </a:solidFill>
                    </a:lnT>
                    <a:lnB w="5760">
                      <a:solidFill>
                        <a:srgbClr val="0046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9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Contribuţi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75"/>
                        </a:spcAft>
                        <a:buClr>
                          <a:srgbClr val="0046a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contribuţie lunară în limita a 15% din venitul brut al participantulu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75"/>
                        </a:spcAft>
                        <a:buClr>
                          <a:srgbClr val="0046a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contribuţia poate veni din partea beneficiarului sau a angajatorului </a:t>
                      </a:r>
                      <a:r>
                        <a:rPr b="0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(+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75"/>
                        </a:spcAft>
                        <a:buClr>
                          <a:srgbClr val="0046a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</a:t>
                      </a:r>
                      <a:r>
                        <a:rPr b="1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deductibilitate fiscală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(+) 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în limita a 200 euro anual (momentan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75"/>
                        </a:spcAft>
                        <a:buClr>
                          <a:srgbClr val="0046a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sistem de colectare mai eficient </a:t>
                      </a:r>
                      <a:r>
                        <a:rPr b="0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(+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6ad"/>
                      </a:solidFill>
                    </a:lnL>
                    <a:lnR w="5760">
                      <a:solidFill>
                        <a:srgbClr val="0046ad"/>
                      </a:solidFill>
                    </a:lnR>
                    <a:lnT w="5760">
                      <a:solidFill>
                        <a:srgbClr val="0046ad"/>
                      </a:solidFill>
                    </a:lnT>
                    <a:lnB w="5760">
                      <a:solidFill>
                        <a:srgbClr val="0046ad"/>
                      </a:solidFill>
                    </a:lnB>
                    <a:noFill/>
                  </a:tcPr>
                </a:tc>
              </a:tr>
              <a:tr h="16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9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Costuri – foarte mici </a:t>
                      </a:r>
                      <a:r>
                        <a:rPr b="0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(+)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75"/>
                        </a:spcAft>
                        <a:buClr>
                          <a:srgbClr val="0046a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comision cumpărare unităţi de fond 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75"/>
                        </a:spcAft>
                        <a:buClr>
                          <a:srgbClr val="0046a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comision răscumpărare mic (max.3%, în cazul fondurilor administrate de Certinvest), redus la 0% după o anumită perioadă de deţine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75"/>
                        </a:spcAft>
                        <a:buClr>
                          <a:srgbClr val="0046a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comision administrare scăzu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6ad"/>
                      </a:solidFill>
                    </a:lnL>
                    <a:lnR w="5760">
                      <a:solidFill>
                        <a:srgbClr val="0046ad"/>
                      </a:solidFill>
                    </a:lnR>
                    <a:lnT w="5760">
                      <a:solidFill>
                        <a:srgbClr val="0046ad"/>
                      </a:solidFill>
                    </a:lnT>
                    <a:lnB w="5760">
                      <a:solidFill>
                        <a:srgbClr val="0046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9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Costuri – scăzute </a:t>
                      </a:r>
                      <a:r>
                        <a:rPr b="0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(+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75"/>
                        </a:spcAft>
                        <a:buClr>
                          <a:srgbClr val="0046a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comision iniţial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75"/>
                        </a:spcAft>
                        <a:buClr>
                          <a:srgbClr val="0046a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comision administra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6ad"/>
                      </a:solidFill>
                    </a:lnL>
                    <a:lnR w="5760">
                      <a:solidFill>
                        <a:srgbClr val="0046ad"/>
                      </a:solidFill>
                    </a:lnR>
                    <a:lnT w="5760">
                      <a:solidFill>
                        <a:srgbClr val="0046ad"/>
                      </a:solidFill>
                    </a:lnT>
                    <a:lnB w="5760">
                      <a:solidFill>
                        <a:srgbClr val="0046a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4" name=""/>
          <p:cNvSpPr/>
          <p:nvPr/>
        </p:nvSpPr>
        <p:spPr>
          <a:xfrm>
            <a:off x="611280" y="6424560"/>
            <a:ext cx="5651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7ac9"/>
                </a:solidFill>
                <a:latin typeface="Arial"/>
              </a:rPr>
              <a:t>MEDIAFAX TALKS ABOUT PRIVATE PENSIONS  11 MAR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e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7597800" cy="11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7ac9"/>
                </a:solidFill>
                <a:latin typeface="Arial"/>
              </a:rPr>
              <a:t>Fonduri mutuale vs. Pensii facultative – beneficii şi randamente</a:t>
            </a:r>
            <a:endParaRPr b="0" lang="en-US" sz="3200" spc="-1" strike="noStrike">
              <a:solidFill>
                <a:srgbClr val="0072bc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534960" y="1681200"/>
          <a:ext cx="8137440" cy="4800600"/>
        </p:xfrm>
        <a:graphic>
          <a:graphicData uri="http://schemas.openxmlformats.org/drawingml/2006/table">
            <a:tbl>
              <a:tblPr/>
              <a:tblGrid>
                <a:gridCol w="4070160"/>
                <a:gridCol w="4067280"/>
              </a:tblGrid>
              <a:tr h="97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Aft>
                          <a:spcPts val="18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Fonduri mutu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6ad"/>
                      </a:solidFill>
                    </a:lnL>
                    <a:lnR w="5760">
                      <a:solidFill>
                        <a:srgbClr val="0046ad"/>
                      </a:solidFill>
                    </a:lnR>
                    <a:lnT w="5760">
                      <a:solidFill>
                        <a:srgbClr val="0046ad"/>
                      </a:solidFill>
                    </a:lnT>
                    <a:lnB w="5760">
                      <a:solidFill>
                        <a:srgbClr val="0046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Aft>
                          <a:spcPts val="18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Pensii faculta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6ad"/>
                      </a:solidFill>
                    </a:lnL>
                    <a:lnR w="5760">
                      <a:solidFill>
                        <a:srgbClr val="0046ad"/>
                      </a:solidFill>
                    </a:lnR>
                    <a:lnT w="5760">
                      <a:solidFill>
                        <a:srgbClr val="0046ad"/>
                      </a:solidFill>
                    </a:lnT>
                    <a:lnB w="5760">
                      <a:solidFill>
                        <a:srgbClr val="0046ad"/>
                      </a:solidFill>
                    </a:lnB>
                    <a:noFill/>
                  </a:tcPr>
                </a:tc>
              </a:tr>
              <a:tr h="16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9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Benefici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75"/>
                        </a:spcAft>
                        <a:buClr>
                          <a:srgbClr val="0046a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răscumpărările pot fi făcute oricând şi pentru orice sumă </a:t>
                      </a:r>
                      <a:r>
                        <a:rPr b="0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(+/-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6ad"/>
                      </a:solidFill>
                    </a:lnL>
                    <a:lnR w="5760">
                      <a:solidFill>
                        <a:srgbClr val="0046ad"/>
                      </a:solidFill>
                    </a:lnR>
                    <a:lnT w="5760">
                      <a:solidFill>
                        <a:srgbClr val="0046ad"/>
                      </a:solidFill>
                    </a:lnT>
                    <a:lnB w="5760">
                      <a:solidFill>
                        <a:srgbClr val="0046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9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Benefici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75"/>
                        </a:spcAft>
                        <a:buClr>
                          <a:srgbClr val="0046a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plata unei pensii suplimentare lunare odată cu ieşirea la pensie </a:t>
                      </a:r>
                      <a:r>
                        <a:rPr b="0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(+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75"/>
                        </a:spcAft>
                        <a:buClr>
                          <a:srgbClr val="59b33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folosirea activului personal acumulat în caz de invaliditate</a:t>
                      </a:r>
                      <a:r>
                        <a:rPr b="0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 (+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6ad"/>
                      </a:solidFill>
                    </a:lnL>
                    <a:lnR w="5760">
                      <a:solidFill>
                        <a:srgbClr val="0046ad"/>
                      </a:solidFill>
                    </a:lnR>
                    <a:lnT w="5760">
                      <a:solidFill>
                        <a:srgbClr val="0046ad"/>
                      </a:solidFill>
                    </a:lnT>
                    <a:lnB w="5760">
                      <a:solidFill>
                        <a:srgbClr val="0046ad"/>
                      </a:solidFill>
                    </a:lnB>
                    <a:noFill/>
                  </a:tcPr>
                </a:tc>
              </a:tr>
              <a:tr h="21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9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Randamente – superioare altor tipuri de investiţii </a:t>
                      </a:r>
                      <a:r>
                        <a:rPr b="0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(+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randamente mai mari, datorită profilului investiţional al fondului al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75"/>
                        </a:spcAft>
                        <a:buClr>
                          <a:srgbClr val="0046a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Istoric al performanţelor superior dobânzilor banca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75"/>
                        </a:spcAft>
                        <a:buClr>
                          <a:srgbClr val="0046a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Concurenţă puternică pe piaţa fondurilor mutuale între administrator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6ad"/>
                      </a:solidFill>
                    </a:lnL>
                    <a:lnR w="5760">
                      <a:solidFill>
                        <a:srgbClr val="0046ad"/>
                      </a:solidFill>
                    </a:lnR>
                    <a:lnT w="5760">
                      <a:solidFill>
                        <a:srgbClr val="0046ad"/>
                      </a:solidFill>
                    </a:lnT>
                    <a:lnB w="5760">
                      <a:solidFill>
                        <a:srgbClr val="0046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9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Randamen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75"/>
                        </a:spcAft>
                        <a:buClr>
                          <a:srgbClr val="0046a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Risc asumat mai mic - administrare mai puţin dinamică </a:t>
                      </a:r>
                      <a:r>
                        <a:rPr b="0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(+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Randamente superioare datorită competiţiei dintre administratorii de fonduri de pensii </a:t>
                      </a:r>
                      <a:r>
                        <a:rPr b="0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(+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Orizont de timp îndelungat </a:t>
                      </a:r>
                      <a:r>
                        <a:rPr b="0" lang="en-US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=</a:t>
                      </a:r>
                      <a:r>
                        <a:rPr b="0" lang="ro-RO" sz="1300" spc="-1" strike="noStrike">
                          <a:solidFill>
                            <a:srgbClr val="0046ad"/>
                          </a:solidFill>
                          <a:latin typeface="Arial"/>
                        </a:rPr>
                        <a:t> capitalizare mai bună </a:t>
                      </a:r>
                      <a:r>
                        <a:rPr b="0" lang="ro-RO" sz="1300" spc="-1" strike="noStrike">
                          <a:solidFill>
                            <a:srgbClr val="59b337"/>
                          </a:solidFill>
                          <a:latin typeface="Arial"/>
                        </a:rPr>
                        <a:t>(+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9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46ad"/>
                      </a:solidFill>
                    </a:lnL>
                    <a:lnR w="5760">
                      <a:solidFill>
                        <a:srgbClr val="0046ad"/>
                      </a:solidFill>
                    </a:lnR>
                    <a:lnT w="5760">
                      <a:solidFill>
                        <a:srgbClr val="0046ad"/>
                      </a:solidFill>
                    </a:lnT>
                    <a:lnB w="5760">
                      <a:solidFill>
                        <a:srgbClr val="0046a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7" name=""/>
          <p:cNvSpPr/>
          <p:nvPr/>
        </p:nvSpPr>
        <p:spPr>
          <a:xfrm>
            <a:off x="611280" y="6424560"/>
            <a:ext cx="5651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7ac9"/>
                </a:solidFill>
                <a:latin typeface="Arial"/>
              </a:rPr>
              <a:t>MEDIAFAX TALKS ABOUT PRIVATE PENSIONS  11 MAR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e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388944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14480" indent="0"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59b337"/>
                </a:solidFill>
                <a:latin typeface="Arial"/>
              </a:rPr>
              <a:t>Interdependenţă</a:t>
            </a:r>
            <a:r>
              <a:rPr b="0" lang="ro-RO" sz="1500" spc="-1" strike="noStrike">
                <a:solidFill>
                  <a:srgbClr val="0046ad"/>
                </a:solidFill>
                <a:latin typeface="Arial"/>
              </a:rPr>
              <a:t> - fondurile mutuale se constituie într-un instrument investiţional important pentru fondurile de pensi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59b337"/>
                </a:solidFill>
                <a:latin typeface="Arial"/>
              </a:rPr>
              <a:t>Complementaritate</a:t>
            </a:r>
            <a:r>
              <a:rPr b="1" lang="ro-RO" sz="15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ro-RO" sz="1500" spc="-1" strike="noStrike">
                <a:solidFill>
                  <a:srgbClr val="0046ad"/>
                </a:solidFill>
                <a:latin typeface="Arial"/>
              </a:rPr>
              <a:t>- prin deţinerile de fonduri mutuale, fondurile de pensii îşi asigură dispersia plasamentelor pe portofolii active diferite, şi implicit diminuarea riscului</a:t>
            </a:r>
            <a:r>
              <a:rPr b="0" lang="ro-RO" sz="1500" spc="-1" strike="noStrike">
                <a:solidFill>
                  <a:srgbClr val="59b337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284360" y="4237200"/>
            <a:ext cx="4537080" cy="22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84320" indent="0"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59b337"/>
                </a:solidFill>
                <a:latin typeface="Arial"/>
              </a:rPr>
              <a:t>Alternativă pentru persoane neeligibile</a:t>
            </a:r>
            <a:r>
              <a:rPr b="0" lang="ro-RO" sz="1500" spc="-1" strike="noStrike">
                <a:solidFill>
                  <a:srgbClr val="0046ad"/>
                </a:solidFill>
                <a:latin typeface="Arial"/>
              </a:rPr>
              <a:t> - fondurile de investiţii constituie o alternativă pentru cei care au depăşit vârsta limită pentru participarea la pilonul II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84320" indent="0"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500" spc="-1" strike="noStrike">
                <a:solidFill>
                  <a:srgbClr val="59b337"/>
                </a:solidFill>
                <a:latin typeface="Arial"/>
              </a:rPr>
              <a:t>Cultură de produs</a:t>
            </a:r>
            <a:r>
              <a:rPr b="0" lang="ro-RO" sz="1500" spc="-1" strike="noStrike">
                <a:solidFill>
                  <a:srgbClr val="0046ad"/>
                </a:solidFill>
                <a:latin typeface="Arial"/>
              </a:rPr>
              <a:t> -investiţia obligatorie şi-sau facultativă în fonduri de pensii va creşte interesul investitorilor şi pentru fondurile mutuale (trend zona Euro – v.grafic Active în administrare în Polonia şi grafic structura plasamentelor populaţiei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8360" y="476280"/>
            <a:ext cx="759780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7ac9"/>
                </a:solidFill>
                <a:latin typeface="Arial"/>
              </a:rPr>
              <a:t>Fonduri mutuale vs. Pensii facult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395280" y="3573360"/>
          <a:ext cx="3311640" cy="311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573360"/>
                    <a:ext cx="3311640" cy="31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"/>
          <p:cNvSpPr/>
          <p:nvPr/>
        </p:nvSpPr>
        <p:spPr>
          <a:xfrm>
            <a:off x="1835280" y="6643800"/>
            <a:ext cx="220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ursa: Efama, BNR, UNOP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4643280" y="1700280"/>
          <a:ext cx="4015080" cy="2485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700280"/>
                    <a:ext cx="4015080" cy="24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>
            <a:off x="3708360" y="6424560"/>
            <a:ext cx="565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7ac9"/>
                </a:solidFill>
                <a:latin typeface="Arial"/>
              </a:rPr>
              <a:t>MEDIAFAX TALKS ABOUT PRIVATE PENSIONS  11 MAR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5:36:36Z</dcterms:created>
  <dc:creator>SENIOR</dc:creator>
  <dc:description>Templates by Operandi Limited</dc:description>
  <dc:language>en-US</dc:language>
  <cp:lastModifiedBy>CChira</cp:lastModifiedBy>
  <dcterms:modified xsi:type="dcterms:W3CDTF">2008-03-10T16:53:58Z</dcterms:modified>
  <cp:revision>65</cp:revision>
  <dc:subject/>
  <dc:title>Presentation title option 1</dc:title>
</cp:coreProperties>
</file>