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B5DF-6A75-4AEB-A1C1-0D59AB0D4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20FE-961B-4047-BE33-480E56C79F7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siile private - o noua provo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3255-D9D8-4FD7-A416-F006F5D32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5784-BD73-4448-B6F3-728DCF5F9B9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2A25-1593-4D49-90E5-9DA68AF5C1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0891-7534-4901-BE32-2986E3A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8360-22BA-4B49-8238-A7BA4C9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6797-EA08-49C4-A1B0-A43E386E8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264B-3F7B-466A-8889-B6AF6781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EE23-B3F4-4984-8C90-8E65DFCF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CAB3-C03A-4723-BEB4-28086090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336D-A0E4-4196-8614-BD8EECE0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8835-1022-4947-AAF6-E4A4B9E7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51A4-53A2-4CF9-925D-B1BCFB2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0E4B-B597-4A3F-8CBC-86ECB92E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A10F-3B6A-46C7-AAD3-EA3E924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1440" indent="45576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© Copyright Allianz </a:t>
            </a:r>
            <a:fld id="{66F8FF80-3C9D-4359-8F23-F7837709CB43}" type="datetime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133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07C8-E19F-4B7F-9B38-BECC4E67CAE0}" type="slidenum">
              <a:rPr b="0" lang="en-US" sz="800" spc="-1" strike="noStrike">
                <a:solidFill>
                  <a:srgbClr val="11338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9" descr="Logo Allianz-Pensii_OK2"/>
          <p:cNvPicPr/>
          <p:nvPr/>
        </p:nvPicPr>
        <p:blipFill>
          <a:blip r:embed="rId2"/>
          <a:stretch/>
        </p:blipFill>
        <p:spPr>
          <a:xfrm>
            <a:off x="6948360" y="115920"/>
            <a:ext cx="2168640" cy="80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7" descr="Logo Allianz-Pensii_OK2"/>
          <p:cNvPicPr/>
          <p:nvPr/>
        </p:nvPicPr>
        <p:blipFill>
          <a:blip r:embed="rId2"/>
          <a:stretch/>
        </p:blipFill>
        <p:spPr>
          <a:xfrm>
            <a:off x="6651720" y="5978520"/>
            <a:ext cx="2168280" cy="803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11338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-343080">
              <a:spcAft>
                <a:spcPts val="751"/>
              </a:spcAft>
              <a:buClr>
                <a:srgbClr val="113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1" marL="1440" indent="455760">
              <a:spcAft>
                <a:spcPts val="75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1133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113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66200" y="5105520"/>
            <a:ext cx="7991640" cy="992160"/>
          </a:xfrm>
          <a:prstGeom prst="rect">
            <a:avLst/>
          </a:prstGeom>
          <a:solidFill>
            <a:srgbClr val="113388"/>
          </a:solidFill>
          <a:ln w="0">
            <a:noFill/>
          </a:ln>
        </p:spPr>
        <p:txBody>
          <a:bodyPr lIns="198000" rIns="90000" tIns="46800" bIns="10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NU ANDANUT</a:t>
            </a: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general AZT PP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360" y="3809880"/>
            <a:ext cx="7991280" cy="1371600"/>
          </a:xfrm>
          <a:prstGeom prst="rect">
            <a:avLst/>
          </a:prstGeom>
          <a:solidFill>
            <a:srgbClr val="113388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08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ul pensiilor facultative</a:t>
            </a:r>
            <a:endParaRPr b="0" lang="en-US" sz="4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500760" y="537516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609480" y="380880"/>
            <a:ext cx="513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3388"/>
                </a:solidFill>
                <a:latin typeface="Arial"/>
              </a:rPr>
              <a:t>Sistemul de pensii in 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533520" y="1295280"/>
            <a:ext cx="7704000" cy="2905920"/>
            <a:chOff x="533520" y="1295280"/>
            <a:chExt cx="7704000" cy="2905920"/>
          </a:xfrm>
        </p:grpSpPr>
        <p:sp>
          <p:nvSpPr>
            <p:cNvPr id="92" name="AutoShape 15"/>
            <p:cNvSpPr/>
            <p:nvPr/>
          </p:nvSpPr>
          <p:spPr>
            <a:xfrm>
              <a:off x="533520" y="1295280"/>
              <a:ext cx="7645320" cy="1079640"/>
            </a:xfrm>
            <a:prstGeom prst="triangle">
              <a:avLst>
                <a:gd name="adj" fmla="val 50000"/>
              </a:avLst>
            </a:prstGeom>
            <a:solidFill>
              <a:srgbClr val="1133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ISTEMUL DE PENS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6"/>
            <p:cNvSpPr/>
            <p:nvPr/>
          </p:nvSpPr>
          <p:spPr>
            <a:xfrm>
              <a:off x="533520" y="2448000"/>
              <a:ext cx="2449440" cy="368280"/>
            </a:xfrm>
            <a:prstGeom prst="rect">
              <a:avLst/>
            </a:prstGeom>
            <a:solidFill>
              <a:srgbClr val="42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LON I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de sta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3056760" y="2448000"/>
              <a:ext cx="2672280" cy="368280"/>
            </a:xfrm>
            <a:prstGeom prst="rect">
              <a:avLst/>
            </a:prstGeom>
            <a:solidFill>
              <a:srgbClr val="42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LON II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obligatori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5802840" y="2448000"/>
              <a:ext cx="2434680" cy="368280"/>
            </a:xfrm>
            <a:prstGeom prst="rect">
              <a:avLst/>
            </a:prstGeom>
            <a:solidFill>
              <a:srgbClr val="42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LON III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facultativ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9"/>
            <p:cNvSpPr/>
            <p:nvPr/>
          </p:nvSpPr>
          <p:spPr>
            <a:xfrm>
              <a:off x="533520" y="2887560"/>
              <a:ext cx="2449440" cy="703800"/>
            </a:xfrm>
            <a:prstGeom prst="rect">
              <a:avLst/>
            </a:prstGeom>
            <a:solidFill>
              <a:srgbClr val="d5d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3388"/>
                  </a:solidFill>
                  <a:latin typeface="Arial"/>
                </a:rPr>
                <a:t>Pensia de la s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0"/>
            <p:cNvSpPr/>
            <p:nvPr/>
          </p:nvSpPr>
          <p:spPr>
            <a:xfrm>
              <a:off x="3056040" y="2887560"/>
              <a:ext cx="2673360" cy="703800"/>
            </a:xfrm>
            <a:prstGeom prst="rect">
              <a:avLst/>
            </a:prstGeom>
            <a:solidFill>
              <a:srgbClr val="d5d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3388"/>
                  </a:solidFill>
                  <a:latin typeface="Arial"/>
                </a:rPr>
                <a:t>Pensie suplimentara celei de la s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1"/>
            <p:cNvSpPr/>
            <p:nvPr/>
          </p:nvSpPr>
          <p:spPr>
            <a:xfrm>
              <a:off x="5802480" y="2887560"/>
              <a:ext cx="2435040" cy="1313640"/>
            </a:xfrm>
            <a:prstGeom prst="rect">
              <a:avLst/>
            </a:prstGeom>
            <a:solidFill>
              <a:srgbClr val="d5d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3388"/>
                  </a:solidFill>
                  <a:latin typeface="Arial"/>
                </a:rPr>
                <a:t>Pensie facultativ suplimentara celei de la s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609480" y="4419720"/>
          <a:ext cx="7620120" cy="685800"/>
        </p:xfrm>
        <a:graphic>
          <a:graphicData uri="http://schemas.openxmlformats.org/drawingml/2006/table">
            <a:tbl>
              <a:tblPr/>
              <a:tblGrid>
                <a:gridCol w="1067040"/>
                <a:gridCol w="1371600"/>
                <a:gridCol w="2819160"/>
                <a:gridCol w="2362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13388"/>
                          </a:solidFill>
                          <a:latin typeface="Arial"/>
                        </a:rPr>
                        <a:t>Rata de inlocu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adc3"/>
                      </a:solidFill>
                    </a:lnT>
                    <a:lnB w="5760">
                      <a:solidFill>
                        <a:srgbClr val="aaadc3"/>
                      </a:solidFill>
                    </a:lnB>
                    <a:solidFill>
                      <a:srgbClr val="aaadc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13388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113388"/>
                          </a:solidFill>
                          <a:latin typeface="Arial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adc3"/>
                      </a:solidFill>
                    </a:lnT>
                    <a:lnB w="5760">
                      <a:solidFill>
                        <a:srgbClr val="aaadc3"/>
                      </a:solidFill>
                    </a:lnB>
                    <a:solidFill>
                      <a:srgbClr val="aaadc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13388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adc3"/>
                      </a:solidFill>
                    </a:lnT>
                    <a:lnB w="5760">
                      <a:solidFill>
                        <a:srgbClr val="aaadc3"/>
                      </a:solidFill>
                    </a:lnB>
                    <a:solidFill>
                      <a:srgbClr val="aaadc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13388"/>
                          </a:solidFill>
                          <a:latin typeface="Arial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aadc3"/>
                      </a:solidFill>
                    </a:lnT>
                    <a:lnB w="5760">
                      <a:solidFill>
                        <a:srgbClr val="aaadc3"/>
                      </a:solidFill>
                    </a:lnB>
                    <a:solidFill>
                      <a:srgbClr val="aaadc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113388"/>
                </a:solidFill>
                <a:latin typeface="Arial"/>
              </a:rPr>
              <a:t>De ce o pensie facultativa pentru angajati?</a:t>
            </a: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360" y="1066680"/>
            <a:ext cx="7608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 fontScale="89000"/>
          </a:bodyPr>
          <a:p>
            <a:pPr marL="305280" indent="-305280">
              <a:lnSpc>
                <a:spcPct val="250000"/>
              </a:lnSpc>
              <a:spcAft>
                <a:spcPts val="901"/>
              </a:spcAft>
              <a:buClr>
                <a:srgbClr val="f661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6138"/>
                </a:solidFill>
                <a:latin typeface="Arial"/>
              </a:rPr>
              <a:t>Excelent instrument de fidelizare a angajatilor</a:t>
            </a: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  <a:p>
            <a:pPr marL="305280" indent="-305280">
              <a:lnSpc>
                <a:spcPct val="250000"/>
              </a:lnSpc>
              <a:spcAft>
                <a:spcPts val="901"/>
              </a:spcAft>
              <a:buClr>
                <a:srgbClr val="113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388"/>
                </a:solidFill>
                <a:latin typeface="Arial"/>
              </a:rPr>
              <a:t>Accesibil tuturor categoriilor de angajati</a:t>
            </a: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  <a:p>
            <a:pPr marL="305280" indent="-305280">
              <a:lnSpc>
                <a:spcPct val="250000"/>
              </a:lnSpc>
              <a:spcAft>
                <a:spcPts val="901"/>
              </a:spcAft>
              <a:buClr>
                <a:srgbClr val="113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388"/>
                </a:solidFill>
                <a:latin typeface="Arial"/>
              </a:rPr>
              <a:t>Pachet salarial complex si modern</a:t>
            </a: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  <a:p>
            <a:pPr marL="305280" indent="-305280">
              <a:lnSpc>
                <a:spcPct val="250000"/>
              </a:lnSpc>
              <a:spcAft>
                <a:spcPts val="901"/>
              </a:spcAft>
              <a:buClr>
                <a:srgbClr val="113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388"/>
                </a:solidFill>
                <a:latin typeface="Arial"/>
              </a:rPr>
              <a:t>Reducerea costurilor generale cu forta de munca</a:t>
            </a: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  <a:p>
            <a:pPr marL="305280" indent="-305280">
              <a:lnSpc>
                <a:spcPct val="250000"/>
              </a:lnSpc>
              <a:spcAft>
                <a:spcPts val="901"/>
              </a:spcAft>
              <a:buClr>
                <a:srgbClr val="f661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6138"/>
                </a:solidFill>
                <a:latin typeface="Arial"/>
              </a:rPr>
              <a:t>Deductibilitate</a:t>
            </a: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 </a:t>
            </a:r>
            <a:fld id="{0F937A0F-C1B1-4232-B171-A46C429C7C9D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E4A6-3FFD-4CCC-B2F4-CE19CDC658C3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400" spc="-1" strike="noStrike">
                <a:solidFill>
                  <a:srgbClr val="113388"/>
                </a:solidFill>
                <a:latin typeface="Arial"/>
              </a:rPr>
              <a:t>Contributii si deductibilitati</a:t>
            </a:r>
            <a:endParaRPr b="0" lang="en-US" sz="24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06668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marL="343080" indent="-343080">
              <a:lnSpc>
                <a:spcPct val="130000"/>
              </a:lnSpc>
              <a:spcAft>
                <a:spcPts val="751"/>
              </a:spcAft>
              <a:buClr>
                <a:srgbClr val="113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38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13388"/>
                </a:solidFill>
                <a:latin typeface="Arial"/>
              </a:rPr>
              <a:t>Contributia maxima     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66138"/>
                </a:solidFill>
                <a:latin typeface="Arial"/>
              </a:rPr>
              <a:t>15% din salariul bru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( atentie la gradul de indatorare / retinere maxima din salariu )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751"/>
              </a:spcAft>
              <a:buClr>
                <a:srgbClr val="113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388"/>
                </a:solidFill>
                <a:latin typeface="Arial"/>
              </a:rPr>
              <a:t>Contributia poate fi: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- a angajatului 100%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66138"/>
                </a:solidFill>
                <a:latin typeface="Arial"/>
              </a:rPr>
              <a:t>a angajatorului 100% ( la decizia managementului )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66138"/>
                </a:solidFill>
                <a:latin typeface="Arial"/>
              </a:rPr>
              <a:t>mixta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751"/>
              </a:spcAft>
              <a:buClr>
                <a:srgbClr val="113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388"/>
                </a:solidFill>
                <a:latin typeface="Arial"/>
              </a:rPr>
              <a:t>Deductibilitate: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66138"/>
                </a:solidFill>
                <a:latin typeface="Arial"/>
              </a:rPr>
              <a:t>200 Euro / an la angajat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113388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66138"/>
                </a:solidFill>
                <a:latin typeface="Arial"/>
              </a:rPr>
              <a:t>200 Euro / an la angajator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Aft>
                <a:spcPts val="751"/>
              </a:spcAft>
              <a:buClr>
                <a:srgbClr val="113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388"/>
                </a:solidFill>
                <a:latin typeface="Arial"/>
              </a:rPr>
              <a:t>Beneficiile (pensiile) </a:t>
            </a:r>
            <a:r>
              <a:rPr b="0" lang="en-US" sz="2000" spc="-1" strike="noStrike">
                <a:solidFill>
                  <a:srgbClr val="f66138"/>
                </a:solidFill>
                <a:latin typeface="Arial"/>
              </a:rPr>
              <a:t>se vor impozita dupa lege</a:t>
            </a:r>
            <a:endParaRPr b="0" lang="en-US" sz="2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6836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13388"/>
                </a:solidFill>
                <a:latin typeface="Arial"/>
              </a:rPr>
              <a:t>© Copyright Allianz </a:t>
            </a:r>
            <a:fld id="{81E7FC54-25C5-4FAC-A2B5-71B56F49E138}" type="datetime">
              <a:rPr b="0" lang="en-US" sz="800" spc="-1" strike="noStrike">
                <a:solidFill>
                  <a:srgbClr val="113388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48BE-CEB2-465D-AAC7-7E51460B1676}" type="slidenum">
              <a:rPr b="0" lang="en-US" sz="800" spc="-1" strike="noStrike">
                <a:solidFill>
                  <a:srgbClr val="11338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6200" y="5105520"/>
            <a:ext cx="7991640" cy="992160"/>
          </a:xfrm>
          <a:prstGeom prst="rect">
            <a:avLst/>
          </a:prstGeom>
          <a:solidFill>
            <a:srgbClr val="113388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68360" y="3809880"/>
            <a:ext cx="7991280" cy="1371600"/>
          </a:xfrm>
          <a:prstGeom prst="rect">
            <a:avLst/>
          </a:prstGeom>
          <a:solidFill>
            <a:srgbClr val="113388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a multumesc pentru atentie !</a:t>
            </a:r>
            <a:endParaRPr b="0" lang="en-US" sz="4000" spc="-1" strike="noStrike">
              <a:solidFill>
                <a:srgbClr val="113388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00760" y="537516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T41</cp:lastModifiedBy>
  <dcterms:modified xsi:type="dcterms:W3CDTF">2008-03-10T10:48:35Z</dcterms:modified>
  <cp:revision>249</cp:revision>
  <dc:subject/>
  <dc:title>Pensiile private –  succes prin parteneriat   </dc:title>
</cp:coreProperties>
</file>