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CFF-7886-4931-943E-FB660B83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A2A5-854E-4EAF-A4E9-ECFC16EA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415-7FA2-4DF0-94DE-5757318D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D4F-26B8-4BAB-8EAD-2815D387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5148-6FD8-4D56-92B1-1A179A0F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6683-51C9-44FE-985A-4950C833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7B40-B9B6-4265-9791-6B3761E5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A57-478C-4451-B385-0DF6A4C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7150-94B3-4372-B7AA-E5FDB427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81D5-616F-47C6-8176-73DAE4A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D314-B13D-499D-A95F-BAADB009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64C-6BD9-4360-93A3-979A670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7EF4-51E9-4DDF-B96C-82D68CE1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F2BF-B6E4-4A10-B5ED-0F674E1E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CAB-6737-4EB9-A88A-02504609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6CF3-2DD7-4757-A638-384FCBBE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2352-4B64-4E7B-B8AB-55DF95CDB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D0A-96CC-4EF5-99FA-BE78651D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DC2-580F-4CCA-B2F7-898772E6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AC9-BB00-4512-A9A1-167771E1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60E-8C71-4E1B-89A5-D8B556C7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4F2-7058-4CDA-B970-FA93604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D46-BA77-4812-8C8B-5DF7ACFD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DE7-E15A-4C16-9337-BF2FDC9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1EF6-9CA3-40B3-B094-E4EBBF1A0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4949-CD98-482C-891A-46384CF89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A804-4691-460B-B48A-DF133A305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1523880"/>
            <a:ext cx="876312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92"/>
                </a:solidFill>
                <a:latin typeface="Arial"/>
              </a:rPr>
              <a:t>FINANTAREA COMPANI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92"/>
                </a:solidFill>
                <a:latin typeface="Arial"/>
              </a:rPr>
              <a:t>PR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92"/>
                </a:solidFill>
                <a:latin typeface="Arial"/>
              </a:rPr>
              <a:t>MECANISMELE PIETEI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Arial"/>
              </a:rPr>
              <a:t>Stere Farm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Arial"/>
              </a:rPr>
              <a:t>Presedinte Director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Arial"/>
              </a:rPr>
              <a:t>Bursa de Valori Bucurest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86" name=""/>
            <p:cNvSpPr/>
            <p:nvPr/>
          </p:nvSpPr>
          <p:spPr>
            <a:xfrm>
              <a:off x="825120" y="455400"/>
              <a:ext cx="363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EXEMPLUL GOOGLE INC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Doi absolventi ai Stanford University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 (Larry Page si Sergey Brin) au ideea construirii unui motor de cautare pentru domeniul ww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In anul 1997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, cei doi inregistreaza compania (Google Inc.): sunt finantati cu 100.000 USD de catre Andy Bechtolsheim, co-fondator al Sun Microsystems (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ANGEL INVESTOR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Doua fonduri cu capital de risc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 se implica in finantarea Google cu 25 milioane USD: Sequoia Capital si Kleiner Perkins Caufield &amp; By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In august 2004, Google vinde pe piata de capital, prin </a:t>
            </a: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oferta publica primara initiala (IPO),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 un numar 19,6 milioane actiuni, la pretul de 85$/actiu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capitalizarea bursiera la pretul din IPO: </a:t>
            </a:r>
            <a:r>
              <a:rPr b="1" lang="en-US" sz="1600" spc="-1" strike="noStrike">
                <a:solidFill>
                  <a:srgbClr val="303092"/>
                </a:solidFill>
                <a:latin typeface="Times New Roman"/>
              </a:rPr>
              <a:t>23 miliarde USD</a:t>
            </a: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pretul actual al unei actiuni Google (simbol GOOG):  586,4 USD/actiun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valoarea curenta de piata: </a:t>
            </a:r>
            <a:r>
              <a:rPr b="1" lang="en-US" sz="1600" spc="-1" strike="noStrike">
                <a:solidFill>
                  <a:srgbClr val="303092"/>
                </a:solidFill>
                <a:latin typeface="Times New Roman"/>
              </a:rPr>
              <a:t>183,8 miliarde US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88F-8F2D-45BB-B16B-DCF5B20FE42D}" type="slidenum">
              <a:t>10</a:t>
            </a:fld>
          </a:p>
        </p:txBody>
      </p:sp>
    </p:spTree>
  </p:cSld>
  <p:transition>
    <p:checke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94" name=""/>
            <p:cNvSpPr/>
            <p:nvPr/>
          </p:nvSpPr>
          <p:spPr>
            <a:xfrm>
              <a:off x="826920" y="455400"/>
              <a:ext cx="529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EVOLUTIA PRETULUI ACTIUNII GOOG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96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5345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B26-83ED-4694-A9E3-CAE15C773389}" type="slidenum">
              <a:t>11</a:t>
            </a:fld>
          </a:p>
        </p:txBody>
      </p:sp>
    </p:spTree>
  </p:cSld>
  <p:transition>
    <p:checke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202" name=""/>
            <p:cNvSpPr/>
            <p:nvPr/>
          </p:nvSpPr>
          <p:spPr>
            <a:xfrm>
              <a:off x="824400" y="455400"/>
              <a:ext cx="3525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EXEMPLUL YAHOO! INC.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44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Doi absolventi ai Stanford University</a:t>
            </a: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 (David Filo si Jerry Yang) fondeaza compania Yahoo!, in anul 1995 (cu participarea aceluiasi fond cu capital de risc: Sequoia Capital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In aprilie 1996 </a:t>
            </a: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(cand avea mai putin de 50 de angajati) Yahoo! lanseaza o oferta publica initiala de vanzare de actiuni (IPO) si devine companie listata la Bur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Pretul actual al unei actiuni Yahoo! (simbol: YHOO)</a:t>
            </a: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 este de 25,72 US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valoarea curenta de piata a companiei: 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34,39 miliarde US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La data de 1 februarie 2008</a:t>
            </a: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 Microsoft a lansat o oferta de preluare pentru Yahoo!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pretul oferit: 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31 USD/actiune</a:t>
            </a: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valoarea companiei Yahoo! la pretul oferit de Microsoft: 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44,6 miliarde USD</a:t>
            </a: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oferta a fost respinsa de managementul Yahoo! la pretul oferit de Microso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931-7E6C-4369-86C3-39495D16230B}" type="slidenum">
              <a:t>12</a:t>
            </a:fld>
          </a:p>
        </p:txBody>
      </p:sp>
    </p:spTree>
  </p:cSld>
  <p:transition>
    <p:checke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210" name=""/>
            <p:cNvSpPr/>
            <p:nvPr/>
          </p:nvSpPr>
          <p:spPr>
            <a:xfrm>
              <a:off x="826200" y="455400"/>
              <a:ext cx="5246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EVOLUTIA PRETULUI ACTIUNII YHO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212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80880" y="1301760"/>
            <a:ext cx="8534520" cy="55562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1BF-C7B2-462A-BFCE-EFAD3222E9A9}" type="slidenum">
              <a:t>13</a:t>
            </a:fld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218" name=""/>
            <p:cNvSpPr/>
            <p:nvPr/>
          </p:nvSpPr>
          <p:spPr>
            <a:xfrm>
              <a:off x="825480" y="455400"/>
              <a:ext cx="411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UN “GOOGLE” ROMENESC?!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220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ARE ROMANIA CAPACITATEA SA GENEREZE UN “GOOGLE” AUTOHT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Din punct de vedere al abilitatilor intelectuale/tehni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03092"/>
                </a:solidFill>
                <a:latin typeface="Times New Roman"/>
              </a:rPr>
              <a:t>Categoric, D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Din punct de vedere al capacitatii pietei bursiere sa ofere suficiente resurse financiar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03092"/>
                </a:solidFill>
                <a:latin typeface="Times New Roman"/>
              </a:rPr>
              <a:t>Categoric, D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Raman in discutie abilitatile managementului companiilor IT&amp;C locale de a imagina proiecte care sa fie finantate prin mecanismele pietei de capi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8AE-1727-46CE-AD11-96FE139F602F}" type="slidenum">
              <a:t>14</a:t>
            </a:fld>
          </a:p>
        </p:txBody>
      </p:sp>
    </p:spTree>
  </p:cSld>
  <p:transition>
    <p:checke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226" name=""/>
            <p:cNvSpPr/>
            <p:nvPr/>
          </p:nvSpPr>
          <p:spPr>
            <a:xfrm>
              <a:off x="825840" y="455400"/>
              <a:ext cx="5463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  <a:ea typeface="Arial"/>
                </a:rPr>
                <a:t>FINANTAREA PRIN ACTIUNI: EXEMPLU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143000"/>
            <a:ext cx="800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26 noiembrie – 7 decembrie 2007: 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se deruleaza oferta publica primara initiala Transgaz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sunt oferite spre vanzare 1.177.384 actiuni cu valoarea nominala de 10 lei/actiun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pretul de vanzare al unei actiuni este stabilit la 191,92 RON/actiu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Oferta TGN este structurata pe doua trans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60% din marimea ofertei se adreseaza investitorilor mari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40% din marimea ofertei se adreseaza investitorilor mic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IPO Transgaz a fost din nou puternic supra-subscris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pentru “transa investitorilor mari” cererea a fost de aproape 39 de ori mai mare ca ofert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transa investitorilor mici” a fost supra-subscrisa de peste 11 or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Numarul total al subscrierilor in cadrul IPO Transgaz depaseste 12.000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496 tranzactii pentru pentru “transa investitorilor mari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11.593 tranzactii pentru “transa investitorilor mici”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Suma totala “mobilizata” de investitori a fost aproape 2 miliarde de eur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numai 65 milioane de euro si-au gasit corespondent in actiunile Transgaz vandut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E5F-1DCD-4910-B7F4-AFC9BBF41451}" type="slidenum">
              <a:t>15</a:t>
            </a:fld>
          </a:p>
        </p:txBody>
      </p:sp>
    </p:spTree>
  </p:cSld>
  <p:transition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295280" y="3054240"/>
            <a:ext cx="67057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092"/>
                </a:solidFill>
                <a:latin typeface="Times New Roman"/>
              </a:rPr>
              <a:t>VA MULTUMES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2"/>
                </a:solidFill>
                <a:latin typeface="Times New Roman"/>
              </a:rPr>
              <a:t>STERE FARMA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2"/>
                </a:solidFill>
                <a:latin typeface="Times New Roman"/>
              </a:rPr>
              <a:t>PRESEDINTE DIRECTOR GENER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03092"/>
                </a:solidFill>
                <a:latin typeface="Times New Roman"/>
              </a:rPr>
              <a:t>BURSA DE VALORI BUCURE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6D4-FB0F-4081-8EE3-6A671F8CFD64}" type="slidenum">
              <a:t>16</a:t>
            </a:fld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57200" y="380880"/>
            <a:ext cx="6736680" cy="838080"/>
            <a:chOff x="457200" y="380880"/>
            <a:chExt cx="6736680" cy="838080"/>
          </a:xfrm>
        </p:grpSpPr>
        <p:sp>
          <p:nvSpPr>
            <p:cNvPr id="92" name=""/>
            <p:cNvSpPr/>
            <p:nvPr/>
          </p:nvSpPr>
          <p:spPr>
            <a:xfrm>
              <a:off x="841320" y="455400"/>
              <a:ext cx="5897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FINANTAREA IN CONTEXTUL INTEGRARII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57200" y="380880"/>
              <a:ext cx="6736680" cy="838080"/>
              <a:chOff x="457200" y="380880"/>
              <a:chExt cx="6736680" cy="838080"/>
            </a:xfrm>
          </p:grpSpPr>
          <p:sp>
            <p:nvSpPr>
              <p:cNvPr id="94" name=""/>
              <p:cNvSpPr/>
              <p:nvPr/>
            </p:nvSpPr>
            <p:spPr>
              <a:xfrm>
                <a:off x="457200" y="914040"/>
                <a:ext cx="673668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364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Romania a devenit tara membra a Uniunii Europene la data de 1 ianuarie 2007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s-a incheiat o etapa marcata in principal de modificari de natura legislativa si administrativ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incepe un proces mai indelungat si mai complicat, care vizeaza integrarea si convergenta real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mediul economic autohton va trebui sa-si creasca performantele pentru a face fata competitiei in crester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competitivitatea crescuta presupune inclusiv accesul la surse de finantare diversifica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Procesul de integrare va determina modificari importante si in structura de finantare a companiil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este de asteptat ca arieratele sa-si diminueze semnificativ ritmul de crestere si importanta relativa ca sursa de finantar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creditul neguvernamental acordat companiilor va creste in importanta, ca urmare a competitiei dintre institutiile de credi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piata de capital va putea oferi potentialilor emitenti sume din ce in ce mai importante, provenite inclusiv ca urmare a reformei sistemului de pensii (aparitia fondurilor private de pensii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1A7-1294-40DA-8E77-D86F5AD4E963}" type="slidenum">
              <a:t>2</a:t>
            </a:fld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00" name=""/>
            <p:cNvSpPr/>
            <p:nvPr/>
          </p:nvSpPr>
          <p:spPr>
            <a:xfrm>
              <a:off x="826920" y="455400"/>
              <a:ext cx="5819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  <a:ea typeface="Arial"/>
                </a:rPr>
                <a:t>FINANTAREA IN CONTEXTUL INTEGRARII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02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Structura finantarii activitatii unei companii influenteaza direct performantele sale economice si financi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surse proprii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credite bancar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emisiuni de actiuni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emisiuni de obligatiun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Diversificarea surselor de finantare devine aproape obligatorie atunci cand companiile romanesti vor incerca sa-si dezvolte afacerile la nivel regional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expansiunea regionala necesita resurse financiare importante, imposibil de asigurat exclusiv din surse proprii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combinarea mai multor modalitati de finantare devine in aceste cazuri obligator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Posibile modele de finantare a dezvoltarii regionale sunt oferite chiar de companiile straine care au intrat pe piata din Romania prin achiziti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Erste Bank (listata la WBAG) sau Zentiva (listata la PSE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Pietele financiare vor deveni in urmatorii ani tot mai prezente in finantarea economiei romanes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A44-0371-4A74-B87A-668B0950F9ED}" type="slidenum">
              <a:t>3</a:t>
            </a:fld>
          </a:p>
        </p:txBody>
      </p:sp>
    </p:spTree>
  </p:cSld>
  <p:transition>
    <p:checke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57200" y="380880"/>
            <a:ext cx="7382160" cy="838080"/>
            <a:chOff x="457200" y="380880"/>
            <a:chExt cx="7382160" cy="838080"/>
          </a:xfrm>
        </p:grpSpPr>
        <p:sp>
          <p:nvSpPr>
            <p:cNvPr id="108" name=""/>
            <p:cNvSpPr/>
            <p:nvPr/>
          </p:nvSpPr>
          <p:spPr>
            <a:xfrm>
              <a:off x="828000" y="455400"/>
              <a:ext cx="701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ROMANIA: PIATA BANCARA SI PIATA DE CAPITA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10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7400" y="1523880"/>
            <a:ext cx="49528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523880"/>
            <a:ext cx="0" cy="3812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905120"/>
            <a:ext cx="2133360" cy="67284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03092"/>
                </a:solidFill>
                <a:latin typeface="Times New Roman"/>
              </a:rPr>
              <a:t>PIATA BANCAR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905120"/>
            <a:ext cx="2133720" cy="67284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03092"/>
                </a:solidFill>
                <a:latin typeface="Times New Roman"/>
              </a:rPr>
              <a:t>PIATA DE CAPITA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10280" y="1523880"/>
            <a:ext cx="0" cy="3812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892600"/>
            <a:ext cx="2133360" cy="5806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anca Nationala a Romanie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895480"/>
            <a:ext cx="2133720" cy="5806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Comisia Nationala a Valorilor Mobili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3895560"/>
            <a:ext cx="2286000" cy="100656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735aee"/>
                </a:solidFill>
                <a:latin typeface="Times New Roman"/>
              </a:rPr>
              <a:t>Elaboreaza, aplica si raspunde de politica monetara, valutara, de credit si de plati, precum si de autorizarea si supravegherea prudentiala banca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886200"/>
            <a:ext cx="2743200" cy="100656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735aee"/>
                </a:solidFill>
                <a:latin typeface="Times New Roman"/>
              </a:rPr>
              <a:t>Reglementeaza si supravegheaza piata de capital, pietele reglementate de marfuri si instrumente financiare derivate, precum si institutiile si operatiunile specifice acesto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2590920"/>
            <a:ext cx="0" cy="304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2590920"/>
            <a:ext cx="0" cy="304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3505320"/>
            <a:ext cx="0" cy="3808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3505320"/>
            <a:ext cx="0" cy="3808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876920"/>
            <a:ext cx="0" cy="12952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876920"/>
            <a:ext cx="0" cy="1371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5410080"/>
            <a:ext cx="3049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5207040"/>
            <a:ext cx="1752840" cy="33732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anci comerc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952960"/>
            <a:ext cx="2133720" cy="58068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Organizatii cooperatiste de cred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6248520"/>
            <a:ext cx="3049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978440"/>
            <a:ext cx="2133720" cy="33732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S.S.I.F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969160"/>
            <a:ext cx="2133720" cy="337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984f"/>
                </a:solidFill>
                <a:latin typeface="Times New Roman"/>
              </a:rPr>
              <a:t>Burse de Valo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5181480"/>
            <a:ext cx="2286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5715000"/>
            <a:ext cx="2286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6172200"/>
            <a:ext cx="2286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5511960"/>
            <a:ext cx="2133720" cy="337320"/>
          </a:xfrm>
          <a:prstGeom prst="rect">
            <a:avLst/>
          </a:prstGeom>
          <a:noFill/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Fonduri de Investit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40080" y="3977280"/>
            <a:ext cx="2238120" cy="735840"/>
          </a:xfrm>
          <a:prstGeom prst="leftRightArrow">
            <a:avLst>
              <a:gd name="adj1" fmla="val 50000"/>
              <a:gd name="adj2" fmla="val 60550"/>
            </a:avLst>
          </a:prstGeom>
          <a:solidFill>
            <a:srgbClr val="cc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Interdepend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6553080"/>
            <a:ext cx="1219320" cy="2462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33"/>
                </a:solidFill>
                <a:latin typeface="Times New Roman"/>
              </a:rPr>
              <a:t>ACTIUN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6553080"/>
            <a:ext cx="1219320" cy="2462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33"/>
                </a:solidFill>
                <a:latin typeface="Times New Roman"/>
              </a:rPr>
              <a:t>OBLIGATIUN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6477120"/>
            <a:ext cx="236196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324480"/>
            <a:ext cx="0" cy="15264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1320" y="6477120"/>
            <a:ext cx="0" cy="759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6477120"/>
            <a:ext cx="0" cy="759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43D-3972-4ABD-9C8C-46BB497D1AE4}" type="slidenum">
              <a:t>4</a:t>
            </a:fld>
          </a:p>
        </p:txBody>
      </p:sp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46" name=""/>
            <p:cNvSpPr/>
            <p:nvPr/>
          </p:nvSpPr>
          <p:spPr>
            <a:xfrm>
              <a:off x="825840" y="455400"/>
              <a:ext cx="552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DECIZIA DE LISTARE A UNEI COMPANII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48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Listarea pe o piata reglementata reprezinta o decizie strategica in evolutia unei compani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modifica modul in care compania se raporteaza la mediul sau exterior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schimba radical pozitia companiei in raport cu sistemul financi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Decizia de listare trebuie sa fie rezultatul unui proces de auto-evaluare realist si corect al pozitiei companiei pe piata, resurselor de care aceasta dispune si perspectivelor de dezvoltare pe care le are</a:t>
            </a:r>
            <a:r>
              <a:rPr b="1" lang="en-US" sz="24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Este compania atractiva pentru investitor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Care sunt beneficiile listari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Sunt indeplinite criteriile de listare pe o piata reglementat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Este momentul potrivit pentru listare - atat pentru companie cat si pentru potentialii investitori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92"/>
                </a:solidFill>
                <a:latin typeface="Times New Roman"/>
              </a:rPr>
              <a:t>Care sunt asteptarile investitoril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DCC-3694-409D-AA35-A751643B4A72}" type="slidenum">
              <a:t>5</a:t>
            </a:fld>
          </a:p>
        </p:txBody>
      </p:sp>
    </p:spTree>
  </p:cSld>
  <p:transition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54" name=""/>
            <p:cNvSpPr/>
            <p:nvPr/>
          </p:nvSpPr>
          <p:spPr>
            <a:xfrm>
              <a:off x="824400" y="455400"/>
              <a:ext cx="378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LISTAREA UNEI COMPANII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56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Odata luata decizia de listare, este nevoie sa se parcurga </a:t>
            </a:r>
            <a:r>
              <a:rPr b="1" lang="en-US" sz="1800" spc="-1" strike="noStrike" u="sng">
                <a:solidFill>
                  <a:srgbClr val="303092"/>
                </a:solidFill>
                <a:uFillTx/>
                <a:latin typeface="Times New Roman"/>
              </a:rPr>
              <a:t>la nivel intern</a:t>
            </a: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 pregatirea companiei pentru viitorul sau statu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listarea trebuie sa devina una din prioritatile Consiliului de Administratie al companie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conducerea executiva (in special managementul financiar) trebuie sa se implice in pregatirea procesului de listar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nominalizarea unui “project leader” si a unei echipe responsabile cu detaliile procesului de listar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informarea tuturor membrilor organizatie despre implicatiile transformarii in companie listata (detinuta public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demararea cat mai rapida a realizarii documentatiei necesare listar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Procesul de listare presupune colaborarea cu parteneri externi organizatie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firme de brokeraj (banci de investitii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agentii P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case de avocatur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companii de audi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autoritatea de reglementare a pietei de capital (CNVM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85A-C298-412B-A263-9BDA734074A6}" type="slidenum">
              <a:t>6</a:t>
            </a:fld>
          </a:p>
        </p:txBody>
      </p:sp>
    </p:spTree>
  </p:cSld>
  <p:transition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380880"/>
            <a:ext cx="6476760" cy="838080"/>
            <a:chOff x="457200" y="380880"/>
            <a:chExt cx="6476760" cy="838080"/>
          </a:xfrm>
        </p:grpSpPr>
        <p:sp>
          <p:nvSpPr>
            <p:cNvPr id="162" name=""/>
            <p:cNvSpPr/>
            <p:nvPr/>
          </p:nvSpPr>
          <p:spPr>
            <a:xfrm>
              <a:off x="824040" y="455400"/>
              <a:ext cx="4225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CE ASTEAPTA INVESTITORII?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Investitorii si analistii financiari nu asteapta in mod necesar ca oferta publica sa fie realizata numai de “compania perfecta”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6ac044"/>
                </a:solidFill>
                <a:latin typeface="Times New Roman"/>
              </a:rPr>
              <a:t>… </a:t>
            </a:r>
            <a:r>
              <a:rPr b="1" lang="en-US" sz="2000" spc="-1" strike="noStrike">
                <a:solidFill>
                  <a:srgbClr val="6ac044"/>
                </a:solidFill>
                <a:latin typeface="Times New Roman"/>
              </a:rPr>
              <a:t>d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Doresc sa inteleaga viziunea companiei privind pozitionarea sa viitoar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Vor sa obtina o imagine (macar generala) asupra mijloacelor prin care compania isi va atinge obiectivele sale strategi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499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Prefera o echipa manageriala puternica si de increde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9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6ac044"/>
                </a:solidFill>
                <a:latin typeface="Times New Roman"/>
              </a:rPr>
              <a:t>Pe scurt, investitorii doresc sa aiba incredere si sa vada in ofertele publice primare initiale perspectivele unei investitii de succes (“Investment story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281-265D-4B3D-BB72-3F2FAC1C7CE6}" type="slidenum">
              <a:t>7</a:t>
            </a:fld>
          </a:p>
        </p:txBody>
      </p:sp>
    </p:spTree>
  </p:cSld>
  <p:transition>
    <p:checke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457200" y="380880"/>
            <a:ext cx="6513480" cy="838080"/>
            <a:chOff x="457200" y="380880"/>
            <a:chExt cx="6513480" cy="838080"/>
          </a:xfrm>
        </p:grpSpPr>
        <p:sp>
          <p:nvSpPr>
            <p:cNvPr id="170" name=""/>
            <p:cNvSpPr/>
            <p:nvPr/>
          </p:nvSpPr>
          <p:spPr>
            <a:xfrm>
              <a:off x="825120" y="455400"/>
              <a:ext cx="614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</a:rPr>
                <a:t>LISTAREA PE PIATA BURSIERA: AVANTAJ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72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Permite atragerea de resurse banesti de pe piata de capital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Constituie un mijloc de publicitate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Contribuie la cresterea reputatiei companiei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Creste lichiditatea valorilor mobiliare emise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Creaza posibilitatea c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ointeresar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ii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 angajatilor prin distribuirea de actiuni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Recunoasterea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unei “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cot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e de piata”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 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pentru 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manage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mentul companiei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Reduce dependenta companiei de finantarea din sistemul bancar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Deschide posibilitatea companiei de a atrage ca investitori (actionari) fondurile de pensii administrate privat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92"/>
                </a:solidFill>
                <a:latin typeface="Times New Roman"/>
              </a:rPr>
              <a:t>fondurile private de pensii pot investi pana la 50% din activele sale in valori mobiliare tranzactionate pe piete reglementate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Ofera cel mai bun reper pentru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 valo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a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r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ea</a:t>
            </a:r>
            <a:r>
              <a:rPr b="1" lang="ro-RO" sz="1700" spc="-1" strike="noStrike">
                <a:solidFill>
                  <a:srgbClr val="303092"/>
                </a:solidFill>
                <a:latin typeface="Times New Roman"/>
              </a:rPr>
              <a:t> de piata</a:t>
            </a:r>
            <a:r>
              <a:rPr b="1" lang="en-US" sz="1700" spc="-1" strike="noStrike">
                <a:solidFill>
                  <a:srgbClr val="303092"/>
                </a:solidFill>
                <a:latin typeface="Times New Roman"/>
              </a:rPr>
              <a:t> a unei companii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3CD-CA46-4E89-AD12-7E7BF1008CC4}" type="slidenum">
              <a:t>8</a:t>
            </a:fld>
          </a:p>
        </p:txBody>
      </p:sp>
    </p:spTree>
  </p:cSld>
  <p:transition>
    <p:checker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457200" y="380880"/>
            <a:ext cx="7071840" cy="838080"/>
            <a:chOff x="457200" y="380880"/>
            <a:chExt cx="7071840" cy="838080"/>
          </a:xfrm>
        </p:grpSpPr>
        <p:sp>
          <p:nvSpPr>
            <p:cNvPr id="178" name=""/>
            <p:cNvSpPr/>
            <p:nvPr/>
          </p:nvSpPr>
          <p:spPr>
            <a:xfrm>
              <a:off x="827280" y="455400"/>
              <a:ext cx="670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03092"/>
                  </a:solidFill>
                  <a:latin typeface="Arial"/>
                  <a:ea typeface="Arial"/>
                </a:rPr>
                <a:t>COMPANIILE IT&amp;C SI FINANTAREA PRIN BURS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57200" y="380880"/>
              <a:ext cx="6476760" cy="838080"/>
              <a:chOff x="457200" y="380880"/>
              <a:chExt cx="6476760" cy="838080"/>
            </a:xfrm>
          </p:grpSpPr>
          <p:sp>
            <p:nvSpPr>
              <p:cNvPr id="180" name=""/>
              <p:cNvSpPr/>
              <p:nvPr/>
            </p:nvSpPr>
            <p:spPr>
              <a:xfrm>
                <a:off x="457200" y="914040"/>
                <a:ext cx="6476760" cy="0"/>
              </a:xfrm>
              <a:prstGeom prst="line">
                <a:avLst/>
              </a:prstGeom>
              <a:ln w="381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61760" y="380880"/>
                <a:ext cx="0" cy="838080"/>
              </a:xfrm>
              <a:prstGeom prst="line">
                <a:avLst/>
              </a:prstGeom>
              <a:ln w="50760">
                <a:solidFill>
                  <a:srgbClr val="735ae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609480" y="1295280"/>
            <a:ext cx="792504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2957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143000"/>
            <a:ext cx="800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Piata de capital trebuie privita si ca un instrument eficient de restructurare a unei economii </a:t>
            </a:r>
            <a:r>
              <a:rPr b="0" lang="en-US" sz="1800" spc="-1" strike="noStrike">
                <a:solidFill>
                  <a:srgbClr val="303092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investitorii vor fi atrasi intotdeauna de companiile care au potential ridicat de dezvoltar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investitorii din piata de capital sunt mult mai inclinati sa accepte riscuri mai ridicate in asteptarea unor beneficii viitoare mai mari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companiile care doresc sa-si dezvolte afacerile in sectoare economice noi (chiar de avangarda) vor atrage intotdeauna interesul investitorilor din piata de capit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Sectorul IT&amp;C ramane in continuare unul dintre cele mai dinamice segmente ale unei economii moder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prin capacitatea de a dezvolta noi servicii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prin permanenta imbunatatire a performentelor tehnice (viteza, fidelitat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buClr>
                <a:srgbClr val="303092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03092"/>
                </a:solidFill>
                <a:latin typeface="Times New Roman"/>
              </a:rPr>
              <a:t>La nivel international exista companii din sectorul IT&amp;C care au facut istorie pe pietele financia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in USA, bursa electronica NASDAQ s-a dezvoltat in mare parte prin listarea de companii din sectoarele noii economii (IT, bioterhnologi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Google si-a dovedit inventivitatea inclusiv prin modul inovativ in care si-a structurat oferta publica de listare (IP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00"/>
              </a:spcBef>
              <a:buClr>
                <a:srgbClr val="30309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92"/>
                </a:solidFill>
                <a:latin typeface="Times New Roman"/>
              </a:rPr>
              <a:t>oferta Microsoft de preluare a Yahoo concentreaza in aceste zile atentia lumii financia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001000" y="7632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E14-855E-499F-AEA9-A4C403FD49FD}" type="slidenum">
              <a:t>9</a:t>
            </a:fld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6T11:56:52Z</dcterms:created>
  <dc:creator>Marchidann Elena</dc:creator>
  <dc:description/>
  <dc:language>en-US</dc:language>
  <cp:lastModifiedBy>raluca.teodorescu</cp:lastModifiedBy>
  <cp:lastPrinted>2003-06-25T07:30:40Z</cp:lastPrinted>
  <dcterms:modified xsi:type="dcterms:W3CDTF">2008-05-08T15:53:38Z</dcterms:modified>
  <cp:revision>2519</cp:revision>
  <dc:subject/>
  <dc:title>No Slide Title</dc:title>
</cp:coreProperties>
</file>