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89F-9D07-4F9D-9AE4-4B2F3020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9EA-6699-48B0-A7BB-41FF911F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358-1D2A-492E-B0F0-C50E1E4D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460-7C57-4BB2-8144-4907A399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9DCC-49B7-4FDF-9539-D40697B2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BAF9-194D-452B-AAEE-B35393A2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0E6B-E067-497E-BB47-86F50648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37B3-94A4-4E98-9654-B7571F45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FAE2-4398-4B4B-83DD-B2C52BE5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B1F0-7C92-4D82-BCA1-3A4E9D14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3C61-DBB5-4D7C-9AC6-033C4159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8E8-25AB-4649-BA0F-F182A30F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7778-F7CA-4A64-ADCA-AC12F8BB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B0BE-D27D-4A11-8123-95E363D2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15D4-C5D4-48B9-BAEF-E73BC157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A43B-FD7F-4BF3-A9C5-BBCBD4C0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A913-796F-4C7B-AC6A-FBFD32D6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55A-008F-4DE2-853B-27C83351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96D-F099-4D75-8DBA-552B7DA7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EB5-EB6A-4CEB-B536-0077F4EB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3D7-ACCE-4C02-850E-2A9050C1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C666-39AE-4514-97D4-C152781F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665D-28FC-4090-B6BA-92F5A14C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880-D11C-4991-ADC7-56279075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5B6F-B172-467F-9159-329C84274F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E213-8F8C-4318-888C-32F6BF1737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6002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re Dezvoltare si Monetizarea succesulu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3428640"/>
            <a:ext cx="7010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rin Talpeş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edinte SOFTWIN Gr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edinte BitDefen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8 Mai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32400" y="1936800"/>
            <a:ext cx="69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industria software si online romaneasca = romanii high-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ne are optiuni de facut 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240" y="2209320"/>
            <a:ext cx="7010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tine companii lider isi vor mentine actionariatul (afaceri de familie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144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e sunt acestea 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144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e sunt brandurile romanesti care vor dura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8 versus 199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240" y="2209320"/>
            <a:ext cx="7010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CAD, Siveco Romania, SOFTWIN, TotalSoft sunt constante ca branduri de to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m va fi 2013 fata de 2008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uziune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240" y="2209320"/>
            <a:ext cx="7010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ltural nepotrivita romanilor, se va intampla mult mai putin decat in af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hiziti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240" y="2209320"/>
            <a:ext cx="7010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r fi mai frecvente decat IP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14400" algn="ctr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pseste cultura finantarii prin I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 c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144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voia de a creste (mai mare, aplatizarea costurilor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144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voia de diversific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hiziti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240" y="2209320"/>
            <a:ext cx="7010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mplul BitDefender – partener spani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 c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14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rimea, achizitia de profit (1$ profit al partenerului poate insemna un plus de 15-40$ la valoarea companie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&amp;A, IPO sau altceva pt. crestere 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240" y="2209320"/>
            <a:ext cx="7010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eric cred ca M&amp;A si IPO sunt pentru un numar foarte mic de companii (max. 10 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niile vor prefera alte metode de crestere in urmatorii 1-2 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749880" y="170820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ustria d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&amp;A, IPO sau altceva pt. crestere 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240" y="2209320"/>
            <a:ext cx="7010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minante vor fi M&amp;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750960" y="170820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aceri on-li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estere prin Parteneri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240" y="2209320"/>
            <a:ext cx="7010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voia de diversificar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14400" algn="ctr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grare de tehnologi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mplul BitDefender-SOS (vor urma si alte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240" y="2209320"/>
            <a:ext cx="7010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rebari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pecificul software de azi (US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240" y="2209320"/>
            <a:ext cx="7010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niile sunt relativ mici: profituri anuale de maxim zeci de milioane $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144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 1‰ de cel putin 10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144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 1% de milioa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144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tul de maxim sute de mi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pecificul software de azi (US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2209320"/>
            <a:ext cx="7010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oare companiil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144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 1‰ de cel putin 100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144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 1% de cel putin 10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144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joritatea covarsitoare sub 1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10 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2209320"/>
            <a:ext cx="7010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teva zeci cu valori de cel putin 10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pecificul software de az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2209320"/>
            <a:ext cx="7010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niile din zona software si on line, exceptand putine cazuri, au actionariat dominat de o familie/persoana: 80% famili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re deosebire de (cu exceptia RCS/RDS) marii actori din zona Comunicatiilor: 80% multinationale, fondu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ptiuni pt. “romanii high-tech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240" y="2209320"/>
            <a:ext cx="7010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zvoltarea pe termen nelimitat afacerii ? (afacere de familie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nzarea ei (o parte sau in intregime)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ptiuni pt. “romanii high-tech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240" y="2209320"/>
            <a:ext cx="7010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inie: vor domina vanzarile (monetizarea succesului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144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extul actual (atentia relativ recenta a fondurilor pt. Romania cautand oprtunitati, “recesiunea”, etc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144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ltural, romanii sunt mai orientati pe termen scurt decat vesticii de exempl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ne are optiuni de facut 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240" y="2209320"/>
            <a:ext cx="7010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joritatea companiilor sunt mici-medii si nu vor face obiectul M&amp;A/IPO (plutonul); vor folosi mijloace clasice de finantare, in primul rand prin cash-flow pozitiv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ne are optiuni de facut 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240" y="2209320"/>
            <a:ext cx="7010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joritatea companiilor care au potential de lider de nisa (liderii si challengerii) vor face obiectul unui M&amp;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0:21:27Z</dcterms:created>
  <dc:creator>Florin TALPES</dc:creator>
  <dc:description/>
  <dc:language>en-US</dc:language>
  <cp:lastModifiedBy>Florin TALPES</cp:lastModifiedBy>
  <dcterms:modified xsi:type="dcterms:W3CDTF">2008-05-09T09:12:44Z</dcterms:modified>
  <cp:revision>57</cp:revision>
  <dc:subject/>
  <dc:title>Some history</dc:title>
</cp:coreProperties>
</file>