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D77B8-C3F2-495F-9A6B-C6E6CEB8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33B0A6-4FED-4E9B-945E-4D568332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948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920" y="442116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E47C-8B3A-4D2F-9DB8-CD19C7DBD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55176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346D-E9D0-4479-AF21-C7DF74759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5517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5517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EF0D-3482-4185-BEB3-53BA4748F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5517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5517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5517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E56D-9230-4D97-B732-1632BC428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B86B-B062-4810-9D7C-2F9243D0F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6926-BCE3-4E3D-8224-FB05BD983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4F13-428F-48A9-AD53-FA74E06F9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E3E4-CA85-42B0-9D8B-B68CFFFDA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4960" y="0"/>
            <a:ext cx="5638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C333-B2DF-479C-A876-2DB3EBAF6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5517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D922-23D1-456E-9612-EC32ABA0E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5517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9A6D-B117-4078-93FF-2BBB6CED5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4960" y="-46800"/>
            <a:ext cx="56386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55176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562D-05FA-4D92-A711-9C9794A6B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78480"/>
            <a:ext cx="9140760" cy="47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-15840" y="-31680"/>
            <a:ext cx="9144000" cy="6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 </a:t>
            </a:r>
            <a:fld id="{9AB98C49-A3E0-40D2-9F80-354008E02AA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410080" y="419076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ucureş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ragoş Sim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eşedintele Consiliului de Administraţ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Experienţa IP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Flamingo Gru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572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odel de business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 Retail/Distribuţie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registrând o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 cifra de afacer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a sfarşitul anului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 2004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 aproximativ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 60 mil 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ţă internaţională (retail şi distribuţ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Grupul Flamingo în 200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0DDF-6F8D-42B6-B068-C88D18066A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istarea Flaming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4191120"/>
          <a:ext cx="12574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191120"/>
                    <a:ext cx="12574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38080" y="3276720"/>
          <a:ext cx="3476880" cy="51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276720"/>
                    <a:ext cx="34768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0720" y="5105520"/>
            <a:ext cx="3038400" cy="16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28840" y="2109960"/>
            <a:ext cx="311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28840" y="2109960"/>
            <a:ext cx="317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8840" y="2109960"/>
            <a:ext cx="628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2971800"/>
          <a:ext cx="7467840" cy="3013200"/>
        </p:xfrm>
        <a:graphic>
          <a:graphicData uri="http://schemas.openxmlformats.org/drawingml/2006/table">
            <a:tbl>
              <a:tblPr/>
              <a:tblGrid>
                <a:gridCol w="3695760"/>
                <a:gridCol w="37720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ţea extinsă de retail ce a asigurat o dispersie corespunzătoare a acţiuni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Experienţă în IPO pe pieţele m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ant Juridic al Managerilor Princip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72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 iunie 2005 Flamingo er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mpani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dorea sa arda etape in dezvol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iar listarea la Bursa de Valori Bucureşti a reprezentat un element cheie in procesul de dezvoltare ul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rtene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7F29-7FAE-4437-BFA5-AAD3D99F8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8840" y="2109960"/>
            <a:ext cx="311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8840" y="2109960"/>
            <a:ext cx="317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28840" y="2109960"/>
            <a:ext cx="628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7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voltare in continuare prin credit bancar si profituri reinvestite – presupunea leverage suplimentar si inducea un risc mai m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A – pentru cresterea volumului de business – o solutie buna, insa ramane un pas intermediar in dezvoltare, deoarece nu asigura un exit rezonabil pentru actionar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agerea unui fond de investitii tip venture capital/private equity – solutie atractiva in multe caz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zarea catre un investitor strategic – depinde de stadiul de dezvoltare al industr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6260-3A28-4A92-BF21-54DB3B600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ditii neces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28840" y="2109960"/>
            <a:ext cx="311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28840" y="2109960"/>
            <a:ext cx="317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28840" y="2109960"/>
            <a:ext cx="628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7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re interna corespunzatoare pretentiilor unei firme li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optimizat la oferta pu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a bine explicata si comunic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”-ul din spatele cifrelor si a informatiilor s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de preferat de la un “big 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neri profesionisti pentru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8FE0-0C60-4417-92E0-D1D51B272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istarea Flaming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 Black"/>
              </a:rPr>
              <a:t>Oferta Flam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 Black"/>
              </a:rPr>
              <a:t>19,55 milioane de acţiuni</a:t>
            </a: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o-RO" sz="1600" spc="-1" strike="noStrike">
                <a:solidFill>
                  <a:srgbClr val="000000"/>
                </a:solidFill>
                <a:latin typeface="Arial Black"/>
              </a:rPr>
              <a:t>(17 milioane acţiuni oferite iniţial, plus 2,55 milioane reprezentând </a:t>
            </a:r>
            <a:r>
              <a:rPr b="0" lang="ro-RO" sz="1600" spc="-1" strike="noStrike">
                <a:solidFill>
                  <a:srgbClr val="333399"/>
                </a:solidFill>
                <a:latin typeface="Arial Black"/>
              </a:rPr>
              <a:t>suplimentarea </a:t>
            </a:r>
            <a:r>
              <a:rPr b="0" lang="ro-RO" sz="1600" spc="-1" strike="noStrike">
                <a:solidFill>
                  <a:srgbClr val="000000"/>
                </a:solidFill>
                <a:latin typeface="Arial Black"/>
              </a:rPr>
              <a:t>acestora cu</a:t>
            </a:r>
            <a:r>
              <a:rPr b="0" lang="ro-RO" sz="1600" spc="-1" strike="noStrike">
                <a:solidFill>
                  <a:srgbClr val="333399"/>
                </a:solidFill>
                <a:latin typeface="Arial Black"/>
              </a:rPr>
              <a:t> 15%</a:t>
            </a:r>
            <a:r>
              <a:rPr b="0" lang="ro-RO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Interval de preţ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per actiune</a:t>
            </a: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2000" spc="-1" strike="noStrike">
                <a:solidFill>
                  <a:srgbClr val="333399"/>
                </a:solidFill>
                <a:latin typeface="Arial Black"/>
              </a:rPr>
              <a:t>RO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1" lang="ro-RO" sz="2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1,8</a:t>
            </a:r>
            <a:r>
              <a:rPr b="1" lang="ro-RO" sz="2000" spc="-1" strike="noStrike">
                <a:solidFill>
                  <a:srgbClr val="333399"/>
                </a:solidFill>
                <a:latin typeface="Arial Black"/>
              </a:rPr>
              <a:t> –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2,4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ordarea de bonusuri de subscr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 Black"/>
              </a:rPr>
              <a:t>Subscr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&gt;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63 milioane acţiuni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subs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De peste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3,7 ori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grad de 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suprasubscriere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faţă de oferta iniţi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De peste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3,2 ori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grad de 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suprasubscriere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faţă de oferta finală (inclusiv suplimentare 1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54CC-F49A-4B06-88E6-88C92E5B50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istarea Flaming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 Black"/>
              </a:rPr>
              <a:t>Preţ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Preţ final 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RO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De peste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2,5 ori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multiplu de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subscriere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la preţul maxim (RO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,4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De peste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3,1 ori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multiplu de </a:t>
            </a:r>
            <a:r>
              <a:rPr b="0" lang="ro-RO" sz="1800" spc="-1" strike="noStrike">
                <a:solidFill>
                  <a:srgbClr val="333399"/>
                </a:solidFill>
                <a:latin typeface="Arial Black"/>
              </a:rPr>
              <a:t>subscriere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la preţul 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(RO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,3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 Black"/>
              </a:rPr>
              <a:t>Tranş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 Black"/>
              </a:rPr>
              <a:t>Tran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ş</a:t>
            </a:r>
            <a:r>
              <a:rPr b="1" lang="en-GB" sz="1800" spc="-1" strike="noStrike">
                <a:solidFill>
                  <a:srgbClr val="333399"/>
                </a:solidFill>
                <a:latin typeface="Arial Black"/>
              </a:rPr>
              <a:t>a 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subscrierilor mari</a:t>
            </a: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subscrieri de peste 500,000 acţi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 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29 acţionari no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 Black"/>
              </a:rPr>
              <a:t>Tran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ş</a:t>
            </a:r>
            <a:r>
              <a:rPr b="1" lang="en-GB" sz="1800" spc="-1" strike="noStrike">
                <a:solidFill>
                  <a:srgbClr val="333399"/>
                </a:solidFill>
                <a:latin typeface="Arial Black"/>
              </a:rPr>
              <a:t>a </a:t>
            </a:r>
            <a:r>
              <a:rPr b="1" lang="ro-RO" sz="1800" spc="-1" strike="noStrike">
                <a:solidFill>
                  <a:srgbClr val="333399"/>
                </a:solidFill>
                <a:latin typeface="Arial Black"/>
              </a:rPr>
              <a:t>subscrierilor mici </a:t>
            </a: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subscrieri de sub 500,000 acţi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 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787 acţionari 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32E4-85D6-44BD-BC86-2EC3E75E93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Evoluţia Flaming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 finalul ofertei publice iniţiale derulată de Flamingo International au fost atrase fonduri de aproximativ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12.500.000 Euro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 Aprilie 2006, Flamingo a finalizat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hiziţ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companie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Flanco Internaţion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prezent grupul îşi desfăşoară activitatea prin intermediul 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trei lanţuri distincte de magazin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Flanco World, Flamingo Computers şi Flanco) precum şi prin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distribuţ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nul 2008, grup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-a propus o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ifră de aface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aproximativ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10 mil EUR (de 3,5 ori mai mare în comparaţie cu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1FB6-14E3-4AA8-B090-9BC796ACC0C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7:33:40Z</dcterms:created>
  <dc:creator>adrian.olteanu</dc:creator>
  <dc:description/>
  <dc:language>en-US</dc:language>
  <cp:lastModifiedBy>dragos</cp:lastModifiedBy>
  <dcterms:modified xsi:type="dcterms:W3CDTF">2008-05-08T16:41:33Z</dcterms:modified>
  <cp:revision>831</cp:revision>
  <dc:subject/>
  <dc:title>Slide 1</dc:title>
</cp:coreProperties>
</file>