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7.wmf" ContentType="image/x-wmf"/>
  <Override PartName="/ppt/media/image6.jpeg" ContentType="image/jpeg"/>
  <Override PartName="/ppt/media/image27.jpeg" ContentType="image/jpeg"/>
  <Override PartName="/ppt/media/image9.wmf" ContentType="image/x-wmf"/>
  <Override PartName="/ppt/media/image5.jpeg" ContentType="image/jpeg"/>
  <Override PartName="/ppt/media/image3.jpeg" ContentType="image/jpeg"/>
  <Override PartName="/ppt/media/image2.jpeg" ContentType="image/jpeg"/>
  <Override PartName="/ppt/media/image2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4.jpeg" ContentType="image/jpeg"/>
  <Override PartName="/ppt/media/image16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3904-D4CD-4222-A7D1-1FC17B653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98B5-D47F-425D-8714-155A6532D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4282-5236-42DD-B7C2-03163D593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1CF0-23FA-4C3C-B45F-79A9C87607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8B14-E6FF-4084-A7CD-6B69FEC7C0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9086-8CF7-4C5A-84F9-D78BD0D66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2336-3B93-41AE-9D93-447FC589C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BD92-677C-4CB7-BD34-CC3734693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CAA6-1FB6-4A16-8067-8C23971EB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B51B-8303-4601-890B-73171F736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4224-5A39-4812-9C42-608C4A0F2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5721-45EC-438C-9BFA-F2C5BC5D8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B995-EF28-468E-B15D-A2DC88B8CD75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242568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2013120" y="6324480"/>
            <a:ext cx="1657080" cy="26352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rcRect l="0" t="0" r="6682" b="-208824"/>
          <a:stretch/>
        </p:blipFill>
        <p:spPr>
          <a:xfrm>
            <a:off x="2050920" y="6175440"/>
            <a:ext cx="7093080" cy="7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41480" y="4114800"/>
            <a:ext cx="6842160" cy="20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3d"/>
                </a:solidFill>
                <a:latin typeface="Arial"/>
              </a:rPr>
              <a:t>Oportunitatea listarii la Bur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3d"/>
                </a:solidFill>
                <a:latin typeface="Arial"/>
                <a:ea typeface="Arial"/>
              </a:rPr>
              <a:t>Crestere organica prin acces la alternative de finantare</a:t>
            </a:r>
            <a:r>
              <a:rPr b="1" lang="en-US" sz="1600" spc="-1" strike="noStrike">
                <a:solidFill>
                  <a:srgbClr val="00993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3d"/>
                </a:solidFill>
                <a:latin typeface="Arial"/>
              </a:rPr>
              <a:t>9 Mai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3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993d"/>
                </a:solidFill>
                <a:latin typeface="Arial"/>
              </a:rPr>
              <a:t>Adi Lups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3d"/>
                </a:solidFill>
                <a:latin typeface="Arial"/>
              </a:rPr>
              <a:t>Director General Adjunct, INTERCAPITAL INV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17080" y="63817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FEEB-62C4-40B0-BB99-28E74E45538E}" type="slidenum">
              <a:rPr b="1" lang="ro-RO" sz="1000" spc="-1" strike="noStrike">
                <a:solidFill>
                  <a:srgbClr val="3269a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138400" y="1454040"/>
            <a:ext cx="6700680" cy="1822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023920" y="3409920"/>
            <a:ext cx="6815160" cy="2533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9320" y="60199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intercapital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17080" y="63817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9B34-78A4-4B22-BA07-584015DC288C}" type="slidenum">
              <a:rPr b="1" lang="ro-RO" sz="1000" spc="-1" strike="noStrike">
                <a:solidFill>
                  <a:srgbClr val="3269a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33720" y="1981080"/>
            <a:ext cx="4957560" cy="1595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162920" y="23623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ragerea de fonduri, cresterea reputatiei companiei IT si dezvoltarea afacer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43434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gatirea si derularea ofertei publice prin care a companie devine publica, si listarea la bursa se efectueaza de catre companie (emitentul) impreuna cu societatea de brokera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9320" y="60199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intercapital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317080" y="63817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1AF3-3B85-4DBE-AD98-16C7DB4606B5}" type="slidenum">
              <a:rPr b="1" lang="ro-RO" sz="1000" spc="-1" strike="noStrike">
                <a:solidFill>
                  <a:srgbClr val="3269a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057400" y="1430280"/>
            <a:ext cx="5411880" cy="62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934320" y="1459080"/>
            <a:ext cx="1620720" cy="598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286000" y="2209680"/>
            <a:ext cx="5867280" cy="275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192400" y="4991040"/>
            <a:ext cx="2379600" cy="190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2209680" y="5183280"/>
            <a:ext cx="5867640" cy="455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9320" y="60199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intercapital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17080" y="63817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C7BD-1D99-400F-8D4B-1CEBC2737846}" type="slidenum">
              <a:rPr b="1" lang="ro-RO" sz="1000" spc="-1" strike="noStrike">
                <a:solidFill>
                  <a:srgbClr val="3269a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133720" y="1371600"/>
            <a:ext cx="4539960" cy="682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629400" y="1371600"/>
            <a:ext cx="1468440" cy="693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142040" y="1371600"/>
            <a:ext cx="1468440" cy="693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960560" y="5791320"/>
            <a:ext cx="1544760" cy="350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2133720" y="2079720"/>
            <a:ext cx="6321240" cy="3711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9320" y="60199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intercapital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242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050920" y="4210200"/>
            <a:ext cx="67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993d"/>
                </a:solidFill>
                <a:latin typeface="Arial"/>
              </a:rPr>
              <a:t>SSIF INTERCAPITAL INVEST 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d. Aviatorilor Nr. 33, Bucureş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l: 222 8731 | office@intercapital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UCUREŞTI | BAIA MARE | CONSTANÞA | BACÃU | CRAIOVA | PITEŞ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www.intercapital.ro | www.kmarket.ro | www.ktrade.ro | www.marketmaker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0" r="6682" b="-208824"/>
          <a:stretch/>
        </p:blipFill>
        <p:spPr>
          <a:xfrm>
            <a:off x="2050920" y="4653000"/>
            <a:ext cx="7093080" cy="73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2425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41480" y="4259160"/>
            <a:ext cx="68421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3d"/>
                </a:solidFill>
                <a:latin typeface="Arial"/>
              </a:rPr>
              <a:t>Studiu de caz – Sygnity Polo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6682" b="-208824"/>
          <a:stretch/>
        </p:blipFill>
        <p:spPr>
          <a:xfrm>
            <a:off x="2050920" y="4940280"/>
            <a:ext cx="7093080" cy="73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189000" cy="195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52160" y="974160"/>
            <a:ext cx="633420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3d"/>
                </a:solidFill>
                <a:latin typeface="Arial"/>
              </a:rPr>
              <a:t>Studiu de caz – Sygnity Pol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52520" y="1590840"/>
            <a:ext cx="664056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Sygnity este a doua ceea mai mare companie de IT din Polonia, cu peste 3000 de angajati avand o cifra de afaceri de peste 200 milioane EUR in 200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gnity este rezultatul fuziunii intre Computerland Polonia si Emax, fuziune incheiata pe 22 mai 2007; ambele companii sunt listate la Bursa din Varsovia, Computerland din 1995 iar Emax din 200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terland isi incepe activitatea in Polonia in 1991 cu 12 angajati, devenind in cativa ani lider de piata in implementarea sistemelor de retea si solutii IT; in 1994 compania ajunge la 800 de clienti (Banca Nationala a Poloniei, Bursa de Valori Varsovia, Ministerul Finantelor, Coca Cola). Pana in 2006 compania preia peste 20 de companii locale de IT consolidandu-si cota de pi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x incepe ca un business local detinut de patru persoane fizice; primele proiecte constau in furnizarea de echipamente IT pentru sectorul bancar. Activitatea se extinde treptat catre aplicatii IT pentru sectorul public si de utilitatie/energi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italizarea Sygnity la momentul fuziunii ajunge la 174 milioane EUR (mai 2007). Computerland preia 66% din drepturile de vot (37% din actiuni); paritatea de schimb: 1 actiune Emax = 1,2 actiuni Computerl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17080" y="63817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830D-5DB0-44EF-B0C2-BFB2DF1A0143}" type="slidenum">
              <a:rPr b="1" lang="ro-RO" sz="1000" spc="-1" strike="noStrike">
                <a:solidFill>
                  <a:srgbClr val="3269a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828800" y="3309840"/>
            <a:ext cx="189000" cy="1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828800" y="2319480"/>
            <a:ext cx="189000" cy="195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828800" y="4876920"/>
            <a:ext cx="189000" cy="19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828800" y="6019920"/>
            <a:ext cx="189000" cy="195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9320" y="60199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intercapital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828800" y="4452840"/>
            <a:ext cx="189000" cy="195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0" y="4430880"/>
            <a:ext cx="655308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tilitati/energie IT: implementare sisteme de inventariere in retea (GIS), aplicatii GZE (Vattenfall), solutii dedicate pentru tranzactionarea energiei, sisteme ERP (SAP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mensiune piata utilitati/energie IT in 2006: 330 milioane EU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or public IT: Proiect Syriusz in colaborare cu Ministerul Muncii, aplicatii back-office pentru organisme publice, aplicatii comanda si control, aplicatii SA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mensiune piata Telecom IT in 2006: 780 milioane E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17080" y="63817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AD90-1315-4363-954D-22189E16FD1E}" type="slidenum">
              <a:rPr b="1" lang="ro-RO" sz="1000" spc="-1" strike="noStrike">
                <a:solidFill>
                  <a:srgbClr val="3269a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828800" y="5638680"/>
            <a:ext cx="189000" cy="1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2133720" y="990720"/>
          <a:ext cx="3276360" cy="2757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990720"/>
                    <a:ext cx="3276360" cy="27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562720" y="990720"/>
          <a:ext cx="3429000" cy="27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62720" y="990720"/>
                    <a:ext cx="3429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29320" y="60199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intercapital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828800" y="4452840"/>
            <a:ext cx="189000" cy="195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0" y="4430880"/>
            <a:ext cx="655308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&amp;F: implenmentarea de produse noi bancare: Basel II, aplicatii reducere costuri, aplicatii outsourcing, aplicatii de retea, mobile banking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mensiune piata B&amp;F in 2006: 600 milioane EU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ecom IT: implementare de sisteme de inventariere (OSS.CL), parteneriate Oracle Financials, France Telec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mensiune piata Telecom IT in 2006: 500 milioane E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17080" y="63817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39C9-B86B-40E0-AF32-D2C670C03EE3}" type="slidenum">
              <a:rPr b="1" lang="ro-RO" sz="1000" spc="-1" strike="noStrike">
                <a:solidFill>
                  <a:srgbClr val="3269a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828800" y="5443560"/>
            <a:ext cx="189000" cy="19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2209680" y="1066680"/>
          <a:ext cx="3200400" cy="259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1066680"/>
                    <a:ext cx="3200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486400" y="1143000"/>
          <a:ext cx="3397320" cy="259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86400" y="1143000"/>
                    <a:ext cx="33973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29320" y="60199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intercapital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52160" y="974160"/>
            <a:ext cx="633420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3d"/>
                </a:solidFill>
                <a:latin typeface="Arial"/>
              </a:rPr>
              <a:t>Studiu de caz – Sygnity Polo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17080" y="63817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7859-4EA0-456E-BCBA-118D4AD33505}" type="slidenum">
              <a:rPr b="1" lang="ro-RO" sz="1000" spc="-1" strike="noStrike">
                <a:solidFill>
                  <a:srgbClr val="3269a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971800" y="1295280"/>
          <a:ext cx="4848120" cy="556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295280"/>
                    <a:ext cx="4848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229320" y="60199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intercapital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189000" cy="195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17080" y="63817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F8EC-A851-4051-96E7-BA65BBAEE3B0}" type="slidenum">
              <a:rPr b="1" lang="ro-RO" sz="1000" spc="-1" strike="noStrike">
                <a:solidFill>
                  <a:srgbClr val="3269a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52520" y="3919680"/>
            <a:ext cx="65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52520" y="3919680"/>
            <a:ext cx="656748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olutia pretului actiunii Computerland/Sygn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italizare la momentul listarii (1995): 23 milioane EU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italizare in momentul fuziunii (mai 2007): 174 milioane EU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restere de peste 6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9320" y="60199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intercapital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895480" y="838080"/>
            <a:ext cx="5029200" cy="22100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189000" cy="19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317080" y="63817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F1AE-DFDB-415F-B988-30C7DCCA3C8F}" type="slidenum">
              <a:rPr b="1" lang="ro-RO" sz="1000" spc="-1" strike="noStrike">
                <a:solidFill>
                  <a:srgbClr val="3269a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52520" y="3919680"/>
            <a:ext cx="65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52520" y="3919680"/>
            <a:ext cx="656748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olutia pretului actiunii Em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italizare la momentul listarii (2006): 35 milioane EU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italizare la momentul anuntului fuziunii: 105 milioane EU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italizare in momentul fuziunii (mai 2007): 86 milioane EU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restere de peste 1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819520" y="990720"/>
            <a:ext cx="5029200" cy="2361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9320" y="60199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intercapital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2424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41480" y="4259160"/>
            <a:ext cx="68421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3d"/>
                </a:solidFill>
                <a:latin typeface="Arial"/>
              </a:rPr>
              <a:t>Listarea la Bursa de Valori Bucurest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0" t="0" r="6682" b="-208824"/>
          <a:stretch/>
        </p:blipFill>
        <p:spPr>
          <a:xfrm>
            <a:off x="2050920" y="4940280"/>
            <a:ext cx="7093080" cy="73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8:57:55Z</dcterms:created>
  <dc:creator>...</dc:creator>
  <dc:description/>
  <dc:language>en-US</dc:language>
  <cp:lastModifiedBy>Razvan Teodorescu</cp:lastModifiedBy>
  <dcterms:modified xsi:type="dcterms:W3CDTF">2008-05-09T14:43:16Z</dcterms:modified>
  <cp:revision>13</cp:revision>
  <dc:subject/>
  <dc:title>Slide 1</dc:title>
</cp:coreProperties>
</file>