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png" ContentType="image/pn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8880" y="647280"/>
            <a:ext cx="86914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8880" y="1434960"/>
            <a:ext cx="8691480" cy="23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218880" y="3984120"/>
            <a:ext cx="8691480" cy="23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8880" y="647280"/>
            <a:ext cx="86914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18880" y="1434960"/>
            <a:ext cx="4241160" cy="23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2440" y="1434960"/>
            <a:ext cx="4241160" cy="23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18880" y="3984120"/>
            <a:ext cx="4241160" cy="23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2440" y="3984120"/>
            <a:ext cx="4241160" cy="23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8880" y="647280"/>
            <a:ext cx="86914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18880" y="1434960"/>
            <a:ext cx="2798280" cy="23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157560" y="1434960"/>
            <a:ext cx="2798280" cy="23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5880" y="1434960"/>
            <a:ext cx="2798280" cy="23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218880" y="3984120"/>
            <a:ext cx="2798280" cy="23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157560" y="3984120"/>
            <a:ext cx="2798280" cy="23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95880" y="3984120"/>
            <a:ext cx="2798280" cy="23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8880" y="647280"/>
            <a:ext cx="86914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18880" y="1434960"/>
            <a:ext cx="869148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8880" y="647280"/>
            <a:ext cx="86914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18880" y="1434960"/>
            <a:ext cx="869148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8880" y="647280"/>
            <a:ext cx="86914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18880" y="1434960"/>
            <a:ext cx="424116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2440" y="1434960"/>
            <a:ext cx="424116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8880" y="647280"/>
            <a:ext cx="86914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218880" y="647280"/>
            <a:ext cx="8691480" cy="17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8880" y="647280"/>
            <a:ext cx="86914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18880" y="1434960"/>
            <a:ext cx="4241160" cy="23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2440" y="1434960"/>
            <a:ext cx="424116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18880" y="3984120"/>
            <a:ext cx="4241160" cy="23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18880" y="647280"/>
            <a:ext cx="86914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218880" y="1434960"/>
            <a:ext cx="869148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18880" y="647280"/>
            <a:ext cx="86914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8880" y="1434960"/>
            <a:ext cx="424116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2440" y="1434960"/>
            <a:ext cx="4241160" cy="23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2440" y="3984120"/>
            <a:ext cx="4241160" cy="23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8880" y="647280"/>
            <a:ext cx="86914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18880" y="1434960"/>
            <a:ext cx="4241160" cy="23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2440" y="1434960"/>
            <a:ext cx="4241160" cy="23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218880" y="3984120"/>
            <a:ext cx="8691480" cy="23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18880" y="647280"/>
            <a:ext cx="86914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18880" y="1434960"/>
            <a:ext cx="8691480" cy="23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218880" y="3984120"/>
            <a:ext cx="8691480" cy="23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8880" y="647280"/>
            <a:ext cx="86914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18880" y="1434960"/>
            <a:ext cx="4241160" cy="23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2440" y="1434960"/>
            <a:ext cx="4241160" cy="23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218880" y="3984120"/>
            <a:ext cx="4241160" cy="23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2440" y="3984120"/>
            <a:ext cx="4241160" cy="23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18880" y="647280"/>
            <a:ext cx="86914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18880" y="1434960"/>
            <a:ext cx="2798280" cy="23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157560" y="1434960"/>
            <a:ext cx="2798280" cy="23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5880" y="1434960"/>
            <a:ext cx="2798280" cy="23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218880" y="3984120"/>
            <a:ext cx="2798280" cy="23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157560" y="3984120"/>
            <a:ext cx="2798280" cy="23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95880" y="3984120"/>
            <a:ext cx="2798280" cy="23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647280"/>
            <a:ext cx="86914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218880" y="1434960"/>
            <a:ext cx="869148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18880" y="647280"/>
            <a:ext cx="86914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18880" y="1434960"/>
            <a:ext cx="869148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647280"/>
            <a:ext cx="86914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18880" y="1434960"/>
            <a:ext cx="424116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2440" y="1434960"/>
            <a:ext cx="424116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8880" y="647280"/>
            <a:ext cx="86914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18880" y="647280"/>
            <a:ext cx="86914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18880" y="1434960"/>
            <a:ext cx="869148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218880" y="647280"/>
            <a:ext cx="8691480" cy="17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18880" y="647280"/>
            <a:ext cx="86914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18880" y="1434960"/>
            <a:ext cx="4241160" cy="23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2440" y="1434960"/>
            <a:ext cx="424116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18880" y="3984120"/>
            <a:ext cx="4241160" cy="23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8880" y="647280"/>
            <a:ext cx="86914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8880" y="1434960"/>
            <a:ext cx="424116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2440" y="1434960"/>
            <a:ext cx="4241160" cy="23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2440" y="3984120"/>
            <a:ext cx="4241160" cy="23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647280"/>
            <a:ext cx="86914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18880" y="1434960"/>
            <a:ext cx="4241160" cy="23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2440" y="1434960"/>
            <a:ext cx="4241160" cy="23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218880" y="3984120"/>
            <a:ext cx="8691480" cy="23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647280"/>
            <a:ext cx="86914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18880" y="1434960"/>
            <a:ext cx="8691480" cy="23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18880" y="3984120"/>
            <a:ext cx="8691480" cy="23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647280"/>
            <a:ext cx="86914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18880" y="1434960"/>
            <a:ext cx="4241160" cy="23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2440" y="1434960"/>
            <a:ext cx="4241160" cy="23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218880" y="3984120"/>
            <a:ext cx="4241160" cy="23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2440" y="3984120"/>
            <a:ext cx="4241160" cy="23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647280"/>
            <a:ext cx="86914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18880" y="1434960"/>
            <a:ext cx="2798280" cy="23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157560" y="1434960"/>
            <a:ext cx="2798280" cy="23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95880" y="1434960"/>
            <a:ext cx="2798280" cy="23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218880" y="3984120"/>
            <a:ext cx="2798280" cy="23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157560" y="3984120"/>
            <a:ext cx="2798280" cy="23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95880" y="3984120"/>
            <a:ext cx="2798280" cy="23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8880" y="647280"/>
            <a:ext cx="86914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18880" y="1434960"/>
            <a:ext cx="424116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2440" y="1434960"/>
            <a:ext cx="424116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8880" y="647280"/>
            <a:ext cx="86914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218880" y="647280"/>
            <a:ext cx="8691480" cy="17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8880" y="647280"/>
            <a:ext cx="86914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18880" y="1434960"/>
            <a:ext cx="4241160" cy="23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2440" y="1434960"/>
            <a:ext cx="424116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218880" y="3984120"/>
            <a:ext cx="4241160" cy="23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8880" y="647280"/>
            <a:ext cx="86914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8880" y="1434960"/>
            <a:ext cx="424116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434960"/>
            <a:ext cx="4241160" cy="23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2440" y="3984120"/>
            <a:ext cx="4241160" cy="23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8880" y="647280"/>
            <a:ext cx="86914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18880" y="1434960"/>
            <a:ext cx="4241160" cy="23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440" y="1434960"/>
            <a:ext cx="4241160" cy="23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18880" y="3984120"/>
            <a:ext cx="8691480" cy="23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Brand Signature_PowerPoint_Footer_Screenshow"/>
          <p:cNvPicPr/>
          <p:nvPr/>
        </p:nvPicPr>
        <p:blipFill>
          <a:blip r:embed="rId2"/>
          <a:stretch/>
        </p:blipFill>
        <p:spPr>
          <a:xfrm>
            <a:off x="0" y="6440400"/>
            <a:ext cx="8918640" cy="2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8880" y="647280"/>
            <a:ext cx="86914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grpSp>
        <p:nvGrpSpPr>
          <p:cNvPr id="2" name="Group 8"/>
          <p:cNvGrpSpPr/>
          <p:nvPr/>
        </p:nvGrpSpPr>
        <p:grpSpPr>
          <a:xfrm>
            <a:off x="-1476360" y="6329520"/>
            <a:ext cx="1403640" cy="528120"/>
            <a:chOff x="-1476360" y="6329520"/>
            <a:chExt cx="1403640" cy="528120"/>
          </a:xfrm>
        </p:grpSpPr>
        <p:sp>
          <p:nvSpPr>
            <p:cNvPr id="3" name="Rectangle 9"/>
            <p:cNvSpPr/>
            <p:nvPr/>
          </p:nvSpPr>
          <p:spPr>
            <a:xfrm>
              <a:off x="-1476360" y="6364080"/>
              <a:ext cx="1403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o not put content in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he Brand Signature are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10"/>
            <p:cNvSpPr/>
            <p:nvPr/>
          </p:nvSpPr>
          <p:spPr>
            <a:xfrm>
              <a:off x="-875520" y="6329520"/>
              <a:ext cx="8028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-180000" bIns="-18000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11"/>
            <p:cNvSpPr/>
            <p:nvPr/>
          </p:nvSpPr>
          <p:spPr>
            <a:xfrm>
              <a:off x="-875520" y="6857640"/>
              <a:ext cx="8028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-180000" bIns="-18000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" name="Group 12"/>
          <p:cNvGrpSpPr/>
          <p:nvPr/>
        </p:nvGrpSpPr>
        <p:grpSpPr>
          <a:xfrm>
            <a:off x="9282240" y="6329520"/>
            <a:ext cx="1411200" cy="524880"/>
            <a:chOff x="9282240" y="6329520"/>
            <a:chExt cx="1411200" cy="524880"/>
          </a:xfrm>
        </p:grpSpPr>
        <p:sp>
          <p:nvSpPr>
            <p:cNvPr id="7" name="Rectangle 13"/>
            <p:cNvSpPr/>
            <p:nvPr/>
          </p:nvSpPr>
          <p:spPr>
            <a:xfrm>
              <a:off x="9282240" y="6438600"/>
              <a:ext cx="1411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o not put content in the Brand Signature are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14"/>
            <p:cNvSpPr/>
            <p:nvPr/>
          </p:nvSpPr>
          <p:spPr>
            <a:xfrm flipH="1">
              <a:off x="9282240" y="6329520"/>
              <a:ext cx="8085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-180000" bIns="-18000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15"/>
            <p:cNvSpPr/>
            <p:nvPr/>
          </p:nvSpPr>
          <p:spPr>
            <a:xfrm flipH="1">
              <a:off x="9282240" y="6854400"/>
              <a:ext cx="8085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-180000" bIns="-18000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218880" y="1434960"/>
            <a:ext cx="869148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Rockwell Std Light"/>
              <a:buChar char="-"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›"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-"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-"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-"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40"/>
          <p:cNvSpPr/>
          <p:nvPr/>
        </p:nvSpPr>
        <p:spPr>
          <a:xfrm>
            <a:off x="8656560" y="6708240"/>
            <a:ext cx="427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3F486-C6A8-4370-9E2D-AD1D2D24FBAE}" type="slidenum">
              <a:rPr b="1" lang="en-GB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" name="Group 73"/>
          <p:cNvGrpSpPr/>
          <p:nvPr/>
        </p:nvGrpSpPr>
        <p:grpSpPr>
          <a:xfrm>
            <a:off x="-1060560" y="1643040"/>
            <a:ext cx="959040" cy="1268280"/>
            <a:chOff x="-1060560" y="1643040"/>
            <a:chExt cx="959040" cy="1268280"/>
          </a:xfrm>
        </p:grpSpPr>
        <p:sp>
          <p:nvSpPr>
            <p:cNvPr id="13" name="Rectangle 74"/>
            <p:cNvSpPr/>
            <p:nvPr/>
          </p:nvSpPr>
          <p:spPr>
            <a:xfrm>
              <a:off x="-1060560" y="1643040"/>
              <a:ext cx="959040" cy="12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36000" bIns="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NG main </a:t>
              </a:r>
              <a:br>
                <a:rPr sz="900"/>
              </a:b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olour palett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75"/>
            <p:cNvSpPr/>
            <p:nvPr/>
          </p:nvSpPr>
          <p:spPr>
            <a:xfrm>
              <a:off x="-995400" y="2065320"/>
              <a:ext cx="388800" cy="3650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25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0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76"/>
            <p:cNvSpPr/>
            <p:nvPr/>
          </p:nvSpPr>
          <p:spPr>
            <a:xfrm>
              <a:off x="-555480" y="2065320"/>
              <a:ext cx="388800" cy="365040"/>
            </a:xfrm>
            <a:prstGeom prst="rect">
              <a:avLst/>
            </a:prstGeom>
            <a:solidFill>
              <a:srgbClr val="e4ac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7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6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4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77"/>
            <p:cNvSpPr/>
            <p:nvPr/>
          </p:nvSpPr>
          <p:spPr>
            <a:xfrm>
              <a:off x="-995400" y="2482920"/>
              <a:ext cx="388800" cy="365040"/>
            </a:xfrm>
            <a:prstGeom prst="rect">
              <a:avLst/>
            </a:prstGeom>
            <a:solidFill>
              <a:srgbClr val="5a6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0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5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78"/>
            <p:cNvSpPr/>
            <p:nvPr/>
          </p:nvSpPr>
          <p:spPr>
            <a:xfrm>
              <a:off x="-555480" y="2482920"/>
              <a:ext cx="388800" cy="365040"/>
            </a:xfrm>
            <a:prstGeom prst="rect">
              <a:avLst/>
            </a:prstGeom>
            <a:solidFill>
              <a:srgbClr val="a8ae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6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7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20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" name="Group 79"/>
          <p:cNvGrpSpPr/>
          <p:nvPr/>
        </p:nvGrpSpPr>
        <p:grpSpPr>
          <a:xfrm>
            <a:off x="-1060560" y="3057480"/>
            <a:ext cx="959040" cy="2100240"/>
            <a:chOff x="-1060560" y="3057480"/>
            <a:chExt cx="959040" cy="2100240"/>
          </a:xfrm>
        </p:grpSpPr>
        <p:sp>
          <p:nvSpPr>
            <p:cNvPr id="19" name="Rectangle 80"/>
            <p:cNvSpPr/>
            <p:nvPr/>
          </p:nvSpPr>
          <p:spPr>
            <a:xfrm>
              <a:off x="-1060560" y="3057480"/>
              <a:ext cx="959040" cy="210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36000" bIns="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NG secondary colour palett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81"/>
            <p:cNvSpPr/>
            <p:nvPr/>
          </p:nvSpPr>
          <p:spPr>
            <a:xfrm>
              <a:off x="-995400" y="3897360"/>
              <a:ext cx="388800" cy="365040"/>
            </a:xfrm>
            <a:prstGeom prst="rect">
              <a:avLst/>
            </a:prstGeom>
            <a:solidFill>
              <a:srgbClr val="a8ae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6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7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20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82"/>
            <p:cNvSpPr/>
            <p:nvPr/>
          </p:nvSpPr>
          <p:spPr>
            <a:xfrm>
              <a:off x="-995400" y="4314960"/>
              <a:ext cx="388800" cy="3650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0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83"/>
            <p:cNvSpPr/>
            <p:nvPr/>
          </p:nvSpPr>
          <p:spPr>
            <a:xfrm>
              <a:off x="-555480" y="3897360"/>
              <a:ext cx="388800" cy="365040"/>
            </a:xfrm>
            <a:prstGeom prst="rect">
              <a:avLst/>
            </a:prstGeom>
            <a:solidFill>
              <a:srgbClr val="5a6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0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5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84"/>
            <p:cNvSpPr/>
            <p:nvPr/>
          </p:nvSpPr>
          <p:spPr>
            <a:xfrm>
              <a:off x="-555480" y="4314960"/>
              <a:ext cx="388800" cy="365040"/>
            </a:xfrm>
            <a:prstGeom prst="rect">
              <a:avLst/>
            </a:prstGeom>
            <a:solidFill>
              <a:srgbClr val="d7d4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1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1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85"/>
            <p:cNvSpPr/>
            <p:nvPr/>
          </p:nvSpPr>
          <p:spPr>
            <a:xfrm>
              <a:off x="-995400" y="3479760"/>
              <a:ext cx="388800" cy="3650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25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0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86"/>
            <p:cNvSpPr/>
            <p:nvPr/>
          </p:nvSpPr>
          <p:spPr>
            <a:xfrm>
              <a:off x="-555480" y="3479760"/>
              <a:ext cx="388800" cy="365040"/>
            </a:xfrm>
            <a:prstGeom prst="rect">
              <a:avLst/>
            </a:prstGeom>
            <a:solidFill>
              <a:srgbClr val="e4ac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22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7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0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87"/>
            <p:cNvSpPr/>
            <p:nvPr/>
          </p:nvSpPr>
          <p:spPr>
            <a:xfrm>
              <a:off x="-995400" y="4732200"/>
              <a:ext cx="388800" cy="365400"/>
            </a:xfrm>
            <a:prstGeom prst="rect">
              <a:avLst/>
            </a:prstGeom>
            <a:solidFill>
              <a:srgbClr val="e4ac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7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6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4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88"/>
            <p:cNvSpPr/>
            <p:nvPr/>
          </p:nvSpPr>
          <p:spPr>
            <a:xfrm>
              <a:off x="-555480" y="4732200"/>
              <a:ext cx="388800" cy="36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" name="Group 89"/>
          <p:cNvGrpSpPr/>
          <p:nvPr/>
        </p:nvGrpSpPr>
        <p:grpSpPr>
          <a:xfrm>
            <a:off x="-1060560" y="5294160"/>
            <a:ext cx="959040" cy="762120"/>
            <a:chOff x="-1060560" y="5294160"/>
            <a:chExt cx="959040" cy="762120"/>
          </a:xfrm>
        </p:grpSpPr>
        <p:sp>
          <p:nvSpPr>
            <p:cNvPr id="29" name="Rectangle 90"/>
            <p:cNvSpPr/>
            <p:nvPr/>
          </p:nvSpPr>
          <p:spPr>
            <a:xfrm>
              <a:off x="-1060560" y="5294160"/>
              <a:ext cx="95904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36000" bIns="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ap colour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91"/>
            <p:cNvSpPr/>
            <p:nvPr/>
          </p:nvSpPr>
          <p:spPr>
            <a:xfrm>
              <a:off x="-992160" y="5551200"/>
              <a:ext cx="388800" cy="365040"/>
            </a:xfrm>
            <a:prstGeom prst="rect">
              <a:avLst/>
            </a:prstGeom>
            <a:solidFill>
              <a:srgbClr val="e6e8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3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3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4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92"/>
            <p:cNvSpPr/>
            <p:nvPr/>
          </p:nvSpPr>
          <p:spPr>
            <a:xfrm>
              <a:off x="-552600" y="5551200"/>
              <a:ext cx="389160" cy="365040"/>
            </a:xfrm>
            <a:prstGeom prst="rect">
              <a:avLst/>
            </a:prstGeom>
            <a:solidFill>
              <a:srgbClr val="b9b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8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1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Text Box 93"/>
            <p:cNvSpPr/>
            <p:nvPr/>
          </p:nvSpPr>
          <p:spPr>
            <a:xfrm>
              <a:off x="-853560" y="5927400"/>
              <a:ext cx="113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Fil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Text Box 94"/>
            <p:cNvSpPr/>
            <p:nvPr/>
          </p:nvSpPr>
          <p:spPr>
            <a:xfrm>
              <a:off x="-441360" y="5927400"/>
              <a:ext cx="166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" name="Line 96"/>
          <p:cNvSpPr/>
          <p:nvPr/>
        </p:nvSpPr>
        <p:spPr>
          <a:xfrm>
            <a:off x="0" y="1322280"/>
            <a:ext cx="9144000" cy="0"/>
          </a:xfrm>
          <a:prstGeom prst="line">
            <a:avLst/>
          </a:prstGeom>
          <a:ln w="64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Text Box 18"/>
          <p:cNvSpPr/>
          <p:nvPr/>
        </p:nvSpPr>
        <p:spPr>
          <a:xfrm>
            <a:off x="226440" y="6708600"/>
            <a:ext cx="718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7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GB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700" spc="-1" strike="noStrike">
                <a:solidFill>
                  <a:srgbClr val="000000"/>
                </a:solidFill>
                <a:latin typeface="Arial"/>
              </a:rPr>
              <a:t>octombrie</a:t>
            </a:r>
            <a:r>
              <a:rPr b="1" lang="en-GB" sz="700" spc="-1" strike="noStrike">
                <a:solidFill>
                  <a:srgbClr val="000000"/>
                </a:solidFill>
                <a:latin typeface="Arial"/>
              </a:rPr>
              <a:t> 201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Brand Signature_PowerPoint_Footer_Screenshow"/>
          <p:cNvPicPr/>
          <p:nvPr/>
        </p:nvPicPr>
        <p:blipFill>
          <a:blip r:embed="rId2"/>
          <a:stretch/>
        </p:blipFill>
        <p:spPr>
          <a:xfrm>
            <a:off x="0" y="6440400"/>
            <a:ext cx="8918640" cy="2462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8880" y="647280"/>
            <a:ext cx="86914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grpSp>
        <p:nvGrpSpPr>
          <p:cNvPr id="75" name="Group 4"/>
          <p:cNvGrpSpPr/>
          <p:nvPr/>
        </p:nvGrpSpPr>
        <p:grpSpPr>
          <a:xfrm>
            <a:off x="-1476360" y="6329520"/>
            <a:ext cx="1403640" cy="528120"/>
            <a:chOff x="-1476360" y="6329520"/>
            <a:chExt cx="1403640" cy="528120"/>
          </a:xfrm>
        </p:grpSpPr>
        <p:sp>
          <p:nvSpPr>
            <p:cNvPr id="76" name="Rectangle 5"/>
            <p:cNvSpPr/>
            <p:nvPr/>
          </p:nvSpPr>
          <p:spPr>
            <a:xfrm>
              <a:off x="-1476360" y="6364080"/>
              <a:ext cx="1403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o not put content in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he Brand Signature are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6"/>
            <p:cNvSpPr/>
            <p:nvPr/>
          </p:nvSpPr>
          <p:spPr>
            <a:xfrm>
              <a:off x="-875520" y="6329520"/>
              <a:ext cx="8028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-180000" bIns="-18000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7"/>
            <p:cNvSpPr/>
            <p:nvPr/>
          </p:nvSpPr>
          <p:spPr>
            <a:xfrm>
              <a:off x="-875520" y="6857640"/>
              <a:ext cx="8028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-180000" bIns="-18000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8"/>
          <p:cNvGrpSpPr/>
          <p:nvPr/>
        </p:nvGrpSpPr>
        <p:grpSpPr>
          <a:xfrm>
            <a:off x="9282240" y="6329520"/>
            <a:ext cx="1411200" cy="524880"/>
            <a:chOff x="9282240" y="6329520"/>
            <a:chExt cx="1411200" cy="524880"/>
          </a:xfrm>
        </p:grpSpPr>
        <p:sp>
          <p:nvSpPr>
            <p:cNvPr id="80" name="Rectangle 9"/>
            <p:cNvSpPr/>
            <p:nvPr/>
          </p:nvSpPr>
          <p:spPr>
            <a:xfrm>
              <a:off x="9282240" y="6438600"/>
              <a:ext cx="1411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o not put content in the Brand Signature are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0"/>
            <p:cNvSpPr/>
            <p:nvPr/>
          </p:nvSpPr>
          <p:spPr>
            <a:xfrm flipH="1">
              <a:off x="9282240" y="6329520"/>
              <a:ext cx="8085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-180000" bIns="-18000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1"/>
            <p:cNvSpPr/>
            <p:nvPr/>
          </p:nvSpPr>
          <p:spPr>
            <a:xfrm flipH="1">
              <a:off x="9282240" y="6854400"/>
              <a:ext cx="8085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-180000" bIns="-18000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18880" y="1434960"/>
            <a:ext cx="869148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Rockwell Std Light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›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9"/>
          <p:cNvSpPr/>
          <p:nvPr/>
        </p:nvSpPr>
        <p:spPr>
          <a:xfrm>
            <a:off x="8656560" y="6708240"/>
            <a:ext cx="427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72A81-6BF2-4398-8888-5E87B5E58752}" type="slidenum">
              <a:rPr b="1" lang="en-US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45"/>
          <p:cNvGrpSpPr/>
          <p:nvPr/>
        </p:nvGrpSpPr>
        <p:grpSpPr>
          <a:xfrm>
            <a:off x="-1060560" y="1643040"/>
            <a:ext cx="959040" cy="1268280"/>
            <a:chOff x="-1060560" y="1643040"/>
            <a:chExt cx="959040" cy="1268280"/>
          </a:xfrm>
        </p:grpSpPr>
        <p:sp>
          <p:nvSpPr>
            <p:cNvPr id="86" name="Rectangle 46"/>
            <p:cNvSpPr/>
            <p:nvPr/>
          </p:nvSpPr>
          <p:spPr>
            <a:xfrm>
              <a:off x="-1060560" y="1643040"/>
              <a:ext cx="959040" cy="12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36000" bIns="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NG main </a:t>
              </a:r>
              <a:br>
                <a:rPr sz="900"/>
              </a:b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olour palett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47"/>
            <p:cNvSpPr/>
            <p:nvPr/>
          </p:nvSpPr>
          <p:spPr>
            <a:xfrm>
              <a:off x="-995400" y="2065320"/>
              <a:ext cx="388800" cy="3650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25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0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48"/>
            <p:cNvSpPr/>
            <p:nvPr/>
          </p:nvSpPr>
          <p:spPr>
            <a:xfrm>
              <a:off x="-555480" y="2065320"/>
              <a:ext cx="388800" cy="365040"/>
            </a:xfrm>
            <a:prstGeom prst="rect">
              <a:avLst/>
            </a:prstGeom>
            <a:solidFill>
              <a:srgbClr val="e4ac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7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6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4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49"/>
            <p:cNvSpPr/>
            <p:nvPr/>
          </p:nvSpPr>
          <p:spPr>
            <a:xfrm>
              <a:off x="-995400" y="2482920"/>
              <a:ext cx="388800" cy="365040"/>
            </a:xfrm>
            <a:prstGeom prst="rect">
              <a:avLst/>
            </a:prstGeom>
            <a:solidFill>
              <a:srgbClr val="5a6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0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5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50"/>
            <p:cNvSpPr/>
            <p:nvPr/>
          </p:nvSpPr>
          <p:spPr>
            <a:xfrm>
              <a:off x="-555480" y="2482920"/>
              <a:ext cx="388800" cy="365040"/>
            </a:xfrm>
            <a:prstGeom prst="rect">
              <a:avLst/>
            </a:prstGeom>
            <a:solidFill>
              <a:srgbClr val="a8ae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6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7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20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51"/>
          <p:cNvGrpSpPr/>
          <p:nvPr/>
        </p:nvGrpSpPr>
        <p:grpSpPr>
          <a:xfrm>
            <a:off x="-1060560" y="3057480"/>
            <a:ext cx="959040" cy="2100240"/>
            <a:chOff x="-1060560" y="3057480"/>
            <a:chExt cx="959040" cy="2100240"/>
          </a:xfrm>
        </p:grpSpPr>
        <p:sp>
          <p:nvSpPr>
            <p:cNvPr id="92" name="Rectangle 52"/>
            <p:cNvSpPr/>
            <p:nvPr/>
          </p:nvSpPr>
          <p:spPr>
            <a:xfrm>
              <a:off x="-1060560" y="3057480"/>
              <a:ext cx="959040" cy="210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36000" bIns="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NG secondary colour palett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53"/>
            <p:cNvSpPr/>
            <p:nvPr/>
          </p:nvSpPr>
          <p:spPr>
            <a:xfrm>
              <a:off x="-995400" y="3897360"/>
              <a:ext cx="388800" cy="365040"/>
            </a:xfrm>
            <a:prstGeom prst="rect">
              <a:avLst/>
            </a:prstGeom>
            <a:solidFill>
              <a:srgbClr val="a8ae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6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7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20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54"/>
            <p:cNvSpPr/>
            <p:nvPr/>
          </p:nvSpPr>
          <p:spPr>
            <a:xfrm>
              <a:off x="-995400" y="4314960"/>
              <a:ext cx="388800" cy="3650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0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55"/>
            <p:cNvSpPr/>
            <p:nvPr/>
          </p:nvSpPr>
          <p:spPr>
            <a:xfrm>
              <a:off x="-555480" y="3897360"/>
              <a:ext cx="388800" cy="365040"/>
            </a:xfrm>
            <a:prstGeom prst="rect">
              <a:avLst/>
            </a:prstGeom>
            <a:solidFill>
              <a:srgbClr val="5a6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0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5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56"/>
            <p:cNvSpPr/>
            <p:nvPr/>
          </p:nvSpPr>
          <p:spPr>
            <a:xfrm>
              <a:off x="-555480" y="4314960"/>
              <a:ext cx="388800" cy="365040"/>
            </a:xfrm>
            <a:prstGeom prst="rect">
              <a:avLst/>
            </a:prstGeom>
            <a:solidFill>
              <a:srgbClr val="d7d4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1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1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57"/>
            <p:cNvSpPr/>
            <p:nvPr/>
          </p:nvSpPr>
          <p:spPr>
            <a:xfrm>
              <a:off x="-995400" y="3479760"/>
              <a:ext cx="388800" cy="3650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25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0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58"/>
            <p:cNvSpPr/>
            <p:nvPr/>
          </p:nvSpPr>
          <p:spPr>
            <a:xfrm>
              <a:off x="-555480" y="3479760"/>
              <a:ext cx="388800" cy="365040"/>
            </a:xfrm>
            <a:prstGeom prst="rect">
              <a:avLst/>
            </a:prstGeom>
            <a:solidFill>
              <a:srgbClr val="e4ac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22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7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0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59"/>
            <p:cNvSpPr/>
            <p:nvPr/>
          </p:nvSpPr>
          <p:spPr>
            <a:xfrm>
              <a:off x="-995400" y="4732200"/>
              <a:ext cx="388800" cy="365400"/>
            </a:xfrm>
            <a:prstGeom prst="rect">
              <a:avLst/>
            </a:prstGeom>
            <a:solidFill>
              <a:srgbClr val="e4ac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7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6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4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60"/>
            <p:cNvSpPr/>
            <p:nvPr/>
          </p:nvSpPr>
          <p:spPr>
            <a:xfrm>
              <a:off x="-555480" y="4732200"/>
              <a:ext cx="388800" cy="36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61"/>
          <p:cNvGrpSpPr/>
          <p:nvPr/>
        </p:nvGrpSpPr>
        <p:grpSpPr>
          <a:xfrm>
            <a:off x="-1060560" y="5294160"/>
            <a:ext cx="959040" cy="762120"/>
            <a:chOff x="-1060560" y="5294160"/>
            <a:chExt cx="959040" cy="762120"/>
          </a:xfrm>
        </p:grpSpPr>
        <p:sp>
          <p:nvSpPr>
            <p:cNvPr id="102" name="Rectangle 62"/>
            <p:cNvSpPr/>
            <p:nvPr/>
          </p:nvSpPr>
          <p:spPr>
            <a:xfrm>
              <a:off x="-1060560" y="5294160"/>
              <a:ext cx="95904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36000" bIns="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ap colour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63"/>
            <p:cNvSpPr/>
            <p:nvPr/>
          </p:nvSpPr>
          <p:spPr>
            <a:xfrm>
              <a:off x="-992160" y="5551200"/>
              <a:ext cx="388800" cy="365040"/>
            </a:xfrm>
            <a:prstGeom prst="rect">
              <a:avLst/>
            </a:prstGeom>
            <a:solidFill>
              <a:srgbClr val="e6e8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3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3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4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64"/>
            <p:cNvSpPr/>
            <p:nvPr/>
          </p:nvSpPr>
          <p:spPr>
            <a:xfrm>
              <a:off x="-552600" y="5551200"/>
              <a:ext cx="389160" cy="365040"/>
            </a:xfrm>
            <a:prstGeom prst="rect">
              <a:avLst/>
            </a:prstGeom>
            <a:solidFill>
              <a:srgbClr val="b9b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8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1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65"/>
            <p:cNvSpPr/>
            <p:nvPr/>
          </p:nvSpPr>
          <p:spPr>
            <a:xfrm>
              <a:off x="-853560" y="5927400"/>
              <a:ext cx="113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Fil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66"/>
            <p:cNvSpPr/>
            <p:nvPr/>
          </p:nvSpPr>
          <p:spPr>
            <a:xfrm>
              <a:off x="-441360" y="5927400"/>
              <a:ext cx="166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Text Box 18"/>
          <p:cNvSpPr/>
          <p:nvPr/>
        </p:nvSpPr>
        <p:spPr>
          <a:xfrm>
            <a:off x="226440" y="6708600"/>
            <a:ext cx="718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7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GB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700" spc="-1" strike="noStrike">
                <a:solidFill>
                  <a:srgbClr val="000000"/>
                </a:solidFill>
                <a:latin typeface="Arial"/>
              </a:rPr>
              <a:t>octombrie</a:t>
            </a:r>
            <a:r>
              <a:rPr b="1" lang="en-GB" sz="700" spc="-1" strike="noStrike">
                <a:solidFill>
                  <a:srgbClr val="000000"/>
                </a:solidFill>
                <a:latin typeface="Arial"/>
              </a:rPr>
              <a:t> 201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1"/>
          <p:cNvSpPr/>
          <p:nvPr/>
        </p:nvSpPr>
        <p:spPr>
          <a:xfrm>
            <a:off x="7424640" y="287280"/>
            <a:ext cx="149076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29698-5A14-4D1B-8ADB-7745F5FF11F5}" type="datetime">
              <a:rPr b="0" lang="en-US" sz="600" spc="-1" strike="noStrike">
                <a:solidFill>
                  <a:srgbClr val="aba195"/>
                </a:solidFill>
                <a:latin typeface="Arial"/>
              </a:rPr>
              <a:t>07/31/26</a:t>
            </a:fld>
            <a:r>
              <a:rPr b="0" lang="en-US" sz="600" spc="-1" strike="noStrike">
                <a:solidFill>
                  <a:srgbClr val="aba195"/>
                </a:solidFill>
                <a:latin typeface="Arial"/>
              </a:rPr>
              <a:t> </a:t>
            </a:r>
            <a:fld id="{22DA5907-2E08-4C65-8966-974C542A5318}" type="datetime10">
              <a:rPr b="0" lang="en-US" sz="600" spc="-1" strike="noStrike">
                <a:solidFill>
                  <a:srgbClr val="aba195"/>
                </a:solidFill>
                <a:latin typeface="Arial"/>
              </a:rPr>
              <a:t>00:54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2"/>
          <p:cNvSpPr/>
          <p:nvPr/>
        </p:nvSpPr>
        <p:spPr>
          <a:xfrm>
            <a:off x="4562640" y="216000"/>
            <a:ext cx="4352760" cy="1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aba195"/>
                </a:solidFill>
                <a:latin typeface="Arial"/>
              </a:rPr>
              <a:t>Conferinta BN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5" descr="ING Brand Signature RGB"/>
          <p:cNvPicPr/>
          <p:nvPr/>
        </p:nvPicPr>
        <p:blipFill>
          <a:blip r:embed="rId2"/>
          <a:srcRect l="21959" t="0" r="0" b="0"/>
          <a:stretch/>
        </p:blipFill>
        <p:spPr>
          <a:xfrm>
            <a:off x="533520" y="5780160"/>
            <a:ext cx="8429400" cy="107784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7"/>
          <p:cNvGrpSpPr/>
          <p:nvPr/>
        </p:nvGrpSpPr>
        <p:grpSpPr>
          <a:xfrm>
            <a:off x="-1692360" y="5805360"/>
            <a:ext cx="1619280" cy="1052280"/>
            <a:chOff x="-1692360" y="5805360"/>
            <a:chExt cx="1619280" cy="1052280"/>
          </a:xfrm>
        </p:grpSpPr>
        <p:sp>
          <p:nvSpPr>
            <p:cNvPr id="148" name="Rectangle 8"/>
            <p:cNvSpPr/>
            <p:nvPr/>
          </p:nvSpPr>
          <p:spPr>
            <a:xfrm>
              <a:off x="-1671480" y="6008400"/>
              <a:ext cx="15984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o not put content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 the brand signature are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9"/>
            <p:cNvSpPr/>
            <p:nvPr/>
          </p:nvSpPr>
          <p:spPr>
            <a:xfrm>
              <a:off x="-1692360" y="5805360"/>
              <a:ext cx="16192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-180000" bIns="-18000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10"/>
            <p:cNvSpPr/>
            <p:nvPr/>
          </p:nvSpPr>
          <p:spPr>
            <a:xfrm flipV="1">
              <a:off x="-1692360" y="6854040"/>
              <a:ext cx="1619280" cy="36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-176400" bIns="-17640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11"/>
          <p:cNvGrpSpPr/>
          <p:nvPr/>
        </p:nvGrpSpPr>
        <p:grpSpPr>
          <a:xfrm>
            <a:off x="9245520" y="5805360"/>
            <a:ext cx="1619280" cy="1052280"/>
            <a:chOff x="9245520" y="5805360"/>
            <a:chExt cx="1619280" cy="1052280"/>
          </a:xfrm>
        </p:grpSpPr>
        <p:sp>
          <p:nvSpPr>
            <p:cNvPr id="152" name="Rectangle 12"/>
            <p:cNvSpPr/>
            <p:nvPr/>
          </p:nvSpPr>
          <p:spPr>
            <a:xfrm>
              <a:off x="9266400" y="6008400"/>
              <a:ext cx="15984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o not put content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 the brand signature are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13"/>
            <p:cNvSpPr/>
            <p:nvPr/>
          </p:nvSpPr>
          <p:spPr>
            <a:xfrm flipH="1">
              <a:off x="9245520" y="5805360"/>
              <a:ext cx="16192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-180000" bIns="-18000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4"/>
            <p:cNvSpPr/>
            <p:nvPr/>
          </p:nvSpPr>
          <p:spPr>
            <a:xfrm flipH="1" flipV="1">
              <a:off x="9245520" y="6854040"/>
              <a:ext cx="1619280" cy="36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-176400" bIns="-17640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80"/>
          <p:cNvGrpSpPr/>
          <p:nvPr/>
        </p:nvGrpSpPr>
        <p:grpSpPr>
          <a:xfrm>
            <a:off x="-1079640" y="0"/>
            <a:ext cx="959040" cy="4413240"/>
            <a:chOff x="-1079640" y="0"/>
            <a:chExt cx="959040" cy="4413240"/>
          </a:xfrm>
        </p:grpSpPr>
        <p:sp>
          <p:nvSpPr>
            <p:cNvPr id="156" name="Rectangle 81"/>
            <p:cNvSpPr/>
            <p:nvPr/>
          </p:nvSpPr>
          <p:spPr>
            <a:xfrm>
              <a:off x="-1079640" y="0"/>
              <a:ext cx="959040" cy="12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36000" bIns="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NG main </a:t>
              </a:r>
              <a:br>
                <a:rPr sz="900"/>
              </a:b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olour palett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82"/>
            <p:cNvSpPr/>
            <p:nvPr/>
          </p:nvSpPr>
          <p:spPr>
            <a:xfrm>
              <a:off x="-1014480" y="422280"/>
              <a:ext cx="388800" cy="3650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25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0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83"/>
            <p:cNvSpPr/>
            <p:nvPr/>
          </p:nvSpPr>
          <p:spPr>
            <a:xfrm>
              <a:off x="-574560" y="422280"/>
              <a:ext cx="388800" cy="365040"/>
            </a:xfrm>
            <a:prstGeom prst="rect">
              <a:avLst/>
            </a:prstGeom>
            <a:solidFill>
              <a:srgbClr val="5a6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0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5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84"/>
            <p:cNvSpPr/>
            <p:nvPr/>
          </p:nvSpPr>
          <p:spPr>
            <a:xfrm>
              <a:off x="-1014480" y="839880"/>
              <a:ext cx="388800" cy="365040"/>
            </a:xfrm>
            <a:prstGeom prst="rect">
              <a:avLst/>
            </a:prstGeom>
            <a:solidFill>
              <a:srgbClr val="aba1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7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6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4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85"/>
            <p:cNvSpPr/>
            <p:nvPr/>
          </p:nvSpPr>
          <p:spPr>
            <a:xfrm>
              <a:off x="-574560" y="839880"/>
              <a:ext cx="388800" cy="3650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0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86"/>
            <p:cNvSpPr/>
            <p:nvPr/>
          </p:nvSpPr>
          <p:spPr>
            <a:xfrm>
              <a:off x="-1079640" y="1414440"/>
              <a:ext cx="959040" cy="210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36000" bIns="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NG secondary colour palett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87"/>
            <p:cNvSpPr/>
            <p:nvPr/>
          </p:nvSpPr>
          <p:spPr>
            <a:xfrm>
              <a:off x="-1014480" y="2671920"/>
              <a:ext cx="388800" cy="365040"/>
            </a:xfrm>
            <a:prstGeom prst="rect">
              <a:avLst/>
            </a:prstGeom>
            <a:solidFill>
              <a:srgbClr val="5a6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0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5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88"/>
            <p:cNvSpPr/>
            <p:nvPr/>
          </p:nvSpPr>
          <p:spPr>
            <a:xfrm>
              <a:off x="-574560" y="2671920"/>
              <a:ext cx="388800" cy="365040"/>
            </a:xfrm>
            <a:prstGeom prst="rect">
              <a:avLst/>
            </a:prstGeom>
            <a:solidFill>
              <a:srgbClr val="d7d4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1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1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89"/>
            <p:cNvSpPr/>
            <p:nvPr/>
          </p:nvSpPr>
          <p:spPr>
            <a:xfrm>
              <a:off x="-1014480" y="3089160"/>
              <a:ext cx="388800" cy="3654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0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90"/>
            <p:cNvSpPr/>
            <p:nvPr/>
          </p:nvSpPr>
          <p:spPr>
            <a:xfrm>
              <a:off x="-574560" y="3089160"/>
              <a:ext cx="388800" cy="36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Group 91"/>
            <p:cNvGrpSpPr/>
            <p:nvPr/>
          </p:nvGrpSpPr>
          <p:grpSpPr>
            <a:xfrm>
              <a:off x="-1079640" y="3651120"/>
              <a:ext cx="959040" cy="762120"/>
              <a:chOff x="-1079640" y="3651120"/>
              <a:chExt cx="959040" cy="762120"/>
            </a:xfrm>
          </p:grpSpPr>
          <p:sp>
            <p:nvSpPr>
              <p:cNvPr id="167" name="Rectangle 92"/>
              <p:cNvSpPr/>
              <p:nvPr/>
            </p:nvSpPr>
            <p:spPr>
              <a:xfrm>
                <a:off x="-1079640" y="3651120"/>
                <a:ext cx="959040" cy="762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0" tIns="36000" bIns="0" anchor="t">
                <a:no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Map colour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93"/>
              <p:cNvSpPr/>
              <p:nvPr/>
            </p:nvSpPr>
            <p:spPr>
              <a:xfrm>
                <a:off x="-1011240" y="3908160"/>
                <a:ext cx="388800" cy="365040"/>
              </a:xfrm>
              <a:prstGeom prst="rect">
                <a:avLst/>
              </a:prstGeom>
              <a:solidFill>
                <a:srgbClr val="e6e8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3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3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4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94"/>
              <p:cNvSpPr/>
              <p:nvPr/>
            </p:nvSpPr>
            <p:spPr>
              <a:xfrm>
                <a:off x="-571680" y="3908160"/>
                <a:ext cx="389160" cy="365040"/>
              </a:xfrm>
              <a:prstGeom prst="rect">
                <a:avLst/>
              </a:prstGeom>
              <a:solidFill>
                <a:srgbClr val="b9b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360" rIns="18360" tIns="18360" bIns="1836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8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9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1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95"/>
              <p:cNvSpPr/>
              <p:nvPr/>
            </p:nvSpPr>
            <p:spPr>
              <a:xfrm>
                <a:off x="-872640" y="4284360"/>
                <a:ext cx="1134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Fill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96"/>
              <p:cNvSpPr/>
              <p:nvPr/>
            </p:nvSpPr>
            <p:spPr>
              <a:xfrm>
                <a:off x="-460440" y="4284360"/>
                <a:ext cx="1666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Rectangle 97"/>
            <p:cNvSpPr/>
            <p:nvPr/>
          </p:nvSpPr>
          <p:spPr>
            <a:xfrm>
              <a:off x="-1014480" y="1817640"/>
              <a:ext cx="388800" cy="3650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25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0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98"/>
            <p:cNvSpPr/>
            <p:nvPr/>
          </p:nvSpPr>
          <p:spPr>
            <a:xfrm>
              <a:off x="-574560" y="1817640"/>
              <a:ext cx="388800" cy="365040"/>
            </a:xfrm>
            <a:prstGeom prst="rect">
              <a:avLst/>
            </a:prstGeom>
            <a:solidFill>
              <a:srgbClr val="e4ac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22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7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0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99"/>
            <p:cNvSpPr/>
            <p:nvPr/>
          </p:nvSpPr>
          <p:spPr>
            <a:xfrm>
              <a:off x="-1014480" y="2235240"/>
              <a:ext cx="388800" cy="365040"/>
            </a:xfrm>
            <a:prstGeom prst="rect">
              <a:avLst/>
            </a:prstGeom>
            <a:solidFill>
              <a:srgbClr val="aba1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7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6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4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100"/>
            <p:cNvSpPr/>
            <p:nvPr/>
          </p:nvSpPr>
          <p:spPr>
            <a:xfrm>
              <a:off x="-574560" y="2235240"/>
              <a:ext cx="388800" cy="365040"/>
            </a:xfrm>
            <a:prstGeom prst="rect">
              <a:avLst/>
            </a:prstGeom>
            <a:solidFill>
              <a:srgbClr val="a8ae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7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Freeform 103"/>
          <p:cNvSpPr/>
          <p:nvPr/>
        </p:nvSpPr>
        <p:spPr>
          <a:xfrm>
            <a:off x="533520" y="1433520"/>
            <a:ext cx="239760" cy="722160"/>
          </a:xfrm>
          <a:custGeom>
            <a:avLst/>
            <a:gdLst/>
            <a:ahLst/>
            <a:rect l="l" t="t" r="r" b="b"/>
            <a:pathLst>
              <a:path w="1876" h="5625">
                <a:moveTo>
                  <a:pt x="626" y="4999"/>
                </a:moveTo>
                <a:lnTo>
                  <a:pt x="1876" y="4999"/>
                </a:lnTo>
                <a:lnTo>
                  <a:pt x="1876" y="5625"/>
                </a:lnTo>
                <a:lnTo>
                  <a:pt x="0" y="5625"/>
                </a:lnTo>
                <a:lnTo>
                  <a:pt x="0" y="0"/>
                </a:lnTo>
                <a:lnTo>
                  <a:pt x="1876" y="0"/>
                </a:lnTo>
                <a:lnTo>
                  <a:pt x="1876" y="624"/>
                </a:lnTo>
                <a:lnTo>
                  <a:pt x="626" y="624"/>
                </a:lnTo>
                <a:lnTo>
                  <a:pt x="626" y="4999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8"/>
          <p:cNvSpPr/>
          <p:nvPr/>
        </p:nvSpPr>
        <p:spPr>
          <a:xfrm>
            <a:off x="226440" y="6708600"/>
            <a:ext cx="718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7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GB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700" spc="-1" strike="noStrike">
                <a:solidFill>
                  <a:srgbClr val="000000"/>
                </a:solidFill>
                <a:latin typeface="Arial"/>
              </a:rPr>
              <a:t>octombrie</a:t>
            </a:r>
            <a:r>
              <a:rPr b="1" lang="en-GB" sz="700" spc="-1" strike="noStrike">
                <a:solidFill>
                  <a:srgbClr val="000000"/>
                </a:solidFill>
                <a:latin typeface="Arial"/>
              </a:rPr>
              <a:t> 201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18880" y="647280"/>
            <a:ext cx="86914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218880" y="1434960"/>
            <a:ext cx="869148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Rockwell Std Light"/>
              <a:buChar char="-"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›"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-"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-"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-"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160" y="539280"/>
            <a:ext cx="807228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6600"/>
                </a:solidFill>
                <a:latin typeface="Arial"/>
              </a:rPr>
              <a:t>Lectii ale crizei pentru Romania</a:t>
            </a:r>
            <a:endParaRPr b="1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747360" y="1585800"/>
            <a:ext cx="4638600" cy="419400"/>
          </a:xfrm>
          <a:prstGeom prst="rect">
            <a:avLst/>
          </a:prstGeom>
          <a:noFill/>
          <a:ln w="0">
            <a:noFill/>
          </a:ln>
        </p:spPr>
        <p:txBody>
          <a:bodyPr lIns="18000" rIns="0" tIns="0" bIns="0" anchor="t">
            <a:no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Experientele unui ban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517680" y="2624040"/>
            <a:ext cx="3463920" cy="7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su Negrito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irector Ge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ucuresti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octombri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89"/>
          <p:cNvSpPr/>
          <p:nvPr/>
        </p:nvSpPr>
        <p:spPr>
          <a:xfrm>
            <a:off x="533520" y="1433520"/>
            <a:ext cx="239760" cy="722160"/>
          </a:xfrm>
          <a:custGeom>
            <a:avLst/>
            <a:gdLst>
              <a:gd name="textAreaLeft" fmla="*/ 0 w 239760"/>
              <a:gd name="textAreaRight" fmla="*/ 240120 w 239760"/>
              <a:gd name="textAreaTop" fmla="*/ 0 h 722160"/>
              <a:gd name="textAreaBottom" fmla="*/ 722520 h 722160"/>
            </a:gdLst>
            <a:ahLst/>
            <a:rect l="textAreaLeft" t="textAreaTop" r="textAreaRight" b="textAreaBottom"/>
            <a:pathLst>
              <a:path w="1876" h="5625">
                <a:moveTo>
                  <a:pt x="626" y="4999"/>
                </a:moveTo>
                <a:lnTo>
                  <a:pt x="1876" y="4999"/>
                </a:lnTo>
                <a:lnTo>
                  <a:pt x="1876" y="5625"/>
                </a:lnTo>
                <a:lnTo>
                  <a:pt x="0" y="5625"/>
                </a:lnTo>
                <a:lnTo>
                  <a:pt x="0" y="0"/>
                </a:lnTo>
                <a:lnTo>
                  <a:pt x="1876" y="0"/>
                </a:lnTo>
                <a:lnTo>
                  <a:pt x="1876" y="624"/>
                </a:lnTo>
                <a:lnTo>
                  <a:pt x="626" y="624"/>
                </a:lnTo>
                <a:lnTo>
                  <a:pt x="626" y="4999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91"/>
          <p:cNvSpPr/>
          <p:nvPr/>
        </p:nvSpPr>
        <p:spPr>
          <a:xfrm flipH="1">
            <a:off x="5308560" y="1433520"/>
            <a:ext cx="239760" cy="722160"/>
          </a:xfrm>
          <a:custGeom>
            <a:avLst/>
            <a:gdLst>
              <a:gd name="textAreaLeft" fmla="*/ 360 w 239760"/>
              <a:gd name="textAreaRight" fmla="*/ 240480 w 239760"/>
              <a:gd name="textAreaTop" fmla="*/ 0 h 722160"/>
              <a:gd name="textAreaBottom" fmla="*/ 722520 h 722160"/>
            </a:gdLst>
            <a:ahLst/>
            <a:rect l="textAreaLeft" t="textAreaTop" r="textAreaRight" b="textAreaBottom"/>
            <a:pathLst>
              <a:path w="1876" h="5625">
                <a:moveTo>
                  <a:pt x="626" y="4999"/>
                </a:moveTo>
                <a:lnTo>
                  <a:pt x="1876" y="4999"/>
                </a:lnTo>
                <a:lnTo>
                  <a:pt x="1876" y="5625"/>
                </a:lnTo>
                <a:lnTo>
                  <a:pt x="0" y="5625"/>
                </a:lnTo>
                <a:lnTo>
                  <a:pt x="0" y="0"/>
                </a:lnTo>
                <a:lnTo>
                  <a:pt x="1876" y="0"/>
                </a:lnTo>
                <a:lnTo>
                  <a:pt x="1876" y="624"/>
                </a:lnTo>
                <a:lnTo>
                  <a:pt x="626" y="624"/>
                </a:lnTo>
                <a:lnTo>
                  <a:pt x="626" y="4999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18880" y="647280"/>
            <a:ext cx="86914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6600"/>
                </a:solidFill>
                <a:latin typeface="Arial"/>
              </a:rPr>
              <a:t>Gradul de intermediere la nivel UE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289080" y="1415880"/>
            <a:ext cx="86914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79280" indent="-1792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6600"/>
                </a:solidFill>
                <a:latin typeface="Arial"/>
                <a:ea typeface="Arial Unicode MS"/>
              </a:rPr>
              <a:t>Creditarea excesiva a “hranit” cresterea economica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6600"/>
                </a:solidFill>
                <a:latin typeface="Arial"/>
                <a:ea typeface="Arial Unicode MS"/>
              </a:rPr>
              <a:t>... Insa “a ajutat” si la formarea de dezechilibre (deficit de cont curent,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7" descr=""/>
          <p:cNvPicPr/>
          <p:nvPr/>
        </p:nvPicPr>
        <p:blipFill>
          <a:blip r:embed="rId1"/>
          <a:stretch/>
        </p:blipFill>
        <p:spPr>
          <a:xfrm>
            <a:off x="293760" y="2254320"/>
            <a:ext cx="7897680" cy="408456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5"/>
          <p:cNvSpPr/>
          <p:nvPr/>
        </p:nvSpPr>
        <p:spPr>
          <a:xfrm>
            <a:off x="336600" y="6399360"/>
            <a:ext cx="3571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urs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BNR – Raportul asupra stabilitatii financiare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18880" y="647280"/>
            <a:ext cx="86914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6600"/>
                </a:solidFill>
                <a:latin typeface="Arial"/>
              </a:rPr>
              <a:t>Boom-ul creditului si consecinte...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59" name="Rectangle 6"/>
          <p:cNvSpPr/>
          <p:nvPr/>
        </p:nvSpPr>
        <p:spPr>
          <a:xfrm>
            <a:off x="289080" y="1415880"/>
            <a:ext cx="86914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79280" indent="-1792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6600"/>
                </a:solidFill>
                <a:latin typeface="Arial"/>
                <a:ea typeface="Arial Unicode MS"/>
              </a:rPr>
              <a:t>Creditarea excesiva a “hranit” cresterea economica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6600"/>
                </a:solidFill>
                <a:latin typeface="Arial"/>
                <a:ea typeface="Arial Unicode MS"/>
              </a:rPr>
              <a:t>... Insa “a ajutat” si la formarea de dezechilibre (deficit de cont curent,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6600"/>
                </a:solidFill>
                <a:latin typeface="Arial"/>
                <a:ea typeface="Arial Unicode MS"/>
              </a:rPr>
              <a:t>Bulgaria e un exemplu de studiat (excedentul bugetar a ajutat mult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10" descr=""/>
          <p:cNvPicPr/>
          <p:nvPr/>
        </p:nvPicPr>
        <p:blipFill>
          <a:blip r:embed="rId1"/>
          <a:stretch/>
        </p:blipFill>
        <p:spPr>
          <a:xfrm>
            <a:off x="277920" y="2365200"/>
            <a:ext cx="8007120" cy="409608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11"/>
          <p:cNvSpPr/>
          <p:nvPr/>
        </p:nvSpPr>
        <p:spPr>
          <a:xfrm>
            <a:off x="336600" y="6399360"/>
            <a:ext cx="301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urs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urostat, estimari 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18880" y="647280"/>
            <a:ext cx="86914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6600"/>
                </a:solidFill>
                <a:latin typeface="Arial"/>
              </a:rPr>
              <a:t>Unde au gresit bancile din Romania (1)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219240" y="1434960"/>
            <a:ext cx="8680320" cy="18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3" marL="801720" indent="-1699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6600"/>
                </a:solidFill>
                <a:latin typeface="Arial"/>
                <a:ea typeface="Arial Unicode MS"/>
              </a:rPr>
              <a:t>Lichiditate in exces la nivel global (s-au bazat pe finantare ieftina de afara si accessibi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801720" indent="-1699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6600"/>
                </a:solidFill>
                <a:latin typeface="Arial"/>
                <a:ea typeface="Arial Unicode MS"/>
              </a:rPr>
              <a:t>Boom de credit in valuta (nu RON)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801720" indent="-1699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6600"/>
                </a:solidFill>
                <a:latin typeface="Arial"/>
                <a:ea typeface="Arial Unicode MS"/>
              </a:rPr>
              <a:t>Creditul cu buletin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6"/>
          <p:cNvSpPr/>
          <p:nvPr/>
        </p:nvSpPr>
        <p:spPr>
          <a:xfrm>
            <a:off x="4608360" y="4027320"/>
            <a:ext cx="4238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7"/>
          <p:cNvSpPr/>
          <p:nvPr/>
        </p:nvSpPr>
        <p:spPr>
          <a:xfrm>
            <a:off x="4608360" y="4043520"/>
            <a:ext cx="1800" cy="485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8"/>
          <p:cNvSpPr/>
          <p:nvPr/>
        </p:nvSpPr>
        <p:spPr>
          <a:xfrm>
            <a:off x="8677440" y="4316400"/>
            <a:ext cx="0" cy="485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Object 9"/>
          <p:cNvGraphicFramePr/>
          <p:nvPr/>
        </p:nvGraphicFramePr>
        <p:xfrm>
          <a:off x="4826160" y="4191120"/>
          <a:ext cx="4152600" cy="21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6160" y="4191120"/>
                    <a:ext cx="4152600" cy="21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Rectangle 10"/>
          <p:cNvSpPr/>
          <p:nvPr/>
        </p:nvSpPr>
        <p:spPr>
          <a:xfrm>
            <a:off x="4722840" y="3595680"/>
            <a:ext cx="4421160" cy="258120"/>
          </a:xfrm>
          <a:prstGeom prst="rect">
            <a:avLst/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ap-ul de finantare la nivel de sistem banc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2"/>
          <p:cNvSpPr/>
          <p:nvPr/>
        </p:nvSpPr>
        <p:spPr>
          <a:xfrm rot="16200000">
            <a:off x="4235400" y="4950720"/>
            <a:ext cx="11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Miliarde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15" descr=""/>
          <p:cNvPicPr/>
          <p:nvPr/>
        </p:nvPicPr>
        <p:blipFill>
          <a:blip r:embed="rId3"/>
          <a:stretch/>
        </p:blipFill>
        <p:spPr>
          <a:xfrm>
            <a:off x="144360" y="3956040"/>
            <a:ext cx="4402080" cy="225756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16"/>
          <p:cNvSpPr/>
          <p:nvPr/>
        </p:nvSpPr>
        <p:spPr>
          <a:xfrm>
            <a:off x="209520" y="3597120"/>
            <a:ext cx="4421160" cy="258120"/>
          </a:xfrm>
          <a:prstGeom prst="rect">
            <a:avLst/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Raportul credite-depozite la nivel de sistem banc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7"/>
          <p:cNvSpPr/>
          <p:nvPr/>
        </p:nvSpPr>
        <p:spPr>
          <a:xfrm>
            <a:off x="336600" y="6399360"/>
            <a:ext cx="301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urs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BNR, estimari 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18880" y="647280"/>
            <a:ext cx="86914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6600"/>
                </a:solidFill>
                <a:latin typeface="Arial"/>
              </a:rPr>
              <a:t>Unde au gresit bancile din Romania (2)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995360" y="3997080"/>
            <a:ext cx="3915000" cy="24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407880" indent="0">
              <a:spcBef>
                <a:spcPts val="1199"/>
              </a:spcBef>
              <a:buNone/>
              <a:tabLst>
                <a:tab algn="l" pos="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r>
              <a:rPr b="1" lang="ro-RO" sz="2400" spc="-1" strike="noStrike">
                <a:solidFill>
                  <a:srgbClr val="ff6600"/>
                </a:solidFill>
                <a:latin typeface="Arial"/>
              </a:rPr>
              <a:t>Consecint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588960" indent="-22860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r>
              <a:rPr b="1" lang="ro-RO" sz="2000" spc="-1" strike="noStrike">
                <a:solidFill>
                  <a:srgbClr val="ff6600"/>
                </a:solidFill>
                <a:latin typeface="Arial"/>
              </a:rPr>
              <a:t>Cresterea volumului de credite neperform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88960" indent="-22860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r>
              <a:rPr b="1" lang="ro-RO" sz="2000" spc="-1" strike="noStrike">
                <a:solidFill>
                  <a:srgbClr val="ff6600"/>
                </a:solidFill>
                <a:latin typeface="Arial"/>
              </a:rPr>
              <a:t>Pierderi la nivel de sistem ban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3"/>
          <p:cNvSpPr/>
          <p:nvPr/>
        </p:nvSpPr>
        <p:spPr>
          <a:xfrm>
            <a:off x="168120" y="1373040"/>
            <a:ext cx="4811760" cy="258120"/>
          </a:xfrm>
          <a:prstGeom prst="rect">
            <a:avLst/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Piata ipotecara (miliarde R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Object 14"/>
          <p:cNvGraphicFramePr/>
          <p:nvPr/>
        </p:nvGraphicFramePr>
        <p:xfrm>
          <a:off x="247680" y="1716120"/>
          <a:ext cx="4519440" cy="197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680" y="1716120"/>
                    <a:ext cx="4519440" cy="19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Rectangle 16"/>
          <p:cNvSpPr/>
          <p:nvPr/>
        </p:nvSpPr>
        <p:spPr>
          <a:xfrm>
            <a:off x="4971960" y="1512720"/>
            <a:ext cx="3940200" cy="23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2" marL="407880" indent="-2286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r>
              <a:rPr b="1" lang="ro-RO" sz="2200" spc="-1" strike="noStrike">
                <a:solidFill>
                  <a:srgbClr val="ff6600"/>
                </a:solidFill>
                <a:latin typeface="Arial"/>
                <a:ea typeface="Arial Unicode MS"/>
              </a:rPr>
              <a:t>O piata ipotecara bazata aproape exclusiv pe credite in eu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07880" indent="-2286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17" descr=""/>
          <p:cNvPicPr/>
          <p:nvPr/>
        </p:nvPicPr>
        <p:blipFill>
          <a:blip r:embed="rId3"/>
          <a:stretch/>
        </p:blipFill>
        <p:spPr>
          <a:xfrm>
            <a:off x="0" y="3905280"/>
            <a:ext cx="4952880" cy="242100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18"/>
          <p:cNvSpPr/>
          <p:nvPr/>
        </p:nvSpPr>
        <p:spPr>
          <a:xfrm>
            <a:off x="158760" y="3610080"/>
            <a:ext cx="4788000" cy="258120"/>
          </a:xfrm>
          <a:prstGeom prst="rect">
            <a:avLst/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Evolutia creditelor neperformante fata de total cred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9"/>
          <p:cNvSpPr/>
          <p:nvPr/>
        </p:nvSpPr>
        <p:spPr>
          <a:xfrm>
            <a:off x="336600" y="6399360"/>
            <a:ext cx="301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urs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BNR, estimari 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18880" y="647280"/>
            <a:ext cx="86914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6600"/>
                </a:solidFill>
                <a:latin typeface="Arial"/>
              </a:rPr>
              <a:t>Calitatea portofoliilor de credite in tari UE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pic>
        <p:nvPicPr>
          <p:cNvPr id="284" name="Picture 4" descr=""/>
          <p:cNvPicPr/>
          <p:nvPr/>
        </p:nvPicPr>
        <p:blipFill>
          <a:blip r:embed="rId1"/>
          <a:stretch/>
        </p:blipFill>
        <p:spPr>
          <a:xfrm>
            <a:off x="209520" y="2530440"/>
            <a:ext cx="8696520" cy="378000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5"/>
          <p:cNvSpPr/>
          <p:nvPr/>
        </p:nvSpPr>
        <p:spPr>
          <a:xfrm>
            <a:off x="336600" y="6399360"/>
            <a:ext cx="3571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urs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BNR – Raportul asupra stabilitatii financiare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198360" y="1415880"/>
            <a:ext cx="878220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79280" indent="-1792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1" lang="ro-RO" sz="1600" spc="-1" strike="noStrike">
                <a:solidFill>
                  <a:srgbClr val="ff6600"/>
                </a:solidFill>
                <a:latin typeface="Arial"/>
                <a:ea typeface="Arial Unicode MS"/>
              </a:rPr>
              <a:t>In Romania a avut loc cea mai mare crestere a creditelor neperformante ca pondere in total credite</a:t>
            </a: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1" lang="ro-RO" sz="1600" spc="-1" strike="noStrike">
                <a:solidFill>
                  <a:srgbClr val="ff6600"/>
                </a:solidFill>
                <a:latin typeface="Arial"/>
                <a:ea typeface="Arial Unicode MS"/>
              </a:rPr>
              <a:t>A fost nevoie de sprijin consistent din partea actionarilor pentru a acoperi pierder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Subtitle 3"/>
          <p:cNvSpPr/>
          <p:nvPr/>
        </p:nvSpPr>
        <p:spPr>
          <a:xfrm>
            <a:off x="1355760" y="2921040"/>
            <a:ext cx="725004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0" tIns="0" bIns="0" anchor="t">
            <a:spAutoFit/>
          </a:bodyPr>
          <a:p>
            <a:pPr marL="539640" indent="-539640">
              <a:lnSpc>
                <a:spcPts val="33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romanUcPeriod"/>
              <a:tabLst>
                <a:tab algn="r" pos="867744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6600"/>
                </a:solidFill>
                <a:latin typeface="Arial"/>
              </a:rPr>
              <a:t>Despre crize econom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ts val="33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romanUcPeriod"/>
              <a:tabLst>
                <a:tab algn="r" pos="867744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6600"/>
                </a:solidFill>
                <a:latin typeface="Arial"/>
              </a:rPr>
              <a:t>Criza in Romania si in reg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ts val="33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romanUcPeriod"/>
              <a:tabLst>
                <a:tab algn="r" pos="867744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Raspunsul autoritatil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ts val="33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romanUcPeriod"/>
              <a:tabLst>
                <a:tab algn="r" pos="867744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6600"/>
                </a:solidFill>
                <a:latin typeface="Arial"/>
              </a:rPr>
              <a:t>Demn de retin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ts val="3300"/>
              </a:lnSpc>
              <a:tabLst>
                <a:tab algn="l" pos="0"/>
                <a:tab algn="r" pos="867744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1119240" y="4106880"/>
            <a:ext cx="7043760" cy="48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18880" y="647280"/>
            <a:ext cx="86914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6600"/>
                </a:solidFill>
                <a:latin typeface="Arial"/>
              </a:rPr>
              <a:t>Modificarea anuala a bazei monetare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88720" y="1415880"/>
            <a:ext cx="8691480" cy="5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79280" indent="-1792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1" lang="ro-RO" sz="1600" spc="-1" strike="noStrike">
                <a:solidFill>
                  <a:srgbClr val="ff6600"/>
                </a:solidFill>
                <a:latin typeface="Arial"/>
              </a:rPr>
              <a:t>In Romania baza monetara s-a contractat, pe cand in tarile din regiune cererea puternica de lichiditate a fost acomodata</a:t>
            </a: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7"/>
          <p:cNvSpPr/>
          <p:nvPr/>
        </p:nvSpPr>
        <p:spPr>
          <a:xfrm>
            <a:off x="1068480" y="4130640"/>
            <a:ext cx="2000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rsa: Eurost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8" descr=""/>
          <p:cNvPicPr/>
          <p:nvPr/>
        </p:nvPicPr>
        <p:blipFill>
          <a:blip r:embed="rId1"/>
          <a:stretch/>
        </p:blipFill>
        <p:spPr>
          <a:xfrm>
            <a:off x="372960" y="1998720"/>
            <a:ext cx="7678800" cy="460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18880" y="266400"/>
            <a:ext cx="86914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6600"/>
                </a:solidFill>
                <a:latin typeface="Arial"/>
              </a:rPr>
              <a:t>O perspectiva regionala asupra ratelor de dobanda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-152280" y="6400800"/>
            <a:ext cx="2574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urs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BN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MNB, Reuters, 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4" descr=""/>
          <p:cNvPicPr/>
          <p:nvPr/>
        </p:nvPicPr>
        <p:blipFill>
          <a:blip r:embed="rId1"/>
          <a:stretch/>
        </p:blipFill>
        <p:spPr>
          <a:xfrm>
            <a:off x="133200" y="1514520"/>
            <a:ext cx="87854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18880" y="647280"/>
            <a:ext cx="86914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6600"/>
                </a:solidFill>
                <a:latin typeface="Arial"/>
              </a:rPr>
              <a:t>Leul si 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alte </a:t>
            </a:r>
            <a:r>
              <a:rPr b="1" lang="ro-RO" sz="3200" spc="-1" strike="noStrike">
                <a:solidFill>
                  <a:srgbClr val="ff6600"/>
                </a:solidFill>
                <a:latin typeface="Arial"/>
              </a:rPr>
              <a:t>monede regionale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pic>
        <p:nvPicPr>
          <p:cNvPr id="297" name="Picture 5" descr=""/>
          <p:cNvPicPr/>
          <p:nvPr/>
        </p:nvPicPr>
        <p:blipFill>
          <a:blip r:embed="rId1"/>
          <a:stretch/>
        </p:blipFill>
        <p:spPr>
          <a:xfrm>
            <a:off x="0" y="1866960"/>
            <a:ext cx="8791560" cy="446076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6"/>
          <p:cNvSpPr/>
          <p:nvPr/>
        </p:nvSpPr>
        <p:spPr>
          <a:xfrm>
            <a:off x="289080" y="1460520"/>
            <a:ext cx="86914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79280" indent="-1792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6600"/>
                </a:solidFill>
                <a:latin typeface="Arial"/>
                <a:ea typeface="Arial Unicode MS"/>
              </a:rPr>
              <a:t>Volatilitatea ratelor de dobanda a permis stabilitatea leului</a:t>
            </a: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 Unicode MS"/>
              </a:rPr>
              <a:t> si protejarea celor cu credite in valu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9"/>
          <p:cNvSpPr/>
          <p:nvPr/>
        </p:nvSpPr>
        <p:spPr>
          <a:xfrm>
            <a:off x="336600" y="6399360"/>
            <a:ext cx="301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urs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BNR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u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18880" y="647280"/>
            <a:ext cx="86914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6600"/>
                </a:solidFill>
                <a:latin typeface="Arial"/>
              </a:rPr>
              <a:t>Integrarea europeana a ajut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19240" y="1371600"/>
            <a:ext cx="8680320" cy="49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Suport financiar oferit si/sau coordonat de institutii europene</a:t>
            </a: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Prezenta puternica a bancilor straine in actionariatul bancilor locale (studiile demonstreaza ca finantarea are mai putin de suferit comparativ cu alte cazu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561960" indent="-190440">
              <a:spcBef>
                <a:spcPts val="100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Studiile gasesc legatura directa intre finantare si prezenta actionarilor stra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Initiativa de la Vi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77640" y="1495080"/>
            <a:ext cx="80658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o-RO" sz="4000" spc="-1" strike="noStrike">
                <a:solidFill>
                  <a:srgbClr val="ff6600"/>
                </a:solidFill>
                <a:latin typeface="Arial"/>
              </a:rPr>
              <a:t>Cuprins</a:t>
            </a:r>
            <a:endParaRPr b="1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22" name="Subtitle 3"/>
          <p:cNvSpPr/>
          <p:nvPr/>
        </p:nvSpPr>
        <p:spPr>
          <a:xfrm>
            <a:off x="1092240" y="2921040"/>
            <a:ext cx="7785000" cy="27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0" tIns="0" bIns="0" anchor="t">
            <a:spAutoFit/>
          </a:bodyPr>
          <a:p>
            <a:pPr marL="539640" indent="-539640">
              <a:lnSpc>
                <a:spcPts val="33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romanUcPeriod"/>
              <a:tabLst>
                <a:tab algn="r" pos="867744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6600"/>
                </a:solidFill>
                <a:latin typeface="Arial"/>
              </a:rPr>
              <a:t>Despre crize econom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ts val="33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romanUcPeriod"/>
              <a:tabLst>
                <a:tab algn="r" pos="867744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6600"/>
                </a:solidFill>
                <a:latin typeface="Arial"/>
              </a:rPr>
              <a:t>Criza in Romania si in regiu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ts val="33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romanUcPeriod"/>
              <a:tabLst>
                <a:tab algn="r" pos="867744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6600"/>
                </a:solidFill>
                <a:latin typeface="Arial"/>
              </a:rPr>
              <a:t>Raspunsul autoritatil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ts val="33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romanUcPeriod"/>
              <a:tabLst>
                <a:tab algn="r" pos="867744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6600"/>
                </a:solidFill>
                <a:latin typeface="Arial"/>
              </a:rPr>
              <a:t>Demn de retin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ts val="3300"/>
              </a:lnSpc>
              <a:tabLst>
                <a:tab algn="l" pos="0"/>
                <a:tab algn="r" pos="867744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18880" y="647280"/>
            <a:ext cx="86914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Masuri anti-criza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19240" y="1536840"/>
            <a:ext cx="868032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Reactii mai putin severe decat sugera experienta altor c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Apelarea la ajutorul FMI/UE/B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561960" indent="-190440">
              <a:spcBef>
                <a:spcPts val="100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Tintele convenite au fost lax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561960" indent="-190440">
              <a:spcBef>
                <a:spcPts val="100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Expertiza FMI este benef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Reactia autoritatilor romane a fost lenta, blocata de instabilitatea poli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Desi companiile au inceput ajustarea pe final de 2008, statul a luat primele masuri de ajustare abia in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Masurile de austeritate au efect pro-ciclic, insa credibilitatea in crestere ar trebui sa ieftineasca finantarea si sa permita reluarea cresterii econom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18880" y="647280"/>
            <a:ext cx="86914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6600"/>
                </a:solidFill>
                <a:latin typeface="Arial"/>
              </a:rPr>
              <a:t>Concluzii – pentru autoritati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19240" y="1434600"/>
            <a:ext cx="8742240" cy="499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79280" indent="-179280">
              <a:spcBef>
                <a:spcPts val="1199"/>
              </a:spcBef>
              <a:buClr>
                <a:srgbClr val="ff6600"/>
              </a:buClr>
              <a:buFont typeface="Arial"/>
              <a:buChar char="•"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1" lang="ro-RO" sz="2400" spc="-1" strike="noStrike">
                <a:solidFill>
                  <a:srgbClr val="ff6600"/>
                </a:solidFill>
                <a:latin typeface="Arial"/>
              </a:rPr>
              <a:t>Criza are la baza cauze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lo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spcBef>
                <a:spcPts val="1199"/>
              </a:spcBef>
              <a:buClr>
                <a:srgbClr val="ff6600"/>
              </a:buClr>
              <a:buFont typeface="Arial"/>
              <a:buChar char="•"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1" lang="ro-RO" sz="2400" spc="-1" strike="noStrike">
                <a:solidFill>
                  <a:srgbClr val="ff6600"/>
                </a:solidFill>
                <a:latin typeface="Arial"/>
              </a:rPr>
              <a:t>Romania suferea de dezechilibre majore (deficit bugetar, deficit de cont curent mare,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spcBef>
                <a:spcPts val="1199"/>
              </a:spcBef>
              <a:buClr>
                <a:srgbClr val="ff6600"/>
              </a:buClr>
              <a:buFont typeface="Arial"/>
              <a:buChar char="•"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Bancile au participat la crearea unor dezechilibre, insa actionariatul semnificativ din zona euro a ajutat in cri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spcBef>
                <a:spcPts val="1199"/>
              </a:spcBef>
              <a:buClr>
                <a:srgbClr val="ff6600"/>
              </a:buClr>
              <a:buFont typeface="Arial"/>
              <a:buChar char="•"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Autoritatile nu au reactionat la ti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spcBef>
                <a:spcPts val="1199"/>
              </a:spcBef>
              <a:buClr>
                <a:srgbClr val="ff6600"/>
              </a:buClr>
              <a:buFont typeface="Arial"/>
              <a:buChar char="•"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1" lang="ro-RO" sz="2400" spc="-1" strike="noStrike">
                <a:solidFill>
                  <a:srgbClr val="ff6600"/>
                </a:solidFill>
                <a:latin typeface="Arial"/>
              </a:rPr>
              <a:t>Soluti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ff6600"/>
              </a:buClr>
              <a:buFont typeface="Rockwell Std Light"/>
              <a:buChar char="-"/>
              <a:tabLst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  <a:tab algn="l" pos="7893000"/>
                <a:tab algn="l" pos="8251920"/>
              </a:tabLst>
            </a:pPr>
            <a:r>
              <a:rPr b="1" lang="ro-RO" sz="2400" spc="-1" strike="noStrike">
                <a:solidFill>
                  <a:srgbClr val="ff6600"/>
                </a:solidFill>
                <a:latin typeface="Arial"/>
              </a:rPr>
              <a:t>Politici economice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prudente (in special fiscale) si orientate preponderent catre piata lib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ff6600"/>
              </a:buClr>
              <a:buFont typeface="Rockwell Std Light"/>
              <a:buChar char="-"/>
              <a:tabLst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  <a:tab algn="l" pos="7893000"/>
                <a:tab algn="l" pos="8251920"/>
              </a:tabLst>
            </a:pPr>
            <a:r>
              <a:rPr b="1" lang="ro-RO" sz="2400" spc="-1" strike="noStrike">
                <a:solidFill>
                  <a:srgbClr val="ff6600"/>
                </a:solidFill>
                <a:latin typeface="Arial"/>
              </a:rPr>
              <a:t>Adoptarea euro (ancora pentru politicile economi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18880" y="647280"/>
            <a:ext cx="86914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6600"/>
                </a:solidFill>
                <a:latin typeface="Arial"/>
              </a:rPr>
              <a:t>Concluzii  - pentru companii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05920" y="1434960"/>
            <a:ext cx="8742600" cy="48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1143000" indent="-228600">
              <a:spcBef>
                <a:spcPts val="1199"/>
              </a:spcBef>
              <a:buClr>
                <a:srgbClr val="ff6600"/>
              </a:buClr>
              <a:buFont typeface="Rockwell Std Light"/>
              <a:buChar char="-"/>
              <a:tabLst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  <a:tab algn="l" pos="7893000"/>
                <a:tab algn="l" pos="825192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Probleme in modul de gandire al companii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ff6600"/>
              </a:buClr>
              <a:buFont typeface="Rockwell Std Light"/>
              <a:buChar char="-"/>
              <a:tabLst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  <a:tab algn="l" pos="7893000"/>
                <a:tab algn="l" pos="825192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Nu exista competitie reala intre compani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ff6600"/>
              </a:buClr>
              <a:buFont typeface="Rockwell Std Light"/>
              <a:buChar char="-"/>
              <a:tabLst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  <a:tab algn="l" pos="7893000"/>
                <a:tab algn="l" pos="825192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A disparut posibilitatea de a face bani usor (prin vanzare la preturi ridicate sustinute de credit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ff6600"/>
              </a:buClr>
              <a:buFont typeface="Rockwell Std Light"/>
              <a:buChar char="-"/>
              <a:tabLst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  <a:tab algn="l" pos="7893000"/>
                <a:tab algn="l" pos="825192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Creste presiunea pe restructurare/eficientiz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ff6600"/>
              </a:buClr>
              <a:buFont typeface="Rockwell Std Light"/>
              <a:buChar char="-"/>
              <a:tabLst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  <a:tab algn="l" pos="7893000"/>
                <a:tab algn="l" pos="825192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Firmele sunt indatorate excesiv in valu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901"/>
              </a:spcBef>
              <a:buClr>
                <a:srgbClr val="ff6600"/>
              </a:buClr>
              <a:buFont typeface="Times"/>
              <a:buChar char="-"/>
              <a:tabLst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  <a:tab algn="l" pos="7893000"/>
                <a:tab algn="l" pos="8251920"/>
                <a:tab algn="l" pos="8610480"/>
                <a:tab algn="l" pos="8969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ar trebui sa se gandeasca la modalitati de protejare impotriva acestui risc altele decat transferul asupra clientului prin fixarea de preturi in valu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ff6600"/>
              </a:buClr>
              <a:buFont typeface="Rockwell Std Light"/>
              <a:buChar char="-"/>
              <a:tabLst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  <a:tab algn="l" pos="7893000"/>
                <a:tab algn="l" pos="825192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Deprecierea nu e o solutie pentru cele cu orientare la ex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8880" y="647280"/>
            <a:ext cx="86914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6600"/>
                </a:solidFill>
                <a:latin typeface="Arial"/>
              </a:rPr>
              <a:t>Despre crize economice... (1)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18880" y="1778040"/>
            <a:ext cx="827388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spcBef>
                <a:spcPts val="11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ff6600"/>
                </a:solidFill>
                <a:latin typeface="Arial"/>
              </a:rPr>
              <a:t>Crizele (economice sau financiare) nu pot fi evi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11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ff6600"/>
                </a:solidFill>
                <a:latin typeface="Arial"/>
              </a:rPr>
              <a:t>Actuala criza e cea mai drastica de la Marea criza din 19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11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Origine: dereglementarea agresiva a pietei ipotecare din SUA din anii ’80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11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6600"/>
                </a:solidFill>
                <a:latin typeface="Arial"/>
              </a:rPr>
              <a:t>Este posibila repetarea Marii Criz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69720" indent="-190440">
              <a:spcBef>
                <a:spcPts val="1001"/>
              </a:spcBef>
              <a:buClr>
                <a:srgbClr val="000000"/>
              </a:buClr>
              <a:buFont typeface="Rockwell Std Ligh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Spirala deflation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69720" indent="-190440">
              <a:spcBef>
                <a:spcPts val="1001"/>
              </a:spcBef>
              <a:buClr>
                <a:srgbClr val="000000"/>
              </a:buClr>
              <a:buFont typeface="Rockwell Std Ligh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epresiune econom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8880" y="647280"/>
            <a:ext cx="86914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6600"/>
                </a:solidFill>
                <a:latin typeface="Arial"/>
              </a:rPr>
              <a:t>Despre crize economice... (2)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0" y="1387440"/>
            <a:ext cx="9144000" cy="51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ff6600"/>
                </a:solidFill>
                <a:latin typeface="Arial"/>
              </a:rPr>
              <a:t>Trasaturi ale crizelor financiar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The Great Crash</a:t>
            </a:r>
            <a:r>
              <a:rPr b="1" lang="ro-RO" sz="1800" spc="-1" strike="noStrike">
                <a:solidFill>
                  <a:srgbClr val="ff6600"/>
                </a:solidFill>
                <a:latin typeface="Arial"/>
              </a:rPr>
              <a:t> 1929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, J.K. Galbra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Dezechilibru în ceea ce priveste distributia venituril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Probleme în modul de structurare al corporatiil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 structură deficitar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a sistemului banc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robleme în relaţiile comerciale interna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on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tadiul precar în care se afla 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tiin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 economic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ro-RO" sz="1800" spc="-1" strike="noStrike">
                <a:solidFill>
                  <a:srgbClr val="ff6600"/>
                </a:solidFill>
                <a:latin typeface="Arial"/>
              </a:rPr>
              <a:t>Reinhart si Rogoff (This time is different: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Eight Centuries of Financial Folly</a:t>
            </a:r>
            <a:r>
              <a:rPr b="1" lang="ro-RO" sz="1800" spc="-1" strike="noStrike">
                <a:solidFill>
                  <a:srgbClr val="ff6600"/>
                </a:solidFill>
                <a:latin typeface="Arial"/>
              </a:rPr>
              <a:t>, 20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ro-RO" sz="1800" spc="-1" strike="noStrike">
                <a:solidFill>
                  <a:srgbClr val="ff6600"/>
                </a:solidFill>
                <a:latin typeface="Arial"/>
              </a:rPr>
              <a:t>si Berglof, Korniyenko si Plehanov: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Understanding crisis in emerging Europe</a:t>
            </a:r>
            <a:r>
              <a:rPr b="1" lang="ro-RO" sz="1800" spc="-1" strike="noStrike">
                <a:solidFill>
                  <a:srgbClr val="ff6600"/>
                </a:solidFill>
                <a:latin typeface="Arial"/>
              </a:rPr>
              <a:t>,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Fluxurile mari de capital (mai puternice in cazul E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Existenta dezechilibrelor in econom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Explozia/abundenta creditar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Formarea de bule speculative (rolul autoritatil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Pot exista si cauze particulare care nu trebuie igno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ubtitle 3"/>
          <p:cNvSpPr/>
          <p:nvPr/>
        </p:nvSpPr>
        <p:spPr>
          <a:xfrm>
            <a:off x="1355760" y="2921040"/>
            <a:ext cx="725004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0" tIns="0" bIns="0" anchor="t">
            <a:spAutoFit/>
          </a:bodyPr>
          <a:p>
            <a:pPr marL="539640" indent="-539640">
              <a:lnSpc>
                <a:spcPts val="33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romanUcPeriod"/>
              <a:tabLst>
                <a:tab algn="r" pos="867744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6600"/>
                </a:solidFill>
                <a:latin typeface="Arial"/>
              </a:rPr>
              <a:t>Despre crize econom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ts val="33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romanUcPeriod"/>
              <a:tabLst>
                <a:tab algn="r" pos="867744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Criza in Romania si in reg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ts val="33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romanUcPeriod"/>
              <a:tabLst>
                <a:tab algn="r" pos="867744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6600"/>
                </a:solidFill>
                <a:latin typeface="Arial"/>
              </a:rPr>
              <a:t>Raspunsul autoritatil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ts val="33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romanUcPeriod"/>
              <a:tabLst>
                <a:tab algn="r" pos="867744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6600"/>
                </a:solidFill>
                <a:latin typeface="Arial"/>
              </a:rPr>
              <a:t>Demn de retin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ts val="3300"/>
              </a:lnSpc>
              <a:tabLst>
                <a:tab algn="l" pos="0"/>
                <a:tab algn="r" pos="867744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1101600" y="3517920"/>
            <a:ext cx="7043760" cy="48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8880" y="647280"/>
            <a:ext cx="86914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Fluxurile de capital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289080" y="1415880"/>
            <a:ext cx="869148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79280" indent="-1792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250920" y="1465200"/>
            <a:ext cx="86151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79280" indent="-1792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 Unicode MS"/>
              </a:rPr>
              <a:t>Europa Centrala si de Est a beneficiat de fluxuri semnificative de capi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270000" y="6367320"/>
            <a:ext cx="5000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urs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Understanding the crisis in emerging Europe, 2009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2620800" y="2736720"/>
            <a:ext cx="3019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ldul contului curent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(% din PI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1"/>
          <a:stretch/>
        </p:blipFill>
        <p:spPr>
          <a:xfrm>
            <a:off x="1282680" y="2055960"/>
            <a:ext cx="6170760" cy="4286160"/>
          </a:xfrm>
          <a:prstGeom prst="rect">
            <a:avLst/>
          </a:prstGeom>
          <a:ln w="0">
            <a:noFill/>
          </a:ln>
        </p:spPr>
      </p:pic>
      <p:pic>
        <p:nvPicPr>
          <p:cNvPr id="235" name="TextBox 2" descr=""/>
          <p:cNvPicPr/>
          <p:nvPr/>
        </p:nvPicPr>
        <p:blipFill>
          <a:blip r:embed="rId2"/>
          <a:stretch/>
        </p:blipFill>
        <p:spPr>
          <a:xfrm>
            <a:off x="1500120" y="3187800"/>
            <a:ext cx="36504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8880" y="647280"/>
            <a:ext cx="86914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6600"/>
                </a:solidFill>
                <a:latin typeface="Arial"/>
              </a:rPr>
              <a:t>Dezechilibrul extern era ridic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289080" y="1415880"/>
            <a:ext cx="869148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79280" indent="-1792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250920" y="1562040"/>
            <a:ext cx="86151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79280" indent="-1792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1" lang="ro-RO" sz="1600" spc="-1" strike="noStrike">
                <a:solidFill>
                  <a:srgbClr val="ff6600"/>
                </a:solidFill>
                <a:latin typeface="Arial"/>
                <a:ea typeface="Arial Unicode MS"/>
              </a:rPr>
              <a:t>Deficitul de cont curent ca % din PIB era </a:t>
            </a: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 Unicode MS"/>
              </a:rPr>
              <a:t>mare atat </a:t>
            </a:r>
            <a:r>
              <a:rPr b="1" lang="ro-RO" sz="1600" spc="-1" strike="noStrike">
                <a:solidFill>
                  <a:srgbClr val="ff6600"/>
                </a:solidFill>
                <a:latin typeface="Arial"/>
                <a:ea typeface="Arial Unicode MS"/>
              </a:rPr>
              <a:t>in Romania</a:t>
            </a: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 Unicode MS"/>
              </a:rPr>
              <a:t>, cat si in regiu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270000" y="6367320"/>
            <a:ext cx="301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urs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urost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8" descr=""/>
          <p:cNvPicPr/>
          <p:nvPr/>
        </p:nvPicPr>
        <p:blipFill>
          <a:blip r:embed="rId1"/>
          <a:stretch/>
        </p:blipFill>
        <p:spPr>
          <a:xfrm>
            <a:off x="425520" y="2249640"/>
            <a:ext cx="7881840" cy="40320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9"/>
          <p:cNvSpPr/>
          <p:nvPr/>
        </p:nvSpPr>
        <p:spPr>
          <a:xfrm>
            <a:off x="2341440" y="2581200"/>
            <a:ext cx="3019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ldul contului curent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(% din PI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8880" y="647280"/>
            <a:ext cx="86914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6600"/>
                </a:solidFill>
                <a:latin typeface="Arial"/>
              </a:rPr>
              <a:t>Dezechilibrul bugetar (1)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289080" y="1415880"/>
            <a:ext cx="869148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79280" indent="-1792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Object 6"/>
          <p:cNvGraphicFramePr/>
          <p:nvPr/>
        </p:nvGraphicFramePr>
        <p:xfrm>
          <a:off x="15840" y="2355840"/>
          <a:ext cx="8894880" cy="411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40" y="2355840"/>
                    <a:ext cx="889488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Rectangle 6"/>
          <p:cNvSpPr/>
          <p:nvPr/>
        </p:nvSpPr>
        <p:spPr>
          <a:xfrm>
            <a:off x="177840" y="1446120"/>
            <a:ext cx="8802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79280" indent="-179280">
              <a:lnSpc>
                <a:spcPct val="100000"/>
              </a:lnSpc>
              <a:spcBef>
                <a:spcPts val="901"/>
              </a:spcBef>
              <a:buClr>
                <a:srgbClr val="ff6600"/>
              </a:buClr>
              <a:buFont typeface="Arial"/>
              <a:buChar char="•"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1" lang="ro-RO" sz="1800" spc="-1" strike="noStrike">
                <a:solidFill>
                  <a:srgbClr val="ff6600"/>
                </a:solidFill>
                <a:latin typeface="Arial"/>
                <a:ea typeface="Arial Unicode MS"/>
              </a:rPr>
              <a:t>Deficitul bugetar ascundea problemele mari ale politicii fiscale (deficitul structural crestea rapid inca din 2006)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spcBef>
                <a:spcPts val="901"/>
              </a:spcBef>
              <a:buClr>
                <a:srgbClr val="ff6600"/>
              </a:buClr>
              <a:buFont typeface="Arial"/>
              <a:buChar char="•"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  <a:ea typeface="Arial Unicode MS"/>
              </a:rPr>
              <a:t>Deficitul structural mare nu permite masuri anti-ciclice atunci cand e nevoie de 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9"/>
          <p:cNvSpPr/>
          <p:nvPr/>
        </p:nvSpPr>
        <p:spPr>
          <a:xfrm>
            <a:off x="336600" y="6399360"/>
            <a:ext cx="301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urs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urost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8880" y="647280"/>
            <a:ext cx="86914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6600"/>
                </a:solidFill>
                <a:latin typeface="Arial"/>
              </a:rPr>
              <a:t>Dezechilibrul bugetar (2)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289080" y="1415880"/>
            <a:ext cx="8691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79280" indent="-1792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250920" y="1349280"/>
            <a:ext cx="86151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79280" indent="-1792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1" lang="ro-RO" sz="1600" spc="-1" strike="noStrike">
                <a:solidFill>
                  <a:srgbClr val="ff6600"/>
                </a:solidFill>
                <a:latin typeface="Arial"/>
                <a:ea typeface="Arial Unicode MS"/>
              </a:rPr>
              <a:t>La nivel regional, Romania inregistra unul dintre cele mai mari dezechilib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1" lang="ro-RO" sz="1600" spc="-1" strike="noStrike">
                <a:solidFill>
                  <a:srgbClr val="ff6600"/>
                </a:solidFill>
                <a:latin typeface="Arial"/>
                <a:ea typeface="Arial Unicode MS"/>
              </a:rPr>
              <a:t>Politica pasilor mici, adoptata in ajustarea fiscala, mentine presiunea dinspre acest punct sl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7" descr=""/>
          <p:cNvPicPr/>
          <p:nvPr/>
        </p:nvPicPr>
        <p:blipFill>
          <a:blip r:embed="rId1"/>
          <a:stretch/>
        </p:blipFill>
        <p:spPr>
          <a:xfrm>
            <a:off x="361800" y="2178000"/>
            <a:ext cx="8545680" cy="437220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8"/>
          <p:cNvSpPr/>
          <p:nvPr/>
        </p:nvSpPr>
        <p:spPr>
          <a:xfrm>
            <a:off x="270000" y="6367320"/>
            <a:ext cx="301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urs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Comisia Europe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9"/>
          <p:cNvSpPr/>
          <p:nvPr/>
        </p:nvSpPr>
        <p:spPr>
          <a:xfrm>
            <a:off x="5226120" y="2676600"/>
            <a:ext cx="301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Deficit bugetar structural (% din PI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11:18:22Z</dcterms:created>
  <dc:creator>Suzanne Owens</dc:creator>
  <dc:description/>
  <dc:language>en-US</dc:language>
  <cp:lastModifiedBy>Administrator</cp:lastModifiedBy>
  <cp:lastPrinted>2003-02-03T12:07:06Z</cp:lastPrinted>
  <dcterms:modified xsi:type="dcterms:W3CDTF">2010-10-05T07:49:38Z</dcterms:modified>
  <cp:revision>225</cp:revision>
  <dc:subject/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_AdHocReviewCycleID">
    <vt:r8>-1203504345</vt:r8>
  </property>
  <property fmtid="{D5CDD505-2E9C-101B-9397-08002B2CF9AE}" pid="4" name="_AuthorEmail">
    <vt:lpwstr>nicolaie.alexandru@ing.ro</vt:lpwstr>
  </property>
  <property fmtid="{D5CDD505-2E9C-101B-9397-08002B2CF9AE}" pid="5" name="_AuthorEmailDisplayName">
    <vt:lpwstr>Alexandru - Chidesciuc, N. (Nicolaie)</vt:lpwstr>
  </property>
  <property fmtid="{D5CDD505-2E9C-101B-9397-08002B2CF9AE}" pid="6" name="_EmailSubject">
    <vt:lpwstr>Prezentare Mediafax_v2.ppt</vt:lpwstr>
  </property>
  <property fmtid="{D5CDD505-2E9C-101B-9397-08002B2CF9AE}" pid="7" name="_NewReviewCycle">
    <vt:lpwstr/>
  </property>
  <property fmtid="{D5CDD505-2E9C-101B-9397-08002B2CF9AE}" pid="8" name="_ReviewingToolsShownOnce">
    <vt:lpwstr/>
  </property>
</Properties>
</file>