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1B27-2919-4005-9F5A-5BDB4BC94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BD1C-15DC-4984-A976-6DB3BCA10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C07F-A36C-4A68-8282-9D00E623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D9A4-375F-4C8D-AD9D-BF57C2C8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D00-50B9-4913-92CF-8F6ED1A8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CD7-D93D-494B-9ED9-094D4678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D455-5118-4ECA-A4BD-88726C82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3CD6-2C03-44CD-8819-4BEFE335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E213-1946-4005-88F5-0D18F17D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29F8-526B-466C-A466-F349CE8C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165F-B7AE-4577-920F-BEB3ABD7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0B2A-CD15-4510-8F32-F27BF24F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3B84-FF96-4C46-8033-D9E1AE03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EEF-DDD3-46D0-831D-80E15CAA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248C-08ED-4E99-B7ED-7A941E98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0F08-84E9-4785-9FA2-ADCCAC34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412F-E738-4C9E-B2A6-1FEE423F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8056-2943-430A-A6E6-525C58F0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9774-8281-4E82-9FE9-F0699BBB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276-BBB4-4926-84C5-E2AF2281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DD3-3363-465D-AA95-6D6378F0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D86-66C2-400C-B1C7-DB7A465F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133D-C081-489B-B410-2DCCDFEA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C17-C02F-4FB5-AF6E-C765852D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4CA-16BC-4BA5-BAA4-A0489F4F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0BF-7D74-434D-A2DB-CE3A4E57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78C5-181F-45AB-8330-136309C4E9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A3C7-8975-4209-97D8-386FEDCBDE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09680"/>
            <a:ext cx="5410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Sistemul românesc de pensii: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prezent şi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5545080"/>
            <a:ext cx="266688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mpactul crizei actuale şi răspunsurile C.S.S.P.P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2 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Răspunsurile C.S.S.P.P.  la criz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Reglementări secunda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roa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Normele 22/2008 şi 23/2008 (modificarea temporară a limitelor investiţional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Supravegherea şi administrarea special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Evaluarea activel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Proiectul legii Fondului de garant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Evaluarea impactului crizei asupra acţionarilor companiilor de administrare şi solicitarea unor planuri de susţinere a companiil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Impactul „îngheţării” contribuţiilor la Pilonul II şi al cheltuielilor de marketing şi publici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Evaluarea rezervelor din provizioa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Comitetul de Stabilitate Financiara (CNS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CEIOPS şi I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 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Concluzii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Fondurile de pensii private sunt investitori pe termen mediu şi lung – rol stabilizator în econom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S.S.P.P. urmăreşte îmbunătăţirea performanţei şi a managementului riscului fondului de pensii → investitori în proiecte majore private sau în parteneriate 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S.S.P.P. urmăreşte creşterea transparenţei ş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omunicării dublate de programe de educaţie financiară (campanie de informare, cursuri de pregătire profesională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Protecţia participanţilor împotriva deprecierii activelor prin adoptarea soluţiei multifond (alocarea activelor în funcţie de vârstă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uprin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.    Pensiile în Europa şi în l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2.    Arhitectura sistemului românesc de pens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.    Fondurile private de pensii în econom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4.    Impactul crizei actuale şi răspunsurile C.S.S.P.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5.    Concluz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.   Pensiile în Europa şi în lum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de l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lanuri de pensii cu beneficii definite (DB)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ribuţii definite (D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de l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nsii ocupaţiona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nturi individu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de 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redistribuir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capitaliz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de 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istem public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istem priv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de 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facultativ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obligatoriu şi in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2.   Arhitectura sistemului românesc de pensi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ribuţii definite (DC) – privat </a:t>
            </a:r>
            <a:r>
              <a:rPr b="0" lang="it-IT" sz="2400" spc="-1" strike="noStrike">
                <a:solidFill>
                  <a:srgbClr val="5454c6"/>
                </a:solidFill>
                <a:latin typeface="Times New Roman"/>
              </a:rPr>
              <a:t>+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beneficii definite (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– sector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public (Legea nr. 19/2000 </a:t>
            </a:r>
            <a:r>
              <a:rPr b="0" lang="ro-RO" sz="2400" spc="-1" strike="noStrike">
                <a:solidFill>
                  <a:srgbClr val="5454c6"/>
                </a:solidFill>
                <a:latin typeface="Times New Roman"/>
              </a:rPr>
              <a:t>+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legi specia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onturi individu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PAYG </a:t>
            </a:r>
            <a:r>
              <a:rPr b="0" lang="ro-RO" sz="2400" spc="-1" strike="noStrike">
                <a:solidFill>
                  <a:srgbClr val="5454c6"/>
                </a:solidFill>
                <a:latin typeface="Times New Roman"/>
              </a:rPr>
              <a:t>+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capitalizare (P II </a:t>
            </a:r>
            <a:r>
              <a:rPr b="0" lang="ro-RO" sz="2400" spc="-1" strike="noStrike">
                <a:solidFill>
                  <a:srgbClr val="5454c6"/>
                </a:solidFill>
                <a:latin typeface="Times New Roman"/>
              </a:rPr>
              <a:t>+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P II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Pil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public </a:t>
            </a:r>
            <a:r>
              <a:rPr b="0" lang="ro-RO" sz="2400" spc="-1" strike="noStrike">
                <a:solidFill>
                  <a:srgbClr val="5454c6"/>
                </a:solidFill>
                <a:latin typeface="Times New Roman"/>
              </a:rPr>
              <a:t>+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Pilon 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II priv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on III – facultativ </a:t>
            </a:r>
            <a:r>
              <a:rPr b="0" lang="ro-RO" sz="2400" spc="-1" strike="noStrike">
                <a:solidFill>
                  <a:srgbClr val="5454c6"/>
                </a:solidFill>
                <a:latin typeface="Times New Roman"/>
              </a:rPr>
              <a:t>+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Pilon I – public obligatoriu </a:t>
            </a:r>
            <a:r>
              <a:rPr b="0" lang="ro-RO" sz="2400" spc="-1" strike="noStrike">
                <a:solidFill>
                  <a:srgbClr val="5454c6"/>
                </a:solidFill>
                <a:latin typeface="Times New Roman"/>
              </a:rPr>
              <a:t>+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Pilon II – privat obligatoriu pentru persoanele &lt; 35 a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asigu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.1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voluţ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fondurilor private de pensii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880" y="1523880"/>
            <a:ext cx="8382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30200" indent="-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tapa acumulărilor cantit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30200" indent="-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9560" indent="-36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derarea iniţială şi competiţia pe cote de piaţ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9560" indent="-36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solidarea prin fuziu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143080" indent="-36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30200" indent="-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tapa acumulărilor calitative → concurenţ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30200" indent="-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9560" indent="-36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dministrare performant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9560" indent="-36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nsparenţ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9560" indent="-36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stionarea relaţiei administrator – participant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la f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ondurile private de pensii în ec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rganisme de plasament colectiv care contribuie la creşterea volumului de economii autohtone şi la dezvoltarea pieţei (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volum, instrumente investiţionale, orizont investiţiona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ribuie la stabilizarea pieţei de capital şi a pieţei financiare în general datorită strategiilor de investiţii pe termen l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inanţează proiecte de anvergură publice şi priv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feră alternative eficiente pentru managementul datoriei publ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.1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ondurile de pensii româneşti az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066320"/>
            <a:ext cx="82296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0,003% din PIB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n 2007, 0,2% din PIB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n 2008 fa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ă 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ehia – 4,8% din PIB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n 200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ro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a – 7,7% din PIB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n 200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ngaria – 11,1% din PIB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n 200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olonia – 11,9% din PIB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n 200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erinţ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reşterea nivelului contribuţiilor la cel puţin 6%  din venitul brut salarial în 4 ani in loc de 8 an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iversificarea surselor de pensi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timulente fisca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olitici publice de consolidare a încrederii în sistemul de pensii priv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ezvoltarea pieţei de capital şi lansarea proiectelor bazate pe parteneriate public-priv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1440"/>
            <a:ext cx="7696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80880" y="685800"/>
          <a:ext cx="830592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30592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mpactul crizei actuale şi răspunsurile C.S.S.P.P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1      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Efectele crize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Criză de încredere → volum mic de active → investiţii reduse → sistem ineficient şi impact redus asupra dezvoltării sistemului financi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Amânarea cu un an a calendarului de majorare a nivelului contribuţiilor în Pilonul 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Strategii de administrare conservatoare (costuri mari, lipsă investiţii acţionar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Reducerea drastică a valorilor activelor financiare şi a oportunităţilor investiţion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Presiuni şi iniţiative de modificare a legislaţie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1:53:09Z</dcterms:created>
  <dc:creator>xxx</dc:creator>
  <dc:description/>
  <dc:language>en-US</dc:language>
  <cp:lastModifiedBy>Administrator</cp:lastModifiedBy>
  <dcterms:modified xsi:type="dcterms:W3CDTF">2009-07-02T07:05:29Z</dcterms:modified>
  <cp:revision>17</cp:revision>
  <dc:subject/>
  <dc:title>Pensiile private obligatorii din Romania </dc:title>
</cp:coreProperties>
</file>