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aigpensii.ro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rcRect l="11463" t="35646" r="11132" b="35190"/>
          <a:stretch/>
        </p:blipFill>
        <p:spPr>
          <a:xfrm>
            <a:off x="0" y="0"/>
            <a:ext cx="184140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581280"/>
            <a:ext cx="57150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b1a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cab1a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11463" t="35646" r="11132" b="35190"/>
          <a:stretch/>
        </p:blipFill>
        <p:spPr>
          <a:xfrm>
            <a:off x="0" y="0"/>
            <a:ext cx="1841400" cy="501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b4cce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1400" y="2120400"/>
            <a:ext cx="741708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3883"/>
                </a:solidFill>
                <a:latin typeface="Verdana"/>
              </a:rPr>
              <a:t>Propuneri pentru eficientizarea activităţii administratorilor de pensii private</a:t>
            </a:r>
            <a:r>
              <a:rPr b="1" lang="en-US" sz="3600" spc="-1" strike="noStrike">
                <a:solidFill>
                  <a:srgbClr val="fcab1a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183883"/>
                </a:solidFill>
                <a:latin typeface="Verdana"/>
              </a:rPr>
              <a:t>Mihai Coca-Cozma</a:t>
            </a:r>
            <a:br>
              <a:rPr sz="2800"/>
            </a:br>
            <a:r>
              <a:rPr b="1" lang="en-US" sz="2800" spc="-1" strike="noStrike">
                <a:solidFill>
                  <a:srgbClr val="183883"/>
                </a:solidFill>
                <a:latin typeface="Verdana"/>
              </a:rPr>
              <a:t>Director General</a:t>
            </a:r>
            <a:endParaRPr b="1" lang="en-US" sz="2800" spc="-1" strike="noStrike">
              <a:solidFill>
                <a:srgbClr val="fcab1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orii (dec ’0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Active administrate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883"/>
                </a:solidFill>
                <a:latin typeface="Arial"/>
              </a:rPr>
              <a:t>832 milioane lei </a:t>
            </a: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(209 milioane euro);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883"/>
                </a:solidFill>
                <a:latin typeface="Arial"/>
              </a:rPr>
              <a:t>0,17% </a:t>
            </a: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din PIB total an – date provizorii;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883"/>
                </a:solidFill>
                <a:latin typeface="Arial"/>
              </a:rPr>
              <a:t>0,24% </a:t>
            </a: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din plasamentele în activ (total bilanţ consolidat) ale BNR şi altor instituţii financiare monetare la sfârşitul anului 2008 (</a:t>
            </a:r>
            <a:r>
              <a:rPr b="0" i="1" lang="en-US" sz="1800" spc="-1" strike="noStrike">
                <a:solidFill>
                  <a:srgbClr val="183883"/>
                </a:solidFill>
                <a:latin typeface="Arial"/>
              </a:rPr>
              <a:t>CSSPP</a:t>
            </a: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4.531.859 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Persoane Validate în Registru vs. </a:t>
            </a: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4.031.421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 Participan</a:t>
            </a:r>
            <a:r>
              <a:rPr b="0" lang="ro-RO" sz="2000" spc="-1" strike="noStrike">
                <a:solidFill>
                  <a:srgbClr val="183883"/>
                </a:solidFill>
                <a:latin typeface="Arial"/>
              </a:rPr>
              <a:t>ţi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825 milioane lei 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(207 milioane de euro) capitaluri proprii autorizate de către CSSPP reprezentând </a:t>
            </a: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5,49% 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din valoarea capitalului social total subscris de societăţi comerciale cu participare străină înmatriculate în 2008;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l 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3883"/>
                </a:solidFill>
                <a:latin typeface="Arial"/>
              </a:rPr>
              <a:t>C</a:t>
            </a:r>
            <a:r>
              <a:rPr b="0" lang="ro-RO" sz="4400" spc="-1" strike="noStrike">
                <a:solidFill>
                  <a:srgbClr val="183883"/>
                </a:solidFill>
                <a:latin typeface="Arial"/>
              </a:rPr>
              <a:t>reşterea</a:t>
            </a:r>
            <a:r>
              <a:rPr b="0" lang="ro-RO" sz="4000" spc="-1" strike="noStrike">
                <a:solidFill>
                  <a:srgbClr val="183883"/>
                </a:solidFill>
                <a:latin typeface="Arial"/>
              </a:rPr>
              <a:t> de </a:t>
            </a:r>
            <a:r>
              <a:rPr b="0" lang="ro-RO" sz="3600" spc="-1" strike="noStrike">
                <a:solidFill>
                  <a:srgbClr val="183883"/>
                </a:solidFill>
                <a:latin typeface="Arial"/>
              </a:rPr>
              <a:t>venituri</a:t>
            </a:r>
            <a:r>
              <a:rPr b="0" lang="ro-RO" sz="40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183883"/>
                </a:solidFill>
                <a:latin typeface="Arial"/>
              </a:rPr>
              <a:t>scade</a:t>
            </a:r>
            <a:r>
              <a:rPr b="0" lang="ro-RO" sz="4000" spc="-1" strike="noStrike">
                <a:solidFill>
                  <a:srgbClr val="183883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183883"/>
                </a:solidFill>
                <a:latin typeface="Arial"/>
              </a:rPr>
              <a:t>Creşterea </a:t>
            </a:r>
            <a:r>
              <a:rPr b="0" lang="ro-RO" sz="3600" spc="-1" strike="noStrike">
                <a:solidFill>
                  <a:srgbClr val="183883"/>
                </a:solidFill>
                <a:latin typeface="Arial"/>
              </a:rPr>
              <a:t>de</a:t>
            </a:r>
            <a:r>
              <a:rPr b="0" lang="ro-RO" sz="4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0" lang="ro-RO" sz="4000" spc="-1" strike="noStrike">
                <a:solidFill>
                  <a:srgbClr val="183883"/>
                </a:solidFill>
                <a:latin typeface="Arial"/>
              </a:rPr>
              <a:t>costuri</a:t>
            </a:r>
            <a:r>
              <a:rPr b="0" lang="ro-RO" sz="4400" spc="-1" strike="noStrike">
                <a:solidFill>
                  <a:srgbClr val="183883"/>
                </a:solidFill>
                <a:latin typeface="Arial"/>
              </a:rPr>
              <a:t> creşte!</a:t>
            </a:r>
            <a:endParaRPr b="0" lang="en-US" sz="4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13560" y="399960"/>
            <a:ext cx="2289240" cy="2206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uri de administrare m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Costurile fondului 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uportate de administrator 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(!!!)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Provizioane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onturi goale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oresponden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ţă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recventa schimbare a legisla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ţiei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5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n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Garanţia de capital la transfer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Garanţia de capital la maturitate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Garanţia relativă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Fondul de garantare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Fondul nu poate da faliment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garan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Tactici de investiţie în contradicţie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Termen lung vs. termen scurt;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183883"/>
                </a:solidFill>
                <a:latin typeface="Arial"/>
              </a:rPr>
              <a:t>Garanţia de capital vs. garanţia relativă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Rezultat investi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ţional 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ub a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şteptări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Minimizarea riscurilor;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  <p:animClr clrSpc="rgb">
                                <p:cBhvr>
                                  <p:cTn id="124" dur="1" fill="hold"/>
                                  <p:tgtEl>
                                    <p:spTgt spid="1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urile garan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e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27120" y="1992240"/>
            <a:ext cx="5473800" cy="461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99240" y="4241880"/>
            <a:ext cx="205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VIZIOANE</a:t>
            </a:r>
            <a:endParaRPr b="0" lang="en-US" sz="15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95400" y="4470480"/>
            <a:ext cx="1982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8388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un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trare 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3 garanţii şi eliminarea garanţiei de capital (Polonia)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Stabilitate 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/ predictibilitate 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legislativă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Administrare doar pentru 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articipanţi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Fond de garantare in functie de obiective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 (clare </a:t>
            </a:r>
            <a:r>
              <a:rPr b="0" lang="ro-RO" sz="2400" spc="-1" strike="noStrike">
                <a:solidFill>
                  <a:srgbClr val="183883"/>
                </a:solidFill>
                <a:latin typeface="Arial"/>
              </a:rPr>
              <a:t>şi realiste) şi calcul actuarial</a:t>
            </a: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613560"/>
            <a:ext cx="9144000" cy="27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ia Financial Forum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igpensii.ro </a:t>
            </a:r>
            <a:endParaRPr b="0" lang="en-US" sz="1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Presentation Helper</dc:creator>
  <dc:description/>
  <dc:language>en-US</dc:language>
  <cp:lastModifiedBy>ioana.chira</cp:lastModifiedBy>
  <dcterms:modified xsi:type="dcterms:W3CDTF">2009-07-01T13:18:30Z</dcterms:modified>
  <cp:revision>47</cp:revision>
  <dc:subject/>
  <dc:title>Corporate 2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