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10.png" ContentType="image/png"/>
  <Override PartName="/ppt/media/image27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35.png" ContentType="image/pn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907588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9000" y="-1440"/>
            <a:ext cx="4389480" cy="3175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12"/>
          </p:nvPr>
        </p:nvSpPr>
        <p:spPr>
          <a:xfrm>
            <a:off x="5835240" y="-1440"/>
            <a:ext cx="4389480" cy="3175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ftr" idx="13"/>
          </p:nvPr>
        </p:nvSpPr>
        <p:spPr>
          <a:xfrm>
            <a:off x="9000" y="6707160"/>
            <a:ext cx="4389480" cy="393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4"/>
          </p:nvPr>
        </p:nvSpPr>
        <p:spPr>
          <a:xfrm>
            <a:off x="5835240" y="6707160"/>
            <a:ext cx="4389480" cy="393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11BB2089-6D0F-42B3-B344-12DFD5C140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body"/>
          </p:nvPr>
        </p:nvSpPr>
        <p:spPr>
          <a:xfrm>
            <a:off x="1364760" y="3376080"/>
            <a:ext cx="7504200" cy="319428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75240" bIns="75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Img"/>
          </p:nvPr>
        </p:nvSpPr>
        <p:spPr>
          <a:xfrm>
            <a:off x="3195720" y="534960"/>
            <a:ext cx="3838320" cy="265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4478400" y="6794640"/>
            <a:ext cx="12794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120" rIns="9612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te </a:t>
            </a:r>
            <a:fld id="{63E9A5CB-5158-4849-B73C-F3F379D27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3195720" y="534960"/>
            <a:ext cx="3838320" cy="265752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1364760" y="3376080"/>
            <a:ext cx="750420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oliennummernplatzhalter 3"/>
          <p:cNvSpPr/>
          <p:nvPr/>
        </p:nvSpPr>
        <p:spPr>
          <a:xfrm>
            <a:off x="5835600" y="6707160"/>
            <a:ext cx="438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15856BCA-5898-4F87-82C9-DD0AF7EF3C9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3195720" y="534960"/>
            <a:ext cx="3838320" cy="265752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1364760" y="3376080"/>
            <a:ext cx="750420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oliennummernplatzhalter 3"/>
          <p:cNvSpPr/>
          <p:nvPr/>
        </p:nvSpPr>
        <p:spPr>
          <a:xfrm>
            <a:off x="5835600" y="6707160"/>
            <a:ext cx="438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56AE29F6-643C-49BF-9474-DCCD3F1BE08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3195720" y="534960"/>
            <a:ext cx="3838320" cy="265752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364760" y="3376080"/>
            <a:ext cx="750420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oliennummernplatzhalter 3"/>
          <p:cNvSpPr/>
          <p:nvPr/>
        </p:nvSpPr>
        <p:spPr>
          <a:xfrm>
            <a:off x="5835600" y="6707160"/>
            <a:ext cx="438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25FFD35C-01F7-433F-970E-E56F799E7B24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3195720" y="534960"/>
            <a:ext cx="3838320" cy="265752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364760" y="3376080"/>
            <a:ext cx="750420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5835600" y="6707160"/>
            <a:ext cx="438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135DCE46-0722-4446-BFEC-85561DAFE35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3195720" y="534960"/>
            <a:ext cx="3838320" cy="265752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364760" y="3376080"/>
            <a:ext cx="750420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oliennummernplatzhalter 3"/>
          <p:cNvSpPr/>
          <p:nvPr/>
        </p:nvSpPr>
        <p:spPr>
          <a:xfrm>
            <a:off x="5835600" y="6707160"/>
            <a:ext cx="438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23BAE8-EB84-4814-B8A4-DD586EB05EE4}" type="slidenum">
              <a:rPr b="0" i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3195720" y="534960"/>
            <a:ext cx="3838320" cy="265752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1364760" y="3376080"/>
            <a:ext cx="750420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oliennummernplatzhalter 3"/>
          <p:cNvSpPr/>
          <p:nvPr/>
        </p:nvSpPr>
        <p:spPr>
          <a:xfrm>
            <a:off x="5835600" y="6707160"/>
            <a:ext cx="438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DDD1AD12-B4F0-4E09-896F-D5462A3375C7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3195720" y="534960"/>
            <a:ext cx="3838320" cy="265752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1364760" y="3376080"/>
            <a:ext cx="750420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oliennummernplatzhalter 3"/>
          <p:cNvSpPr/>
          <p:nvPr/>
        </p:nvSpPr>
        <p:spPr>
          <a:xfrm>
            <a:off x="5835600" y="6707160"/>
            <a:ext cx="438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86784A39-B2E2-4D1E-BB3C-1606338F9D66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3195720" y="534960"/>
            <a:ext cx="3838320" cy="265752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1364760" y="3376080"/>
            <a:ext cx="750420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liennummernplatzhalter 3"/>
          <p:cNvSpPr/>
          <p:nvPr/>
        </p:nvSpPr>
        <p:spPr>
          <a:xfrm>
            <a:off x="5835600" y="6707160"/>
            <a:ext cx="438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7F1CCCAE-378E-441A-A150-793322ABE44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3195720" y="534960"/>
            <a:ext cx="3838320" cy="265752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1364760" y="3376080"/>
            <a:ext cx="750420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oliennummernplatzhalter 3"/>
          <p:cNvSpPr/>
          <p:nvPr/>
        </p:nvSpPr>
        <p:spPr>
          <a:xfrm>
            <a:off x="5835600" y="6707160"/>
            <a:ext cx="438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fld id="{91041AE6-CE2F-4641-A2D8-38BF29953CB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3195720" y="534960"/>
            <a:ext cx="3838320" cy="265752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1364760" y="3376080"/>
            <a:ext cx="750420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oliennummernplatzhalter 3"/>
          <p:cNvSpPr/>
          <p:nvPr/>
        </p:nvSpPr>
        <p:spPr>
          <a:xfrm>
            <a:off x="5835600" y="6707160"/>
            <a:ext cx="438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C63A4CD7-05B4-4268-A4CE-E5786511AF19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3195720" y="534960"/>
            <a:ext cx="3838320" cy="265752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1364760" y="3376080"/>
            <a:ext cx="750420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oliennummernplatzhalter 3"/>
          <p:cNvSpPr/>
          <p:nvPr/>
        </p:nvSpPr>
        <p:spPr>
          <a:xfrm>
            <a:off x="5835600" y="6707160"/>
            <a:ext cx="438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E8E33324-3746-4C08-90CE-39D41D2D3E3F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3195720" y="534960"/>
            <a:ext cx="3838320" cy="265752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1364760" y="3376080"/>
            <a:ext cx="750420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5835600" y="6707160"/>
            <a:ext cx="438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A9A0838C-22E9-41F8-A4AD-9C0FF3FD7D4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3195720" y="534960"/>
            <a:ext cx="3838320" cy="265752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1364760" y="3376080"/>
            <a:ext cx="750420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oliennummernplatzhalter 3"/>
          <p:cNvSpPr/>
          <p:nvPr/>
        </p:nvSpPr>
        <p:spPr>
          <a:xfrm>
            <a:off x="5835600" y="6707160"/>
            <a:ext cx="438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6B373A4D-09BD-44B8-A2E9-E4FE42D7A0E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3195720" y="534960"/>
            <a:ext cx="3838320" cy="265752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1364760" y="3376080"/>
            <a:ext cx="750420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oliennummernplatzhalter 3"/>
          <p:cNvSpPr/>
          <p:nvPr/>
        </p:nvSpPr>
        <p:spPr>
          <a:xfrm>
            <a:off x="5835600" y="6707160"/>
            <a:ext cx="438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8DAA0BFB-4186-4EF9-A692-6208014D6CDB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57CC3-1185-448A-85FE-9CD860E8E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B873-B68A-4751-8279-889E8BEC2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C9201-CF86-492F-AC07-35E959480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576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328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576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328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9A47E-6EA1-45AE-924A-EEC76F442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9448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8A08B-F846-47D3-B6E3-70562F439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2576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2328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2576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2328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7E74B-C062-4F6E-9824-157A940540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43064-DF78-41E2-9E08-9E28930B50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94C64-BEF2-4DED-876A-50E39211F5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76ABA-C444-4CFE-A30E-F4B3161A09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6FF84-0BE5-4894-A258-013F43B6C7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56BA5-7D02-4FDA-BEBC-3A2753D4AB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9448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1DAB8-514C-447D-A158-2C1D63B5F3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A8D67-5BEE-4137-897B-1943B7A7D8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8134A-ACD1-4437-85BA-4AD3F88738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B88A9-45B5-4276-9814-1F285C78FA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9DBDD-A572-465B-B841-D4707D74BA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1FDA5-C639-47FF-99E4-DD20518280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2576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62328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2824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42576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62328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C9435-BA60-4BAB-86AF-C144EB8F84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BBB3-E5C4-4181-AFAB-7DFE262E9E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4D86-1779-4375-9AC9-F62D26BD06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D5DD-CC13-4FB1-806C-84E4B14F8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EFD65-6612-43D3-9BDB-F914BFF02B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02DC-D098-4D34-84A7-9141E976F5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C7C0-2695-4AD2-B35C-BE502EB4B7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9448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22A9-74DB-42CB-ABEF-D7F5BCAEF0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337B-9802-4F82-9A0B-BC153C31603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8526-DE7C-4B11-ABA0-DFCB1FB08F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5F0E-6ED2-4F86-B704-150DD9DBD0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24CD-AA3C-42A6-B363-C567534690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6126-8C54-4457-A68F-256F107A29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42576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2328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22824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42576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62328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AE0C-2E70-44EA-B704-D63E5E23ED2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23E17-A5B9-483D-8D90-3AFDF4B1B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F1F11-5FB9-4381-AFFD-E6AA979E67B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8FA46-9610-4FF5-840B-984F1570565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E953A-6A48-4E3F-9C1C-752849C4E30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67D08-68E0-418D-B8B8-E8833234A79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FE7E1-88E5-4085-BD1D-C99600AFBE8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9448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2853B5-C1C5-4D2F-BF8D-B4A31FC7CC7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EFA8D-B98C-4BDA-8ED2-9A78D0589EB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35B53-7191-457F-8A3C-5177CE7C85D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393BF-B9A3-41E0-AA39-98D170BE72D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5262A-4B19-4D65-9AF7-EFE4F70D0C3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C94E0E-17D7-46B1-8E54-7F2CF4419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9448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1A91F-7EFE-44FC-921D-6DA375AC083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42576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62328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22824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42576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62328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E5C83-6A5E-4E1E-B7FF-0B953179369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B8B61C-BA63-4FAF-9175-97D7CDBD860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FE5B71-2417-4A53-BAC6-BC738E62FD0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2B83C8-B660-42A1-AB6F-600B0BC95FD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B1DD8C-258B-480C-9676-0E303162C35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A061F0-12CE-4682-A021-CEAC4D76384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9448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2F854A-13B6-4329-9169-72200E5EBD2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BEE01C-6531-4BB6-A5E4-921403AE386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4980E8-0491-48AA-BB4B-50618E6CA21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03B4E3-4861-41DA-9CC4-C62CE2DD1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8CA12-F91B-4CF9-BD31-690296ADD8F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3C8472-AF3E-4439-AD3B-3D4CEAA1161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679B2B-CA2B-4432-95B4-0AC84D80910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42576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62328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22824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42576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62328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75BB59-9394-48C2-93DB-02D04518A30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9448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7074-FC7B-42B1-A584-6EBD7AE63AC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42576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62328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22824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42576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62328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5C0CEC-F763-4095-A096-4CBE2123950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663856-C05B-4B9B-AEFA-ECC17619877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AED4A0-17BD-4B7A-9232-EA6F4A02374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25A501-5666-4D13-8943-D2344FA95E3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75714A-4597-41DA-941D-D1C2481F2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FE73B-8741-43B4-9FFB-E987B8DBA62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9448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2F95E-0997-4587-B415-6066FAF9880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F836BC-138E-41A5-8ECF-D31BCA4FC42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4BFB57-4897-4E43-9F4B-D96FDE5AA16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1CB6AC-1332-4588-B41E-3ECEF857368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DE23F2-D4E5-4613-AC36-AF6AA1E6907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7B242B-D41D-4B36-A44A-1926DF7053A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42576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2328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24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42576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62328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142092-9A08-44D2-A21C-CFAB2A3B5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 flipH="1">
            <a:off x="228240" y="12193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H="1">
            <a:off x="228240" y="63691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-18900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indent="-190800">
              <a:spcBef>
                <a:spcPts val="901"/>
              </a:spcBef>
              <a:buClr>
                <a:srgbClr val="3c58a1"/>
              </a:buClr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760320" indent="-187200">
              <a:spcBef>
                <a:spcPts val="901"/>
              </a:spcBef>
              <a:buClr>
                <a:srgbClr val="3c58a1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760320" indent="-18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760320" indent="-18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47280" y="6624720"/>
            <a:ext cx="41720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223920" y="6624720"/>
            <a:ext cx="15696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F58C-871E-4780-A25D-E015ADF25B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46" descr="C:\Dokumente und Einstellungen\pc04\Desktop\logo_rgb_1.tif"/>
          <p:cNvPicPr/>
          <p:nvPr/>
        </p:nvPicPr>
        <p:blipFill>
          <a:blip r:embed="rId2"/>
          <a:stretch/>
        </p:blipFill>
        <p:spPr>
          <a:xfrm>
            <a:off x="7672320" y="6416640"/>
            <a:ext cx="208296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228600" y="6248520"/>
            <a:ext cx="632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0"/>
          <p:cNvSpPr/>
          <p:nvPr/>
        </p:nvSpPr>
        <p:spPr>
          <a:xfrm>
            <a:off x="6750000" y="6112440"/>
            <a:ext cx="297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Horváth &amp; Partner Gmb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1" descr="C:\Dokumente und Einstellungen\pc04\Desktop\logo_rgb_1.tif"/>
          <p:cNvPicPr/>
          <p:nvPr/>
        </p:nvPicPr>
        <p:blipFill>
          <a:blip r:embed="rId2"/>
          <a:stretch/>
        </p:blipFill>
        <p:spPr>
          <a:xfrm>
            <a:off x="6657840" y="1063800"/>
            <a:ext cx="2855880" cy="550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6"/>
          <p:cNvSpPr/>
          <p:nvPr/>
        </p:nvSpPr>
        <p:spPr>
          <a:xfrm>
            <a:off x="6746760" y="1871640"/>
            <a:ext cx="2971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100"/>
              </a:spcAft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lant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Barcelon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rli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Buchares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dapes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üsseldorf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Frankfur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nich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uttgar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ienn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Zuri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orvath-partner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-18900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indent="-190800">
              <a:spcBef>
                <a:spcPts val="901"/>
              </a:spcBef>
              <a:buClr>
                <a:srgbClr val="3c58a1"/>
              </a:buClr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760320" indent="-187200">
              <a:spcBef>
                <a:spcPts val="901"/>
              </a:spcBef>
              <a:buClr>
                <a:srgbClr val="3c58a1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760320" indent="-18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760320" indent="-18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 flipH="1">
            <a:off x="228240" y="12193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228240" y="63691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6" descr="C:\Dokumente und Einstellungen\pc04\Desktop\logo_rgb_1.tif"/>
          <p:cNvPicPr/>
          <p:nvPr/>
        </p:nvPicPr>
        <p:blipFill>
          <a:blip r:embed="rId2"/>
          <a:stretch/>
        </p:blipFill>
        <p:spPr>
          <a:xfrm>
            <a:off x="7672320" y="6416640"/>
            <a:ext cx="2082960" cy="4032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-18900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indent="-190800">
              <a:spcBef>
                <a:spcPts val="901"/>
              </a:spcBef>
              <a:buClr>
                <a:srgbClr val="3c58a1"/>
              </a:buClr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760320" indent="-187200">
              <a:spcBef>
                <a:spcPts val="901"/>
              </a:spcBef>
              <a:buClr>
                <a:srgbClr val="3c58a1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760320" indent="-18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760320" indent="-18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3"/>
          </p:nvPr>
        </p:nvSpPr>
        <p:spPr>
          <a:xfrm>
            <a:off x="647280" y="6624720"/>
            <a:ext cx="41720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4"/>
          </p:nvPr>
        </p:nvSpPr>
        <p:spPr>
          <a:xfrm>
            <a:off x="223920" y="6624720"/>
            <a:ext cx="15696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D457-89E2-47C9-B882-A032A9266C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 flipH="1">
            <a:off x="228240" y="12193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 flipH="1">
            <a:off x="228240" y="63691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6" descr="C:\Dokumente und Einstellungen\pc04\Desktop\logo_rgb_1.tif"/>
          <p:cNvPicPr/>
          <p:nvPr/>
        </p:nvPicPr>
        <p:blipFill>
          <a:blip r:embed="rId2"/>
          <a:stretch/>
        </p:blipFill>
        <p:spPr>
          <a:xfrm>
            <a:off x="7672320" y="6416640"/>
            <a:ext cx="2082960" cy="4032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-18900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indent="-190800">
              <a:spcBef>
                <a:spcPts val="901"/>
              </a:spcBef>
              <a:buClr>
                <a:srgbClr val="3c58a1"/>
              </a:buClr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760320" indent="-187200">
              <a:spcBef>
                <a:spcPts val="901"/>
              </a:spcBef>
              <a:buClr>
                <a:srgbClr val="3c58a1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760320" indent="-18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760320" indent="-18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5"/>
          </p:nvPr>
        </p:nvSpPr>
        <p:spPr>
          <a:xfrm>
            <a:off x="647280" y="6624720"/>
            <a:ext cx="487836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6"/>
          </p:nvPr>
        </p:nvSpPr>
        <p:spPr>
          <a:xfrm>
            <a:off x="223920" y="6624720"/>
            <a:ext cx="15696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8F6F-E9C2-4B92-9F25-8361623298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228240" y="12193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 flipH="1">
            <a:off x="228240" y="63691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6" descr="C:\Dokumente und Einstellungen\pc04\Desktop\logo_rgb_1.tif"/>
          <p:cNvPicPr/>
          <p:nvPr/>
        </p:nvPicPr>
        <p:blipFill>
          <a:blip r:embed="rId2"/>
          <a:stretch/>
        </p:blipFill>
        <p:spPr>
          <a:xfrm>
            <a:off x="7672320" y="6416640"/>
            <a:ext cx="2082960" cy="403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-18900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indent="-190800">
              <a:spcBef>
                <a:spcPts val="901"/>
              </a:spcBef>
              <a:buClr>
                <a:srgbClr val="3c58a1"/>
              </a:buClr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760320" indent="-187200">
              <a:spcBef>
                <a:spcPts val="901"/>
              </a:spcBef>
              <a:buClr>
                <a:srgbClr val="3c58a1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760320" indent="-18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760320" indent="-18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7"/>
          </p:nvPr>
        </p:nvSpPr>
        <p:spPr>
          <a:xfrm>
            <a:off x="647280" y="6624720"/>
            <a:ext cx="41720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8"/>
          </p:nvPr>
        </p:nvSpPr>
        <p:spPr>
          <a:xfrm>
            <a:off x="223920" y="6624720"/>
            <a:ext cx="15696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ECAC-4CA6-4CF3-B7CD-1FD5828CE75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 flipH="1">
            <a:off x="228240" y="12193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"/>
          <p:cNvSpPr/>
          <p:nvPr/>
        </p:nvSpPr>
        <p:spPr>
          <a:xfrm flipH="1">
            <a:off x="228240" y="63691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6" descr="C:\Dokumente und Einstellungen\pc04\Desktop\logo_rgb_1.tif"/>
          <p:cNvPicPr/>
          <p:nvPr/>
        </p:nvPicPr>
        <p:blipFill>
          <a:blip r:embed="rId2"/>
          <a:stretch/>
        </p:blipFill>
        <p:spPr>
          <a:xfrm>
            <a:off x="7672320" y="6416640"/>
            <a:ext cx="2082960" cy="4032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-18900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indent="-190800">
              <a:spcBef>
                <a:spcPts val="901"/>
              </a:spcBef>
              <a:buClr>
                <a:srgbClr val="3c58a1"/>
              </a:buClr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760320" indent="-187200">
              <a:spcBef>
                <a:spcPts val="901"/>
              </a:spcBef>
              <a:buClr>
                <a:srgbClr val="3c58a1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760320" indent="-18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760320" indent="-18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9"/>
          </p:nvPr>
        </p:nvSpPr>
        <p:spPr>
          <a:xfrm>
            <a:off x="647280" y="6624720"/>
            <a:ext cx="41720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0"/>
          </p:nvPr>
        </p:nvSpPr>
        <p:spPr>
          <a:xfrm>
            <a:off x="223920" y="6624720"/>
            <a:ext cx="15696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8B9E-B0C3-4BE3-8791-B50A405518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"/>
          <p:cNvSpPr/>
          <p:nvPr/>
        </p:nvSpPr>
        <p:spPr>
          <a:xfrm flipH="1">
            <a:off x="228240" y="12193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7"/>
          <p:cNvSpPr/>
          <p:nvPr/>
        </p:nvSpPr>
        <p:spPr>
          <a:xfrm flipH="1">
            <a:off x="228240" y="63691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6" descr="C:\Dokumente und Einstellungen\pc04\Desktop\logo_rgb_1.tif"/>
          <p:cNvPicPr/>
          <p:nvPr/>
        </p:nvPicPr>
        <p:blipFill>
          <a:blip r:embed="rId2"/>
          <a:stretch/>
        </p:blipFill>
        <p:spPr>
          <a:xfrm>
            <a:off x="7672320" y="6416640"/>
            <a:ext cx="2082960" cy="4032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uppieren 3"/>
          <p:cNvGrpSpPr/>
          <p:nvPr/>
        </p:nvGrpSpPr>
        <p:grpSpPr>
          <a:xfrm>
            <a:off x="0" y="0"/>
            <a:ext cx="9885240" cy="6858000"/>
            <a:chOff x="0" y="0"/>
            <a:chExt cx="9885240" cy="6858000"/>
          </a:xfrm>
        </p:grpSpPr>
        <p:sp>
          <p:nvSpPr>
            <p:cNvPr id="273" name="Gerade Verbindung 12"/>
            <p:cNvSpPr/>
            <p:nvPr/>
          </p:nvSpPr>
          <p:spPr>
            <a:xfrm>
              <a:off x="0" y="0"/>
              <a:ext cx="9864720" cy="685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Gerade Verbindung 13"/>
            <p:cNvSpPr/>
            <p:nvPr/>
          </p:nvSpPr>
          <p:spPr>
            <a:xfrm flipH="1">
              <a:off x="20520" y="0"/>
              <a:ext cx="9864720" cy="685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-18900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indent="-190800">
              <a:spcBef>
                <a:spcPts val="901"/>
              </a:spcBef>
              <a:buClr>
                <a:srgbClr val="3c58a1"/>
              </a:buClr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760320" indent="-187200">
              <a:spcBef>
                <a:spcPts val="901"/>
              </a:spcBef>
              <a:buClr>
                <a:srgbClr val="3c58a1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760320" indent="-18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760320" indent="-18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"/>
          <p:cNvSpPr/>
          <p:nvPr/>
        </p:nvSpPr>
        <p:spPr>
          <a:xfrm flipH="1">
            <a:off x="228240" y="12193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"/>
          <p:cNvSpPr/>
          <p:nvPr/>
        </p:nvSpPr>
        <p:spPr>
          <a:xfrm flipH="1">
            <a:off x="228240" y="63691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6" descr="C:\Dokumente und Einstellungen\pc04\Desktop\logo_rgb_1.tif"/>
          <p:cNvPicPr/>
          <p:nvPr/>
        </p:nvPicPr>
        <p:blipFill>
          <a:blip r:embed="rId2"/>
          <a:stretch/>
        </p:blipFill>
        <p:spPr>
          <a:xfrm>
            <a:off x="7672320" y="6416640"/>
            <a:ext cx="2082960" cy="403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Sigla 4-th EEES_RGB"/>
          <p:cNvPicPr/>
          <p:nvPr/>
        </p:nvPicPr>
        <p:blipFill>
          <a:blip r:embed="rId3"/>
          <a:stretch/>
        </p:blipFill>
        <p:spPr>
          <a:xfrm>
            <a:off x="7927920" y="101520"/>
            <a:ext cx="1722600" cy="6159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-18900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indent="-190800">
              <a:spcBef>
                <a:spcPts val="901"/>
              </a:spcBef>
              <a:buClr>
                <a:srgbClr val="3c58a1"/>
              </a:buClr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760320" indent="-187200">
              <a:spcBef>
                <a:spcPts val="901"/>
              </a:spcBef>
              <a:buClr>
                <a:srgbClr val="3c58a1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760320" indent="-18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760320" indent="-18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1"/>
          </p:nvPr>
        </p:nvSpPr>
        <p:spPr>
          <a:xfrm>
            <a:off x="223920" y="6624720"/>
            <a:ext cx="15696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D26B-35E7-43AD-AF17-C9B0741A2A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chotelsgroup.com/intercontinental/en/gb/locations/overview/bucharest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wmf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jpe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jpeg"/><Relationship Id="rId23" Type="http://schemas.openxmlformats.org/officeDocument/2006/relationships/image" Target="../media/image28.jpeg"/><Relationship Id="rId24" Type="http://schemas.openxmlformats.org/officeDocument/2006/relationships/image" Target="../media/image29.jpeg"/><Relationship Id="rId25" Type="http://schemas.openxmlformats.org/officeDocument/2006/relationships/image" Target="../media/image30.png"/><Relationship Id="rId26" Type="http://schemas.openxmlformats.org/officeDocument/2006/relationships/hyperlink" Target="http://www.nok.ch/internet/nok/de/home.html" TargetMode="External"/><Relationship Id="rId27" Type="http://schemas.openxmlformats.org/officeDocument/2006/relationships/image" Target="../media/image31.png"/><Relationship Id="rId28" Type="http://schemas.openxmlformats.org/officeDocument/2006/relationships/hyperlink" Target="http://www.elmu.hu/" TargetMode="External"/><Relationship Id="rId29" Type="http://schemas.openxmlformats.org/officeDocument/2006/relationships/image" Target="../media/image32.png"/><Relationship Id="rId30" Type="http://schemas.openxmlformats.org/officeDocument/2006/relationships/image" Target="../media/image33.png"/><Relationship Id="rId31" Type="http://schemas.openxmlformats.org/officeDocument/2006/relationships/slideLayout" Target="../slideLayouts/slideLayout37.xml"/><Relationship Id="rId3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746400" y="2866680"/>
            <a:ext cx="297180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urt Weber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naging Director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rvath &amp; Partners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746400" y="3630600"/>
            <a:ext cx="29689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uresti, 17 noiembri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title"/>
          </p:nvPr>
        </p:nvSpPr>
        <p:spPr>
          <a:xfrm>
            <a:off x="228600" y="5537160"/>
            <a:ext cx="632448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area sectorului energetic romanesc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hteck 5"/>
          <p:cNvSpPr/>
          <p:nvPr/>
        </p:nvSpPr>
        <p:spPr>
          <a:xfrm>
            <a:off x="228600" y="3700440"/>
            <a:ext cx="4952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diafax Talks about Energ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4e4e4e"/>
                </a:solidFill>
                <a:uFillTx/>
                <a:latin typeface="Arial"/>
                <a:hlinkClick r:id="rId1"/>
              </a:rPr>
              <a:t>Hotel InterContinental Bucureşt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sala Fort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ania are un mix energetic mai echilibrat comparat cu alte tari din regiu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240" y="5729040"/>
            <a:ext cx="94489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r" pos="438120"/>
                <a:tab algn="l" pos="47628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Nomu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ußzeilenplatzhalter 4"/>
          <p:cNvSpPr/>
          <p:nvPr/>
        </p:nvSpPr>
        <p:spPr>
          <a:xfrm>
            <a:off x="124380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liennummernplatzhalter 5"/>
          <p:cNvSpPr/>
          <p:nvPr/>
        </p:nvSpPr>
        <p:spPr>
          <a:xfrm>
            <a:off x="-36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B01D-AA79-4DB5-B498-7504542D44E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3605040" y="1365120"/>
            <a:ext cx="5835960" cy="48913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"/>
          <p:cNvPicPr/>
          <p:nvPr/>
        </p:nvPicPr>
        <p:blipFill>
          <a:blip r:embed="rId2"/>
          <a:stretch/>
        </p:blipFill>
        <p:spPr>
          <a:xfrm>
            <a:off x="835200" y="3716280"/>
            <a:ext cx="2408040" cy="2433600"/>
          </a:xfrm>
          <a:prstGeom prst="rect">
            <a:avLst/>
          </a:prstGeom>
          <a:ln w="0">
            <a:noFill/>
          </a:ln>
        </p:spPr>
      </p:pic>
      <p:sp>
        <p:nvSpPr>
          <p:cNvPr id="521" name="AutoShape 28"/>
          <p:cNvSpPr/>
          <p:nvPr/>
        </p:nvSpPr>
        <p:spPr>
          <a:xfrm>
            <a:off x="1602360" y="1582200"/>
            <a:ext cx="930240" cy="2422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32400" anchor="ctr">
            <a:sp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nergy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2" name="AutoShape 29"/>
          <p:cNvCxnSpPr>
            <a:stCxn id="521" idx="0"/>
            <a:endCxn id="521" idx="1"/>
          </p:cNvCxnSpPr>
          <p:nvPr/>
        </p:nvCxnSpPr>
        <p:spPr>
          <a:xfrm flipV="1">
            <a:off x="1600560" y="1579320"/>
            <a:ext cx="934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3" name="AutoShape 30"/>
          <p:cNvCxnSpPr>
            <a:stCxn id="521" idx="2"/>
            <a:endCxn id="521" idx="3"/>
          </p:cNvCxnSpPr>
          <p:nvPr/>
        </p:nvCxnSpPr>
        <p:spPr>
          <a:xfrm>
            <a:off x="1600560" y="1824120"/>
            <a:ext cx="934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7037280" y="1757520"/>
            <a:ext cx="264024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nia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ste o locaţie atractivă pentru energia regenerabi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forturi susţinute pent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U 20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ficienţe în infrastructură, planificare, acces, procese administ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vestitorii sunt atraşi de potenţialul de creşt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0">
              <a:spcBef>
                <a:spcPts val="90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0">
              <a:spcBef>
                <a:spcPts val="90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ererea crescută de energ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i resursele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regenerabilă fac din România o locaţie atractivă în regiu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ußzeilenplatzhalter 2"/>
          <p:cNvSpPr/>
          <p:nvPr/>
        </p:nvSpPr>
        <p:spPr>
          <a:xfrm>
            <a:off x="124380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-36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FE9D-1EAB-4F40-9A33-261AE4415B2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237960" y="1409760"/>
            <a:ext cx="66564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onfor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r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nageriilor str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 activ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Romania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torul energetic are c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i mare poten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al de cr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240" y="5729040"/>
            <a:ext cx="94489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r" pos="438120"/>
                <a:tab algn="l" pos="47628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Barometru Romania 2009, Horvath  &amp; Partners, n = 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ußzeilenplatzhalter 4"/>
          <p:cNvSpPr/>
          <p:nvPr/>
        </p:nvSpPr>
        <p:spPr>
          <a:xfrm>
            <a:off x="124380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oliennummernplatzhalter 5"/>
          <p:cNvSpPr/>
          <p:nvPr/>
        </p:nvSpPr>
        <p:spPr>
          <a:xfrm>
            <a:off x="-36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38EA-CFAB-40CF-9A23-9BAF05FCF0F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rcRect l="2451" t="3412" r="6969" b="16532"/>
          <a:stretch/>
        </p:blipFill>
        <p:spPr>
          <a:xfrm>
            <a:off x="1763640" y="1409760"/>
            <a:ext cx="601524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5213160" y="1353960"/>
            <a:ext cx="391932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9000" indent="-187560">
              <a:spcBef>
                <a:spcPts val="799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reşterea riscului de ţară emergent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799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Este posibil ca lipsa finanţării să aibă un impact negativ asupra sectorului energetic din Româ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-189000">
              <a:spcBef>
                <a:spcPts val="799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onstruirea de noi centrale nucle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-189000">
              <a:spcBef>
                <a:spcPts val="799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roiecte de generare a energiei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field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gene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-189000">
              <a:spcBef>
                <a:spcPts val="799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Modernizarea locaţiilor existente de generarea şi distribuţie a energi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-189000">
              <a:spcBef>
                <a:spcPts val="799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Licenţe pentru energia eoliană şi solar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799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or avea loc în România un număr crescut 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&amp;A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n sectorul energetic în perioad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1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ficitul de budget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ating-ul de tara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unt puncte de îngrijorare pentru investito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ußzeilenplatzhalter 4"/>
          <p:cNvSpPr/>
          <p:nvPr/>
        </p:nvSpPr>
        <p:spPr>
          <a:xfrm>
            <a:off x="124380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oliennummernplatzhalter 5"/>
          <p:cNvSpPr/>
          <p:nvPr/>
        </p:nvSpPr>
        <p:spPr>
          <a:xfrm>
            <a:off x="-36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D2B9-EF12-4057-9091-2C56DB3D4E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" descr=""/>
          <p:cNvPicPr/>
          <p:nvPr/>
        </p:nvPicPr>
        <p:blipFill>
          <a:blip r:embed="rId1"/>
          <a:srcRect l="0" t="0" r="53101" b="0"/>
          <a:stretch/>
        </p:blipFill>
        <p:spPr>
          <a:xfrm>
            <a:off x="671400" y="1446120"/>
            <a:ext cx="3502080" cy="21988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"/>
          <p:cNvPicPr/>
          <p:nvPr/>
        </p:nvPicPr>
        <p:blipFill>
          <a:blip r:embed="rId2"/>
          <a:srcRect l="50247" t="0" r="2239" b="0"/>
          <a:stretch/>
        </p:blipFill>
        <p:spPr>
          <a:xfrm>
            <a:off x="647640" y="3586320"/>
            <a:ext cx="3610080" cy="2234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"/>
          <p:cNvPicPr/>
          <p:nvPr/>
        </p:nvPicPr>
        <p:blipFill>
          <a:blip r:embed="rId3"/>
          <a:stretch/>
        </p:blipFill>
        <p:spPr>
          <a:xfrm>
            <a:off x="380880" y="5940360"/>
            <a:ext cx="9010800" cy="419040"/>
          </a:xfrm>
          <a:prstGeom prst="rect">
            <a:avLst/>
          </a:prstGeom>
          <a:ln w="0">
            <a:noFill/>
          </a:ln>
        </p:spPr>
      </p:pic>
      <p:sp>
        <p:nvSpPr>
          <p:cNvPr id="541" name="Gleichschenkliges Dreieck 13"/>
          <p:cNvSpPr/>
          <p:nvPr/>
        </p:nvSpPr>
        <p:spPr>
          <a:xfrm rot="5400000">
            <a:off x="2555640" y="3530520"/>
            <a:ext cx="4224240" cy="357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47160" bIns="47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za financiar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re impact asupra puterii financiare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alilor investitor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sectorul energ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ußzeilenplatzhalter 4"/>
          <p:cNvSpPr/>
          <p:nvPr/>
        </p:nvSpPr>
        <p:spPr>
          <a:xfrm>
            <a:off x="124380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liennummernplatzhalter 5"/>
          <p:cNvSpPr/>
          <p:nvPr/>
        </p:nvSpPr>
        <p:spPr>
          <a:xfrm>
            <a:off x="-1152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471F-E015-40C1-AEBF-EBD3C874CF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ihandform 6"/>
          <p:cNvSpPr/>
          <p:nvPr/>
        </p:nvSpPr>
        <p:spPr>
          <a:xfrm>
            <a:off x="2441520" y="1608120"/>
            <a:ext cx="6658200" cy="924120"/>
          </a:xfrm>
          <a:custGeom>
            <a:avLst/>
            <a:gdLst/>
            <a:ahLst/>
            <a:rect l="l" t="t" r="r" b="b"/>
            <a:pathLst>
              <a:path w="6657975" h="923925">
                <a:moveTo>
                  <a:pt x="0" y="923925"/>
                </a:moveTo>
                <a:lnTo>
                  <a:pt x="6648450" y="914400"/>
                </a:lnTo>
                <a:lnTo>
                  <a:pt x="6657975" y="0"/>
                </a:lnTo>
                <a:lnTo>
                  <a:pt x="0" y="0"/>
                </a:lnTo>
                <a:lnTo>
                  <a:pt x="180975" y="457200"/>
                </a:lnTo>
                <a:lnTo>
                  <a:pt x="0" y="9239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5"/>
          <p:cNvSpPr/>
          <p:nvPr/>
        </p:nvSpPr>
        <p:spPr>
          <a:xfrm>
            <a:off x="822240" y="1603440"/>
            <a:ext cx="1720800" cy="927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26" y="0"/>
                </a:lnTo>
                <a:lnTo>
                  <a:pt x="21600" y="10800"/>
                </a:lnTo>
                <a:lnTo>
                  <a:pt x="194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c58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61560" y="1744200"/>
            <a:ext cx="16542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Investitori industriali / strategi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2706840" y="1593360"/>
            <a:ext cx="639288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189000" indent="-187560">
              <a:spcBef>
                <a:spcPts val="700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Mulţi investitori se concentrează pe pieţele loca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şi mai puţin pe pieţele emerg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700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ompaniile ce au obiective strategice în regiun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CEZ)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vor beneficia de noile oportunităţi şi concurenţă redus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ihandform 10"/>
          <p:cNvSpPr/>
          <p:nvPr/>
        </p:nvSpPr>
        <p:spPr>
          <a:xfrm>
            <a:off x="2441520" y="2684520"/>
            <a:ext cx="6658200" cy="923760"/>
          </a:xfrm>
          <a:custGeom>
            <a:avLst/>
            <a:gdLst/>
            <a:ahLst/>
            <a:rect l="l" t="t" r="r" b="b"/>
            <a:pathLst>
              <a:path w="6657975" h="923925">
                <a:moveTo>
                  <a:pt x="0" y="923925"/>
                </a:moveTo>
                <a:lnTo>
                  <a:pt x="6648450" y="914400"/>
                </a:lnTo>
                <a:lnTo>
                  <a:pt x="6657975" y="0"/>
                </a:lnTo>
                <a:lnTo>
                  <a:pt x="0" y="0"/>
                </a:lnTo>
                <a:lnTo>
                  <a:pt x="180975" y="457200"/>
                </a:lnTo>
                <a:lnTo>
                  <a:pt x="0" y="9239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5"/>
          <p:cNvSpPr/>
          <p:nvPr/>
        </p:nvSpPr>
        <p:spPr>
          <a:xfrm>
            <a:off x="822240" y="2679840"/>
            <a:ext cx="1720800" cy="927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26" y="0"/>
                </a:lnTo>
                <a:lnTo>
                  <a:pt x="21600" y="10800"/>
                </a:lnTo>
                <a:lnTo>
                  <a:pt x="194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c58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61560" y="2928600"/>
            <a:ext cx="16542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Fonduri infrastructur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2706480" y="2669760"/>
            <a:ext cx="612108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189000" indent="-187560">
              <a:spcBef>
                <a:spcPts val="700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Fondurile de investiţii în infrastructură sunt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ja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active în regiu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ar sunt limitate din cauza dificultăţii obţinerii finanţăr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700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ondiţiile de finanţare sunt mult mai bune acum pentru infrastructură, în special pentru locaţiil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/ proiectel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de mărime redus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ihandform 14"/>
          <p:cNvSpPr/>
          <p:nvPr/>
        </p:nvSpPr>
        <p:spPr>
          <a:xfrm>
            <a:off x="2441520" y="3792600"/>
            <a:ext cx="6658200" cy="923760"/>
          </a:xfrm>
          <a:custGeom>
            <a:avLst/>
            <a:gdLst/>
            <a:ahLst/>
            <a:rect l="l" t="t" r="r" b="b"/>
            <a:pathLst>
              <a:path w="6657975" h="923925">
                <a:moveTo>
                  <a:pt x="0" y="923925"/>
                </a:moveTo>
                <a:lnTo>
                  <a:pt x="6648450" y="914400"/>
                </a:lnTo>
                <a:lnTo>
                  <a:pt x="6657975" y="0"/>
                </a:lnTo>
                <a:lnTo>
                  <a:pt x="0" y="0"/>
                </a:lnTo>
                <a:lnTo>
                  <a:pt x="180975" y="457200"/>
                </a:lnTo>
                <a:lnTo>
                  <a:pt x="0" y="9239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"/>
          <p:cNvSpPr/>
          <p:nvPr/>
        </p:nvSpPr>
        <p:spPr>
          <a:xfrm>
            <a:off x="822240" y="3787920"/>
            <a:ext cx="1720800" cy="927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26" y="0"/>
                </a:lnTo>
                <a:lnTo>
                  <a:pt x="21600" y="10800"/>
                </a:lnTo>
                <a:lnTo>
                  <a:pt x="194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c58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961560" y="3820680"/>
            <a:ext cx="165420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ivate Equity /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Fonduri specializate în indust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2706480" y="3777840"/>
            <a:ext cx="612108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189000" indent="-187560">
              <a:spcBef>
                <a:spcPts val="700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ompaniile d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iv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qu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unt necompetitive în acest sector, energia regenerabilă este mult mai atractivă datorită marjelor ridicate de prof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700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Oportunităţi în creştere şi concurenţă scăzută - poate fi un mediu favorabil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pentru fondu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ihandform 18"/>
          <p:cNvSpPr/>
          <p:nvPr/>
        </p:nvSpPr>
        <p:spPr>
          <a:xfrm>
            <a:off x="2441520" y="4869000"/>
            <a:ext cx="6658200" cy="923760"/>
          </a:xfrm>
          <a:custGeom>
            <a:avLst/>
            <a:gdLst/>
            <a:ahLst/>
            <a:rect l="l" t="t" r="r" b="b"/>
            <a:pathLst>
              <a:path w="6657975" h="923925">
                <a:moveTo>
                  <a:pt x="0" y="923925"/>
                </a:moveTo>
                <a:lnTo>
                  <a:pt x="6648450" y="914400"/>
                </a:lnTo>
                <a:lnTo>
                  <a:pt x="6657975" y="0"/>
                </a:lnTo>
                <a:lnTo>
                  <a:pt x="0" y="0"/>
                </a:lnTo>
                <a:lnTo>
                  <a:pt x="180975" y="457200"/>
                </a:lnTo>
                <a:lnTo>
                  <a:pt x="0" y="9239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5"/>
          <p:cNvSpPr/>
          <p:nvPr/>
        </p:nvSpPr>
        <p:spPr>
          <a:xfrm>
            <a:off x="822240" y="4863960"/>
            <a:ext cx="1720800" cy="92736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927360"/>
              <a:gd name="textAreaBottom" fmla="*/ 927720 h 92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26" y="0"/>
                </a:lnTo>
                <a:lnTo>
                  <a:pt x="21600" y="10800"/>
                </a:lnTo>
                <a:lnTo>
                  <a:pt x="194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c58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8"/>
          <p:cNvSpPr>
            <a:spLocks noGrp="1"/>
          </p:cNvSpPr>
          <p:nvPr>
            <p:ph/>
          </p:nvPr>
        </p:nvSpPr>
        <p:spPr>
          <a:xfrm>
            <a:off x="961560" y="5221080"/>
            <a:ext cx="1654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9"/>
          <p:cNvSpPr>
            <a:spLocks noGrp="1"/>
          </p:cNvSpPr>
          <p:nvPr>
            <p:ph/>
          </p:nvPr>
        </p:nvSpPr>
        <p:spPr>
          <a:xfrm>
            <a:off x="2706480" y="5113080"/>
            <a:ext cx="61210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189000" indent="-187560">
              <a:spcBef>
                <a:spcPts val="700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Tranzacţiile pe piaţa de capital se regăsesc sub valoarea de vânzare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trade sale valuations”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uppieren 84"/>
          <p:cNvGrpSpPr/>
          <p:nvPr/>
        </p:nvGrpSpPr>
        <p:grpSpPr>
          <a:xfrm>
            <a:off x="1841400" y="1906560"/>
            <a:ext cx="6327720" cy="1112760"/>
            <a:chOff x="1841400" y="1906560"/>
            <a:chExt cx="6327720" cy="1112760"/>
          </a:xfrm>
        </p:grpSpPr>
        <p:sp>
          <p:nvSpPr>
            <p:cNvPr id="562" name="Rectangle 4"/>
            <p:cNvSpPr/>
            <p:nvPr/>
          </p:nvSpPr>
          <p:spPr>
            <a:xfrm>
              <a:off x="2106360" y="1906560"/>
              <a:ext cx="606276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0" rIns="72000" tIns="72000" bIns="72000" anchor="ctr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 ce masura afecteaza criza financiara si economica investitiile in sectorul energetic (la nivel international si local)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unde Klammer rechts 63"/>
            <p:cNvSpPr/>
            <p:nvPr/>
          </p:nvSpPr>
          <p:spPr>
            <a:xfrm>
              <a:off x="2097360" y="2122200"/>
              <a:ext cx="348120" cy="677880"/>
            </a:xfrm>
            <a:custGeom>
              <a:avLst/>
              <a:gdLst>
                <a:gd name="textAreaLeft" fmla="*/ 0 w 348120"/>
                <a:gd name="textAreaRight" fmla="*/ 244080 w 3481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0"/>
                    <a:pt x="21600" y="0"/>
                  </a:cubicBez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hteck 21"/>
            <p:cNvSpPr/>
            <p:nvPr/>
          </p:nvSpPr>
          <p:spPr>
            <a:xfrm>
              <a:off x="1841400" y="2189160"/>
              <a:ext cx="543960" cy="544320"/>
            </a:xfrm>
            <a:prstGeom prst="rect">
              <a:avLst/>
            </a:prstGeom>
            <a:solidFill>
              <a:srgbClr val="3c58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ncte ati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ußzeilenplatzhalter 4"/>
          <p:cNvSpPr/>
          <p:nvPr/>
        </p:nvSpPr>
        <p:spPr>
          <a:xfrm>
            <a:off x="124380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liennummernplatzhalter 5"/>
          <p:cNvSpPr/>
          <p:nvPr/>
        </p:nvSpPr>
        <p:spPr>
          <a:xfrm>
            <a:off x="-1152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476D-2723-4F06-9B08-329D040D68A7}" type="slidenum">
              <a:rPr b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uppieren 85"/>
          <p:cNvGrpSpPr/>
          <p:nvPr/>
        </p:nvGrpSpPr>
        <p:grpSpPr>
          <a:xfrm>
            <a:off x="1841400" y="3211560"/>
            <a:ext cx="6327720" cy="1112760"/>
            <a:chOff x="1841400" y="3211560"/>
            <a:chExt cx="6327720" cy="1112760"/>
          </a:xfrm>
        </p:grpSpPr>
        <p:sp>
          <p:nvSpPr>
            <p:cNvPr id="569" name="Rectangle 4"/>
            <p:cNvSpPr/>
            <p:nvPr/>
          </p:nvSpPr>
          <p:spPr>
            <a:xfrm>
              <a:off x="2106360" y="3211560"/>
              <a:ext cx="606276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0" rIns="72000" tIns="72000" bIns="72000" anchor="ctr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e unde vor venii fondurile pentru realizarea proiectelor / planurilor in sectorul energetic? Cat de atractiv este sectorul energetic romanesc pentru investitori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unde Klammer rechts 68"/>
            <p:cNvSpPr/>
            <p:nvPr/>
          </p:nvSpPr>
          <p:spPr>
            <a:xfrm>
              <a:off x="2097360" y="3427200"/>
              <a:ext cx="348120" cy="677880"/>
            </a:xfrm>
            <a:custGeom>
              <a:avLst/>
              <a:gdLst>
                <a:gd name="textAreaLeft" fmla="*/ 0 w 348120"/>
                <a:gd name="textAreaRight" fmla="*/ 244080 w 3481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0"/>
                    <a:pt x="21600" y="0"/>
                  </a:cubicBez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hteck 69"/>
            <p:cNvSpPr/>
            <p:nvPr/>
          </p:nvSpPr>
          <p:spPr>
            <a:xfrm>
              <a:off x="1841400" y="3494160"/>
              <a:ext cx="543960" cy="544320"/>
            </a:xfrm>
            <a:prstGeom prst="rect">
              <a:avLst/>
            </a:prstGeom>
            <a:solidFill>
              <a:srgbClr val="3c58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uppieren 86"/>
          <p:cNvGrpSpPr/>
          <p:nvPr/>
        </p:nvGrpSpPr>
        <p:grpSpPr>
          <a:xfrm>
            <a:off x="1841400" y="4516560"/>
            <a:ext cx="6327720" cy="1112760"/>
            <a:chOff x="1841400" y="4516560"/>
            <a:chExt cx="6327720" cy="1112760"/>
          </a:xfrm>
        </p:grpSpPr>
        <p:sp>
          <p:nvSpPr>
            <p:cNvPr id="573" name="Rectangle 4"/>
            <p:cNvSpPr/>
            <p:nvPr/>
          </p:nvSpPr>
          <p:spPr>
            <a:xfrm>
              <a:off x="2106360" y="4516560"/>
              <a:ext cx="6062760" cy="1112760"/>
            </a:xfrm>
            <a:prstGeom prst="rect">
              <a:avLst/>
            </a:prstGeom>
            <a:solidFill>
              <a:srgbClr val="3c58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0" rIns="72000" tIns="72000" bIns="72000" anchor="ctr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Ce alte masuri ar putea sprijinii transformarea sectorului energetic romanesc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unde Klammer rechts 72"/>
            <p:cNvSpPr/>
            <p:nvPr/>
          </p:nvSpPr>
          <p:spPr>
            <a:xfrm>
              <a:off x="2097360" y="4732200"/>
              <a:ext cx="348120" cy="677880"/>
            </a:xfrm>
            <a:custGeom>
              <a:avLst/>
              <a:gdLst>
                <a:gd name="textAreaLeft" fmla="*/ 0 w 348120"/>
                <a:gd name="textAreaRight" fmla="*/ 244080 w 3481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0"/>
                    <a:pt x="21600" y="0"/>
                  </a:cubicBez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hteck 73"/>
            <p:cNvSpPr/>
            <p:nvPr/>
          </p:nvSpPr>
          <p:spPr>
            <a:xfrm>
              <a:off x="1841400" y="4799160"/>
              <a:ext cx="543960" cy="544320"/>
            </a:xfrm>
            <a:prstGeom prst="rect">
              <a:avLst/>
            </a:prstGeom>
            <a:solidFill>
              <a:srgbClr val="3c58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ania ar trebui s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usţin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icien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energetic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generare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surse regenerabile pentru a realiza obiectivele EU 2020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240" y="5729040"/>
            <a:ext cx="94489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r" pos="438120"/>
                <a:tab algn="l" pos="47628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EU Com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ußzeilenplatzhalter 4"/>
          <p:cNvSpPr/>
          <p:nvPr/>
        </p:nvSpPr>
        <p:spPr>
          <a:xfrm>
            <a:off x="124380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liennummernplatzhalter 5"/>
          <p:cNvSpPr/>
          <p:nvPr/>
        </p:nvSpPr>
        <p:spPr>
          <a:xfrm>
            <a:off x="-36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0548-C69F-4653-9CB2-5DF131686BD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Ellipse 7"/>
          <p:cNvSpPr/>
          <p:nvPr/>
        </p:nvSpPr>
        <p:spPr>
          <a:xfrm>
            <a:off x="3384720" y="1562040"/>
            <a:ext cx="2849400" cy="1252440"/>
          </a:xfrm>
          <a:prstGeom prst="ellipse">
            <a:avLst/>
          </a:prstGeom>
          <a:solidFill>
            <a:srgbClr val="3c58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ea eficien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i energe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20% a eficientei energe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Ellipse 8"/>
          <p:cNvSpPr/>
          <p:nvPr/>
        </p:nvSpPr>
        <p:spPr>
          <a:xfrm>
            <a:off x="380880" y="4476600"/>
            <a:ext cx="2849760" cy="1252800"/>
          </a:xfrm>
          <a:prstGeom prst="ellipse">
            <a:avLst/>
          </a:prstGeom>
          <a:solidFill>
            <a:srgbClr val="3c58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800" spc="-1" strike="noStrike">
                <a:solidFill>
                  <a:srgbClr val="ffffff"/>
                </a:solidFill>
                <a:latin typeface="Arial"/>
              </a:rPr>
              <a:t>misii de gaze cu efect de ser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% comparat cu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Ellipse 9"/>
          <p:cNvSpPr/>
          <p:nvPr/>
        </p:nvSpPr>
        <p:spPr>
          <a:xfrm>
            <a:off x="6424560" y="4476600"/>
            <a:ext cx="2851200" cy="1252800"/>
          </a:xfrm>
          <a:prstGeom prst="ellipse">
            <a:avLst/>
          </a:prstGeom>
          <a:solidFill>
            <a:srgbClr val="3c58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nergii regener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% rersuse regenera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feil nach rechts 10"/>
          <p:cNvSpPr/>
          <p:nvPr/>
        </p:nvSpPr>
        <p:spPr>
          <a:xfrm rot="10800000">
            <a:off x="3313080" y="4691160"/>
            <a:ext cx="2921040" cy="78408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hteck 11"/>
          <p:cNvSpPr/>
          <p:nvPr/>
        </p:nvSpPr>
        <p:spPr>
          <a:xfrm>
            <a:off x="3632040" y="5288040"/>
            <a:ext cx="260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ea de energii regenerabile reduce emisiile de gaze cu efect de ser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feil nach rechts 12"/>
          <p:cNvSpPr/>
          <p:nvPr/>
        </p:nvSpPr>
        <p:spPr>
          <a:xfrm rot="7343400">
            <a:off x="1929960" y="3182760"/>
            <a:ext cx="2202120" cy="782640"/>
          </a:xfrm>
          <a:prstGeom prst="rightArrow">
            <a:avLst>
              <a:gd name="adj1" fmla="val 50000"/>
              <a:gd name="adj2" fmla="val 50073"/>
            </a:avLst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hteck 13"/>
          <p:cNvSpPr/>
          <p:nvPr/>
        </p:nvSpPr>
        <p:spPr>
          <a:xfrm>
            <a:off x="628560" y="2814480"/>
            <a:ext cx="260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ea eficien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etice reduc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isiile C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feil nach rechts 14"/>
          <p:cNvSpPr/>
          <p:nvPr/>
        </p:nvSpPr>
        <p:spPr>
          <a:xfrm rot="3585000">
            <a:off x="5537520" y="3209040"/>
            <a:ext cx="2200320" cy="782640"/>
          </a:xfrm>
          <a:prstGeom prst="rightArrow">
            <a:avLst>
              <a:gd name="adj1" fmla="val 50000"/>
              <a:gd name="adj2" fmla="val 50033"/>
            </a:avLst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hteck 15"/>
          <p:cNvSpPr/>
          <p:nvPr/>
        </p:nvSpPr>
        <p:spPr>
          <a:xfrm>
            <a:off x="6672240" y="2624040"/>
            <a:ext cx="260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ea eficien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 energetice necesit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vestitii mai putine in energii regenerabile pentru a realiza target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rovocare viitoare în cadrul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Durata de viaţă a echipamentelor în producţia de energ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ußzeilenplatzhalter 4"/>
          <p:cNvSpPr/>
          <p:nvPr/>
        </p:nvSpPr>
        <p:spPr>
          <a:xfrm>
            <a:off x="124380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liennummernplatzhalter 5"/>
          <p:cNvSpPr/>
          <p:nvPr/>
        </p:nvSpPr>
        <p:spPr>
          <a:xfrm>
            <a:off x="-36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DE0F-B33D-4F6E-981B-F2B9241905B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784080" y="1382760"/>
            <a:ext cx="812196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89064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5"/>
          <p:cNvSpPr/>
          <p:nvPr/>
        </p:nvSpPr>
        <p:spPr>
          <a:xfrm>
            <a:off x="-1152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88BF-23CC-4F9E-A527-52354C2A22A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"/>
          <p:cNvSpPr/>
          <p:nvPr/>
        </p:nvSpPr>
        <p:spPr>
          <a:xfrm>
            <a:off x="217440" y="1397160"/>
            <a:ext cx="4433760" cy="4776480"/>
          </a:xfrm>
          <a:prstGeom prst="rect">
            <a:avLst/>
          </a:prstGeom>
          <a:solidFill>
            <a:srgbClr val="bcbc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419040" y="1623960"/>
            <a:ext cx="1386000" cy="18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419040" y="4191120"/>
            <a:ext cx="4172040" cy="17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62856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urt Web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ing Dir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62856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rváth &amp; Partners Management Consul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62856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40 31 620188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x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40 31 62018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62856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weber@horvath-partner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7" descr=""/>
          <p:cNvPicPr/>
          <p:nvPr/>
        </p:nvPicPr>
        <p:blipFill>
          <a:blip r:embed="rId1"/>
          <a:srcRect l="0" t="0" r="14972" b="23887"/>
          <a:stretch/>
        </p:blipFill>
        <p:spPr>
          <a:xfrm>
            <a:off x="460440" y="1676520"/>
            <a:ext cx="130176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228240" y="1387440"/>
            <a:ext cx="9448920" cy="26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nd economic crisis amplifies existing challenges (e.g. refurbishment of ageing power plants, energy security, climate change, energy effici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 policy makers should incentive regions with the highest resource availability (e.g. Wind in the North Sea, Hydro in Scandinavia, Solar in Spain, Solar and Wind in S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s should stimulate investments in upgrade and new interconn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investments in clean energy now can further stimulate the EU economy (‘Green stimulus packages’). No need to delay investments in low emission energy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0">
              <a:spcBef>
                <a:spcPts val="90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ußzeilenplatzhalter 4"/>
          <p:cNvSpPr/>
          <p:nvPr/>
        </p:nvSpPr>
        <p:spPr>
          <a:xfrm>
            <a:off x="124380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liennummernplatzhalter 5"/>
          <p:cNvSpPr/>
          <p:nvPr/>
        </p:nvSpPr>
        <p:spPr>
          <a:xfrm>
            <a:off x="-36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F295-8D91-40A0-9A24-182C4A58785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Horváth &amp; Partner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- consultanta in management pentru cresterea performante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ußzeilenplatzhalter 155"/>
          <p:cNvSpPr/>
          <p:nvPr/>
        </p:nvSpPr>
        <p:spPr>
          <a:xfrm>
            <a:off x="124380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liennummernplatzhalter 3"/>
          <p:cNvSpPr/>
          <p:nvPr/>
        </p:nvSpPr>
        <p:spPr>
          <a:xfrm>
            <a:off x="-36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5BF2-3ACB-4CBE-9484-462F973C9C05}" type="slidenum">
              <a:rPr b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Group 3" descr=""/>
          <p:cNvPicPr/>
          <p:nvPr/>
        </p:nvPicPr>
        <p:blipFill>
          <a:blip r:embed="rId1"/>
          <a:stretch/>
        </p:blipFill>
        <p:spPr>
          <a:xfrm>
            <a:off x="639720" y="4383000"/>
            <a:ext cx="3425760" cy="1805040"/>
          </a:xfrm>
          <a:prstGeom prst="rect">
            <a:avLst/>
          </a:prstGeom>
          <a:ln w="0">
            <a:noFill/>
          </a:ln>
        </p:spPr>
      </p:pic>
      <p:sp>
        <p:nvSpPr>
          <p:cNvPr id="374" name="Rechteck 7"/>
          <p:cNvSpPr/>
          <p:nvPr/>
        </p:nvSpPr>
        <p:spPr>
          <a:xfrm>
            <a:off x="200160" y="1341360"/>
            <a:ext cx="4538520" cy="358920"/>
          </a:xfrm>
          <a:prstGeom prst="rect">
            <a:avLst/>
          </a:prstGeom>
          <a:solidFill>
            <a:srgbClr val="3c58a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Pe scurt despre Horv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th &amp;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hteck 7"/>
          <p:cNvSpPr/>
          <p:nvPr/>
        </p:nvSpPr>
        <p:spPr>
          <a:xfrm>
            <a:off x="200160" y="1695600"/>
            <a:ext cx="4538520" cy="2019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lvl="1" marL="181080" indent="-181080">
              <a:lnSpc>
                <a:spcPct val="100000"/>
              </a:lnSpc>
              <a:spcBef>
                <a:spcPts val="876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sultanţă în management la nivel internaţional de peste 25 de a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lnSpc>
                <a:spcPct val="100000"/>
              </a:lnSpc>
              <a:spcBef>
                <a:spcPts val="876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este 450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de angajaţ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lnSpc>
                <a:spcPct val="100000"/>
              </a:lnSpc>
              <a:spcBef>
                <a:spcPts val="876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 mil. Euro cifră de afaceri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anual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hteck 7"/>
          <p:cNvSpPr/>
          <p:nvPr/>
        </p:nvSpPr>
        <p:spPr>
          <a:xfrm>
            <a:off x="200160" y="4267080"/>
            <a:ext cx="4538520" cy="2019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lvl="1" marL="181080" indent="-181080">
              <a:lnSpc>
                <a:spcPct val="100000"/>
              </a:lnSpc>
              <a:spcBef>
                <a:spcPts val="75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hteck 7"/>
          <p:cNvSpPr/>
          <p:nvPr/>
        </p:nvSpPr>
        <p:spPr>
          <a:xfrm>
            <a:off x="5148360" y="1341360"/>
            <a:ext cx="4538520" cy="358920"/>
          </a:xfrm>
          <a:prstGeom prst="rect">
            <a:avLst/>
          </a:prstGeom>
          <a:solidFill>
            <a:srgbClr val="3c58a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Modelul “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erformance Architect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hteck 7"/>
          <p:cNvSpPr/>
          <p:nvPr/>
        </p:nvSpPr>
        <p:spPr>
          <a:xfrm>
            <a:off x="5148360" y="1695600"/>
            <a:ext cx="4538520" cy="2019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lvl="1" marL="181080" indent="-181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hteck 7"/>
          <p:cNvSpPr/>
          <p:nvPr/>
        </p:nvSpPr>
        <p:spPr>
          <a:xfrm>
            <a:off x="5148360" y="4267080"/>
            <a:ext cx="4538520" cy="2019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lvl="1" marL="181080" indent="-181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hteck 12"/>
          <p:cNvSpPr/>
          <p:nvPr/>
        </p:nvSpPr>
        <p:spPr>
          <a:xfrm>
            <a:off x="281160" y="4361040"/>
            <a:ext cx="43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irouri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a, Barcelona, Berlin, Bucureşti, Budapesta, Dubai, Düsseldorf, Frankfurt, München, Stuttgart, Viena, Zu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hteck 159"/>
          <p:cNvSpPr/>
          <p:nvPr/>
        </p:nvSpPr>
        <p:spPr>
          <a:xfrm>
            <a:off x="5291280" y="3438360"/>
            <a:ext cx="426564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anii mari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/mici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n sectorul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priva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ât şi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hteck 7"/>
          <p:cNvSpPr/>
          <p:nvPr/>
        </p:nvSpPr>
        <p:spPr>
          <a:xfrm>
            <a:off x="200160" y="3913200"/>
            <a:ext cx="4538520" cy="358920"/>
          </a:xfrm>
          <a:prstGeom prst="rect">
            <a:avLst/>
          </a:prstGeom>
          <a:solidFill>
            <a:srgbClr val="3c58a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Locaţ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hteck 7"/>
          <p:cNvSpPr/>
          <p:nvPr/>
        </p:nvSpPr>
        <p:spPr>
          <a:xfrm>
            <a:off x="5148360" y="3913200"/>
            <a:ext cx="4538520" cy="358920"/>
          </a:xfrm>
          <a:prstGeom prst="rect">
            <a:avLst/>
          </a:prstGeom>
          <a:solidFill>
            <a:srgbClr val="3c58a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ampion in Management Consulting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 / 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uppieren 279"/>
          <p:cNvGrpSpPr/>
          <p:nvPr/>
        </p:nvGrpSpPr>
        <p:grpSpPr>
          <a:xfrm>
            <a:off x="5481720" y="1774800"/>
            <a:ext cx="3871800" cy="1655640"/>
            <a:chOff x="5481720" y="1774800"/>
            <a:chExt cx="3871800" cy="1655640"/>
          </a:xfrm>
        </p:grpSpPr>
        <p:sp>
          <p:nvSpPr>
            <p:cNvPr id="385" name="Rechteck 280"/>
            <p:cNvSpPr/>
            <p:nvPr/>
          </p:nvSpPr>
          <p:spPr>
            <a:xfrm>
              <a:off x="6791760" y="1774800"/>
              <a:ext cx="1248120" cy="1655640"/>
            </a:xfrm>
            <a:prstGeom prst="rect">
              <a:avLst/>
            </a:prstGeom>
            <a:solidFill>
              <a:srgbClr val="3c58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hteck 281"/>
            <p:cNvSpPr/>
            <p:nvPr/>
          </p:nvSpPr>
          <p:spPr>
            <a:xfrm>
              <a:off x="8105400" y="1774800"/>
              <a:ext cx="1248120" cy="1655640"/>
            </a:xfrm>
            <a:prstGeom prst="rect">
              <a:avLst/>
            </a:prstGeom>
            <a:solidFill>
              <a:srgbClr val="3c58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hteck 282"/>
            <p:cNvSpPr/>
            <p:nvPr/>
          </p:nvSpPr>
          <p:spPr>
            <a:xfrm>
              <a:off x="5481720" y="1774800"/>
              <a:ext cx="1248120" cy="1655640"/>
            </a:xfrm>
            <a:prstGeom prst="rect">
              <a:avLst/>
            </a:prstGeom>
            <a:solidFill>
              <a:srgbClr val="3c58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feld 66"/>
            <p:cNvSpPr/>
            <p:nvPr/>
          </p:nvSpPr>
          <p:spPr>
            <a:xfrm>
              <a:off x="5653440" y="1877760"/>
              <a:ext cx="9183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71640"/>
                  <a:tab algn="l" pos="1943280"/>
                  <a:tab algn="l" pos="2914560"/>
                  <a:tab algn="l" pos="3886200"/>
                  <a:tab algn="l" pos="4857840"/>
                  <a:tab algn="l" pos="5829480"/>
                  <a:tab algn="l" pos="6800760"/>
                  <a:tab algn="l" pos="7772400"/>
                  <a:tab algn="l" pos="8744040"/>
                  <a:tab algn="l" pos="9715680"/>
                  <a:tab algn="l" pos="10686960"/>
                </a:tabLst>
              </a:pPr>
              <a:r>
                <a:rPr b="1" lang="ro-RO" sz="1000" spc="-1" strike="noStrike">
                  <a:solidFill>
                    <a:srgbClr val="ffffff"/>
                  </a:solidFill>
                  <a:latin typeface="Arial"/>
                </a:rPr>
                <a:t>Strategie şi Inovaţ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feld 67"/>
            <p:cNvSpPr/>
            <p:nvPr/>
          </p:nvSpPr>
          <p:spPr>
            <a:xfrm>
              <a:off x="6888240" y="1877760"/>
              <a:ext cx="10843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71640"/>
                  <a:tab algn="l" pos="1943280"/>
                  <a:tab algn="l" pos="2914560"/>
                  <a:tab algn="l" pos="3886200"/>
                  <a:tab algn="l" pos="4857840"/>
                  <a:tab algn="l" pos="5829480"/>
                  <a:tab algn="l" pos="6800760"/>
                  <a:tab algn="l" pos="7772400"/>
                  <a:tab algn="l" pos="8744040"/>
                  <a:tab algn="l" pos="9715680"/>
                  <a:tab algn="l" pos="10686960"/>
                </a:tabLst>
              </a:pPr>
              <a:r>
                <a:rPr b="1" lang="ro-RO" sz="1000" spc="-1" strike="noStrike">
                  <a:solidFill>
                    <a:srgbClr val="ffffff"/>
                  </a:solidFill>
                  <a:latin typeface="Arial"/>
                </a:rPr>
                <a:t>Procese </a:t>
              </a:r>
              <a:br>
                <a:rPr sz="1000"/>
              </a:br>
              <a:r>
                <a:rPr b="1" lang="ro-RO" sz="1000" spc="-1" strike="noStrike">
                  <a:solidFill>
                    <a:srgbClr val="ffffff"/>
                  </a:solidFill>
                  <a:latin typeface="Arial"/>
                </a:rPr>
                <a:t>şi Organiz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feld 68"/>
            <p:cNvSpPr/>
            <p:nvPr/>
          </p:nvSpPr>
          <p:spPr>
            <a:xfrm>
              <a:off x="8323200" y="1877760"/>
              <a:ext cx="8200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71640"/>
                  <a:tab algn="l" pos="1943280"/>
                  <a:tab algn="l" pos="2914560"/>
                  <a:tab algn="l" pos="3886200"/>
                  <a:tab algn="l" pos="4857840"/>
                  <a:tab algn="l" pos="5829480"/>
                  <a:tab algn="l" pos="6800760"/>
                  <a:tab algn="l" pos="7772400"/>
                  <a:tab algn="l" pos="8744040"/>
                  <a:tab algn="l" pos="9715680"/>
                  <a:tab algn="l" pos="10686960"/>
                </a:tabLst>
              </a:pPr>
              <a:r>
                <a:rPr b="1" lang="ro-RO" sz="1000" spc="-1" strike="noStrike">
                  <a:solidFill>
                    <a:srgbClr val="ffffff"/>
                  </a:solidFill>
                  <a:latin typeface="Arial"/>
                </a:rPr>
                <a:t>Controlling </a:t>
              </a:r>
              <a:br>
                <a:rPr sz="1000"/>
              </a:br>
              <a:r>
                <a:rPr b="1" lang="ro-RO" sz="1000" spc="-1" strike="noStrike">
                  <a:solidFill>
                    <a:srgbClr val="ffffff"/>
                  </a:solidFill>
                  <a:latin typeface="Arial"/>
                </a:rPr>
                <a:t>şi Finanţ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Pfeil nach links und rechts 286"/>
            <p:cNvSpPr/>
            <p:nvPr/>
          </p:nvSpPr>
          <p:spPr>
            <a:xfrm>
              <a:off x="5653440" y="2275920"/>
              <a:ext cx="3489840" cy="263520"/>
            </a:xfrm>
            <a:prstGeom prst="leftRightArrow">
              <a:avLst>
                <a:gd name="adj1" fmla="val 100000"/>
                <a:gd name="adj2" fmla="val 32863"/>
              </a:avLst>
            </a:prstGeom>
            <a:solidFill>
              <a:srgbClr val="eaeaea"/>
            </a:solidFill>
            <a:ln w="9360">
              <a:solidFill>
                <a:srgbClr val="3c58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0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Pfeil nach links und rechts 287"/>
            <p:cNvSpPr/>
            <p:nvPr/>
          </p:nvSpPr>
          <p:spPr>
            <a:xfrm>
              <a:off x="5653440" y="2634480"/>
              <a:ext cx="3489840" cy="263520"/>
            </a:xfrm>
            <a:prstGeom prst="leftRightArrow">
              <a:avLst>
                <a:gd name="adj1" fmla="val 100000"/>
                <a:gd name="adj2" fmla="val 32863"/>
              </a:avLst>
            </a:prstGeom>
            <a:solidFill>
              <a:srgbClr val="eaeaea"/>
            </a:solidFill>
            <a:ln w="9360">
              <a:solidFill>
                <a:srgbClr val="3c58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000" spc="-1" strike="noStrike">
                  <a:solidFill>
                    <a:srgbClr val="000000"/>
                  </a:solidFill>
                  <a:latin typeface="Arial"/>
                </a:rPr>
                <a:t>Implement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Pfeil nach links und rechts 288"/>
            <p:cNvSpPr/>
            <p:nvPr/>
          </p:nvSpPr>
          <p:spPr>
            <a:xfrm>
              <a:off x="5653440" y="2993040"/>
              <a:ext cx="3489840" cy="263520"/>
            </a:xfrm>
            <a:prstGeom prst="leftRightArrow">
              <a:avLst>
                <a:gd name="adj1" fmla="val 100000"/>
                <a:gd name="adj2" fmla="val 32863"/>
              </a:avLst>
            </a:prstGeom>
            <a:solidFill>
              <a:srgbClr val="eaeaea"/>
            </a:solidFill>
            <a:ln w="9360">
              <a:solidFill>
                <a:srgbClr val="3c58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000" spc="-1" strike="noStrike">
                  <a:solidFill>
                    <a:srgbClr val="000000"/>
                  </a:solidFill>
                  <a:latin typeface="Arial"/>
                </a:rPr>
                <a:t>Coaching  / Trai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19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platzhalter 61"/>
          <p:cNvSpPr/>
          <p:nvPr/>
        </p:nvSpPr>
        <p:spPr>
          <a:xfrm>
            <a:off x="5148360" y="5985000"/>
            <a:ext cx="4557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*Source: Die Hidden Champions: Study for the Raking of Consultancies by Prof. Dr. D. Fink, based on the responses of 249 top managers (500 points = very high), published in: Capital 06/200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1"/>
          <p:cNvSpPr/>
          <p:nvPr/>
        </p:nvSpPr>
        <p:spPr>
          <a:xfrm>
            <a:off x="291960" y="4840200"/>
            <a:ext cx="444672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irour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tenere î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ţ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and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ea Britan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e 2,000 de consultanţ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de birouri intenaţ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bază de clienţi din topul Fortune 500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zentând toate industriile şi servici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5599080" y="4330800"/>
            <a:ext cx="354168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s the financial &amp; economic crisis affecting energy investment? – Exemplu industria petrolie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ußzeilenplatzhalter 4"/>
          <p:cNvSpPr/>
          <p:nvPr/>
        </p:nvSpPr>
        <p:spPr>
          <a:xfrm>
            <a:off x="124380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liennummernplatzhalter 5"/>
          <p:cNvSpPr/>
          <p:nvPr/>
        </p:nvSpPr>
        <p:spPr>
          <a:xfrm>
            <a:off x="-1152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4CF3-963B-4C90-9FB0-A500E6E2294E}" type="slidenum">
              <a:rPr b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3"/>
          <p:cNvSpPr/>
          <p:nvPr/>
        </p:nvSpPr>
        <p:spPr>
          <a:xfrm>
            <a:off x="2514600" y="2178000"/>
            <a:ext cx="4873680" cy="3287880"/>
          </a:xfrm>
          <a:custGeom>
            <a:avLst/>
            <a:gdLst>
              <a:gd name="textAreaLeft" fmla="*/ 0 w 4873680"/>
              <a:gd name="textAreaRight" fmla="*/ 4874040 w 4873680"/>
              <a:gd name="textAreaTop" fmla="*/ 0 h 3287880"/>
              <a:gd name="textAreaBottom" fmla="*/ 3288240 h 3287880"/>
            </a:gdLst>
            <a:ahLst/>
            <a:rect l="textAreaLeft" t="textAreaTop" r="textAreaRight" b="textAreaBottom"/>
            <a:pathLst>
              <a:path w="1841" h="2071">
                <a:moveTo>
                  <a:pt x="9" y="0"/>
                </a:moveTo>
                <a:lnTo>
                  <a:pt x="460" y="1043"/>
                </a:lnTo>
                <a:lnTo>
                  <a:pt x="0" y="2071"/>
                </a:lnTo>
                <a:lnTo>
                  <a:pt x="1841" y="2071"/>
                </a:lnTo>
                <a:lnTo>
                  <a:pt x="1365" y="1043"/>
                </a:lnTo>
                <a:lnTo>
                  <a:pt x="1841" y="0"/>
                </a:lnTo>
                <a:lnTo>
                  <a:pt x="9" y="0"/>
                </a:lnTo>
                <a:close/>
              </a:path>
            </a:pathLst>
          </a:custGeom>
          <a:solidFill>
            <a:srgbClr val="3c58a1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3225960" y="2178000"/>
            <a:ext cx="368460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5"/>
          <p:cNvSpPr/>
          <p:nvPr/>
        </p:nvSpPr>
        <p:spPr>
          <a:xfrm flipH="1">
            <a:off x="6424560" y="2311560"/>
            <a:ext cx="2852640" cy="3019320"/>
          </a:xfrm>
          <a:prstGeom prst="rightArrow">
            <a:avLst>
              <a:gd name="adj1" fmla="val 73926"/>
              <a:gd name="adj2" fmla="val 39509"/>
            </a:avLst>
          </a:prstGeom>
          <a:solidFill>
            <a:srgbClr val="bcbcb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6"/>
          <p:cNvSpPr/>
          <p:nvPr/>
        </p:nvSpPr>
        <p:spPr>
          <a:xfrm>
            <a:off x="622440" y="2311560"/>
            <a:ext cx="2852640" cy="3019320"/>
          </a:xfrm>
          <a:prstGeom prst="rightArrow">
            <a:avLst>
              <a:gd name="adj1" fmla="val 73926"/>
              <a:gd name="adj2" fmla="val 39509"/>
            </a:avLst>
          </a:prstGeom>
          <a:solidFill>
            <a:srgbClr val="bcbcb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98480" y="3272040"/>
            <a:ext cx="2238480" cy="10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w energy prices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fecting company cash flows and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935760" y="3272040"/>
            <a:ext cx="2238480" cy="10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mited acces to capital impacts companies ability to start new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779640" y="2254680"/>
            <a:ext cx="2323800" cy="31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Upstream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utput reduction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lling unattractive assets to optimiz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Downstream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duction of production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maller refineries are put on sale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elay of major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ignificant number of large-scale projects have been delayed or cancelled under the pressure of deteriorating demand and pr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ußzeilenplatzhalter 2"/>
          <p:cNvSpPr/>
          <p:nvPr/>
        </p:nvSpPr>
        <p:spPr>
          <a:xfrm>
            <a:off x="124380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liennummernplatzhalter 3"/>
          <p:cNvSpPr/>
          <p:nvPr/>
        </p:nvSpPr>
        <p:spPr>
          <a:xfrm>
            <a:off x="-1152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98CF-D8A1-42E5-8E9D-01605A113554}" type="slidenum">
              <a:rPr b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3936960" y="2130480"/>
            <a:ext cx="5737320" cy="3301920"/>
          </a:xfrm>
          <a:prstGeom prst="rect">
            <a:avLst/>
          </a:prstGeom>
          <a:solidFill>
            <a:srgbClr val="bcbc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228600" y="1709640"/>
            <a:ext cx="4303800" cy="4145040"/>
          </a:xfrm>
          <a:custGeom>
            <a:avLst/>
            <a:gdLst>
              <a:gd name="textAreaLeft" fmla="*/ 0 w 4303800"/>
              <a:gd name="textAreaRight" fmla="*/ 4304160 w 4303800"/>
              <a:gd name="textAreaTop" fmla="*/ 0 h 4145040"/>
              <a:gd name="textAreaBottom" fmla="*/ 4145400 h 414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83" y="0"/>
                </a:lnTo>
                <a:lnTo>
                  <a:pt x="21600" y="10800"/>
                </a:lnTo>
                <a:lnTo>
                  <a:pt x="188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9600" y="1785960"/>
            <a:ext cx="350208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ak global economy (recession scenario) and limited access to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veral projects have been contracted at high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s are not profitable anymore given the low oil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action of global demand for refinery and petrochemical products drove prices sharply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t-up of large-scale new refineries (e.g Indi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37240" y="2557080"/>
            <a:ext cx="4749840" cy="27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nly in the period Jan – July 2009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pp. 40 of the largest 130 upstream projects have been cancel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om app.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60 refinery projects announced since 2005 only app. 30 currently continued (as of end of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inly state-owned oil companies from Asia (China) and Arabian countries continue their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Gerade Verbindung 14"/>
          <p:cNvSpPr/>
          <p:nvPr/>
        </p:nvSpPr>
        <p:spPr>
          <a:xfrm>
            <a:off x="237960" y="637380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228240" y="5729040"/>
            <a:ext cx="94489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r" pos="438120"/>
                <a:tab algn="l" pos="47628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PEC, FTD, Wood Mackenzie, H&amp;P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 sunt considerentele cheie pentru parteneriate cu firme strai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ußzeilenplatzhalter 4"/>
          <p:cNvSpPr/>
          <p:nvPr/>
        </p:nvSpPr>
        <p:spPr>
          <a:xfrm>
            <a:off x="124380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oliennummernplatzhalter 5"/>
          <p:cNvSpPr/>
          <p:nvPr/>
        </p:nvSpPr>
        <p:spPr>
          <a:xfrm>
            <a:off x="234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A54F-55F0-4FEA-B6F8-B4D34C991DA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2"/>
          <p:cNvSpPr/>
          <p:nvPr/>
        </p:nvSpPr>
        <p:spPr>
          <a:xfrm flipH="1" flipV="1">
            <a:off x="228240" y="4088520"/>
            <a:ext cx="4649760" cy="1924200"/>
          </a:xfrm>
          <a:custGeom>
            <a:avLst/>
            <a:gdLst>
              <a:gd name="textAreaLeft" fmla="*/ 360 w 4649760"/>
              <a:gd name="textAreaRight" fmla="*/ 4650480 w 4649760"/>
              <a:gd name="textAreaTop" fmla="*/ -360 h 1924200"/>
              <a:gd name="textAreaBottom" fmla="*/ 1924200 h 1924200"/>
            </a:gdLst>
            <a:ahLst/>
            <a:rect l="textAreaLeft" t="textAreaTop" r="textAreaRight" b="textAreaBottom"/>
            <a:pathLst>
              <a:path w="5125" h="1212">
                <a:moveTo>
                  <a:pt x="0" y="1212"/>
                </a:moveTo>
                <a:lnTo>
                  <a:pt x="729" y="0"/>
                </a:lnTo>
                <a:lnTo>
                  <a:pt x="5125" y="0"/>
                </a:lnTo>
                <a:lnTo>
                  <a:pt x="5125" y="529"/>
                </a:lnTo>
                <a:lnTo>
                  <a:pt x="858" y="529"/>
                </a:lnTo>
                <a:lnTo>
                  <a:pt x="0" y="1212"/>
                </a:lnTo>
                <a:close/>
              </a:path>
            </a:pathLst>
          </a:custGeom>
          <a:solidFill>
            <a:srgbClr val="bcbc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3"/>
          <p:cNvSpPr/>
          <p:nvPr/>
        </p:nvSpPr>
        <p:spPr>
          <a:xfrm flipH="1">
            <a:off x="228600" y="3075120"/>
            <a:ext cx="4433760" cy="842760"/>
          </a:xfrm>
          <a:custGeom>
            <a:avLst/>
            <a:gdLst>
              <a:gd name="textAreaLeft" fmla="*/ 360 w 4433760"/>
              <a:gd name="textAreaRight" fmla="*/ 4434480 w 443376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4982" h="531">
                <a:moveTo>
                  <a:pt x="744" y="1"/>
                </a:moveTo>
                <a:lnTo>
                  <a:pt x="4982" y="0"/>
                </a:lnTo>
                <a:lnTo>
                  <a:pt x="4982" y="529"/>
                </a:lnTo>
                <a:lnTo>
                  <a:pt x="0" y="531"/>
                </a:lnTo>
                <a:lnTo>
                  <a:pt x="744" y="1"/>
                </a:lnTo>
                <a:close/>
              </a:path>
            </a:pathLst>
          </a:custGeom>
          <a:solidFill>
            <a:srgbClr val="bcbc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4"/>
          <p:cNvSpPr/>
          <p:nvPr/>
        </p:nvSpPr>
        <p:spPr>
          <a:xfrm>
            <a:off x="223920" y="4122720"/>
            <a:ext cx="4443480" cy="846000"/>
          </a:xfrm>
          <a:custGeom>
            <a:avLst/>
            <a:gdLst>
              <a:gd name="textAreaLeft" fmla="*/ 0 w 4443480"/>
              <a:gd name="textAreaRight" fmla="*/ 4443840 w 44434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799" h="533">
                <a:moveTo>
                  <a:pt x="2381" y="532"/>
                </a:moveTo>
                <a:lnTo>
                  <a:pt x="3" y="533"/>
                </a:lnTo>
                <a:lnTo>
                  <a:pt x="0" y="0"/>
                </a:lnTo>
                <a:lnTo>
                  <a:pt x="2799" y="2"/>
                </a:lnTo>
                <a:lnTo>
                  <a:pt x="2381" y="532"/>
                </a:lnTo>
                <a:close/>
              </a:path>
            </a:pathLst>
          </a:custGeom>
          <a:solidFill>
            <a:srgbClr val="bcbc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5"/>
          <p:cNvSpPr/>
          <p:nvPr/>
        </p:nvSpPr>
        <p:spPr>
          <a:xfrm flipH="1">
            <a:off x="228600" y="2025720"/>
            <a:ext cx="4649760" cy="1923840"/>
          </a:xfrm>
          <a:custGeom>
            <a:avLst/>
            <a:gdLst>
              <a:gd name="textAreaLeft" fmla="*/ 360 w 4649760"/>
              <a:gd name="textAreaRight" fmla="*/ 4650480 w 464976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w="5125" h="1212">
                <a:moveTo>
                  <a:pt x="0" y="1212"/>
                </a:moveTo>
                <a:lnTo>
                  <a:pt x="729" y="0"/>
                </a:lnTo>
                <a:lnTo>
                  <a:pt x="5125" y="0"/>
                </a:lnTo>
                <a:lnTo>
                  <a:pt x="5125" y="529"/>
                </a:lnTo>
                <a:lnTo>
                  <a:pt x="858" y="529"/>
                </a:lnTo>
                <a:lnTo>
                  <a:pt x="0" y="1212"/>
                </a:lnTo>
                <a:close/>
              </a:path>
            </a:pathLst>
          </a:custGeom>
          <a:solidFill>
            <a:srgbClr val="bcbc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11"/>
          <p:cNvSpPr/>
          <p:nvPr/>
        </p:nvSpPr>
        <p:spPr>
          <a:xfrm>
            <a:off x="5243400" y="3075120"/>
            <a:ext cx="4434120" cy="842760"/>
          </a:xfrm>
          <a:custGeom>
            <a:avLst/>
            <a:gdLst>
              <a:gd name="textAreaLeft" fmla="*/ 0 w 4434120"/>
              <a:gd name="textAreaRight" fmla="*/ 4434120 w 443412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4982" h="531">
                <a:moveTo>
                  <a:pt x="744" y="1"/>
                </a:moveTo>
                <a:lnTo>
                  <a:pt x="4982" y="0"/>
                </a:lnTo>
                <a:lnTo>
                  <a:pt x="4982" y="529"/>
                </a:lnTo>
                <a:lnTo>
                  <a:pt x="0" y="531"/>
                </a:lnTo>
                <a:lnTo>
                  <a:pt x="744" y="1"/>
                </a:lnTo>
                <a:close/>
              </a:path>
            </a:pathLst>
          </a:custGeom>
          <a:solidFill>
            <a:srgbClr val="bcbc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12"/>
          <p:cNvSpPr/>
          <p:nvPr/>
        </p:nvSpPr>
        <p:spPr>
          <a:xfrm>
            <a:off x="5238720" y="4122720"/>
            <a:ext cx="4437000" cy="847800"/>
          </a:xfrm>
          <a:custGeom>
            <a:avLst/>
            <a:gdLst>
              <a:gd name="textAreaLeft" fmla="*/ 0 w 4437000"/>
              <a:gd name="textAreaRight" fmla="*/ 4437360 w 443700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795" h="534">
                <a:moveTo>
                  <a:pt x="418" y="532"/>
                </a:moveTo>
                <a:lnTo>
                  <a:pt x="2795" y="534"/>
                </a:lnTo>
                <a:lnTo>
                  <a:pt x="2795" y="0"/>
                </a:lnTo>
                <a:lnTo>
                  <a:pt x="0" y="2"/>
                </a:lnTo>
                <a:lnTo>
                  <a:pt x="418" y="532"/>
                </a:lnTo>
                <a:close/>
              </a:path>
            </a:pathLst>
          </a:custGeom>
          <a:solidFill>
            <a:srgbClr val="bcbc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13"/>
          <p:cNvSpPr/>
          <p:nvPr/>
        </p:nvSpPr>
        <p:spPr>
          <a:xfrm>
            <a:off x="5027760" y="2025720"/>
            <a:ext cx="4649760" cy="1923840"/>
          </a:xfrm>
          <a:custGeom>
            <a:avLst/>
            <a:gdLst>
              <a:gd name="textAreaLeft" fmla="*/ 0 w 4649760"/>
              <a:gd name="textAreaRight" fmla="*/ 4650120 w 464976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w="5125" h="1212">
                <a:moveTo>
                  <a:pt x="0" y="1212"/>
                </a:moveTo>
                <a:lnTo>
                  <a:pt x="729" y="0"/>
                </a:lnTo>
                <a:lnTo>
                  <a:pt x="5125" y="0"/>
                </a:lnTo>
                <a:lnTo>
                  <a:pt x="5125" y="529"/>
                </a:lnTo>
                <a:lnTo>
                  <a:pt x="858" y="529"/>
                </a:lnTo>
                <a:lnTo>
                  <a:pt x="0" y="1212"/>
                </a:lnTo>
                <a:close/>
              </a:path>
            </a:pathLst>
          </a:custGeom>
          <a:solidFill>
            <a:srgbClr val="bcbc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17"/>
          <p:cNvSpPr/>
          <p:nvPr/>
        </p:nvSpPr>
        <p:spPr>
          <a:xfrm flipV="1">
            <a:off x="5027760" y="4088520"/>
            <a:ext cx="4649760" cy="1924200"/>
          </a:xfrm>
          <a:custGeom>
            <a:avLst/>
            <a:gdLst>
              <a:gd name="textAreaLeft" fmla="*/ 0 w 4649760"/>
              <a:gd name="textAreaRight" fmla="*/ 4650120 w 4649760"/>
              <a:gd name="textAreaTop" fmla="*/ -360 h 1924200"/>
              <a:gd name="textAreaBottom" fmla="*/ 1924200 h 1924200"/>
            </a:gdLst>
            <a:ahLst/>
            <a:rect l="textAreaLeft" t="textAreaTop" r="textAreaRight" b="textAreaBottom"/>
            <a:pathLst>
              <a:path w="5125" h="1212">
                <a:moveTo>
                  <a:pt x="0" y="1212"/>
                </a:moveTo>
                <a:lnTo>
                  <a:pt x="729" y="0"/>
                </a:lnTo>
                <a:lnTo>
                  <a:pt x="5125" y="0"/>
                </a:lnTo>
                <a:lnTo>
                  <a:pt x="5125" y="529"/>
                </a:lnTo>
                <a:lnTo>
                  <a:pt x="858" y="529"/>
                </a:lnTo>
                <a:lnTo>
                  <a:pt x="0" y="1212"/>
                </a:lnTo>
                <a:close/>
              </a:path>
            </a:pathLst>
          </a:custGeom>
          <a:solidFill>
            <a:srgbClr val="bcbc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9"/>
          <p:cNvSpPr/>
          <p:nvPr/>
        </p:nvSpPr>
        <p:spPr>
          <a:xfrm>
            <a:off x="3914640" y="3236760"/>
            <a:ext cx="2076480" cy="1565280"/>
          </a:xfrm>
          <a:prstGeom prst="ellipse">
            <a:avLst/>
          </a:prstGeom>
          <a:solidFill>
            <a:srgbClr val="3c58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52080" y="2311200"/>
            <a:ext cx="37242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strength of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52080" y="3363480"/>
            <a:ext cx="37242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52080" y="4379760"/>
            <a:ext cx="37242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ory / busines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352080" y="5429160"/>
            <a:ext cx="37242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strategy for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6114600" y="2311200"/>
            <a:ext cx="3429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e Governanc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114600" y="3223800"/>
            <a:ext cx="342900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leverage / public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8"/>
          <p:cNvSpPr>
            <a:spLocks noGrp="1"/>
          </p:cNvSpPr>
          <p:nvPr>
            <p:ph/>
          </p:nvPr>
        </p:nvSpPr>
        <p:spPr>
          <a:xfrm>
            <a:off x="6114600" y="4239720"/>
            <a:ext cx="342900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o resources /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9"/>
          <p:cNvSpPr>
            <a:spLocks noGrp="1"/>
          </p:cNvSpPr>
          <p:nvPr>
            <p:ph/>
          </p:nvPr>
        </p:nvSpPr>
        <p:spPr>
          <a:xfrm>
            <a:off x="6114600" y="5290920"/>
            <a:ext cx="342900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exit / buy-out arrang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2"/>
          <p:cNvSpPr/>
          <p:nvPr/>
        </p:nvSpPr>
        <p:spPr>
          <a:xfrm>
            <a:off x="4108320" y="3825720"/>
            <a:ext cx="16891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partnership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Horváth &amp; Partners sprijină principalii jucători din industria energetică atât în România cât şi la nivel internaţi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liennummernplatzhalter 3"/>
          <p:cNvSpPr/>
          <p:nvPr/>
        </p:nvSpPr>
        <p:spPr>
          <a:xfrm>
            <a:off x="-36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970C-EB8A-42AF-86F8-2E0D4DC0184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9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hteck 7"/>
          <p:cNvSpPr/>
          <p:nvPr/>
        </p:nvSpPr>
        <p:spPr>
          <a:xfrm>
            <a:off x="200160" y="1341360"/>
            <a:ext cx="4538520" cy="590760"/>
          </a:xfrm>
          <a:prstGeom prst="rect">
            <a:avLst/>
          </a:prstGeom>
          <a:solidFill>
            <a:srgbClr val="3c58a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Selecţie clienţi în sectorul energ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hteck 7"/>
          <p:cNvSpPr/>
          <p:nvPr/>
        </p:nvSpPr>
        <p:spPr>
          <a:xfrm>
            <a:off x="200160" y="1932120"/>
            <a:ext cx="4538520" cy="4240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lvl="1" marL="181080" indent="-181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eck 7"/>
          <p:cNvSpPr/>
          <p:nvPr/>
        </p:nvSpPr>
        <p:spPr>
          <a:xfrm>
            <a:off x="5148360" y="1341360"/>
            <a:ext cx="4538520" cy="590760"/>
          </a:xfrm>
          <a:prstGeom prst="rect">
            <a:avLst/>
          </a:prstGeom>
          <a:solidFill>
            <a:srgbClr val="3c58a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Selecţie clienţi in sectorul Petrol &amp; G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eck 7"/>
          <p:cNvSpPr/>
          <p:nvPr/>
        </p:nvSpPr>
        <p:spPr>
          <a:xfrm>
            <a:off x="5148360" y="1932120"/>
            <a:ext cx="4538520" cy="4240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lvl="1" marL="181080" indent="-181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2" descr="D:\Eigene Dateien\Axel Borcherding\Weitere Aufgaben\Firmenlogos\Logo AMI.jpg"/>
          <p:cNvPicPr/>
          <p:nvPr/>
        </p:nvPicPr>
        <p:blipFill>
          <a:blip r:embed="rId1"/>
          <a:stretch/>
        </p:blipFill>
        <p:spPr>
          <a:xfrm>
            <a:off x="7915320" y="2627280"/>
            <a:ext cx="1428840" cy="604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D:\Horapps\Desktop\f2_logo.gif"/>
          <p:cNvPicPr/>
          <p:nvPr/>
        </p:nvPicPr>
        <p:blipFill>
          <a:blip r:embed="rId2"/>
          <a:stretch/>
        </p:blipFill>
        <p:spPr>
          <a:xfrm>
            <a:off x="6810480" y="3287880"/>
            <a:ext cx="847800" cy="847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2" descr="D:\Eigene Dateien\Axel Borcherding\Weitere Aufgaben\Firmenlogos\Logo Henkel neu.jpg"/>
          <p:cNvPicPr/>
          <p:nvPr/>
        </p:nvPicPr>
        <p:blipFill>
          <a:blip r:embed="rId3"/>
          <a:srcRect l="23331" t="0" r="22676" b="47156"/>
          <a:stretch/>
        </p:blipFill>
        <p:spPr>
          <a:xfrm>
            <a:off x="8369280" y="4529160"/>
            <a:ext cx="974880" cy="666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2" descr="A:\OMV.TIF"/>
          <p:cNvPicPr/>
          <p:nvPr/>
        </p:nvPicPr>
        <p:blipFill>
          <a:blip r:embed="rId4"/>
          <a:stretch/>
        </p:blipFill>
        <p:spPr>
          <a:xfrm>
            <a:off x="6610320" y="1947960"/>
            <a:ext cx="1171440" cy="758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0" descr="SIGLA"/>
          <p:cNvPicPr/>
          <p:nvPr/>
        </p:nvPicPr>
        <p:blipFill>
          <a:blip r:embed="rId5"/>
          <a:stretch/>
        </p:blipFill>
        <p:spPr>
          <a:xfrm>
            <a:off x="6867360" y="4378320"/>
            <a:ext cx="1047960" cy="695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2" descr=""/>
          <p:cNvPicPr/>
          <p:nvPr/>
        </p:nvPicPr>
        <p:blipFill>
          <a:blip r:embed="rId6"/>
          <a:srcRect l="82873" t="0" r="0" b="0"/>
          <a:stretch/>
        </p:blipFill>
        <p:spPr>
          <a:xfrm>
            <a:off x="8523360" y="5278320"/>
            <a:ext cx="1144440" cy="8398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0" descr=""/>
          <p:cNvPicPr/>
          <p:nvPr/>
        </p:nvPicPr>
        <p:blipFill>
          <a:blip r:embed="rId7"/>
          <a:stretch/>
        </p:blipFill>
        <p:spPr>
          <a:xfrm>
            <a:off x="5405400" y="5373720"/>
            <a:ext cx="1095480" cy="53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4" descr="molgreleje"/>
          <p:cNvPicPr/>
          <p:nvPr/>
        </p:nvPicPr>
        <p:blipFill>
          <a:blip r:embed="rId8"/>
          <a:srcRect l="17146" t="42659" r="17146" b="8885"/>
          <a:stretch/>
        </p:blipFill>
        <p:spPr>
          <a:xfrm>
            <a:off x="6810480" y="5303880"/>
            <a:ext cx="1481040" cy="779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"/>
          <p:cNvPicPr/>
          <p:nvPr/>
        </p:nvPicPr>
        <p:blipFill>
          <a:blip r:embed="rId9"/>
          <a:stretch/>
        </p:blipFill>
        <p:spPr>
          <a:xfrm>
            <a:off x="5253120" y="3427560"/>
            <a:ext cx="1357200" cy="5173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"/>
          <p:cNvPicPr/>
          <p:nvPr/>
        </p:nvPicPr>
        <p:blipFill>
          <a:blip r:embed="rId10"/>
          <a:srcRect l="0" t="0" r="82612" b="0"/>
          <a:stretch/>
        </p:blipFill>
        <p:spPr>
          <a:xfrm>
            <a:off x="5565600" y="1979640"/>
            <a:ext cx="866880" cy="7747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1" descr=""/>
          <p:cNvPicPr/>
          <p:nvPr/>
        </p:nvPicPr>
        <p:blipFill>
          <a:blip r:embed="rId11"/>
          <a:stretch/>
        </p:blipFill>
        <p:spPr>
          <a:xfrm>
            <a:off x="7896240" y="1971720"/>
            <a:ext cx="1771560" cy="461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D:\Eigene Dateien\Axel Borcherding\Weitere Aufgaben\Firmenlogos\Logo degussa.jpg"/>
          <p:cNvPicPr/>
          <p:nvPr/>
        </p:nvPicPr>
        <p:blipFill>
          <a:blip r:embed="rId12"/>
          <a:srcRect l="40816" t="13516" r="0" b="39047"/>
          <a:stretch/>
        </p:blipFill>
        <p:spPr>
          <a:xfrm>
            <a:off x="5330880" y="2771640"/>
            <a:ext cx="1765080" cy="5162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G:\30286 Wintershall\Corporate Design\Neue WIAG Logos\Wintershall-Logo-RGB, 25.03.04\WH Gruppe.eps\WHGruppe RGB neg Outl.gif"/>
          <p:cNvPicPr/>
          <p:nvPr/>
        </p:nvPicPr>
        <p:blipFill>
          <a:blip r:embed="rId13"/>
          <a:stretch/>
        </p:blipFill>
        <p:spPr>
          <a:xfrm>
            <a:off x="5405400" y="4378320"/>
            <a:ext cx="1104840" cy="717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BVI02 RGB GIF"/>
          <p:cNvPicPr/>
          <p:nvPr/>
        </p:nvPicPr>
        <p:blipFill>
          <a:blip r:embed="rId14"/>
          <a:stretch/>
        </p:blipFill>
        <p:spPr>
          <a:xfrm>
            <a:off x="8291520" y="3427560"/>
            <a:ext cx="777960" cy="7236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15"/>
          <a:stretch/>
        </p:blipFill>
        <p:spPr>
          <a:xfrm>
            <a:off x="2751120" y="3003480"/>
            <a:ext cx="1467000" cy="816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http://www.eon.de/onlineres/start/graphic/icon_index_logo_eon.gif"/>
          <p:cNvPicPr/>
          <p:nvPr/>
        </p:nvPicPr>
        <p:blipFill>
          <a:blip r:embed="rId16"/>
          <a:stretch/>
        </p:blipFill>
        <p:spPr>
          <a:xfrm>
            <a:off x="380880" y="2109960"/>
            <a:ext cx="1689120" cy="422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5" descr="PowerServer A - L:Jobs A - L:EnBW:Realisierung:115_4_2 PPT/internet_HV :115_4_2_ppt_titel_folien_HV:"/>
          <p:cNvPicPr/>
          <p:nvPr/>
        </p:nvPicPr>
        <p:blipFill>
          <a:blip r:embed="rId17"/>
          <a:stretch/>
        </p:blipFill>
        <p:spPr>
          <a:xfrm>
            <a:off x="380880" y="2706840"/>
            <a:ext cx="1738440" cy="296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6" descr=""/>
          <p:cNvPicPr/>
          <p:nvPr/>
        </p:nvPicPr>
        <p:blipFill>
          <a:blip r:embed="rId18"/>
          <a:stretch/>
        </p:blipFill>
        <p:spPr>
          <a:xfrm>
            <a:off x="380880" y="4443480"/>
            <a:ext cx="1200240" cy="4982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8" descr=""/>
          <p:cNvPicPr/>
          <p:nvPr/>
        </p:nvPicPr>
        <p:blipFill>
          <a:blip r:embed="rId19"/>
          <a:stretch/>
        </p:blipFill>
        <p:spPr>
          <a:xfrm>
            <a:off x="2627280" y="1971720"/>
            <a:ext cx="1968480" cy="4618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"/>
          <p:cNvPicPr/>
          <p:nvPr/>
        </p:nvPicPr>
        <p:blipFill>
          <a:blip r:embed="rId20"/>
          <a:stretch/>
        </p:blipFill>
        <p:spPr>
          <a:xfrm>
            <a:off x="2627280" y="2532240"/>
            <a:ext cx="1676520" cy="269640"/>
          </a:xfrm>
          <a:prstGeom prst="rect">
            <a:avLst/>
          </a:prstGeom>
          <a:ln w="0">
            <a:noFill/>
          </a:ln>
        </p:spPr>
      </p:pic>
      <p:grpSp>
        <p:nvGrpSpPr>
          <p:cNvPr id="425" name="Group 26"/>
          <p:cNvGrpSpPr/>
          <p:nvPr/>
        </p:nvGrpSpPr>
        <p:grpSpPr>
          <a:xfrm>
            <a:off x="3206880" y="3886200"/>
            <a:ext cx="1218960" cy="304560"/>
            <a:chOff x="3206880" y="3886200"/>
            <a:chExt cx="1218960" cy="304560"/>
          </a:xfrm>
        </p:grpSpPr>
        <p:sp>
          <p:nvSpPr>
            <p:cNvPr id="426" name="Freeform 27"/>
            <p:cNvSpPr/>
            <p:nvPr/>
          </p:nvSpPr>
          <p:spPr>
            <a:xfrm>
              <a:off x="3277080" y="3944160"/>
              <a:ext cx="268920" cy="244440"/>
            </a:xfrm>
            <a:custGeom>
              <a:avLst/>
              <a:gdLst>
                <a:gd name="textAreaLeft" fmla="*/ 0 w 268920"/>
                <a:gd name="textAreaRight" fmla="*/ 269280 w 2689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203" h="201">
                  <a:moveTo>
                    <a:pt x="0" y="24"/>
                  </a:moveTo>
                  <a:lnTo>
                    <a:pt x="13" y="14"/>
                  </a:lnTo>
                  <a:lnTo>
                    <a:pt x="27" y="0"/>
                  </a:lnTo>
                  <a:lnTo>
                    <a:pt x="203" y="0"/>
                  </a:lnTo>
                  <a:lnTo>
                    <a:pt x="203" y="201"/>
                  </a:lnTo>
                  <a:lnTo>
                    <a:pt x="0" y="20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8"/>
            <p:cNvSpPr/>
            <p:nvPr/>
          </p:nvSpPr>
          <p:spPr>
            <a:xfrm>
              <a:off x="3206880" y="3886200"/>
              <a:ext cx="339480" cy="27684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256" h="228">
                  <a:moveTo>
                    <a:pt x="72" y="0"/>
                  </a:moveTo>
                  <a:lnTo>
                    <a:pt x="0" y="148"/>
                  </a:lnTo>
                  <a:lnTo>
                    <a:pt x="11" y="160"/>
                  </a:lnTo>
                  <a:lnTo>
                    <a:pt x="22" y="172"/>
                  </a:lnTo>
                  <a:lnTo>
                    <a:pt x="35" y="182"/>
                  </a:lnTo>
                  <a:lnTo>
                    <a:pt x="41" y="187"/>
                  </a:lnTo>
                  <a:lnTo>
                    <a:pt x="49" y="193"/>
                  </a:lnTo>
                  <a:lnTo>
                    <a:pt x="55" y="198"/>
                  </a:lnTo>
                  <a:lnTo>
                    <a:pt x="62" y="202"/>
                  </a:lnTo>
                  <a:lnTo>
                    <a:pt x="78" y="211"/>
                  </a:lnTo>
                  <a:lnTo>
                    <a:pt x="87" y="214"/>
                  </a:lnTo>
                  <a:lnTo>
                    <a:pt x="95" y="218"/>
                  </a:lnTo>
                  <a:lnTo>
                    <a:pt x="104" y="220"/>
                  </a:lnTo>
                  <a:lnTo>
                    <a:pt x="108" y="222"/>
                  </a:lnTo>
                  <a:lnTo>
                    <a:pt x="112" y="223"/>
                  </a:lnTo>
                  <a:lnTo>
                    <a:pt x="123" y="225"/>
                  </a:lnTo>
                  <a:lnTo>
                    <a:pt x="132" y="227"/>
                  </a:lnTo>
                  <a:lnTo>
                    <a:pt x="142" y="228"/>
                  </a:lnTo>
                  <a:lnTo>
                    <a:pt x="151" y="228"/>
                  </a:lnTo>
                  <a:lnTo>
                    <a:pt x="160" y="228"/>
                  </a:lnTo>
                  <a:lnTo>
                    <a:pt x="167" y="227"/>
                  </a:lnTo>
                  <a:lnTo>
                    <a:pt x="176" y="224"/>
                  </a:lnTo>
                  <a:lnTo>
                    <a:pt x="182" y="222"/>
                  </a:lnTo>
                  <a:lnTo>
                    <a:pt x="196" y="217"/>
                  </a:lnTo>
                  <a:lnTo>
                    <a:pt x="202" y="214"/>
                  </a:lnTo>
                  <a:lnTo>
                    <a:pt x="207" y="211"/>
                  </a:lnTo>
                  <a:lnTo>
                    <a:pt x="213" y="206"/>
                  </a:lnTo>
                  <a:lnTo>
                    <a:pt x="218" y="202"/>
                  </a:lnTo>
                  <a:lnTo>
                    <a:pt x="222" y="198"/>
                  </a:lnTo>
                  <a:lnTo>
                    <a:pt x="226" y="194"/>
                  </a:lnTo>
                  <a:lnTo>
                    <a:pt x="234" y="185"/>
                  </a:lnTo>
                  <a:lnTo>
                    <a:pt x="240" y="177"/>
                  </a:lnTo>
                  <a:lnTo>
                    <a:pt x="245" y="168"/>
                  </a:lnTo>
                  <a:lnTo>
                    <a:pt x="250" y="160"/>
                  </a:lnTo>
                  <a:lnTo>
                    <a:pt x="253" y="154"/>
                  </a:lnTo>
                  <a:lnTo>
                    <a:pt x="254" y="148"/>
                  </a:lnTo>
                  <a:lnTo>
                    <a:pt x="256" y="144"/>
                  </a:lnTo>
                  <a:lnTo>
                    <a:pt x="256" y="85"/>
                  </a:lnTo>
                  <a:lnTo>
                    <a:pt x="255" y="88"/>
                  </a:lnTo>
                  <a:lnTo>
                    <a:pt x="253" y="94"/>
                  </a:lnTo>
                  <a:lnTo>
                    <a:pt x="251" y="99"/>
                  </a:lnTo>
                  <a:lnTo>
                    <a:pt x="249" y="104"/>
                  </a:lnTo>
                  <a:lnTo>
                    <a:pt x="244" y="108"/>
                  </a:lnTo>
                  <a:lnTo>
                    <a:pt x="241" y="113"/>
                  </a:lnTo>
                  <a:lnTo>
                    <a:pt x="239" y="116"/>
                  </a:lnTo>
                  <a:lnTo>
                    <a:pt x="236" y="118"/>
                  </a:lnTo>
                  <a:lnTo>
                    <a:pt x="234" y="120"/>
                  </a:lnTo>
                  <a:lnTo>
                    <a:pt x="231" y="122"/>
                  </a:lnTo>
                  <a:lnTo>
                    <a:pt x="224" y="125"/>
                  </a:lnTo>
                  <a:lnTo>
                    <a:pt x="217" y="128"/>
                  </a:lnTo>
                  <a:lnTo>
                    <a:pt x="213" y="128"/>
                  </a:lnTo>
                  <a:lnTo>
                    <a:pt x="208" y="129"/>
                  </a:lnTo>
                  <a:lnTo>
                    <a:pt x="199" y="129"/>
                  </a:lnTo>
                  <a:lnTo>
                    <a:pt x="194" y="129"/>
                  </a:lnTo>
                  <a:lnTo>
                    <a:pt x="188" y="128"/>
                  </a:lnTo>
                  <a:lnTo>
                    <a:pt x="177" y="125"/>
                  </a:lnTo>
                  <a:lnTo>
                    <a:pt x="167" y="121"/>
                  </a:lnTo>
                  <a:lnTo>
                    <a:pt x="159" y="116"/>
                  </a:lnTo>
                  <a:lnTo>
                    <a:pt x="149" y="110"/>
                  </a:lnTo>
                  <a:lnTo>
                    <a:pt x="145" y="106"/>
                  </a:lnTo>
                  <a:lnTo>
                    <a:pt x="141" y="103"/>
                  </a:lnTo>
                  <a:lnTo>
                    <a:pt x="136" y="99"/>
                  </a:lnTo>
                  <a:lnTo>
                    <a:pt x="133" y="95"/>
                  </a:lnTo>
                  <a:lnTo>
                    <a:pt x="125" y="86"/>
                  </a:lnTo>
                  <a:lnTo>
                    <a:pt x="117" y="77"/>
                  </a:lnTo>
                  <a:lnTo>
                    <a:pt x="111" y="68"/>
                  </a:lnTo>
                  <a:lnTo>
                    <a:pt x="98" y="49"/>
                  </a:lnTo>
                  <a:lnTo>
                    <a:pt x="87" y="31"/>
                  </a:lnTo>
                  <a:lnTo>
                    <a:pt x="78" y="1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9"/>
            <p:cNvSpPr/>
            <p:nvPr/>
          </p:nvSpPr>
          <p:spPr>
            <a:xfrm>
              <a:off x="3277080" y="3886200"/>
              <a:ext cx="268920" cy="176040"/>
            </a:xfrm>
            <a:custGeom>
              <a:avLst/>
              <a:gdLst>
                <a:gd name="textAreaLeft" fmla="*/ 0 w 268920"/>
                <a:gd name="textAreaRight" fmla="*/ 269280 w 26892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03" h="145">
                  <a:moveTo>
                    <a:pt x="0" y="40"/>
                  </a:moveTo>
                  <a:lnTo>
                    <a:pt x="7" y="53"/>
                  </a:lnTo>
                  <a:lnTo>
                    <a:pt x="18" y="68"/>
                  </a:lnTo>
                  <a:lnTo>
                    <a:pt x="30" y="84"/>
                  </a:lnTo>
                  <a:lnTo>
                    <a:pt x="36" y="91"/>
                  </a:lnTo>
                  <a:lnTo>
                    <a:pt x="43" y="99"/>
                  </a:lnTo>
                  <a:lnTo>
                    <a:pt x="51" y="106"/>
                  </a:lnTo>
                  <a:lnTo>
                    <a:pt x="59" y="113"/>
                  </a:lnTo>
                  <a:lnTo>
                    <a:pt x="68" y="120"/>
                  </a:lnTo>
                  <a:lnTo>
                    <a:pt x="77" y="126"/>
                  </a:lnTo>
                  <a:lnTo>
                    <a:pt x="87" y="131"/>
                  </a:lnTo>
                  <a:lnTo>
                    <a:pt x="97" y="137"/>
                  </a:lnTo>
                  <a:lnTo>
                    <a:pt x="108" y="140"/>
                  </a:lnTo>
                  <a:lnTo>
                    <a:pt x="118" y="143"/>
                  </a:lnTo>
                  <a:lnTo>
                    <a:pt x="125" y="144"/>
                  </a:lnTo>
                  <a:lnTo>
                    <a:pt x="130" y="145"/>
                  </a:lnTo>
                  <a:lnTo>
                    <a:pt x="136" y="145"/>
                  </a:lnTo>
                  <a:lnTo>
                    <a:pt x="142" y="145"/>
                  </a:lnTo>
                  <a:lnTo>
                    <a:pt x="151" y="144"/>
                  </a:lnTo>
                  <a:lnTo>
                    <a:pt x="155" y="143"/>
                  </a:lnTo>
                  <a:lnTo>
                    <a:pt x="160" y="142"/>
                  </a:lnTo>
                  <a:lnTo>
                    <a:pt x="168" y="139"/>
                  </a:lnTo>
                  <a:lnTo>
                    <a:pt x="174" y="135"/>
                  </a:lnTo>
                  <a:lnTo>
                    <a:pt x="181" y="129"/>
                  </a:lnTo>
                  <a:lnTo>
                    <a:pt x="186" y="125"/>
                  </a:lnTo>
                  <a:lnTo>
                    <a:pt x="190" y="120"/>
                  </a:lnTo>
                  <a:lnTo>
                    <a:pt x="193" y="114"/>
                  </a:lnTo>
                  <a:lnTo>
                    <a:pt x="199" y="105"/>
                  </a:lnTo>
                  <a:lnTo>
                    <a:pt x="202" y="98"/>
                  </a:lnTo>
                  <a:lnTo>
                    <a:pt x="203" y="94"/>
                  </a:lnTo>
                  <a:lnTo>
                    <a:pt x="203" y="85"/>
                  </a:lnTo>
                  <a:lnTo>
                    <a:pt x="202" y="88"/>
                  </a:lnTo>
                  <a:lnTo>
                    <a:pt x="200" y="94"/>
                  </a:lnTo>
                  <a:lnTo>
                    <a:pt x="198" y="99"/>
                  </a:lnTo>
                  <a:lnTo>
                    <a:pt x="196" y="104"/>
                  </a:lnTo>
                  <a:lnTo>
                    <a:pt x="191" y="108"/>
                  </a:lnTo>
                  <a:lnTo>
                    <a:pt x="188" y="113"/>
                  </a:lnTo>
                  <a:lnTo>
                    <a:pt x="186" y="116"/>
                  </a:lnTo>
                  <a:lnTo>
                    <a:pt x="183" y="118"/>
                  </a:lnTo>
                  <a:lnTo>
                    <a:pt x="181" y="120"/>
                  </a:lnTo>
                  <a:lnTo>
                    <a:pt x="178" y="122"/>
                  </a:lnTo>
                  <a:lnTo>
                    <a:pt x="171" y="125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5" y="129"/>
                  </a:lnTo>
                  <a:lnTo>
                    <a:pt x="146" y="129"/>
                  </a:lnTo>
                  <a:lnTo>
                    <a:pt x="141" y="129"/>
                  </a:lnTo>
                  <a:lnTo>
                    <a:pt x="135" y="128"/>
                  </a:lnTo>
                  <a:lnTo>
                    <a:pt x="124" y="125"/>
                  </a:lnTo>
                  <a:lnTo>
                    <a:pt x="114" y="121"/>
                  </a:lnTo>
                  <a:lnTo>
                    <a:pt x="106" y="116"/>
                  </a:lnTo>
                  <a:lnTo>
                    <a:pt x="96" y="110"/>
                  </a:lnTo>
                  <a:lnTo>
                    <a:pt x="92" y="106"/>
                  </a:lnTo>
                  <a:lnTo>
                    <a:pt x="88" y="103"/>
                  </a:lnTo>
                  <a:lnTo>
                    <a:pt x="83" y="99"/>
                  </a:lnTo>
                  <a:lnTo>
                    <a:pt x="80" y="95"/>
                  </a:lnTo>
                  <a:lnTo>
                    <a:pt x="72" y="86"/>
                  </a:lnTo>
                  <a:lnTo>
                    <a:pt x="64" y="77"/>
                  </a:lnTo>
                  <a:lnTo>
                    <a:pt x="58" y="68"/>
                  </a:lnTo>
                  <a:lnTo>
                    <a:pt x="45" y="49"/>
                  </a:lnTo>
                  <a:lnTo>
                    <a:pt x="34" y="31"/>
                  </a:lnTo>
                  <a:lnTo>
                    <a:pt x="25" y="14"/>
                  </a:lnTo>
                  <a:lnTo>
                    <a:pt x="19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86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0"/>
            <p:cNvSpPr/>
            <p:nvPr/>
          </p:nvSpPr>
          <p:spPr>
            <a:xfrm>
              <a:off x="3240000" y="3963960"/>
              <a:ext cx="306000" cy="14688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31" h="121">
                  <a:moveTo>
                    <a:pt x="0" y="32"/>
                  </a:moveTo>
                  <a:lnTo>
                    <a:pt x="12" y="46"/>
                  </a:lnTo>
                  <a:lnTo>
                    <a:pt x="25" y="61"/>
                  </a:lnTo>
                  <a:lnTo>
                    <a:pt x="31" y="68"/>
                  </a:lnTo>
                  <a:lnTo>
                    <a:pt x="39" y="75"/>
                  </a:lnTo>
                  <a:lnTo>
                    <a:pt x="46" y="82"/>
                  </a:lnTo>
                  <a:lnTo>
                    <a:pt x="54" y="89"/>
                  </a:lnTo>
                  <a:lnTo>
                    <a:pt x="63" y="95"/>
                  </a:lnTo>
                  <a:lnTo>
                    <a:pt x="71" y="100"/>
                  </a:lnTo>
                  <a:lnTo>
                    <a:pt x="80" y="105"/>
                  </a:lnTo>
                  <a:lnTo>
                    <a:pt x="89" y="110"/>
                  </a:lnTo>
                  <a:lnTo>
                    <a:pt x="99" y="114"/>
                  </a:lnTo>
                  <a:lnTo>
                    <a:pt x="109" y="117"/>
                  </a:lnTo>
                  <a:lnTo>
                    <a:pt x="119" y="119"/>
                  </a:lnTo>
                  <a:lnTo>
                    <a:pt x="129" y="121"/>
                  </a:lnTo>
                  <a:lnTo>
                    <a:pt x="138" y="121"/>
                  </a:lnTo>
                  <a:lnTo>
                    <a:pt x="145" y="121"/>
                  </a:lnTo>
                  <a:lnTo>
                    <a:pt x="152" y="121"/>
                  </a:lnTo>
                  <a:lnTo>
                    <a:pt x="159" y="120"/>
                  </a:lnTo>
                  <a:lnTo>
                    <a:pt x="165" y="119"/>
                  </a:lnTo>
                  <a:lnTo>
                    <a:pt x="171" y="118"/>
                  </a:lnTo>
                  <a:lnTo>
                    <a:pt x="177" y="116"/>
                  </a:lnTo>
                  <a:lnTo>
                    <a:pt x="182" y="114"/>
                  </a:lnTo>
                  <a:lnTo>
                    <a:pt x="192" y="109"/>
                  </a:lnTo>
                  <a:lnTo>
                    <a:pt x="196" y="106"/>
                  </a:lnTo>
                  <a:lnTo>
                    <a:pt x="199" y="103"/>
                  </a:lnTo>
                  <a:lnTo>
                    <a:pt x="207" y="97"/>
                  </a:lnTo>
                  <a:lnTo>
                    <a:pt x="213" y="91"/>
                  </a:lnTo>
                  <a:lnTo>
                    <a:pt x="217" y="83"/>
                  </a:lnTo>
                  <a:lnTo>
                    <a:pt x="221" y="77"/>
                  </a:lnTo>
                  <a:lnTo>
                    <a:pt x="225" y="71"/>
                  </a:lnTo>
                  <a:lnTo>
                    <a:pt x="228" y="65"/>
                  </a:lnTo>
                  <a:lnTo>
                    <a:pt x="230" y="56"/>
                  </a:lnTo>
                  <a:lnTo>
                    <a:pt x="231" y="53"/>
                  </a:lnTo>
                  <a:lnTo>
                    <a:pt x="231" y="42"/>
                  </a:lnTo>
                  <a:lnTo>
                    <a:pt x="230" y="44"/>
                  </a:lnTo>
                  <a:lnTo>
                    <a:pt x="227" y="53"/>
                  </a:lnTo>
                  <a:lnTo>
                    <a:pt x="225" y="57"/>
                  </a:lnTo>
                  <a:lnTo>
                    <a:pt x="221" y="63"/>
                  </a:lnTo>
                  <a:lnTo>
                    <a:pt x="218" y="68"/>
                  </a:lnTo>
                  <a:lnTo>
                    <a:pt x="213" y="75"/>
                  </a:lnTo>
                  <a:lnTo>
                    <a:pt x="208" y="80"/>
                  </a:lnTo>
                  <a:lnTo>
                    <a:pt x="200" y="85"/>
                  </a:lnTo>
                  <a:lnTo>
                    <a:pt x="197" y="89"/>
                  </a:lnTo>
                  <a:lnTo>
                    <a:pt x="193" y="91"/>
                  </a:lnTo>
                  <a:lnTo>
                    <a:pt x="183" y="95"/>
                  </a:lnTo>
                  <a:lnTo>
                    <a:pt x="179" y="96"/>
                  </a:lnTo>
                  <a:lnTo>
                    <a:pt x="174" y="98"/>
                  </a:lnTo>
                  <a:lnTo>
                    <a:pt x="168" y="99"/>
                  </a:lnTo>
                  <a:lnTo>
                    <a:pt x="162" y="100"/>
                  </a:lnTo>
                  <a:lnTo>
                    <a:pt x="156" y="100"/>
                  </a:lnTo>
                  <a:lnTo>
                    <a:pt x="150" y="100"/>
                  </a:lnTo>
                  <a:lnTo>
                    <a:pt x="142" y="100"/>
                  </a:lnTo>
                  <a:lnTo>
                    <a:pt x="135" y="99"/>
                  </a:lnTo>
                  <a:lnTo>
                    <a:pt x="125" y="97"/>
                  </a:lnTo>
                  <a:lnTo>
                    <a:pt x="117" y="94"/>
                  </a:lnTo>
                  <a:lnTo>
                    <a:pt x="107" y="91"/>
                  </a:lnTo>
                  <a:lnTo>
                    <a:pt x="99" y="86"/>
                  </a:lnTo>
                  <a:lnTo>
                    <a:pt x="90" y="81"/>
                  </a:lnTo>
                  <a:lnTo>
                    <a:pt x="82" y="75"/>
                  </a:lnTo>
                  <a:lnTo>
                    <a:pt x="74" y="68"/>
                  </a:lnTo>
                  <a:lnTo>
                    <a:pt x="66" y="61"/>
                  </a:lnTo>
                  <a:lnTo>
                    <a:pt x="59" y="54"/>
                  </a:lnTo>
                  <a:lnTo>
                    <a:pt x="51" y="46"/>
                  </a:lnTo>
                  <a:lnTo>
                    <a:pt x="45" y="39"/>
                  </a:lnTo>
                  <a:lnTo>
                    <a:pt x="39" y="30"/>
                  </a:lnTo>
                  <a:lnTo>
                    <a:pt x="27" y="14"/>
                  </a:lnTo>
                  <a:lnTo>
                    <a:pt x="1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86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3206880" y="4029480"/>
              <a:ext cx="339480" cy="13356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256" h="110">
                  <a:moveTo>
                    <a:pt x="0" y="30"/>
                  </a:moveTo>
                  <a:lnTo>
                    <a:pt x="11" y="42"/>
                  </a:lnTo>
                  <a:lnTo>
                    <a:pt x="22" y="54"/>
                  </a:lnTo>
                  <a:lnTo>
                    <a:pt x="35" y="64"/>
                  </a:lnTo>
                  <a:lnTo>
                    <a:pt x="41" y="69"/>
                  </a:lnTo>
                  <a:lnTo>
                    <a:pt x="49" y="75"/>
                  </a:lnTo>
                  <a:lnTo>
                    <a:pt x="55" y="80"/>
                  </a:lnTo>
                  <a:lnTo>
                    <a:pt x="62" y="84"/>
                  </a:lnTo>
                  <a:lnTo>
                    <a:pt x="78" y="93"/>
                  </a:lnTo>
                  <a:lnTo>
                    <a:pt x="87" y="96"/>
                  </a:lnTo>
                  <a:lnTo>
                    <a:pt x="95" y="100"/>
                  </a:lnTo>
                  <a:lnTo>
                    <a:pt x="104" y="102"/>
                  </a:lnTo>
                  <a:lnTo>
                    <a:pt x="108" y="104"/>
                  </a:lnTo>
                  <a:lnTo>
                    <a:pt x="112" y="105"/>
                  </a:lnTo>
                  <a:lnTo>
                    <a:pt x="123" y="107"/>
                  </a:lnTo>
                  <a:lnTo>
                    <a:pt x="132" y="109"/>
                  </a:lnTo>
                  <a:lnTo>
                    <a:pt x="142" y="110"/>
                  </a:lnTo>
                  <a:lnTo>
                    <a:pt x="151" y="110"/>
                  </a:lnTo>
                  <a:lnTo>
                    <a:pt x="160" y="110"/>
                  </a:lnTo>
                  <a:lnTo>
                    <a:pt x="167" y="109"/>
                  </a:lnTo>
                  <a:lnTo>
                    <a:pt x="176" y="106"/>
                  </a:lnTo>
                  <a:lnTo>
                    <a:pt x="182" y="104"/>
                  </a:lnTo>
                  <a:lnTo>
                    <a:pt x="196" y="99"/>
                  </a:lnTo>
                  <a:lnTo>
                    <a:pt x="202" y="96"/>
                  </a:lnTo>
                  <a:lnTo>
                    <a:pt x="207" y="93"/>
                  </a:lnTo>
                  <a:lnTo>
                    <a:pt x="213" y="88"/>
                  </a:lnTo>
                  <a:lnTo>
                    <a:pt x="218" y="84"/>
                  </a:lnTo>
                  <a:lnTo>
                    <a:pt x="222" y="80"/>
                  </a:lnTo>
                  <a:lnTo>
                    <a:pt x="226" y="76"/>
                  </a:lnTo>
                  <a:lnTo>
                    <a:pt x="234" y="67"/>
                  </a:lnTo>
                  <a:lnTo>
                    <a:pt x="240" y="59"/>
                  </a:lnTo>
                  <a:lnTo>
                    <a:pt x="245" y="50"/>
                  </a:lnTo>
                  <a:lnTo>
                    <a:pt x="250" y="42"/>
                  </a:lnTo>
                  <a:lnTo>
                    <a:pt x="253" y="36"/>
                  </a:lnTo>
                  <a:lnTo>
                    <a:pt x="254" y="30"/>
                  </a:lnTo>
                  <a:lnTo>
                    <a:pt x="256" y="26"/>
                  </a:lnTo>
                  <a:lnTo>
                    <a:pt x="256" y="15"/>
                  </a:lnTo>
                  <a:lnTo>
                    <a:pt x="255" y="20"/>
                  </a:lnTo>
                  <a:lnTo>
                    <a:pt x="250" y="30"/>
                  </a:lnTo>
                  <a:lnTo>
                    <a:pt x="245" y="37"/>
                  </a:lnTo>
                  <a:lnTo>
                    <a:pt x="241" y="44"/>
                  </a:lnTo>
                  <a:lnTo>
                    <a:pt x="235" y="51"/>
                  </a:lnTo>
                  <a:lnTo>
                    <a:pt x="227" y="59"/>
                  </a:lnTo>
                  <a:lnTo>
                    <a:pt x="223" y="63"/>
                  </a:lnTo>
                  <a:lnTo>
                    <a:pt x="219" y="66"/>
                  </a:lnTo>
                  <a:lnTo>
                    <a:pt x="215" y="69"/>
                  </a:lnTo>
                  <a:lnTo>
                    <a:pt x="209" y="73"/>
                  </a:lnTo>
                  <a:lnTo>
                    <a:pt x="204" y="76"/>
                  </a:lnTo>
                  <a:lnTo>
                    <a:pt x="199" y="78"/>
                  </a:lnTo>
                  <a:lnTo>
                    <a:pt x="193" y="81"/>
                  </a:lnTo>
                  <a:lnTo>
                    <a:pt x="186" y="83"/>
                  </a:lnTo>
                  <a:lnTo>
                    <a:pt x="179" y="84"/>
                  </a:lnTo>
                  <a:lnTo>
                    <a:pt x="172" y="85"/>
                  </a:lnTo>
                  <a:lnTo>
                    <a:pt x="164" y="86"/>
                  </a:lnTo>
                  <a:lnTo>
                    <a:pt x="157" y="86"/>
                  </a:lnTo>
                  <a:lnTo>
                    <a:pt x="148" y="85"/>
                  </a:lnTo>
                  <a:lnTo>
                    <a:pt x="139" y="85"/>
                  </a:lnTo>
                  <a:lnTo>
                    <a:pt x="130" y="83"/>
                  </a:lnTo>
                  <a:lnTo>
                    <a:pt x="120" y="81"/>
                  </a:lnTo>
                  <a:lnTo>
                    <a:pt x="112" y="79"/>
                  </a:lnTo>
                  <a:lnTo>
                    <a:pt x="105" y="76"/>
                  </a:lnTo>
                  <a:lnTo>
                    <a:pt x="97" y="72"/>
                  </a:lnTo>
                  <a:lnTo>
                    <a:pt x="90" y="68"/>
                  </a:lnTo>
                  <a:lnTo>
                    <a:pt x="83" y="64"/>
                  </a:lnTo>
                  <a:lnTo>
                    <a:pt x="76" y="59"/>
                  </a:lnTo>
                  <a:lnTo>
                    <a:pt x="69" y="54"/>
                  </a:lnTo>
                  <a:lnTo>
                    <a:pt x="62" y="48"/>
                  </a:lnTo>
                  <a:lnTo>
                    <a:pt x="50" y="37"/>
                  </a:lnTo>
                  <a:lnTo>
                    <a:pt x="37" y="25"/>
                  </a:lnTo>
                  <a:lnTo>
                    <a:pt x="25" y="12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86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2"/>
            <p:cNvSpPr/>
            <p:nvPr/>
          </p:nvSpPr>
          <p:spPr>
            <a:xfrm>
              <a:off x="3334320" y="3944160"/>
              <a:ext cx="212040" cy="6192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60" h="51">
                  <a:moveTo>
                    <a:pt x="160" y="41"/>
                  </a:moveTo>
                  <a:lnTo>
                    <a:pt x="160" y="0"/>
                  </a:lnTo>
                  <a:lnTo>
                    <a:pt x="158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156" y="4"/>
                  </a:lnTo>
                  <a:lnTo>
                    <a:pt x="156" y="51"/>
                  </a:lnTo>
                  <a:lnTo>
                    <a:pt x="160" y="41"/>
                  </a:lnTo>
                  <a:close/>
                </a:path>
              </a:pathLst>
            </a:custGeom>
            <a:solidFill>
              <a:srgbClr val="086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3"/>
            <p:cNvSpPr/>
            <p:nvPr/>
          </p:nvSpPr>
          <p:spPr>
            <a:xfrm>
              <a:off x="3277080" y="4059720"/>
              <a:ext cx="268920" cy="131040"/>
            </a:xfrm>
            <a:custGeom>
              <a:avLst/>
              <a:gdLst>
                <a:gd name="textAreaLeft" fmla="*/ 0 w 268920"/>
                <a:gd name="textAreaRight" fmla="*/ 269280 w 26892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203" h="108">
                  <a:moveTo>
                    <a:pt x="199" y="10"/>
                  </a:moveTo>
                  <a:lnTo>
                    <a:pt x="199" y="103"/>
                  </a:lnTo>
                  <a:lnTo>
                    <a:pt x="5" y="103"/>
                  </a:lnTo>
                  <a:lnTo>
                    <a:pt x="4" y="55"/>
                  </a:lnTo>
                  <a:lnTo>
                    <a:pt x="0" y="53"/>
                  </a:lnTo>
                  <a:lnTo>
                    <a:pt x="0" y="108"/>
                  </a:lnTo>
                  <a:lnTo>
                    <a:pt x="203" y="108"/>
                  </a:lnTo>
                  <a:lnTo>
                    <a:pt x="203" y="0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86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4"/>
            <p:cNvSpPr/>
            <p:nvPr/>
          </p:nvSpPr>
          <p:spPr>
            <a:xfrm>
              <a:off x="3586320" y="3944160"/>
              <a:ext cx="206280" cy="2455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156" h="202">
                  <a:moveTo>
                    <a:pt x="156" y="0"/>
                  </a:moveTo>
                  <a:lnTo>
                    <a:pt x="156" y="53"/>
                  </a:lnTo>
                  <a:lnTo>
                    <a:pt x="77" y="53"/>
                  </a:lnTo>
                  <a:lnTo>
                    <a:pt x="77" y="75"/>
                  </a:lnTo>
                  <a:lnTo>
                    <a:pt x="156" y="75"/>
                  </a:lnTo>
                  <a:lnTo>
                    <a:pt x="156" y="126"/>
                  </a:lnTo>
                  <a:lnTo>
                    <a:pt x="77" y="126"/>
                  </a:lnTo>
                  <a:lnTo>
                    <a:pt x="77" y="148"/>
                  </a:lnTo>
                  <a:lnTo>
                    <a:pt x="156" y="148"/>
                  </a:lnTo>
                  <a:lnTo>
                    <a:pt x="156" y="202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86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5"/>
            <p:cNvSpPr/>
            <p:nvPr/>
          </p:nvSpPr>
          <p:spPr>
            <a:xfrm>
              <a:off x="4217760" y="3944160"/>
              <a:ext cx="208080" cy="2455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157" h="202">
                  <a:moveTo>
                    <a:pt x="157" y="0"/>
                  </a:moveTo>
                  <a:lnTo>
                    <a:pt x="157" y="53"/>
                  </a:lnTo>
                  <a:lnTo>
                    <a:pt x="78" y="53"/>
                  </a:lnTo>
                  <a:lnTo>
                    <a:pt x="78" y="75"/>
                  </a:lnTo>
                  <a:lnTo>
                    <a:pt x="157" y="75"/>
                  </a:lnTo>
                  <a:lnTo>
                    <a:pt x="157" y="126"/>
                  </a:lnTo>
                  <a:lnTo>
                    <a:pt x="78" y="126"/>
                  </a:lnTo>
                  <a:lnTo>
                    <a:pt x="78" y="148"/>
                  </a:lnTo>
                  <a:lnTo>
                    <a:pt x="157" y="148"/>
                  </a:lnTo>
                  <a:lnTo>
                    <a:pt x="157" y="202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086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6"/>
            <p:cNvSpPr/>
            <p:nvPr/>
          </p:nvSpPr>
          <p:spPr>
            <a:xfrm>
              <a:off x="3808800" y="3944160"/>
              <a:ext cx="393840" cy="24552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297" h="202">
                  <a:moveTo>
                    <a:pt x="70" y="0"/>
                  </a:moveTo>
                  <a:lnTo>
                    <a:pt x="78" y="42"/>
                  </a:lnTo>
                  <a:lnTo>
                    <a:pt x="84" y="74"/>
                  </a:lnTo>
                  <a:lnTo>
                    <a:pt x="87" y="95"/>
                  </a:lnTo>
                  <a:lnTo>
                    <a:pt x="88" y="95"/>
                  </a:lnTo>
                  <a:lnTo>
                    <a:pt x="91" y="84"/>
                  </a:lnTo>
                  <a:lnTo>
                    <a:pt x="94" y="71"/>
                  </a:lnTo>
                  <a:lnTo>
                    <a:pt x="100" y="39"/>
                  </a:lnTo>
                  <a:lnTo>
                    <a:pt x="110" y="0"/>
                  </a:lnTo>
                  <a:lnTo>
                    <a:pt x="186" y="0"/>
                  </a:lnTo>
                  <a:lnTo>
                    <a:pt x="194" y="38"/>
                  </a:lnTo>
                  <a:lnTo>
                    <a:pt x="202" y="70"/>
                  </a:lnTo>
                  <a:lnTo>
                    <a:pt x="207" y="95"/>
                  </a:lnTo>
                  <a:lnTo>
                    <a:pt x="208" y="95"/>
                  </a:lnTo>
                  <a:lnTo>
                    <a:pt x="219" y="40"/>
                  </a:lnTo>
                  <a:lnTo>
                    <a:pt x="226" y="0"/>
                  </a:lnTo>
                  <a:lnTo>
                    <a:pt x="297" y="0"/>
                  </a:lnTo>
                  <a:lnTo>
                    <a:pt x="251" y="202"/>
                  </a:lnTo>
                  <a:lnTo>
                    <a:pt x="168" y="202"/>
                  </a:lnTo>
                  <a:lnTo>
                    <a:pt x="160" y="169"/>
                  </a:lnTo>
                  <a:lnTo>
                    <a:pt x="148" y="114"/>
                  </a:lnTo>
                  <a:lnTo>
                    <a:pt x="129" y="202"/>
                  </a:lnTo>
                  <a:lnTo>
                    <a:pt x="42" y="202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86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Picture 46" descr="logo4"/>
          <p:cNvPicPr/>
          <p:nvPr/>
        </p:nvPicPr>
        <p:blipFill>
          <a:blip r:embed="rId21"/>
          <a:stretch/>
        </p:blipFill>
        <p:spPr>
          <a:xfrm>
            <a:off x="2879640" y="5373720"/>
            <a:ext cx="1828800" cy="635040"/>
          </a:xfrm>
          <a:prstGeom prst="rect">
            <a:avLst/>
          </a:prstGeom>
          <a:ln w="0">
            <a:noFill/>
          </a:ln>
        </p:spPr>
      </p:pic>
      <p:sp>
        <p:nvSpPr>
          <p:cNvPr id="437" name="Fußzeilenplatzhalter 46"/>
          <p:cNvSpPr/>
          <p:nvPr/>
        </p:nvSpPr>
        <p:spPr>
          <a:xfrm>
            <a:off x="124380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2"/>
          <a:stretch/>
        </p:blipFill>
        <p:spPr>
          <a:xfrm>
            <a:off x="3059280" y="4443480"/>
            <a:ext cx="1469880" cy="701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23"/>
          <a:stretch/>
        </p:blipFill>
        <p:spPr>
          <a:xfrm>
            <a:off x="531720" y="3822840"/>
            <a:ext cx="1538280" cy="4744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24"/>
          <a:stretch/>
        </p:blipFill>
        <p:spPr>
          <a:xfrm>
            <a:off x="380880" y="5240160"/>
            <a:ext cx="1006560" cy="655920"/>
          </a:xfrm>
          <a:prstGeom prst="rect">
            <a:avLst/>
          </a:prstGeom>
          <a:ln w="0">
            <a:noFill/>
          </a:ln>
        </p:spPr>
      </p:pic>
      <p:grpSp>
        <p:nvGrpSpPr>
          <p:cNvPr id="441" name="Group 41"/>
          <p:cNvGrpSpPr/>
          <p:nvPr/>
        </p:nvGrpSpPr>
        <p:grpSpPr>
          <a:xfrm>
            <a:off x="1333440" y="3127320"/>
            <a:ext cx="1106280" cy="601200"/>
            <a:chOff x="1333440" y="3127320"/>
            <a:chExt cx="1106280" cy="601200"/>
          </a:xfrm>
        </p:grpSpPr>
        <p:sp>
          <p:nvSpPr>
            <p:cNvPr id="442" name="Rectangle 42"/>
            <p:cNvSpPr/>
            <p:nvPr/>
          </p:nvSpPr>
          <p:spPr>
            <a:xfrm>
              <a:off x="1333440" y="3204720"/>
              <a:ext cx="1106280" cy="52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3" name="Picture 43" descr="http://www.ew-linthal.ch/Bilder/LOGOS/Axpo.gif"/>
            <p:cNvPicPr/>
            <p:nvPr/>
          </p:nvPicPr>
          <p:blipFill>
            <a:blip r:embed="rId25"/>
            <a:stretch/>
          </p:blipFill>
          <p:spPr>
            <a:xfrm>
              <a:off x="1338480" y="3127320"/>
              <a:ext cx="1049760" cy="59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4" name="Group 38"/>
          <p:cNvGrpSpPr/>
          <p:nvPr/>
        </p:nvGrpSpPr>
        <p:grpSpPr>
          <a:xfrm>
            <a:off x="1765440" y="4529160"/>
            <a:ext cx="914400" cy="345600"/>
            <a:chOff x="1765440" y="4529160"/>
            <a:chExt cx="914400" cy="345600"/>
          </a:xfrm>
        </p:grpSpPr>
        <p:sp>
          <p:nvSpPr>
            <p:cNvPr id="445" name="Rectangle 39"/>
            <p:cNvSpPr/>
            <p:nvPr/>
          </p:nvSpPr>
          <p:spPr>
            <a:xfrm>
              <a:off x="1821240" y="4529160"/>
              <a:ext cx="80388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6" name="Picture 40" descr="NOK">
              <a:hlinkClick r:id="rId26"/>
            </p:cNvPr>
            <p:cNvPicPr/>
            <p:nvPr/>
          </p:nvPicPr>
          <p:blipFill>
            <a:blip r:embed="rId27"/>
            <a:srcRect l="7495" t="35585" r="40106" b="20010"/>
            <a:stretch/>
          </p:blipFill>
          <p:spPr>
            <a:xfrm>
              <a:off x="1765440" y="4549320"/>
              <a:ext cx="914400" cy="32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7" name="Gruppieren 68"/>
          <p:cNvGrpSpPr/>
          <p:nvPr/>
        </p:nvGrpSpPr>
        <p:grpSpPr>
          <a:xfrm>
            <a:off x="1581120" y="5373720"/>
            <a:ext cx="1276560" cy="630360"/>
            <a:chOff x="1581120" y="5373720"/>
            <a:chExt cx="1276560" cy="630360"/>
          </a:xfrm>
        </p:grpSpPr>
        <p:pic>
          <p:nvPicPr>
            <p:cNvPr id="448" name="Picture 23" descr="logo_head">
              <a:hlinkClick r:id="rId28"/>
            </p:cNvPr>
            <p:cNvPicPr/>
            <p:nvPr/>
          </p:nvPicPr>
          <p:blipFill>
            <a:blip r:embed="rId29"/>
            <a:srcRect l="15653" t="0" r="15571" b="0"/>
            <a:stretch/>
          </p:blipFill>
          <p:spPr>
            <a:xfrm>
              <a:off x="1886400" y="5373720"/>
              <a:ext cx="918000" cy="3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24" descr=""/>
            <p:cNvPicPr/>
            <p:nvPr/>
          </p:nvPicPr>
          <p:blipFill>
            <a:blip r:embed="rId30"/>
            <a:stretch/>
          </p:blipFill>
          <p:spPr>
            <a:xfrm>
              <a:off x="1581120" y="5693040"/>
              <a:ext cx="127656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uppieren 84"/>
          <p:cNvGrpSpPr/>
          <p:nvPr/>
        </p:nvGrpSpPr>
        <p:grpSpPr>
          <a:xfrm>
            <a:off x="1841400" y="1906560"/>
            <a:ext cx="6327720" cy="1112760"/>
            <a:chOff x="1841400" y="1906560"/>
            <a:chExt cx="6327720" cy="1112760"/>
          </a:xfrm>
        </p:grpSpPr>
        <p:sp>
          <p:nvSpPr>
            <p:cNvPr id="451" name="Rectangle 4"/>
            <p:cNvSpPr/>
            <p:nvPr/>
          </p:nvSpPr>
          <p:spPr>
            <a:xfrm>
              <a:off x="2106360" y="1906560"/>
              <a:ext cx="606276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0" rIns="72000" tIns="72000" bIns="72000" anchor="ctr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 ce masura afecteaza criza financiara si economica investitiile in sectorul energetic (la nivel international si local)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unde Klammer rechts 63"/>
            <p:cNvSpPr/>
            <p:nvPr/>
          </p:nvSpPr>
          <p:spPr>
            <a:xfrm>
              <a:off x="2097360" y="2122200"/>
              <a:ext cx="348120" cy="677880"/>
            </a:xfrm>
            <a:custGeom>
              <a:avLst/>
              <a:gdLst>
                <a:gd name="textAreaLeft" fmla="*/ 0 w 348120"/>
                <a:gd name="textAreaRight" fmla="*/ 244080 w 3481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0"/>
                    <a:pt x="21600" y="0"/>
                  </a:cubicBez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hteck 21"/>
            <p:cNvSpPr/>
            <p:nvPr/>
          </p:nvSpPr>
          <p:spPr>
            <a:xfrm>
              <a:off x="1841400" y="2189160"/>
              <a:ext cx="543960" cy="544320"/>
            </a:xfrm>
            <a:prstGeom prst="rect">
              <a:avLst/>
            </a:prstGeom>
            <a:solidFill>
              <a:srgbClr val="3c58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ncte ati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124380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-1152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F0CD-6AD4-4524-A492-129A990EAA36}" type="slidenum">
              <a:rPr b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uppieren 85"/>
          <p:cNvGrpSpPr/>
          <p:nvPr/>
        </p:nvGrpSpPr>
        <p:grpSpPr>
          <a:xfrm>
            <a:off x="1841400" y="3211560"/>
            <a:ext cx="6327720" cy="1112760"/>
            <a:chOff x="1841400" y="3211560"/>
            <a:chExt cx="6327720" cy="1112760"/>
          </a:xfrm>
        </p:grpSpPr>
        <p:sp>
          <p:nvSpPr>
            <p:cNvPr id="458" name="Rectangle 4"/>
            <p:cNvSpPr/>
            <p:nvPr/>
          </p:nvSpPr>
          <p:spPr>
            <a:xfrm>
              <a:off x="2106360" y="3211560"/>
              <a:ext cx="606276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0" rIns="72000" tIns="72000" bIns="72000" anchor="ctr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e unde vor venii fondurile pentru realizarea proiectelor / planurilor in sectorul energetic? Cat de atractiv este sectorul energetic romanesc pentru investitori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unde Klammer rechts 68"/>
            <p:cNvSpPr/>
            <p:nvPr/>
          </p:nvSpPr>
          <p:spPr>
            <a:xfrm>
              <a:off x="2097360" y="3427200"/>
              <a:ext cx="348120" cy="677880"/>
            </a:xfrm>
            <a:custGeom>
              <a:avLst/>
              <a:gdLst>
                <a:gd name="textAreaLeft" fmla="*/ 0 w 348120"/>
                <a:gd name="textAreaRight" fmla="*/ 244080 w 3481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0"/>
                    <a:pt x="21600" y="0"/>
                  </a:cubicBez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hteck 69"/>
            <p:cNvSpPr/>
            <p:nvPr/>
          </p:nvSpPr>
          <p:spPr>
            <a:xfrm>
              <a:off x="1841400" y="3494160"/>
              <a:ext cx="543960" cy="544320"/>
            </a:xfrm>
            <a:prstGeom prst="rect">
              <a:avLst/>
            </a:prstGeom>
            <a:solidFill>
              <a:srgbClr val="3c58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uppieren 86"/>
          <p:cNvGrpSpPr/>
          <p:nvPr/>
        </p:nvGrpSpPr>
        <p:grpSpPr>
          <a:xfrm>
            <a:off x="1841400" y="4516560"/>
            <a:ext cx="6327720" cy="1112760"/>
            <a:chOff x="1841400" y="4516560"/>
            <a:chExt cx="6327720" cy="1112760"/>
          </a:xfrm>
        </p:grpSpPr>
        <p:sp>
          <p:nvSpPr>
            <p:cNvPr id="462" name="Rectangle 4"/>
            <p:cNvSpPr/>
            <p:nvPr/>
          </p:nvSpPr>
          <p:spPr>
            <a:xfrm>
              <a:off x="2106360" y="4516560"/>
              <a:ext cx="606276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0" rIns="72000" tIns="72000" bIns="72000" anchor="ctr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e alte masuri ar putea sprijinii transformarea sectorului energetic romanesc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unde Klammer rechts 72"/>
            <p:cNvSpPr/>
            <p:nvPr/>
          </p:nvSpPr>
          <p:spPr>
            <a:xfrm>
              <a:off x="2097360" y="4732200"/>
              <a:ext cx="348120" cy="677880"/>
            </a:xfrm>
            <a:custGeom>
              <a:avLst/>
              <a:gdLst>
                <a:gd name="textAreaLeft" fmla="*/ 0 w 348120"/>
                <a:gd name="textAreaRight" fmla="*/ 244080 w 3481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0"/>
                    <a:pt x="21600" y="0"/>
                  </a:cubicBez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hteck 73"/>
            <p:cNvSpPr/>
            <p:nvPr/>
          </p:nvSpPr>
          <p:spPr>
            <a:xfrm>
              <a:off x="1841400" y="4799160"/>
              <a:ext cx="543960" cy="544320"/>
            </a:xfrm>
            <a:prstGeom prst="rect">
              <a:avLst/>
            </a:prstGeom>
            <a:solidFill>
              <a:srgbClr val="3c58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uppieren 84"/>
          <p:cNvGrpSpPr/>
          <p:nvPr/>
        </p:nvGrpSpPr>
        <p:grpSpPr>
          <a:xfrm>
            <a:off x="1841400" y="1906560"/>
            <a:ext cx="6327720" cy="1112760"/>
            <a:chOff x="1841400" y="1906560"/>
            <a:chExt cx="6327720" cy="1112760"/>
          </a:xfrm>
        </p:grpSpPr>
        <p:sp>
          <p:nvSpPr>
            <p:cNvPr id="466" name="Rectangle 4"/>
            <p:cNvSpPr/>
            <p:nvPr/>
          </p:nvSpPr>
          <p:spPr>
            <a:xfrm>
              <a:off x="2106360" y="1906560"/>
              <a:ext cx="6062760" cy="1112760"/>
            </a:xfrm>
            <a:prstGeom prst="rect">
              <a:avLst/>
            </a:prstGeom>
            <a:solidFill>
              <a:srgbClr val="3c58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0" rIns="72000" tIns="72000" bIns="72000" anchor="ctr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In ce masura afecteaza criza financiara si economica investitiile in sectorul energetic (la nivel international si local)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unde Klammer rechts 63"/>
            <p:cNvSpPr/>
            <p:nvPr/>
          </p:nvSpPr>
          <p:spPr>
            <a:xfrm>
              <a:off x="2097360" y="2122200"/>
              <a:ext cx="348120" cy="677880"/>
            </a:xfrm>
            <a:custGeom>
              <a:avLst/>
              <a:gdLst>
                <a:gd name="textAreaLeft" fmla="*/ 0 w 348120"/>
                <a:gd name="textAreaRight" fmla="*/ 244080 w 3481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0"/>
                    <a:pt x="21600" y="0"/>
                  </a:cubicBez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hteck 21"/>
            <p:cNvSpPr/>
            <p:nvPr/>
          </p:nvSpPr>
          <p:spPr>
            <a:xfrm>
              <a:off x="1841400" y="2189160"/>
              <a:ext cx="543960" cy="544320"/>
            </a:xfrm>
            <a:prstGeom prst="rect">
              <a:avLst/>
            </a:prstGeom>
            <a:solidFill>
              <a:srgbClr val="3c58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ncte ati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ußzeilenplatzhalter 4"/>
          <p:cNvSpPr/>
          <p:nvPr/>
        </p:nvSpPr>
        <p:spPr>
          <a:xfrm>
            <a:off x="124380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liennummernplatzhalter 5"/>
          <p:cNvSpPr/>
          <p:nvPr/>
        </p:nvSpPr>
        <p:spPr>
          <a:xfrm>
            <a:off x="-1152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D095-3AE3-4F76-BE02-C0E00B876A7F}" type="slidenum">
              <a:rPr b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uppieren 85"/>
          <p:cNvGrpSpPr/>
          <p:nvPr/>
        </p:nvGrpSpPr>
        <p:grpSpPr>
          <a:xfrm>
            <a:off x="1841400" y="3211560"/>
            <a:ext cx="6327720" cy="1112760"/>
            <a:chOff x="1841400" y="3211560"/>
            <a:chExt cx="6327720" cy="1112760"/>
          </a:xfrm>
        </p:grpSpPr>
        <p:sp>
          <p:nvSpPr>
            <p:cNvPr id="473" name="Rectangle 4"/>
            <p:cNvSpPr/>
            <p:nvPr/>
          </p:nvSpPr>
          <p:spPr>
            <a:xfrm>
              <a:off x="2106360" y="3211560"/>
              <a:ext cx="606276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0" rIns="72000" tIns="72000" bIns="72000" anchor="ctr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e unde vor venii fondurile pentru realizarea proiectelor / planurilor in sectorul energetic? Cat de atractiv este sectorul energetic romanesc pentru investitori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unde Klammer rechts 68"/>
            <p:cNvSpPr/>
            <p:nvPr/>
          </p:nvSpPr>
          <p:spPr>
            <a:xfrm>
              <a:off x="2097360" y="3427200"/>
              <a:ext cx="348120" cy="677880"/>
            </a:xfrm>
            <a:custGeom>
              <a:avLst/>
              <a:gdLst>
                <a:gd name="textAreaLeft" fmla="*/ 0 w 348120"/>
                <a:gd name="textAreaRight" fmla="*/ 244080 w 3481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0"/>
                    <a:pt x="21600" y="0"/>
                  </a:cubicBez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hteck 69"/>
            <p:cNvSpPr/>
            <p:nvPr/>
          </p:nvSpPr>
          <p:spPr>
            <a:xfrm>
              <a:off x="1841400" y="3494160"/>
              <a:ext cx="543960" cy="544320"/>
            </a:xfrm>
            <a:prstGeom prst="rect">
              <a:avLst/>
            </a:prstGeom>
            <a:solidFill>
              <a:srgbClr val="3c58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uppieren 86"/>
          <p:cNvGrpSpPr/>
          <p:nvPr/>
        </p:nvGrpSpPr>
        <p:grpSpPr>
          <a:xfrm>
            <a:off x="1841400" y="4516560"/>
            <a:ext cx="6327720" cy="1112760"/>
            <a:chOff x="1841400" y="4516560"/>
            <a:chExt cx="6327720" cy="1112760"/>
          </a:xfrm>
        </p:grpSpPr>
        <p:sp>
          <p:nvSpPr>
            <p:cNvPr id="477" name="Rectangle 4"/>
            <p:cNvSpPr/>
            <p:nvPr/>
          </p:nvSpPr>
          <p:spPr>
            <a:xfrm>
              <a:off x="2106360" y="4516560"/>
              <a:ext cx="606276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0" rIns="72000" tIns="72000" bIns="72000" anchor="ctr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e alte masuri ar putea sprijinii transformarea sectorului energetic romanesc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unde Klammer rechts 72"/>
            <p:cNvSpPr/>
            <p:nvPr/>
          </p:nvSpPr>
          <p:spPr>
            <a:xfrm>
              <a:off x="2097360" y="4732200"/>
              <a:ext cx="348120" cy="677880"/>
            </a:xfrm>
            <a:custGeom>
              <a:avLst/>
              <a:gdLst>
                <a:gd name="textAreaLeft" fmla="*/ 0 w 348120"/>
                <a:gd name="textAreaRight" fmla="*/ 244080 w 3481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0"/>
                    <a:pt x="21600" y="0"/>
                  </a:cubicBez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hteck 73"/>
            <p:cNvSpPr/>
            <p:nvPr/>
          </p:nvSpPr>
          <p:spPr>
            <a:xfrm>
              <a:off x="1841400" y="4799160"/>
              <a:ext cx="543960" cy="544320"/>
            </a:xfrm>
            <a:prstGeom prst="rect">
              <a:avLst/>
            </a:prstGeom>
            <a:solidFill>
              <a:srgbClr val="3c58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In perioada 2002 – 2008 s-a înregistrat o creştere masivă a investiţiilor la nivel glob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5729040"/>
            <a:ext cx="94489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r" pos="438120"/>
                <a:tab algn="l" pos="47628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Global Insight, Real gros fixed capital information in $ billion, 2) foreca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ußzeilenplatzhalter 4"/>
          <p:cNvSpPr/>
          <p:nvPr/>
        </p:nvSpPr>
        <p:spPr>
          <a:xfrm>
            <a:off x="90900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oliennummernplatzhalter 5"/>
          <p:cNvSpPr/>
          <p:nvPr/>
        </p:nvSpPr>
        <p:spPr>
          <a:xfrm>
            <a:off x="-1152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EB25-B75F-41B5-B669-26D421E432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rcRect l="0" t="5324" r="0" b="22695"/>
          <a:stretch/>
        </p:blipFill>
        <p:spPr>
          <a:xfrm>
            <a:off x="933480" y="1411200"/>
            <a:ext cx="768672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Există în rândul ţăril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U-27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o diferenţă semnificativă între cerere şi ofertă din punct de vedere al capacităţii de producţie energetic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240" y="5729040"/>
            <a:ext cx="94489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r" pos="438120"/>
                <a:tab algn="l" pos="47628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VG Powertech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ußzeilenplatzhalter 4"/>
          <p:cNvSpPr/>
          <p:nvPr/>
        </p:nvSpPr>
        <p:spPr>
          <a:xfrm>
            <a:off x="124380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liennummernplatzhalter 5"/>
          <p:cNvSpPr/>
          <p:nvPr/>
        </p:nvSpPr>
        <p:spPr>
          <a:xfrm>
            <a:off x="-36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C561-119F-4442-B62F-13A44C29DD3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419120" y="1465200"/>
            <a:ext cx="63676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ii jucator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sectorul energetic la nivel european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econsider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rategiile de investi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ußzeilenplatzhalter 4"/>
          <p:cNvSpPr/>
          <p:nvPr/>
        </p:nvSpPr>
        <p:spPr>
          <a:xfrm>
            <a:off x="124380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liennummernplatzhalter 5"/>
          <p:cNvSpPr/>
          <p:nvPr/>
        </p:nvSpPr>
        <p:spPr>
          <a:xfrm>
            <a:off x="-1152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D678-BBDE-43C6-B981-5CE4EF0D01E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5815080" y="1700280"/>
            <a:ext cx="3591000" cy="4186080"/>
          </a:xfrm>
          <a:prstGeom prst="rect">
            <a:avLst/>
          </a:prstGeom>
          <a:solidFill>
            <a:srgbClr val="bcbc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6"/>
          <p:cNvSpPr/>
          <p:nvPr/>
        </p:nvSpPr>
        <p:spPr>
          <a:xfrm>
            <a:off x="504720" y="1700280"/>
            <a:ext cx="5342040" cy="4186080"/>
          </a:xfrm>
          <a:custGeom>
            <a:avLst/>
            <a:gdLst>
              <a:gd name="textAreaLeft" fmla="*/ 0 w 5342040"/>
              <a:gd name="textAreaRight" fmla="*/ 5342400 w 5342040"/>
              <a:gd name="textAreaTop" fmla="*/ 0 h 4186080"/>
              <a:gd name="textAreaBottom" fmla="*/ 4186440 h 4186080"/>
            </a:gdLst>
            <a:ahLst/>
            <a:rect l="textAreaLeft" t="textAreaTop" r="textAreaRight" b="textAreaBottom"/>
            <a:pathLst>
              <a:path w="3176" h="2315">
                <a:moveTo>
                  <a:pt x="2703" y="1625"/>
                </a:moveTo>
                <a:lnTo>
                  <a:pt x="0" y="1623"/>
                </a:lnTo>
                <a:lnTo>
                  <a:pt x="0" y="2315"/>
                </a:lnTo>
                <a:lnTo>
                  <a:pt x="2698" y="2315"/>
                </a:lnTo>
                <a:lnTo>
                  <a:pt x="3176" y="1155"/>
                </a:lnTo>
                <a:lnTo>
                  <a:pt x="2698" y="0"/>
                </a:lnTo>
                <a:lnTo>
                  <a:pt x="0" y="0"/>
                </a:lnTo>
                <a:lnTo>
                  <a:pt x="0" y="697"/>
                </a:lnTo>
                <a:lnTo>
                  <a:pt x="2703" y="698"/>
                </a:lnTo>
                <a:lnTo>
                  <a:pt x="2705" y="856"/>
                </a:lnTo>
                <a:lnTo>
                  <a:pt x="0" y="856"/>
                </a:lnTo>
                <a:lnTo>
                  <a:pt x="0" y="1464"/>
                </a:lnTo>
                <a:lnTo>
                  <a:pt x="2704" y="1461"/>
                </a:lnTo>
                <a:lnTo>
                  <a:pt x="2703" y="16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4360" y="1743120"/>
            <a:ext cx="476748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 mai mu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i jucători din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ergi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şi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reevaluează planurile de investiţ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 scopul reducerii acestora şi sunt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oarte selectivi în strategiile de creşt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46200" y="3241440"/>
            <a:ext cx="444816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umărul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et-ur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scoase la vânzar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 crescut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forturi înspr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reducerea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datorarii,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reşterea numărului privatizăr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6200" y="4642920"/>
            <a:ext cx="44481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ocaţiile strategice aflate în economii în creştere şi un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mediu stabil legislativ şi politic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unt un punct d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tracţie pentru invest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37200" y="2214360"/>
            <a:ext cx="3092400" cy="31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icul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pentru sectorul energetic ro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c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asigurarea / atragerea de fonduri pentru transformarea sectorul energ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ru investitor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 focus pe Europa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entrală şi de 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torul energetic ofe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ortuni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e intrare sau de consolidare a 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i pe pi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uppieren 84"/>
          <p:cNvGrpSpPr/>
          <p:nvPr/>
        </p:nvGrpSpPr>
        <p:grpSpPr>
          <a:xfrm>
            <a:off x="1841400" y="1906560"/>
            <a:ext cx="6327720" cy="1112760"/>
            <a:chOff x="1841400" y="1906560"/>
            <a:chExt cx="6327720" cy="1112760"/>
          </a:xfrm>
        </p:grpSpPr>
        <p:sp>
          <p:nvSpPr>
            <p:cNvPr id="501" name="Rectangle 4"/>
            <p:cNvSpPr/>
            <p:nvPr/>
          </p:nvSpPr>
          <p:spPr>
            <a:xfrm>
              <a:off x="2106360" y="1906560"/>
              <a:ext cx="606276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0" rIns="72000" tIns="72000" bIns="72000" anchor="ctr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 ce masura afecteaza criza financiara si economica investitiile in sectorul energetic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unde Klammer rechts 63"/>
            <p:cNvSpPr/>
            <p:nvPr/>
          </p:nvSpPr>
          <p:spPr>
            <a:xfrm>
              <a:off x="2097360" y="2122200"/>
              <a:ext cx="348120" cy="677880"/>
            </a:xfrm>
            <a:custGeom>
              <a:avLst/>
              <a:gdLst>
                <a:gd name="textAreaLeft" fmla="*/ 0 w 348120"/>
                <a:gd name="textAreaRight" fmla="*/ 244080 w 3481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0"/>
                    <a:pt x="21600" y="0"/>
                  </a:cubicBez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hteck 21"/>
            <p:cNvSpPr/>
            <p:nvPr/>
          </p:nvSpPr>
          <p:spPr>
            <a:xfrm>
              <a:off x="1841400" y="2189160"/>
              <a:ext cx="543960" cy="544320"/>
            </a:xfrm>
            <a:prstGeom prst="rect">
              <a:avLst/>
            </a:prstGeom>
            <a:solidFill>
              <a:srgbClr val="3c58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ncte ati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ußzeilenplatzhalter 4"/>
          <p:cNvSpPr/>
          <p:nvPr/>
        </p:nvSpPr>
        <p:spPr>
          <a:xfrm>
            <a:off x="1243800" y="6626160"/>
            <a:ext cx="368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fax talks about energy, 17 noiembrie, Bucuresti, Kurt We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liennummernplatzhalter 5"/>
          <p:cNvSpPr/>
          <p:nvPr/>
        </p:nvSpPr>
        <p:spPr>
          <a:xfrm>
            <a:off x="-1152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39AB-FE49-40E0-A405-37C7684A35D2}" type="slidenum">
              <a:rPr b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uppieren 85"/>
          <p:cNvGrpSpPr/>
          <p:nvPr/>
        </p:nvGrpSpPr>
        <p:grpSpPr>
          <a:xfrm>
            <a:off x="1841400" y="3211560"/>
            <a:ext cx="6327720" cy="1112760"/>
            <a:chOff x="1841400" y="3211560"/>
            <a:chExt cx="6327720" cy="1112760"/>
          </a:xfrm>
        </p:grpSpPr>
        <p:sp>
          <p:nvSpPr>
            <p:cNvPr id="508" name="Rectangle 4"/>
            <p:cNvSpPr/>
            <p:nvPr/>
          </p:nvSpPr>
          <p:spPr>
            <a:xfrm>
              <a:off x="2106360" y="3211560"/>
              <a:ext cx="6062760" cy="1112760"/>
            </a:xfrm>
            <a:prstGeom prst="rect">
              <a:avLst/>
            </a:prstGeom>
            <a:solidFill>
              <a:srgbClr val="3c58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0" rIns="72000" tIns="72000" bIns="72000" anchor="ctr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Cat de atractiv este sectorul energetic romanesc pentru investitori? </a:t>
              </a:r>
              <a:br>
                <a:rPr sz="1800"/>
              </a:b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De unde ar putea venii fondurile pentru realizarea proiectelor / planurilor in sectorul energetic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unde Klammer rechts 68"/>
            <p:cNvSpPr/>
            <p:nvPr/>
          </p:nvSpPr>
          <p:spPr>
            <a:xfrm>
              <a:off x="2097360" y="3427200"/>
              <a:ext cx="348120" cy="677880"/>
            </a:xfrm>
            <a:custGeom>
              <a:avLst/>
              <a:gdLst>
                <a:gd name="textAreaLeft" fmla="*/ 0 w 348120"/>
                <a:gd name="textAreaRight" fmla="*/ 244080 w 3481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0"/>
                    <a:pt x="21600" y="0"/>
                  </a:cubicBez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hteck 69"/>
            <p:cNvSpPr/>
            <p:nvPr/>
          </p:nvSpPr>
          <p:spPr>
            <a:xfrm>
              <a:off x="1841400" y="3494160"/>
              <a:ext cx="543960" cy="544320"/>
            </a:xfrm>
            <a:prstGeom prst="rect">
              <a:avLst/>
            </a:prstGeom>
            <a:solidFill>
              <a:srgbClr val="3c58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uppieren 86"/>
          <p:cNvGrpSpPr/>
          <p:nvPr/>
        </p:nvGrpSpPr>
        <p:grpSpPr>
          <a:xfrm>
            <a:off x="1841400" y="4516560"/>
            <a:ext cx="6327720" cy="1112760"/>
            <a:chOff x="1841400" y="4516560"/>
            <a:chExt cx="6327720" cy="1112760"/>
          </a:xfrm>
        </p:grpSpPr>
        <p:sp>
          <p:nvSpPr>
            <p:cNvPr id="512" name="Rectangle 4"/>
            <p:cNvSpPr/>
            <p:nvPr/>
          </p:nvSpPr>
          <p:spPr>
            <a:xfrm>
              <a:off x="2106360" y="4516560"/>
              <a:ext cx="606276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0" rIns="72000" tIns="72000" bIns="72000" anchor="ctr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e masuri ar putea sprijinii transformarea sectorului energetic romanesc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unde Klammer rechts 72"/>
            <p:cNvSpPr/>
            <p:nvPr/>
          </p:nvSpPr>
          <p:spPr>
            <a:xfrm>
              <a:off x="2097360" y="4732200"/>
              <a:ext cx="348120" cy="677880"/>
            </a:xfrm>
            <a:custGeom>
              <a:avLst/>
              <a:gdLst>
                <a:gd name="textAreaLeft" fmla="*/ 0 w 348120"/>
                <a:gd name="textAreaRight" fmla="*/ 244080 w 3481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0"/>
                    <a:pt x="21600" y="0"/>
                  </a:cubicBez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hteck 73"/>
            <p:cNvSpPr/>
            <p:nvPr/>
          </p:nvSpPr>
          <p:spPr>
            <a:xfrm>
              <a:off x="1841400" y="4799160"/>
              <a:ext cx="543960" cy="544320"/>
            </a:xfrm>
            <a:prstGeom prst="rect">
              <a:avLst/>
            </a:prstGeom>
            <a:solidFill>
              <a:srgbClr val="3c58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6:49:55Z</dcterms:created>
  <dc:creator>Razvan Tudor</dc:creator>
  <dc:description/>
  <cp:keywords/>
  <dc:language>en-US</dc:language>
  <cp:lastModifiedBy> </cp:lastModifiedBy>
  <cp:lastPrinted>2003-07-07T11:21:57Z</cp:lastPrinted>
  <dcterms:modified xsi:type="dcterms:W3CDTF">2009-11-17T07:38:29Z</dcterms:modified>
  <cp:revision>409</cp:revision>
  <dc:subject>Powerpoint Präsentation</dc:subject>
  <dc:title>Slide 1</dc:title>
</cp:coreProperties>
</file>