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25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54380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042560" y="3944880"/>
            <a:ext cx="754380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08240" y="198864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42560" y="394488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08240" y="394488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242892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93160" y="1988640"/>
            <a:ext cx="242892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44120" y="1988640"/>
            <a:ext cx="242892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042560" y="3944880"/>
            <a:ext cx="242892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93160" y="3944880"/>
            <a:ext cx="242892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44120" y="3944880"/>
            <a:ext cx="242892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54380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543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3681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8240" y="1988640"/>
            <a:ext cx="3681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188640"/>
            <a:ext cx="8172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240" y="1988640"/>
            <a:ext cx="3681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94488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3681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8240" y="198864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08240" y="394488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08240" y="1988640"/>
            <a:ext cx="368136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42560" y="3944880"/>
            <a:ext cx="7543800" cy="17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42560" y="1988640"/>
            <a:ext cx="7543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08520" indent="-308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08520" indent="-308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08520" indent="-3085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08520" indent="-3085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" name=""/>
          <p:cNvGraphicFramePr/>
          <p:nvPr/>
        </p:nvGraphicFramePr>
        <p:xfrm>
          <a:off x="179280" y="476280"/>
          <a:ext cx="567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76280"/>
                    <a:ext cx="567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" name=""/>
          <p:cNvSpPr/>
          <p:nvPr/>
        </p:nvSpPr>
        <p:spPr>
          <a:xfrm>
            <a:off x="1332000" y="1052640"/>
            <a:ext cx="748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332000" y="1125360"/>
            <a:ext cx="7488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332000" y="1197000"/>
            <a:ext cx="7488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3284280"/>
            <a:ext cx="75438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609300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A NAŢIONALĂ PENTRU RESURSE MINERAL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587700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2924280"/>
            <a:ext cx="6193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andru P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TRUŢ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Tahoma"/>
              </a:rPr>
              <a:t>Preşedinte A.N.R.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6037200"/>
            <a:ext cx="349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Tahoma"/>
              </a:rPr>
              <a:t>Mediafax Talks abou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Tahoma"/>
              </a:rPr>
              <a:t>Bucureş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Tahoma"/>
              </a:rPr>
              <a:t>17 Noiembrie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543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79240" y="476280"/>
            <a:ext cx="714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A NAŢIONALĂ PENTRU RESURSE MINER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312920"/>
            <a:ext cx="860580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58920" y="65160"/>
            <a:ext cx="7440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A NAŢIONALĂ PENTRU RESURSE MINER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erimetrele de explorare, dezvoltare si exploatare oferite in runda a X-a de apel public de of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1366920"/>
            <a:ext cx="77058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0920" y="364464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Vă mulţ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c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pentru atenţia acordată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A NAŢIONALĂ PENTRU RESURSE MINERAL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ANRM este organ de specialitate al administratiei publice centrale, in subordinea Guvernului si coordonarea primului minstru, cu personalitate juridicã, abilitatã sã aplice prevederie Legii petrolului nr. 238/2004 si Legii minelor nr. 85/2003 în domeniul cercetarii, exploatarii, valorificarii  resurselor minerale si controlul asupra modului cum se desfasoara aceste activitati (H.G.nr. 756/2003);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incipiile care guverneaza organizarea si functionarea A.N.R.M. au la baza prevederile  Legii petrolului 238/2004 si Legii minelor 85/200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5480" y="498600"/>
            <a:ext cx="714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A NAŢIONALĂ PENTRU RESURSE MINER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141300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9280" y="1915920"/>
            <a:ext cx="842472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gestioneaza resursele minerale, resursele de petrol si fondul geologic national, definite de Legea minelor si de Legea petrolului ;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elibereaza licentele , permisele si acordurile petroliere prevazute de Legea minelor si Legea petrolului;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rganizeazã fondul geologic national, constiuie fondul national de rezerve, pe baza confirmarii rezervelor de petrol, verificãrii si înregistrãrii rezervelor minera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urmareste aplicarea masurilor stabilite pentru protectia mediului, in cursul si dupa efectuarea operatiunilor petroliere si a activitatilor miniere;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ntroleaza respectarea de catre titulari a prevederilor acordurilor petroliere licentelor sau permiselor, precum si a normelor, regulamentelor si instructiunilor tehnice din domeniu si dispune masuri pentru impunerea acestora;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elaborează, cu asistenţa ministerelor interesate, reglementări şi instrucţiuni tehnice pentru aplicarea Legii minelor nr.85/2003 şi a Legii petrolului nr. 238/2004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avizeaza documentaţiile privind executarea lucrărilor geologice sau de exploatare, miniere şi petroliere, precum şi documentaţiile de încetare a operaţiunilor petroliere, precum şi a activităţilor miniere, numai cu prevederea şi aprobarea, conform legislaţiei în vigoare, a măsurilor de protecţie a mediului şi de reconstrucţie ecologică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55480" y="498600"/>
            <a:ext cx="714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A NAŢIONALĂ PENTRU RESURSE MINER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268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NCIPALELE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TRIBUŢII  A. N. R.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353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vizeaza reglementarile, instructiunile si prescriptiile tehnice specifice privind proiectarea, exploatarea sistemului national de transport al petrolului, precum si pentru punerea in functiune sau abandonarea unor portiuni din acest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nstituie perimetre de protecţie hidrogeologică pentru zăcăminte de ape subterane minerale şi termominerale, nămoluri şi turbe terapeutice şi avizează instituirea perimetrelor de protecţie sanitară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nstatã si sanctioneazã contraventiile in domeniul activitatilor miniere si petroliere, sesizeazã organele competente in cazurile care pot constitui infractiuni, potrivit legii penal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ordonă sistarea lucrărilor de explorare şi/sau de exploatare, executate în afară perimetrelor instituite, a celor fără documentatii tehnice aprobate, precum şi a celor care, prin modul de desfăşurare, pot conduce la exploatarea neraţională ori la degradarea zăcămintelor, până la înlăturarea cauzelor care le-au produ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aprobă sistarea, conservarea sau abandonarea lucrărilor geologic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vizeazã închiderile de perimetre petrolie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88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A NAŢIONALĂ PENTRU RESURSE MINERAL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A NAŢIONALĂ PENTRU RESURSE MINERAL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5640" y="1052280"/>
            <a:ext cx="7559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uaţia resurselor naţionale de energie primar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607080" cy="5229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141720"/>
            <a:ext cx="1835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– rezerve geolog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 – rezerve exploatabile concesionate 3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200" y="27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1840" y="14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9240" y="476280"/>
            <a:ext cx="714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A NAŢIONALĂ PENTRU RESURSE MINER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186920" y="105264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oluția rezervelor naționale de țiței și gaze natura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estimare ANRM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492280"/>
            <a:ext cx="813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35280" y="1936800"/>
          <a:ext cx="6265800" cy="4618080"/>
        </p:xfrm>
        <a:graphic>
          <a:graphicData uri="http://schemas.openxmlformats.org/drawingml/2006/table">
            <a:tbl>
              <a:tblPr/>
              <a:tblGrid>
                <a:gridCol w="2041560"/>
                <a:gridCol w="2111040"/>
                <a:gridCol w="21132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te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il. ton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ze Natur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iliarde mc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172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imes New Roman"/>
              </a:rPr>
              <a:t>A NAŢIONALĂ PENTRU RESURSE MINERAL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6360" y="1484280"/>
          <a:ext cx="727236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1484280"/>
                    <a:ext cx="727236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219640" y="3284640"/>
            <a:ext cx="392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atorita depletarii zacamintelor, productia de titei poate inregistra scaderi anuale 2-4%. Gradul de inlocuire a rezervelor exploatate nu va depasi 15-20%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4869000"/>
            <a:ext cx="392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atorita depletarii zacamintelor, productia de gaze poate inregistra scaderi anuale 2-5%. Gradul de inlocuire a rezervelor exploatate se va situa intre 15-30%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56160" y="476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9240" y="476280"/>
            <a:ext cx="714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A NAŢIONALĂ PENTRU RESURSE MINER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05040" y="1676520"/>
          <a:ext cx="7924680" cy="49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676520"/>
                    <a:ext cx="792468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408760" y="141300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roducatori interni de gaze natu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55480" y="498600"/>
            <a:ext cx="714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GEN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A NAŢIONALĂ PENTRU RESURSE MINER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42840"/>
            <a:ext cx="1011708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08:00:04Z</dcterms:created>
  <dc:creator>harris_d</dc:creator>
  <dc:description/>
  <dc:language>en-US</dc:language>
  <cp:lastModifiedBy>Elena Caramalau</cp:lastModifiedBy>
  <dcterms:modified xsi:type="dcterms:W3CDTF">2009-11-16T16:41:58Z</dcterms:modified>
  <cp:revision>131</cp:revision>
  <dc:subject/>
  <dc:title>AGENŢIA NAŢIONALĂ PENTRU RESURSE MINERALE</dc:title>
</cp:coreProperties>
</file>