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404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3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D770-2993-4976-BAD3-12E21B3B15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mor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un Gla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on of proposal materials for 4 yea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ed deliver global PPT and roll out UK PPT and other KPMG Way mater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fe hated me – week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my role is to share all that learning with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You know about me – around table – who, where, involvement in propos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en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F’s from clients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trategy to t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PMG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ty Gri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B0EE-30EE-456F-B410-B1EAE797F7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7920" y="75960"/>
            <a:ext cx="839484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74760" y="1600200"/>
            <a:ext cx="8394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4760" y="3964320"/>
            <a:ext cx="8394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7920" y="75960"/>
            <a:ext cx="839484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74760" y="1600200"/>
            <a:ext cx="409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400" y="1600200"/>
            <a:ext cx="409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74760" y="3964320"/>
            <a:ext cx="409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400" y="3964320"/>
            <a:ext cx="409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67920" y="75960"/>
            <a:ext cx="839484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74760" y="1600200"/>
            <a:ext cx="270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3000" y="1600200"/>
            <a:ext cx="270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1600" y="1600200"/>
            <a:ext cx="270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74760" y="3964320"/>
            <a:ext cx="270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3000" y="3964320"/>
            <a:ext cx="270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1600" y="3964320"/>
            <a:ext cx="270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7920" y="75960"/>
            <a:ext cx="839484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74760" y="1600200"/>
            <a:ext cx="8394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7920" y="75960"/>
            <a:ext cx="839484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74760" y="1600200"/>
            <a:ext cx="839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7920" y="75960"/>
            <a:ext cx="839484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4760" y="1600200"/>
            <a:ext cx="409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600200"/>
            <a:ext cx="409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7920" y="75960"/>
            <a:ext cx="839484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67920" y="75960"/>
            <a:ext cx="8394840" cy="51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7920" y="75960"/>
            <a:ext cx="839484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74760" y="1600200"/>
            <a:ext cx="409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400" y="1600200"/>
            <a:ext cx="409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74760" y="3964320"/>
            <a:ext cx="409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7920" y="75960"/>
            <a:ext cx="839484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74760" y="1600200"/>
            <a:ext cx="8394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7920" y="75960"/>
            <a:ext cx="839484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74760" y="1600200"/>
            <a:ext cx="409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400" y="1600200"/>
            <a:ext cx="409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6400" y="3964320"/>
            <a:ext cx="409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7920" y="75960"/>
            <a:ext cx="839484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74760" y="1600200"/>
            <a:ext cx="409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6400" y="1600200"/>
            <a:ext cx="409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74760" y="3964320"/>
            <a:ext cx="8394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7920" y="75960"/>
            <a:ext cx="839484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4760" y="1600200"/>
            <a:ext cx="8394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4760" y="3964320"/>
            <a:ext cx="8394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7920" y="75960"/>
            <a:ext cx="839484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74760" y="1600200"/>
            <a:ext cx="409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6400" y="1600200"/>
            <a:ext cx="409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74760" y="3964320"/>
            <a:ext cx="409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6400" y="3964320"/>
            <a:ext cx="409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7920" y="75960"/>
            <a:ext cx="839484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74760" y="1600200"/>
            <a:ext cx="270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3000" y="1600200"/>
            <a:ext cx="270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1600" y="1600200"/>
            <a:ext cx="270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74760" y="3964320"/>
            <a:ext cx="270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3000" y="3964320"/>
            <a:ext cx="270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1600" y="3964320"/>
            <a:ext cx="270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7920" y="75960"/>
            <a:ext cx="839484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4760" y="1600200"/>
            <a:ext cx="839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7920" y="75960"/>
            <a:ext cx="839484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74760" y="1600200"/>
            <a:ext cx="409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400" y="1600200"/>
            <a:ext cx="409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7920" y="75960"/>
            <a:ext cx="839484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67920" y="75960"/>
            <a:ext cx="8394840" cy="51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7920" y="75960"/>
            <a:ext cx="839484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74760" y="1600200"/>
            <a:ext cx="409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600200"/>
            <a:ext cx="409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74760" y="3964320"/>
            <a:ext cx="409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67920" y="75960"/>
            <a:ext cx="839484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74760" y="1600200"/>
            <a:ext cx="409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600200"/>
            <a:ext cx="409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400" y="3964320"/>
            <a:ext cx="409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67920" y="75960"/>
            <a:ext cx="839484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74760" y="1600200"/>
            <a:ext cx="409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400" y="1600200"/>
            <a:ext cx="409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4760" y="3964320"/>
            <a:ext cx="8394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447840" y="6424560"/>
            <a:ext cx="685800" cy="27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67920" y="75960"/>
            <a:ext cx="839484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74760" y="1600200"/>
            <a:ext cx="839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7280" indent="-285840">
              <a:lnSpc>
                <a:spcPct val="90000"/>
              </a:lnSpc>
              <a:spcBef>
                <a:spcPts val="1349"/>
              </a:spcBef>
              <a:buClr>
                <a:srgbClr val="f38e31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76360" indent="-2872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857160" indent="-26964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49480" indent="-29052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SzPct val="70000"/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49480" indent="-29052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SzPct val="70000"/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49480" indent="-29052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SzPct val="70000"/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rcRect l="0" t="0" r="1962" b="-52320"/>
          <a:stretch/>
        </p:blipFill>
        <p:spPr>
          <a:xfrm>
            <a:off x="0" y="1255680"/>
            <a:ext cx="9140760" cy="842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426520" y="64404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5EED-B8E9-4CDE-89CF-90169899A31B}" type="slidenum">
              <a:rPr b="1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496960" y="6370560"/>
            <a:ext cx="618984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5c6a8e"/>
                </a:solidFill>
                <a:latin typeface="Arial"/>
              </a:rPr>
              <a:t>© 2009 KPMG International. KPMG International is a Swiss cooperative of which all KPMG firms are members. KPMG International provides no services to clients. Each member firm is a separate and independent legal entity and each describes itself as such. All rights reserved.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5c6a8e"/>
                </a:solidFill>
                <a:latin typeface="Arial"/>
              </a:rPr>
              <a:t>For Internal Use Only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90560" y="152388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80880" y="393840"/>
            <a:ext cx="960480" cy="382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80880" y="6459480"/>
            <a:ext cx="1828800" cy="106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496960" y="6396120"/>
            <a:ext cx="618984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5c6a8e"/>
                </a:solidFill>
                <a:latin typeface="Arial"/>
              </a:rPr>
              <a:t>© 2009 KPMG International. KPMG International is a Swiss cooperative of which all KPMG firms are members. KPMG International provides no services to clients. Each member firm is a separate and independent legal entity and each describes itself as such. All rights reserved.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5c6a8e"/>
                </a:solidFill>
                <a:latin typeface="Arial"/>
              </a:rPr>
              <a:t>For Internal Use Only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1440" indent="0" algn="ctr"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289080" algn="ctr">
              <a:spcBef>
                <a:spcPts val="1176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3" marL="587520" algn="ctr">
              <a:spcBef>
                <a:spcPts val="1176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4" marL="858960" algn="ctr">
              <a:spcBef>
                <a:spcPts val="1176"/>
              </a:spcBef>
              <a:buClr>
                <a:srgbClr val="ffffff"/>
              </a:buClr>
              <a:buSzPct val="70000"/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5" marL="858960">
              <a:spcBef>
                <a:spcPts val="524"/>
              </a:spcBef>
              <a:buClr>
                <a:srgbClr val="ffffff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6" marL="858960">
              <a:spcBef>
                <a:spcPts val="524"/>
              </a:spcBef>
              <a:buClr>
                <a:srgbClr val="ffffff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gdiaconu@kpmg.co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717640" y="1270080"/>
            <a:ext cx="5943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dddddd"/>
                </a:solidFill>
                <a:latin typeface="Univers 45 Light"/>
              </a:rPr>
              <a:t>Advis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560" y="152388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ffffff"/>
                </a:solidFill>
                <a:latin typeface="Univers 45 Light"/>
              </a:rPr>
              <a:t>Presiuni </a:t>
            </a:r>
            <a:r>
              <a:rPr b="1" lang="ro-RO" sz="26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ro-RO" sz="2600" spc="-1" strike="noStrike">
                <a:solidFill>
                  <a:srgbClr val="ffffff"/>
                </a:solidFill>
                <a:latin typeface="Univers 45 Light"/>
              </a:rPr>
              <a:t>i oportunit</a:t>
            </a:r>
            <a:r>
              <a:rPr b="1" lang="ro-RO" sz="2600" spc="-1" strike="noStrike">
                <a:solidFill>
                  <a:srgbClr val="ffffff"/>
                </a:solidFill>
                <a:latin typeface="Arial"/>
              </a:rPr>
              <a:t>ăţ</a:t>
            </a:r>
            <a:r>
              <a:rPr b="1" lang="ro-RO" sz="2600" spc="-1" strike="noStrike">
                <a:solidFill>
                  <a:srgbClr val="ffffff"/>
                </a:solidFill>
                <a:latin typeface="Univers 45 Light"/>
              </a:rPr>
              <a:t>i </a:t>
            </a:r>
            <a:r>
              <a:rPr b="1" lang="en-US" sz="2600" spc="-1" strike="noStrike">
                <a:solidFill>
                  <a:srgbClr val="ffffff"/>
                </a:solidFill>
                <a:latin typeface="Univers 45 Light"/>
              </a:rPr>
              <a:t>de mediu </a:t>
            </a:r>
            <a:r>
              <a:rPr b="1" lang="ro-RO" sz="26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en-US" sz="2600" spc="-1" strike="noStrike">
                <a:solidFill>
                  <a:srgbClr val="ffffff"/>
                </a:solidFill>
                <a:latin typeface="Univers 45 Light"/>
              </a:rPr>
              <a:t>n domeniul energiei – petrol </a:t>
            </a:r>
            <a:r>
              <a:rPr b="1" lang="ro-RO" sz="26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2600" spc="-1" strike="noStrike">
                <a:solidFill>
                  <a:srgbClr val="ffffff"/>
                </a:solidFill>
                <a:latin typeface="Univers 45 Light"/>
              </a:rPr>
              <a:t>i gaz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90920" y="2830320"/>
            <a:ext cx="579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Univers 45 Light"/>
              </a:rPr>
              <a:t>Geta Diaconu, Director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Univers 45 Light"/>
              </a:rPr>
              <a:t>Asisten</a:t>
            </a:r>
            <a:r>
              <a:rPr b="1" lang="ro-RO" sz="1100" spc="-1" strike="noStrike">
                <a:solidFill>
                  <a:srgbClr val="ffffff"/>
                </a:solidFill>
                <a:latin typeface="Univers 45 Light"/>
              </a:rPr>
              <a:t>ţă</a:t>
            </a:r>
            <a:r>
              <a:rPr b="1" lang="en-GB" sz="1100" spc="-1" strike="noStrike">
                <a:solidFill>
                  <a:srgbClr val="ffffff"/>
                </a:solidFill>
                <a:latin typeface="Univers 45 Light"/>
              </a:rPr>
              <a:t> Dezvoltare Durabil</a:t>
            </a:r>
            <a:r>
              <a:rPr b="1" lang="ro-RO" sz="1100" spc="-1" strike="noStrike">
                <a:solidFill>
                  <a:srgbClr val="ffffff"/>
                </a:solidFill>
                <a:latin typeface="Univers 45 Light"/>
              </a:rPr>
              <a:t>ă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Univers 45 Light"/>
              </a:rPr>
              <a:t>KPMG Rom</a:t>
            </a:r>
            <a:r>
              <a:rPr b="1" lang="ro-RO" sz="1100" spc="-1" strike="noStrike">
                <a:solidFill>
                  <a:srgbClr val="ffffff"/>
                </a:solidFill>
                <a:latin typeface="Univers 45 Light"/>
              </a:rPr>
              <a:t>â</a:t>
            </a:r>
            <a:r>
              <a:rPr b="1" lang="en-GB" sz="1100" spc="-1" strike="noStrike">
                <a:solidFill>
                  <a:srgbClr val="ffffff"/>
                </a:solidFill>
                <a:latin typeface="Univers 45 Light"/>
              </a:rPr>
              <a:t>nia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9040" y="75960"/>
            <a:ext cx="861372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ecanismul de implementare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n comun (JI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05160" y="1676520"/>
            <a:ext cx="268596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64120" y="3683160"/>
            <a:ext cx="1841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43200" y="4114800"/>
            <a:ext cx="31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inde” unit</a:t>
            </a: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ăţ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le de reducer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aze cu  efect de ser</a:t>
            </a: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1400" spc="-1" strike="noStrike">
                <a:solidFill>
                  <a:srgbClr val="f38e31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3" idx="2"/>
            <a:endCxn id="154" idx="2"/>
          </p:cNvCxnSpPr>
          <p:nvPr/>
        </p:nvCxnSpPr>
        <p:spPr>
          <a:xfrm flipH="1" rot="16200000">
            <a:off x="4548240" y="1724760"/>
            <a:ext cx="16560" cy="4367880"/>
          </a:xfrm>
          <a:prstGeom prst="bentConnector3">
            <a:avLst>
              <a:gd name="adj1" fmla="val 1448888"/>
            </a:avLst>
          </a:prstGeom>
          <a:ln w="0">
            <a:noFill/>
          </a:ln>
        </p:spPr>
      </p:cxnSp>
      <p:cxnSp>
        <p:nvCxnSpPr>
          <p:cNvPr id="155" name=""/>
          <p:cNvCxnSpPr>
            <a:stCxn id="153" idx="2"/>
            <a:endCxn id="154" idx="2"/>
          </p:cNvCxnSpPr>
          <p:nvPr/>
        </p:nvCxnSpPr>
        <p:spPr>
          <a:xfrm flipH="1" rot="16200000">
            <a:off x="4548240" y="1724760"/>
            <a:ext cx="16560" cy="4367880"/>
          </a:xfrm>
          <a:prstGeom prst="bentConnector3">
            <a:avLst>
              <a:gd name="adj1" fmla="val 1448888"/>
            </a:avLst>
          </a:prstGeom>
          <a:ln w="0">
            <a:noFill/>
          </a:ln>
        </p:spPr>
      </p:cxnSp>
      <p:grpSp>
        <p:nvGrpSpPr>
          <p:cNvPr id="156" name=""/>
          <p:cNvGrpSpPr/>
          <p:nvPr/>
        </p:nvGrpSpPr>
        <p:grpSpPr>
          <a:xfrm>
            <a:off x="829440" y="1880640"/>
            <a:ext cx="7444080" cy="2801160"/>
            <a:chOff x="829440" y="1880640"/>
            <a:chExt cx="7444080" cy="2801160"/>
          </a:xfrm>
        </p:grpSpPr>
        <p:sp>
          <p:nvSpPr>
            <p:cNvPr id="154" name=""/>
            <p:cNvSpPr/>
            <p:nvPr/>
          </p:nvSpPr>
          <p:spPr>
            <a:xfrm>
              <a:off x="5438520" y="2209680"/>
              <a:ext cx="2603520" cy="1692360"/>
            </a:xfrm>
            <a:prstGeom prst="rect">
              <a:avLst/>
            </a:prstGeom>
            <a:solidFill>
              <a:srgbClr val="5c6a8e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0" rIns="90000" tIns="90000" bIns="90000" anchor="t">
              <a:noAutofit/>
            </a:bodyPr>
            <a:p>
              <a:pPr marL="181080" indent="-181080" algn="ctr">
                <a:spcBef>
                  <a:spcPts val="876"/>
                </a:spcBef>
                <a:tabLst>
                  <a:tab algn="l" pos="0"/>
                  <a:tab algn="l" pos="1590840"/>
                  <a:tab algn="r" pos="204804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ro-RO" sz="1400" spc="-1" strike="noStrike">
                  <a:solidFill>
                    <a:srgbClr val="ffffff"/>
                  </a:solidFill>
                  <a:latin typeface="Arial"/>
                </a:rPr>
                <a:t>Ţ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ra (cump</a:t>
              </a:r>
              <a:r>
                <a:rPr b="1" lang="ro-RO" sz="1400" spc="-1" strike="noStrike">
                  <a:solidFill>
                    <a:srgbClr val="ffffff"/>
                  </a:solidFill>
                  <a:latin typeface="Arial"/>
                </a:rPr>
                <a:t>ă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ro-RO" sz="1400" spc="-1" strike="noStrike">
                  <a:solidFill>
                    <a:srgbClr val="ffffff"/>
                  </a:solidFill>
                  <a:latin typeface="Arial"/>
                </a:rPr>
                <a:t>ă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o-RO" sz="1400" spc="-1" strike="noStrike">
                  <a:solidFill>
                    <a:srgbClr val="ffffff"/>
                  </a:solidFill>
                  <a:latin typeface="Arial"/>
                </a:rPr>
                <a:t>reduceri emisii) care finanţ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az</a:t>
              </a:r>
              <a:r>
                <a:rPr b="1" lang="ro-RO" sz="1400" spc="-1" strike="noStrike">
                  <a:solidFill>
                    <a:srgbClr val="ffffff"/>
                  </a:solidFill>
                  <a:latin typeface="Arial"/>
                </a:rPr>
                <a:t>ă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proiectu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81080" indent="-181080" algn="ctr">
                <a:tabLst>
                  <a:tab algn="l" pos="0"/>
                  <a:tab algn="l" pos="1590840"/>
                  <a:tab algn="r" pos="204804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81080" indent="-181080" algn="ctr">
                <a:tabLst>
                  <a:tab algn="l" pos="0"/>
                  <a:tab algn="l" pos="1590840"/>
                  <a:tab algn="r" pos="204804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x: Olanda, Norvegia, Danemarca, Suedi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81080" indent="-181080">
                <a:spcBef>
                  <a:spcPts val="876"/>
                </a:spcBef>
                <a:buClr>
                  <a:srgbClr val="5c6a8e"/>
                </a:buClr>
                <a:buSzPct val="85000"/>
                <a:buFont typeface="Wingdings" charset="2"/>
                <a:buChar char=""/>
                <a:tabLst>
                  <a:tab algn="l" pos="1590840"/>
                  <a:tab algn="r" pos="204804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19160" y="2209680"/>
              <a:ext cx="2708280" cy="1676520"/>
            </a:xfrm>
            <a:prstGeom prst="rect">
              <a:avLst/>
            </a:prstGeom>
            <a:solidFill>
              <a:srgbClr val="5c6a8e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0" rIns="90000" tIns="90000" bIns="90000" anchor="t">
              <a:noAutofit/>
            </a:bodyPr>
            <a:p>
              <a:pPr marL="181080" indent="-181080" algn="ctr">
                <a:tabLst>
                  <a:tab algn="l" pos="0"/>
                  <a:tab algn="l" pos="1590840"/>
                  <a:tab algn="r" pos="204804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ro-RO" sz="1400" spc="-1" strike="noStrike">
                  <a:solidFill>
                    <a:srgbClr val="ffffff"/>
                  </a:solidFill>
                  <a:latin typeface="Arial"/>
                </a:rPr>
                <a:t>Ţ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ra (care vinde </a:t>
              </a:r>
              <a:r>
                <a:rPr b="1" lang="ro-RO" sz="1400" spc="-1" strike="noStrike">
                  <a:solidFill>
                    <a:srgbClr val="ffffff"/>
                  </a:solidFill>
                  <a:latin typeface="Arial"/>
                </a:rPr>
                <a:t>reduceri emisii) unde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se implementeaz</a:t>
              </a:r>
              <a:r>
                <a:rPr b="1" lang="ro-RO" sz="1400" spc="-1" strike="noStrike">
                  <a:solidFill>
                    <a:srgbClr val="ffffff"/>
                  </a:solidFill>
                  <a:latin typeface="Arial"/>
                </a:rPr>
                <a:t>ă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proiectul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81080" indent="-181080" algn="ctr">
                <a:tabLst>
                  <a:tab algn="l" pos="0"/>
                  <a:tab algn="l" pos="1590840"/>
                  <a:tab algn="r" pos="204804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x: Rom</a:t>
              </a:r>
              <a:r>
                <a:rPr b="1" lang="ro-RO" sz="1400" spc="-1" strike="noStrike">
                  <a:solidFill>
                    <a:srgbClr val="ffffff"/>
                  </a:solidFill>
                  <a:latin typeface="Arial"/>
                </a:rPr>
                <a:t>â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ia, </a:t>
              </a:r>
              <a:r>
                <a:rPr b="1" lang="ro-RO" sz="1400" spc="-1" strike="noStrike">
                  <a:solidFill>
                    <a:srgbClr val="ffffff"/>
                  </a:solidFill>
                  <a:latin typeface="Arial"/>
                </a:rPr>
                <a:t>î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 compara</a:t>
              </a:r>
              <a:r>
                <a:rPr b="1" lang="ro-RO" sz="1400" spc="-1" strike="noStrike">
                  <a:solidFill>
                    <a:srgbClr val="ffffff"/>
                  </a:solidFill>
                  <a:latin typeface="Arial"/>
                </a:rPr>
                <a:t>ţ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e cu 1989 </a:t>
              </a:r>
              <a:r>
                <a:rPr b="1" lang="ro-RO" sz="1400" spc="-1" strike="noStrike">
                  <a:solidFill>
                    <a:srgbClr val="ffffff"/>
                  </a:solidFill>
                  <a:latin typeface="Arial"/>
                </a:rPr>
                <a:t>ş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-a atins obiectivul de reducere emisi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81080" indent="-181080">
                <a:spcBef>
                  <a:spcPts val="876"/>
                </a:spcBef>
                <a:buClr>
                  <a:srgbClr val="5c6a8e"/>
                </a:buClr>
                <a:buSzPct val="85000"/>
                <a:buFont typeface="Wingdings" charset="2"/>
                <a:buChar char=""/>
                <a:tabLst>
                  <a:tab algn="l" pos="1590840"/>
                  <a:tab algn="r" pos="204804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57" name=""/>
            <p:cNvCxnSpPr/>
            <p:nvPr/>
          </p:nvCxnSpPr>
          <p:spPr>
            <a:xfrm flipH="1">
              <a:off x="1043640" y="2881440"/>
              <a:ext cx="7016040" cy="2160"/>
            </a:xfrm>
            <a:prstGeom prst="bentConnector5">
              <a:avLst>
                <a:gd name="adj1" fmla="val -3053"/>
                <a:gd name="adj2" fmla="val -55600000"/>
                <a:gd name="adj3" fmla="val 103053"/>
              </a:avLst>
            </a:prstGeom>
            <a:ln w="6480">
              <a:solidFill>
                <a:srgbClr val="ffffff"/>
              </a:solidFill>
              <a:miter/>
              <a:tailEnd len="sm" type="stealth" w="sm"/>
            </a:ln>
          </p:spPr>
        </p:cxnSp>
        <p:cxnSp>
          <p:nvCxnSpPr>
            <p:cNvPr id="158" name=""/>
            <p:cNvCxnSpPr/>
            <p:nvPr/>
          </p:nvCxnSpPr>
          <p:spPr>
            <a:xfrm flipH="1" rot="16200000">
              <a:off x="4637160" y="2325240"/>
              <a:ext cx="10080" cy="3131280"/>
            </a:xfrm>
            <a:prstGeom prst="bentConnector3">
              <a:avLst>
                <a:gd name="adj1" fmla="val 8185185"/>
              </a:avLst>
            </a:prstGeom>
            <a:ln w="6480">
              <a:solidFill>
                <a:srgbClr val="ffffff"/>
              </a:solidFill>
              <a:miter/>
              <a:tailEnd len="lg" type="stealth" w="lg"/>
            </a:ln>
          </p:spPr>
        </p:cxnSp>
      </p:grpSp>
      <p:sp>
        <p:nvSpPr>
          <p:cNvPr id="159" name=""/>
          <p:cNvSpPr/>
          <p:nvPr/>
        </p:nvSpPr>
        <p:spPr>
          <a:xfrm>
            <a:off x="711360" y="4892760"/>
            <a:ext cx="7746840" cy="1295280"/>
          </a:xfrm>
          <a:prstGeom prst="rect">
            <a:avLst/>
          </a:prstGeom>
          <a:solidFill>
            <a:srgbClr val="5c6a8e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90000" tIns="90000" bIns="90000" anchor="t">
            <a:noAutofit/>
          </a:bodyPr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1590840"/>
                <a:tab algn="r" pos="20480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om</a:t>
            </a: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â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ia are </a:t>
            </a: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cheiate memorandumuri de </a:t>
            </a: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legere cu 9 </a:t>
            </a: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ţă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i (Elve</a:t>
            </a: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a, Olanda, Norvegia, Austria, Danemarca, Suedia, Fran</a:t>
            </a: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, Finlanda, Italia </a:t>
            </a: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 cu Banca Mondial</a:t>
            </a: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1590840"/>
                <a:tab algn="r" pos="20480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ficial, 16 proiecte JI aprobate </a:t>
            </a: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 diverse faze de derulare – nici unul </a:t>
            </a: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 industria de petrol </a:t>
            </a: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 gaz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1590840"/>
                <a:tab algn="r" pos="20480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1 de scrisori de sus</a:t>
            </a: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ere </a:t>
            </a: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 5 scrisori de aprobare pentru alte proiecte J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spcBef>
                <a:spcPts val="876"/>
              </a:spcBef>
              <a:buClr>
                <a:srgbClr val="5c6a8e"/>
              </a:buClr>
              <a:buSzPct val="85000"/>
              <a:buFont typeface="Wingdings" charset="2"/>
              <a:buChar char=""/>
              <a:tabLst>
                <a:tab algn="l" pos="1590840"/>
                <a:tab algn="r" pos="20480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7920" y="75960"/>
            <a:ext cx="839484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portunit</a:t>
            </a:r>
            <a:r>
              <a:rPr b="1" lang="ro-RO" sz="3000" spc="-1" strike="noStrike">
                <a:solidFill>
                  <a:srgbClr val="ffffff"/>
                </a:solidFill>
                <a:latin typeface="Arial"/>
              </a:rPr>
              <a:t>ăţ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 din aplicare Directiva EU-E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6120" y="1614600"/>
            <a:ext cx="7978680" cy="52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f38e3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form Planului Na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onal de Alocare (2008 – 2012), printre altele,  companii din industria energetic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rafin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ile au primit drepturi de emisie CO2 (1 certificat = 1 ton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O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f38e3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strategie de mediu corect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poate conduce la emisii diminuate de CO2 – surplus de certificate – se pot vinde pe pia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european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14 – 15 Euro/certificat) sau se pot p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a pentru urm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rul an; trebuie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registrate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 situa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le financi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f38e3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RS nu ofera o specifica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e privind modul de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registrare, dar fiind primite de la guvern, se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registraza ca “active intangibile/necorporale”, iar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 caz de v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â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zare se pot considera “stocuri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f38e3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390760" y="1700280"/>
            <a:ext cx="60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ffffff"/>
                </a:solidFill>
                <a:uFillTx/>
                <a:latin typeface="Univers 45 Light"/>
              </a:rPr>
              <a:t>Detalii de conta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Univers 45 Light"/>
              </a:rPr>
              <a:t>Geta Diacon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Univers 45 Light"/>
              </a:rPr>
              <a:t>Director, Asisten</a:t>
            </a:r>
            <a:r>
              <a:rPr b="1" lang="ro-RO" sz="2400" spc="-1" strike="noStrike">
                <a:solidFill>
                  <a:srgbClr val="ffffff"/>
                </a:solidFill>
                <a:latin typeface="Univers 45 Light"/>
              </a:rPr>
              <a:t>ţă</a:t>
            </a:r>
            <a:r>
              <a:rPr b="1" lang="en-GB" sz="2400" spc="-1" strike="noStrike">
                <a:solidFill>
                  <a:srgbClr val="ffffff"/>
                </a:solidFill>
                <a:latin typeface="Univers 45 Light"/>
              </a:rPr>
              <a:t> Dezvoltare Durabil</a:t>
            </a:r>
            <a:r>
              <a:rPr b="1" lang="ro-RO" sz="2400" spc="-1" strike="noStrike">
                <a:solidFill>
                  <a:srgbClr val="ffffff"/>
                </a:solidFill>
                <a:latin typeface="Univers 45 Light"/>
              </a:rPr>
              <a:t>ă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Univers 45 Light"/>
              </a:rPr>
              <a:t>KPMG Rom</a:t>
            </a:r>
            <a:r>
              <a:rPr b="1" lang="ro-RO" sz="2400" spc="-1" strike="noStrike">
                <a:solidFill>
                  <a:srgbClr val="ffffff"/>
                </a:solidFill>
                <a:latin typeface="Univers 45 Light"/>
              </a:rPr>
              <a:t>â</a:t>
            </a:r>
            <a:r>
              <a:rPr b="1" lang="en-GB" sz="2400" spc="-1" strike="noStrike">
                <a:solidFill>
                  <a:srgbClr val="ffffff"/>
                </a:solidFill>
                <a:latin typeface="Univers 45 Light"/>
              </a:rPr>
              <a:t>ni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Univers 45 Light"/>
              </a:rPr>
              <a:t>+40 (741) 800 80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Univers 45 Light"/>
              </a:rPr>
              <a:t>+40 (741) 800 876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Univers 45 Light"/>
              </a:rPr>
              <a:t>+40 (744) 365 966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44026"/>
                </a:solidFill>
                <a:uFillTx/>
                <a:latin typeface="Univers 45 Light"/>
                <a:hlinkClick r:id="rId1"/>
              </a:rPr>
              <a:t>gdiaconu@kpmg.c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Univers 45 Light"/>
              </a:rPr>
              <a:t>www.kpmg.r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7920" y="75960"/>
            <a:ext cx="839484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Univers 45 Light"/>
              </a:rPr>
              <a:t>Agend</a:t>
            </a:r>
            <a:r>
              <a:rPr b="1" lang="ro-RO" sz="3000" spc="-1" strike="noStrike">
                <a:solidFill>
                  <a:srgbClr val="ffffff"/>
                </a:solidFill>
                <a:latin typeface="Univers 45 Light"/>
              </a:rPr>
              <a:t>ă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080" y="1599840"/>
            <a:ext cx="9007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lnSpc>
                <a:spcPct val="90000"/>
              </a:lnSpc>
              <a:spcBef>
                <a:spcPts val="1349"/>
              </a:spcBef>
              <a:buClr>
                <a:srgbClr val="f38e31"/>
              </a:buClr>
              <a:buSzPct val="80000"/>
              <a:buFont typeface="Wingdings" charset="2"/>
              <a:buChar char="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 45 Light"/>
              </a:rPr>
              <a:t>Dezvoltarea Durabil</a:t>
            </a:r>
            <a:r>
              <a:rPr b="1" lang="ro-RO" sz="2400" spc="-1" strike="noStrike">
                <a:solidFill>
                  <a:srgbClr val="ffffff"/>
                </a:solidFill>
                <a:latin typeface="Univers 45 Light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Univers 45 Light"/>
              </a:rPr>
              <a:t> a Afaceri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43080">
              <a:lnSpc>
                <a:spcPct val="90000"/>
              </a:lnSpc>
              <a:spcBef>
                <a:spcPts val="1349"/>
              </a:spcBef>
              <a:buClr>
                <a:srgbClr val="f38e31"/>
              </a:buClr>
              <a:buSzPct val="80000"/>
              <a:buFont typeface="Wingdings" charset="2"/>
              <a:buChar char="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 45 Light"/>
              </a:rPr>
              <a:t>Presiuni de mediu asupra unei compani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43080">
              <a:lnSpc>
                <a:spcPct val="90000"/>
              </a:lnSpc>
              <a:spcBef>
                <a:spcPts val="1349"/>
              </a:spcBef>
              <a:buClr>
                <a:srgbClr val="f38e31"/>
              </a:buClr>
              <a:buSzPct val="80000"/>
              <a:buFont typeface="Wingdings" charset="2"/>
              <a:buChar char="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 45 Light"/>
              </a:rPr>
              <a:t>Presiuni juridice de mediu </a:t>
            </a:r>
            <a:r>
              <a:rPr b="1" lang="ro-RO" sz="2400" spc="-1" strike="noStrike">
                <a:solidFill>
                  <a:srgbClr val="ffffff"/>
                </a:solidFill>
                <a:latin typeface="Univers 45 Light"/>
              </a:rPr>
              <a:t>î</a:t>
            </a:r>
            <a:r>
              <a:rPr b="1" lang="en-US" sz="2400" spc="-1" strike="noStrike">
                <a:solidFill>
                  <a:srgbClr val="ffffff"/>
                </a:solidFill>
                <a:latin typeface="Univers 45 Light"/>
              </a:rPr>
              <a:t>n industria de petrol </a:t>
            </a:r>
            <a:r>
              <a:rPr b="1" lang="ro-RO" sz="2400" spc="-1" strike="noStrike">
                <a:solidFill>
                  <a:srgbClr val="ffffff"/>
                </a:solidFill>
                <a:latin typeface="Univers 45 Light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Univers 45 Light"/>
              </a:rPr>
              <a:t>i gaz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43080">
              <a:lnSpc>
                <a:spcPct val="90000"/>
              </a:lnSpc>
              <a:spcBef>
                <a:spcPts val="1349"/>
              </a:spcBef>
              <a:buClr>
                <a:srgbClr val="f38e31"/>
              </a:buClr>
              <a:buSzPct val="80000"/>
              <a:buFont typeface="Wingdings" charset="2"/>
              <a:buChar char="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 45 Light"/>
              </a:rPr>
              <a:t>Consecin</a:t>
            </a:r>
            <a:r>
              <a:rPr b="1" lang="ro-RO" sz="2400" spc="-1" strike="noStrike">
                <a:solidFill>
                  <a:srgbClr val="ffffff"/>
                </a:solidFill>
                <a:latin typeface="Univers 45 Light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Univers 45 Light"/>
              </a:rPr>
              <a:t>e ale presiunilor de medi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43080">
              <a:lnSpc>
                <a:spcPct val="90000"/>
              </a:lnSpc>
              <a:spcBef>
                <a:spcPts val="1349"/>
              </a:spcBef>
              <a:buClr>
                <a:srgbClr val="f38e31"/>
              </a:buClr>
              <a:buSzPct val="80000"/>
              <a:buFont typeface="Wingdings" charset="2"/>
              <a:buChar char="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 45 Light"/>
              </a:rPr>
              <a:t>Oportunit</a:t>
            </a:r>
            <a:r>
              <a:rPr b="1" lang="ro-RO" sz="2400" spc="-1" strike="noStrike">
                <a:solidFill>
                  <a:srgbClr val="ffffff"/>
                </a:solidFill>
                <a:latin typeface="Univers 45 Light"/>
              </a:rPr>
              <a:t>ăţ</a:t>
            </a:r>
            <a:r>
              <a:rPr b="1" lang="en-US" sz="2400" spc="-1" strike="noStrike">
                <a:solidFill>
                  <a:srgbClr val="ffffff"/>
                </a:solidFill>
                <a:latin typeface="Univers 45 Light"/>
              </a:rPr>
              <a:t>i de mediu </a:t>
            </a:r>
            <a:r>
              <a:rPr b="1" lang="ro-RO" sz="2400" spc="-1" strike="noStrike">
                <a:solidFill>
                  <a:srgbClr val="ffffff"/>
                </a:solidFill>
                <a:latin typeface="Univers 45 Light"/>
              </a:rPr>
              <a:t>î</a:t>
            </a:r>
            <a:r>
              <a:rPr b="1" lang="en-US" sz="2400" spc="-1" strike="noStrike">
                <a:solidFill>
                  <a:srgbClr val="ffffff"/>
                </a:solidFill>
                <a:latin typeface="Univers 45 Light"/>
              </a:rPr>
              <a:t>n industria de petrol </a:t>
            </a:r>
            <a:r>
              <a:rPr b="1" lang="ro-RO" sz="2400" spc="-1" strike="noStrike">
                <a:solidFill>
                  <a:srgbClr val="ffffff"/>
                </a:solidFill>
                <a:latin typeface="Univers 45 Light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Univers 45 Light"/>
              </a:rPr>
              <a:t>i gaz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43080">
              <a:lnSpc>
                <a:spcPct val="90000"/>
              </a:lnSpc>
              <a:spcBef>
                <a:spcPts val="1349"/>
              </a:spcBef>
              <a:buClr>
                <a:srgbClr val="f38e31"/>
              </a:buClr>
              <a:buSzPct val="80000"/>
              <a:buFont typeface="Wingdings" charset="2"/>
              <a:buChar char="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 45 Light"/>
              </a:rPr>
              <a:t>Protocolul de la Kyot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43080">
              <a:lnSpc>
                <a:spcPct val="90000"/>
              </a:lnSpc>
              <a:spcBef>
                <a:spcPts val="1349"/>
              </a:spcBef>
              <a:buClr>
                <a:srgbClr val="f38e31"/>
              </a:buClr>
              <a:buSzPct val="80000"/>
              <a:buFont typeface="Wingdings" charset="2"/>
              <a:buChar char="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 45 Light"/>
              </a:rPr>
              <a:t>Mecanismul de implementare </a:t>
            </a:r>
            <a:r>
              <a:rPr b="1" lang="ro-RO" sz="2400" spc="-1" strike="noStrike">
                <a:solidFill>
                  <a:srgbClr val="ffffff"/>
                </a:solidFill>
                <a:latin typeface="Univers 45 Light"/>
              </a:rPr>
              <a:t>î</a:t>
            </a:r>
            <a:r>
              <a:rPr b="1" lang="en-US" sz="2400" spc="-1" strike="noStrike">
                <a:solidFill>
                  <a:srgbClr val="ffffff"/>
                </a:solidFill>
                <a:latin typeface="Univers 45 Light"/>
              </a:rPr>
              <a:t>n comun (JI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43080">
              <a:lnSpc>
                <a:spcPct val="90000"/>
              </a:lnSpc>
              <a:spcBef>
                <a:spcPts val="1349"/>
              </a:spcBef>
              <a:buClr>
                <a:srgbClr val="f38e31"/>
              </a:buClr>
              <a:buSzPct val="80000"/>
              <a:buFont typeface="Wingdings" charset="2"/>
              <a:buChar char="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 45 Light"/>
              </a:rPr>
              <a:t>Oportunit</a:t>
            </a:r>
            <a:r>
              <a:rPr b="1" lang="ro-RO" sz="2400" spc="-1" strike="noStrike">
                <a:solidFill>
                  <a:srgbClr val="ffffff"/>
                </a:solidFill>
                <a:latin typeface="Univers 45 Light"/>
              </a:rPr>
              <a:t>ăţ</a:t>
            </a:r>
            <a:r>
              <a:rPr b="1" lang="en-US" sz="2400" spc="-1" strike="noStrike">
                <a:solidFill>
                  <a:srgbClr val="ffffff"/>
                </a:solidFill>
                <a:latin typeface="Univers 45 Light"/>
              </a:rPr>
              <a:t>i </a:t>
            </a:r>
            <a:r>
              <a:rPr b="1" lang="ro-RO" sz="2400" spc="-1" strike="noStrike">
                <a:solidFill>
                  <a:srgbClr val="ffffff"/>
                </a:solidFill>
                <a:latin typeface="Univers 45 Light"/>
              </a:rPr>
              <a:t>î</a:t>
            </a:r>
            <a:r>
              <a:rPr b="1" lang="en-US" sz="2400" spc="-1" strike="noStrike">
                <a:solidFill>
                  <a:srgbClr val="ffffff"/>
                </a:solidFill>
                <a:latin typeface="Univers 45 Light"/>
              </a:rPr>
              <a:t>n aplicarea Directivei EU-E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73200" y="17604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br>
              <a:rPr sz="1100"/>
            </a:b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000" spc="-1" strike="noStrike">
                <a:solidFill>
                  <a:srgbClr val="ffffff"/>
                </a:solidFill>
                <a:latin typeface="Univers 45 Light"/>
              </a:rPr>
              <a:t>Dezvoltarea </a:t>
            </a:r>
            <a:r>
              <a:rPr b="1" lang="en-GB" sz="3400" spc="-1" strike="noStrike">
                <a:solidFill>
                  <a:srgbClr val="ffffff"/>
                </a:solidFill>
                <a:latin typeface="Univers 45 Light"/>
              </a:rPr>
              <a:t> durabil</a:t>
            </a:r>
            <a:r>
              <a:rPr b="1" lang="ro-RO" sz="3400" spc="-1" strike="noStrike">
                <a:solidFill>
                  <a:srgbClr val="ffffff"/>
                </a:solidFill>
                <a:latin typeface="Univers 45 Light"/>
              </a:rPr>
              <a:t>ă</a:t>
            </a:r>
            <a:r>
              <a:rPr b="1" lang="en-GB" sz="3400" spc="-1" strike="noStrike">
                <a:solidFill>
                  <a:srgbClr val="ffffff"/>
                </a:solidFill>
                <a:latin typeface="Univers 45 Light"/>
              </a:rPr>
              <a:t> a afacerii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Univers 45 Light"/>
              </a:rPr>
              <a:t>Organiza</a:t>
            </a:r>
            <a:r>
              <a:rPr b="1" lang="ro-RO" sz="2000" spc="-1" strike="noStrike">
                <a:solidFill>
                  <a:srgbClr val="ffffff"/>
                </a:solidFill>
                <a:latin typeface="Univers 45 Light"/>
              </a:rPr>
              <a:t>ţ</a:t>
            </a:r>
            <a:r>
              <a:rPr b="1" lang="en-GB" sz="2000" spc="-1" strike="noStrike">
                <a:solidFill>
                  <a:srgbClr val="ffffff"/>
                </a:solidFill>
                <a:latin typeface="Univers 45 Light"/>
              </a:rPr>
              <a:t>iile de succes r</a:t>
            </a:r>
            <a:r>
              <a:rPr b="1" lang="ro-RO" sz="2000" spc="-1" strike="noStrike">
                <a:solidFill>
                  <a:srgbClr val="ffffff"/>
                </a:solidFill>
                <a:latin typeface="Univers 45 Light"/>
              </a:rPr>
              <a:t>ă</a:t>
            </a:r>
            <a:r>
              <a:rPr b="1" lang="en-GB" sz="2000" spc="-1" strike="noStrike">
                <a:solidFill>
                  <a:srgbClr val="ffffff"/>
                </a:solidFill>
                <a:latin typeface="Univers 45 Light"/>
              </a:rPr>
              <a:t>spund </a:t>
            </a:r>
            <a:r>
              <a:rPr b="1" lang="ro-RO" sz="2000" spc="-1" strike="noStrike">
                <a:solidFill>
                  <a:srgbClr val="ffffff"/>
                </a:solidFill>
                <a:latin typeface="Univers 45 Light"/>
              </a:rPr>
              <a:t>î</a:t>
            </a:r>
            <a:r>
              <a:rPr b="1" lang="en-GB" sz="2000" spc="-1" strike="noStrike">
                <a:solidFill>
                  <a:srgbClr val="ffffff"/>
                </a:solidFill>
                <a:latin typeface="Univers 45 Light"/>
              </a:rPr>
              <a:t>n mod creativ nevoilor societ</a:t>
            </a:r>
            <a:r>
              <a:rPr b="1" lang="ro-RO" sz="2000" spc="-1" strike="noStrike">
                <a:solidFill>
                  <a:srgbClr val="ffffff"/>
                </a:solidFill>
                <a:latin typeface="Univers 45 Light"/>
              </a:rPr>
              <a:t>ăţ</a:t>
            </a:r>
            <a:r>
              <a:rPr b="1" lang="en-GB" sz="2000" spc="-1" strike="noStrike">
                <a:solidFill>
                  <a:srgbClr val="ffffff"/>
                </a:solidFill>
                <a:latin typeface="Univers 45 Light"/>
              </a:rPr>
              <a:t>ii. Aceste nevoi trec dincolo de crearea de valori economice </a:t>
            </a:r>
            <a:r>
              <a:rPr b="1" lang="ro-RO" sz="2000" spc="-1" strike="noStrike">
                <a:solidFill>
                  <a:srgbClr val="ffffff"/>
                </a:solidFill>
                <a:latin typeface="Univers 45 Light"/>
              </a:rPr>
              <a:t>ş</a:t>
            </a:r>
            <a:r>
              <a:rPr b="1" lang="en-GB" sz="2000" spc="-1" strike="noStrike">
                <a:solidFill>
                  <a:srgbClr val="ffffff"/>
                </a:solidFill>
                <a:latin typeface="Univers 45 Light"/>
              </a:rPr>
              <a:t>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Univers 45 Light"/>
              </a:rPr>
              <a:t>includ conservarea mediului </a:t>
            </a:r>
            <a:r>
              <a:rPr b="1" lang="ro-RO" sz="2000" spc="-1" strike="noStrike">
                <a:solidFill>
                  <a:srgbClr val="ffffff"/>
                </a:solidFill>
                <a:latin typeface="Univers 45 Light"/>
              </a:rPr>
              <a:t>î</a:t>
            </a:r>
            <a:r>
              <a:rPr b="1" lang="en-GB" sz="2000" spc="-1" strike="noStrike">
                <a:solidFill>
                  <a:srgbClr val="ffffff"/>
                </a:solidFill>
                <a:latin typeface="Univers 45 Light"/>
              </a:rPr>
              <a:t>nconjur</a:t>
            </a:r>
            <a:r>
              <a:rPr b="1" lang="ro-RO" sz="2000" spc="-1" strike="noStrike">
                <a:solidFill>
                  <a:srgbClr val="ffffff"/>
                </a:solidFill>
                <a:latin typeface="Univers 45 Light"/>
              </a:rPr>
              <a:t>ă</a:t>
            </a:r>
            <a:r>
              <a:rPr b="1" lang="en-GB" sz="2000" spc="-1" strike="noStrike">
                <a:solidFill>
                  <a:srgbClr val="ffffff"/>
                </a:solidFill>
                <a:latin typeface="Univers 45 Light"/>
              </a:rPr>
              <a:t>tor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Univers 45 Light"/>
              </a:rPr>
              <a:t>coeziunea social</a:t>
            </a:r>
            <a:r>
              <a:rPr b="1" lang="ro-RO" sz="2000" spc="-1" strike="noStrike">
                <a:solidFill>
                  <a:srgbClr val="ffffff"/>
                </a:solidFill>
                <a:latin typeface="Univers 45 Light"/>
              </a:rPr>
              <a:t>ă</a:t>
            </a:r>
            <a:r>
              <a:rPr b="1" lang="en-GB" sz="2000" spc="-1" strike="noStrike">
                <a:solidFill>
                  <a:srgbClr val="ffffff"/>
                </a:solidFill>
                <a:latin typeface="Univers 45 Light"/>
              </a:rPr>
              <a:t> </a:t>
            </a:r>
            <a:r>
              <a:rPr b="1" lang="ro-RO" sz="2000" spc="-1" strike="noStrike">
                <a:solidFill>
                  <a:srgbClr val="ffffff"/>
                </a:solidFill>
                <a:latin typeface="Univers 45 Light"/>
              </a:rPr>
              <a:t>ş</a:t>
            </a:r>
            <a:r>
              <a:rPr b="1" lang="en-GB" sz="2000" spc="-1" strike="noStrike">
                <a:solidFill>
                  <a:srgbClr val="ffffff"/>
                </a:solidFill>
                <a:latin typeface="Univers 45 Light"/>
              </a:rPr>
              <a:t>i conduita etic</a:t>
            </a:r>
            <a:r>
              <a:rPr b="1" lang="ro-RO" sz="2000" spc="-1" strike="noStrike">
                <a:solidFill>
                  <a:srgbClr val="ffffff"/>
                </a:solidFill>
                <a:latin typeface="Univers 45 Light"/>
              </a:rPr>
              <a:t>ă</a:t>
            </a:r>
            <a:r>
              <a:rPr b="1" lang="en-GB" sz="2000" spc="-1" strike="noStrike">
                <a:solidFill>
                  <a:srgbClr val="ffffff"/>
                </a:solidFill>
                <a:latin typeface="Univers 45 Light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436840" y="2620800"/>
          <a:ext cx="4781520" cy="360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6840" y="2620800"/>
                    <a:ext cx="4781520" cy="36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465280" y="2552760"/>
            <a:ext cx="4050000" cy="1901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16480" y="1943280"/>
            <a:ext cx="819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Univers 55 BT"/>
              </a:rPr>
              <a:t>Medi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876280" y="2421000"/>
            <a:ext cx="1017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Univers 55 BT"/>
              </a:rPr>
              <a:t>Publicu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61560" y="2927520"/>
            <a:ext cx="1191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Univers 55 BT"/>
              </a:rPr>
              <a:t>Ecologi</a:t>
            </a:r>
            <a:r>
              <a:rPr b="1" lang="ro-RO" sz="1700" spc="-1" strike="noStrike">
                <a:solidFill>
                  <a:srgbClr val="ffffff"/>
                </a:solidFill>
                <a:latin typeface="Univers 55 BT"/>
              </a:rPr>
              <a:t>ş</a:t>
            </a:r>
            <a:r>
              <a:rPr b="1" lang="en-US" sz="1700" spc="-1" strike="noStrike">
                <a:solidFill>
                  <a:srgbClr val="ffffff"/>
                </a:solidFill>
                <a:latin typeface="Univers 55 BT"/>
              </a:rPr>
              <a:t>ti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96280" y="4064040"/>
            <a:ext cx="1550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Univers 55 BT"/>
              </a:rPr>
              <a:t>Consumatori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00120" y="4997520"/>
            <a:ext cx="2284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Univers 55 BT"/>
              </a:rPr>
              <a:t>Autorit</a:t>
            </a:r>
            <a:r>
              <a:rPr b="1" lang="ro-RO" sz="1700" spc="-1" strike="noStrike">
                <a:solidFill>
                  <a:srgbClr val="ffffff"/>
                </a:solidFill>
                <a:latin typeface="Univers 55 BT"/>
              </a:rPr>
              <a:t>ăţ</a:t>
            </a:r>
            <a:r>
              <a:rPr b="1" lang="en-US" sz="1700" spc="-1" strike="noStrike">
                <a:solidFill>
                  <a:srgbClr val="ffffff"/>
                </a:solidFill>
                <a:latin typeface="Univers 55 BT"/>
              </a:rPr>
              <a:t>i de mediu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25720" y="4929120"/>
            <a:ext cx="1121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Univers 55 BT"/>
              </a:rPr>
              <a:t>Furnizori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40800" y="4995720"/>
            <a:ext cx="221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Univers 55 BT"/>
              </a:rPr>
              <a:t>Sistem educa</a:t>
            </a:r>
            <a:r>
              <a:rPr b="1" lang="ro-RO" sz="1700" spc="-1" strike="noStrike">
                <a:solidFill>
                  <a:srgbClr val="ffffff"/>
                </a:solidFill>
                <a:latin typeface="Univers 55 BT"/>
              </a:rPr>
              <a:t>ţ</a:t>
            </a:r>
            <a:r>
              <a:rPr b="1" lang="en-US" sz="1700" spc="-1" strike="noStrike">
                <a:solidFill>
                  <a:srgbClr val="ffffff"/>
                </a:solidFill>
                <a:latin typeface="Univers 55 BT"/>
              </a:rPr>
              <a:t>iona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65080" y="4005360"/>
            <a:ext cx="74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Univers 55 BT"/>
              </a:rPr>
              <a:t>B</a:t>
            </a:r>
            <a:r>
              <a:rPr b="1" lang="ro-RO" sz="1700" spc="-1" strike="noStrike">
                <a:solidFill>
                  <a:srgbClr val="ffffff"/>
                </a:solidFill>
                <a:latin typeface="Univers 55 BT"/>
              </a:rPr>
              <a:t>ă</a:t>
            </a:r>
            <a:r>
              <a:rPr b="1" lang="en-US" sz="1700" spc="-1" strike="noStrike">
                <a:solidFill>
                  <a:srgbClr val="ffffff"/>
                </a:solidFill>
                <a:latin typeface="Univers 55 BT"/>
              </a:rPr>
              <a:t>nci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6400" y="3460680"/>
            <a:ext cx="122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Univers 55 BT"/>
              </a:rPr>
              <a:t>Politicieni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31760" y="2935440"/>
            <a:ext cx="1453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Univers 55 BT"/>
              </a:rPr>
              <a:t>Competitori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12720" y="2463840"/>
            <a:ext cx="1069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Univers 55 BT"/>
              </a:rPr>
              <a:t>Angaja</a:t>
            </a:r>
            <a:r>
              <a:rPr b="1" lang="ro-RO" sz="1700" spc="-1" strike="noStrike">
                <a:solidFill>
                  <a:srgbClr val="ffffff"/>
                </a:solidFill>
                <a:latin typeface="Univers 55 BT"/>
              </a:rPr>
              <a:t>ţ</a:t>
            </a:r>
            <a:r>
              <a:rPr b="1" lang="en-US" sz="1700" spc="-1" strike="noStrike">
                <a:solidFill>
                  <a:srgbClr val="ffffff"/>
                </a:solidFill>
                <a:latin typeface="Univers 55 BT"/>
              </a:rPr>
              <a:t>i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14680" y="1521000"/>
            <a:ext cx="1200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Univers 55 BT"/>
              </a:rPr>
              <a:t>Ac</a:t>
            </a:r>
            <a:r>
              <a:rPr b="1" lang="ro-RO" sz="1700" spc="-1" strike="noStrike">
                <a:solidFill>
                  <a:srgbClr val="ffffff"/>
                </a:solidFill>
                <a:latin typeface="Univers 55 BT"/>
              </a:rPr>
              <a:t>ţ</a:t>
            </a:r>
            <a:r>
              <a:rPr b="1" lang="en-US" sz="1700" spc="-1" strike="noStrike">
                <a:solidFill>
                  <a:srgbClr val="ffffff"/>
                </a:solidFill>
                <a:latin typeface="Univers 55 BT"/>
              </a:rPr>
              <a:t>ionari</a:t>
            </a:r>
            <a:r>
              <a:rPr b="0" lang="en-US" sz="1700" spc="-1" strike="noStrike">
                <a:solidFill>
                  <a:srgbClr val="ffffff"/>
                </a:solidFill>
                <a:latin typeface="Univers 55 BT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16240" y="1584360"/>
            <a:ext cx="851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Univers 55 BT"/>
              </a:rPr>
              <a:t>Clien</a:t>
            </a:r>
            <a:r>
              <a:rPr b="1" lang="ro-RO" sz="1700" spc="-1" strike="noStrike">
                <a:solidFill>
                  <a:srgbClr val="ffffff"/>
                </a:solidFill>
                <a:latin typeface="Univers 55 BT"/>
              </a:rPr>
              <a:t>ţ</a:t>
            </a:r>
            <a:r>
              <a:rPr b="1" lang="en-US" sz="1700" spc="-1" strike="noStrike">
                <a:solidFill>
                  <a:srgbClr val="ffffff"/>
                </a:solidFill>
                <a:latin typeface="Univers 55 BT"/>
              </a:rPr>
              <a:t>i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339800" y="1905120"/>
            <a:ext cx="79560" cy="59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196960" y="2301840"/>
            <a:ext cx="320760" cy="430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0600" y="2711520"/>
            <a:ext cx="515880" cy="358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711400" y="3133800"/>
            <a:ext cx="676440" cy="2030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5932440" y="4005360"/>
            <a:ext cx="695520" cy="225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5324400" y="4452840"/>
            <a:ext cx="540000" cy="449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327560" y="4511160"/>
            <a:ext cx="0" cy="4446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819520" y="4476240"/>
            <a:ext cx="465120" cy="476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763640" y="3981600"/>
            <a:ext cx="1019160" cy="139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25800" y="3651120"/>
            <a:ext cx="434880" cy="18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54120" y="3187800"/>
            <a:ext cx="459000" cy="1746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81360" y="2728800"/>
            <a:ext cx="458640" cy="3193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50880" y="303120"/>
            <a:ext cx="8201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siuni de mediu asupra unei compan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2057400"/>
            <a:ext cx="266760" cy="531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04520" y="455400"/>
            <a:ext cx="7412040" cy="69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resiuni de mediu (2)</a:t>
            </a:r>
            <a:br>
              <a:rPr sz="3000"/>
            </a:b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37960" y="1278000"/>
            <a:ext cx="9910800" cy="4892040"/>
            <a:chOff x="237960" y="1278000"/>
            <a:chExt cx="9910800" cy="4892040"/>
          </a:xfrm>
        </p:grpSpPr>
        <p:sp>
          <p:nvSpPr>
            <p:cNvPr id="130" name=""/>
            <p:cNvSpPr/>
            <p:nvPr/>
          </p:nvSpPr>
          <p:spPr>
            <a:xfrm>
              <a:off x="2460600" y="1278000"/>
              <a:ext cx="7688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leg produsele care nu d</a:t>
              </a:r>
              <a:r>
                <a:rPr b="1" lang="ro-RO" sz="1800" spc="-1" strike="noStrike">
                  <a:solidFill>
                    <a:srgbClr val="ffffff"/>
                  </a:solidFill>
                  <a:latin typeface="Arial"/>
                </a:rPr>
                <a:t>ă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uneaz</a:t>
              </a:r>
              <a:r>
                <a:rPr b="1" lang="ro-RO" sz="1800" spc="-1" strike="noStrike">
                  <a:solidFill>
                    <a:srgbClr val="ffffff"/>
                  </a:solidFill>
                  <a:latin typeface="Arial"/>
                </a:rPr>
                <a:t>ă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mediulu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8840" y="1278000"/>
              <a:ext cx="1552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f38e31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f86"/>
                  </a:solidFill>
                  <a:latin typeface="Univers 45 Light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EN</a:t>
              </a:r>
              <a:r>
                <a:rPr b="1" lang="ro-RO" sz="1800" spc="-1" strike="noStrike">
                  <a:solidFill>
                    <a:srgbClr val="ffffff"/>
                  </a:solidFill>
                  <a:latin typeface="Arial"/>
                </a:rPr>
                <a:t>Ţ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8840" y="1866960"/>
              <a:ext cx="2185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f38e31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f86"/>
                  </a:solidFill>
                  <a:latin typeface="Univers 45 Light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VESTITORI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8840" y="2865600"/>
              <a:ext cx="23670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f38e31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f86"/>
                  </a:solidFill>
                  <a:latin typeface="Univers 45 Light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ARTENERII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E AFACER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60600" y="1866960"/>
              <a:ext cx="7399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or s</a:t>
              </a:r>
              <a:r>
                <a:rPr b="1" lang="ro-RO" sz="1800" spc="-1" strike="noStrike">
                  <a:solidFill>
                    <a:srgbClr val="ffffff"/>
                  </a:solidFill>
                  <a:latin typeface="Arial"/>
                </a:rPr>
                <a:t>ă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1" lang="ro-RO" sz="1800" spc="-1" strike="noStrike">
                  <a:solidFill>
                    <a:srgbClr val="ffffff"/>
                  </a:solidFill>
                  <a:latin typeface="Arial"/>
                </a:rPr>
                <a:t>ş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 recupereze investi</a:t>
              </a:r>
              <a:r>
                <a:rPr b="1" lang="ro-RO" sz="1800" spc="-1" strike="noStrike">
                  <a:solidFill>
                    <a:srgbClr val="ffffff"/>
                  </a:solidFill>
                  <a:latin typeface="Arial"/>
                </a:rPr>
                <a:t>ţ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a;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iscul de mediu =&gt; lipsa oportunit</a:t>
              </a:r>
              <a:r>
                <a:rPr b="1" lang="ro-RO" sz="1800" spc="-1" strike="noStrike">
                  <a:solidFill>
                    <a:srgbClr val="ffffff"/>
                  </a:solidFill>
                  <a:latin typeface="Arial"/>
                </a:rPr>
                <a:t>ăţ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lor de afacer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60600" y="2865600"/>
              <a:ext cx="7302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oresc s</a:t>
              </a:r>
              <a:r>
                <a:rPr b="1" lang="ro-RO" sz="1800" spc="-1" strike="noStrike">
                  <a:solidFill>
                    <a:srgbClr val="ffffff"/>
                  </a:solidFill>
                  <a:latin typeface="Arial"/>
                </a:rPr>
                <a:t>ă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reduc</a:t>
              </a:r>
              <a:r>
                <a:rPr b="1" lang="ro-RO" sz="1800" spc="-1" strike="noStrike">
                  <a:solidFill>
                    <a:srgbClr val="ffffff"/>
                  </a:solidFill>
                  <a:latin typeface="Arial"/>
                </a:rPr>
                <a:t>ă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riscul; procesele tehnologice curate sunt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ovada unui sistem de management eficient </a:t>
              </a:r>
              <a:r>
                <a:rPr b="1" lang="ro-RO" sz="1800" spc="-1" strike="noStrike">
                  <a:solidFill>
                    <a:srgbClr val="ffffff"/>
                  </a:solidFill>
                  <a:latin typeface="Arial"/>
                </a:rPr>
                <a:t>ş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 inovat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7960" y="5254560"/>
              <a:ext cx="2389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f38e31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f86"/>
                  </a:solidFill>
                  <a:latin typeface="Univers 45 Light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MUNITATE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7960" y="3986280"/>
              <a:ext cx="2008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buClr>
                  <a:srgbClr val="f38e31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f86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ERSONALU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19280" y="3986280"/>
              <a:ext cx="649440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 preocup</a:t>
              </a:r>
              <a:r>
                <a:rPr b="1" lang="ro-RO" sz="1800" spc="-1" strike="noStrike">
                  <a:solidFill>
                    <a:srgbClr val="ffffff"/>
                  </a:solidFill>
                  <a:latin typeface="Arial"/>
                </a:rPr>
                <a:t>ă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de viitorul mediului: angaja</a:t>
              </a:r>
              <a:r>
                <a:rPr b="1" lang="ro-RO" sz="1800" spc="-1" strike="noStrike">
                  <a:solidFill>
                    <a:srgbClr val="ffffff"/>
                  </a:solidFill>
                  <a:latin typeface="Arial"/>
                </a:rPr>
                <a:t>ţ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i vor s</a:t>
              </a:r>
              <a:r>
                <a:rPr b="1" lang="ro-RO" sz="1800" spc="-1" strike="noStrike">
                  <a:solidFill>
                    <a:srgbClr val="ffffff"/>
                  </a:solidFill>
                  <a:latin typeface="Arial"/>
                </a:rPr>
                <a:t>ă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fie informa</a:t>
              </a:r>
              <a:r>
                <a:rPr b="1" lang="ro-RO" sz="1800" spc="-1" strike="noStrike">
                  <a:solidFill>
                    <a:srgbClr val="ffffff"/>
                  </a:solidFill>
                  <a:latin typeface="Arial"/>
                </a:rPr>
                <a:t>ţ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 </a:t>
              </a:r>
              <a:r>
                <a:rPr b="1" lang="ro-RO" sz="1800" spc="-1" strike="noStrike">
                  <a:solidFill>
                    <a:srgbClr val="ffffff"/>
                  </a:solidFill>
                  <a:latin typeface="Arial"/>
                </a:rPr>
                <a:t>ş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 implica</a:t>
              </a:r>
              <a:r>
                <a:rPr b="1" lang="ro-RO" sz="1800" spc="-1" strike="noStrike">
                  <a:solidFill>
                    <a:srgbClr val="ffffff"/>
                  </a:solidFill>
                  <a:latin typeface="Arial"/>
                </a:rPr>
                <a:t>ţ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 </a:t>
              </a:r>
              <a:r>
                <a:rPr b="1" lang="ro-RO" sz="1800" spc="-1" strike="noStrike">
                  <a:solidFill>
                    <a:srgbClr val="ffffff"/>
                  </a:solidFill>
                  <a:latin typeface="Arial"/>
                </a:rPr>
                <a:t>î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 </a:t>
              </a:r>
              <a:r>
                <a:rPr b="1" lang="ro-RO" sz="1800" spc="-1" strike="noStrike">
                  <a:solidFill>
                    <a:srgbClr val="ffffff"/>
                  </a:solidFill>
                  <a:latin typeface="Arial"/>
                </a:rPr>
                <a:t>î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bunat</a:t>
              </a:r>
              <a:r>
                <a:rPr b="1" lang="ro-RO" sz="1800" spc="-1" strike="noStrike">
                  <a:solidFill>
                    <a:srgbClr val="ffffff"/>
                  </a:solidFill>
                  <a:latin typeface="Arial"/>
                </a:rPr>
                <a:t>ăţ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rea performan</a:t>
              </a:r>
              <a:r>
                <a:rPr b="1" lang="ro-RO" sz="1800" spc="-1" strike="noStrike">
                  <a:solidFill>
                    <a:srgbClr val="ffffff"/>
                  </a:solidFill>
                  <a:latin typeface="Arial"/>
                </a:rPr>
                <a:t>ţ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i de medi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519280" y="5254560"/>
              <a:ext cx="641052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asific</a:t>
              </a:r>
              <a:r>
                <a:rPr b="1" lang="ro-RO" sz="1800" spc="-1" strike="noStrike">
                  <a:solidFill>
                    <a:srgbClr val="ffffff"/>
                  </a:solidFill>
                  <a:latin typeface="Arial"/>
                </a:rPr>
                <a:t>ă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diferitele companii </a:t>
              </a:r>
              <a:r>
                <a:rPr b="1" lang="ro-RO" sz="1800" spc="-1" strike="noStrike">
                  <a:solidFill>
                    <a:srgbClr val="ffffff"/>
                  </a:solidFill>
                  <a:latin typeface="Arial"/>
                </a:rPr>
                <a:t>î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 func</a:t>
              </a:r>
              <a:r>
                <a:rPr b="1" lang="ro-RO" sz="1800" spc="-1" strike="noStrike">
                  <a:solidFill>
                    <a:srgbClr val="ffffff"/>
                  </a:solidFill>
                  <a:latin typeface="Arial"/>
                </a:rPr>
                <a:t>ţ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e de modul </a:t>
              </a:r>
              <a:r>
                <a:rPr b="1" lang="ro-RO" sz="1800" spc="-1" strike="noStrike">
                  <a:solidFill>
                    <a:srgbClr val="ffffff"/>
                  </a:solidFill>
                  <a:latin typeface="Arial"/>
                </a:rPr>
                <a:t>î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 care </a:t>
              </a:r>
              <a:r>
                <a:rPr b="1" lang="ro-RO" sz="1800" spc="-1" strike="noStrike">
                  <a:solidFill>
                    <a:srgbClr val="ffffff"/>
                  </a:solidFill>
                  <a:latin typeface="Arial"/>
                </a:rPr>
                <a:t>î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 desf</a:t>
              </a:r>
              <a:r>
                <a:rPr b="1" lang="ro-RO" sz="1800" spc="-1" strike="noStrike">
                  <a:solidFill>
                    <a:srgbClr val="ffffff"/>
                  </a:solidFill>
                  <a:latin typeface="Arial"/>
                </a:rPr>
                <a:t>ăş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urarea activit</a:t>
              </a:r>
              <a:r>
                <a:rPr b="1" lang="ro-RO" sz="1800" spc="-1" strike="noStrike">
                  <a:solidFill>
                    <a:srgbClr val="ffffff"/>
                  </a:solidFill>
                  <a:latin typeface="Arial"/>
                </a:rPr>
                <a:t>ăţ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lor acestora se ia </a:t>
              </a:r>
              <a:r>
                <a:rPr b="1" lang="ro-RO" sz="1800" spc="-1" strike="noStrike">
                  <a:solidFill>
                    <a:srgbClr val="ffffff"/>
                  </a:solidFill>
                  <a:latin typeface="Arial"/>
                </a:rPr>
                <a:t>î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 considerare protec</a:t>
              </a:r>
              <a:r>
                <a:rPr b="1" lang="ro-RO" sz="1800" spc="-1" strike="noStrike">
                  <a:solidFill>
                    <a:srgbClr val="ffffff"/>
                  </a:solidFill>
                  <a:latin typeface="Arial"/>
                </a:rPr>
                <a:t>ţ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a mediului </a:t>
              </a:r>
              <a:r>
                <a:rPr b="1" lang="ro-RO" sz="1800" spc="-1" strike="noStrike">
                  <a:solidFill>
                    <a:srgbClr val="ffffff"/>
                  </a:solidFill>
                  <a:latin typeface="Arial"/>
                </a:rPr>
                <a:t>î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conjur</a:t>
              </a:r>
              <a:r>
                <a:rPr b="1" lang="ro-RO" sz="1800" spc="-1" strike="noStrike">
                  <a:solidFill>
                    <a:srgbClr val="ffffff"/>
                  </a:solidFill>
                  <a:latin typeface="Arial"/>
                </a:rPr>
                <a:t>ă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or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7920" y="75960"/>
            <a:ext cx="839484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resiuni juridice de mediu </a:t>
            </a:r>
            <a:br>
              <a:rPr sz="3000"/>
            </a:br>
            <a:r>
              <a:rPr b="1" lang="ro-RO" sz="30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n industria de petrol </a:t>
            </a:r>
            <a:r>
              <a:rPr b="1" lang="ro-RO" sz="30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 gaz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5600" y="1028520"/>
            <a:ext cx="839484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5760" indent="-274320">
              <a:lnSpc>
                <a:spcPct val="90000"/>
              </a:lnSpc>
              <a:spcBef>
                <a:spcPts val="1125"/>
              </a:spcBef>
              <a:buClr>
                <a:srgbClr val="f38e3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gisla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a de mediu din UE este deja aprox. 98% transpus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 legisla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a rom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â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asc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e mediu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75760" indent="-274320">
              <a:lnSpc>
                <a:spcPct val="90000"/>
              </a:lnSpc>
              <a:spcBef>
                <a:spcPts val="1125"/>
              </a:spcBef>
              <a:buClr>
                <a:srgbClr val="f38e3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ormarea cu cerin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e normelor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 reglement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lor de mediu – implic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vesti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 costuri semnifica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75760" indent="-274320">
              <a:lnSpc>
                <a:spcPct val="90000"/>
              </a:lnSpc>
              <a:spcBef>
                <a:spcPts val="1125"/>
              </a:spcBef>
              <a:buClr>
                <a:srgbClr val="f38e3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rin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e reglement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i privind r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underea de mediu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 existen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polu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i istorice – costuri de depoluare mar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75760" indent="-274320">
              <a:lnSpc>
                <a:spcPct val="90000"/>
              </a:lnSpc>
              <a:spcBef>
                <a:spcPts val="1125"/>
              </a:spcBef>
              <a:buClr>
                <a:srgbClr val="f38e3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ioade de tranzi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e pentru instala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i IPPC (ex. Rafin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i) aprobate numai pe baz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e justific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 – obliga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i de mediu e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onate pe o perioad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e timp (ex. 2016) incluse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 programe de conform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75760" indent="-274320">
              <a:lnSpc>
                <a:spcPct val="90000"/>
              </a:lnSpc>
              <a:spcBef>
                <a:spcPts val="1125"/>
              </a:spcBef>
              <a:buClr>
                <a:srgbClr val="f38e3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deplinirea obliga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ilor de mediu la termenul agreat cu autorit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ăţ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e de mediu – risc de suspendare a autoriza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ei de mediu sau de stopare a func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on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i obiectivului (cu consecin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 economi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67920" y="75960"/>
            <a:ext cx="839484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nsecin</a:t>
            </a:r>
            <a:r>
              <a:rPr b="1" lang="ro-RO" sz="30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le presiunilor de  mediu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84080" y="1405080"/>
            <a:ext cx="7035840" cy="50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285840">
              <a:lnSpc>
                <a:spcPct val="90000"/>
              </a:lnSpc>
              <a:spcBef>
                <a:spcPts val="1250"/>
              </a:spcBef>
              <a:buClr>
                <a:srgbClr val="f38e3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anci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ierderea permiselor/autoriza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  <a:ea typeface="Arial"/>
              </a:rPr>
              <a:t>ţ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ilor de medi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heltuieli curente excep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  <a:ea typeface="Arial"/>
              </a:rPr>
              <a:t>ţ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on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re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  <a:ea typeface="Arial"/>
              </a:rPr>
              <a:t>ş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re taxe (de mediu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menzi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  <a:ea typeface="Arial"/>
              </a:rPr>
              <a:t>ş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 penalit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  <a:ea typeface="Arial"/>
              </a:rPr>
              <a:t>ăţ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 ridic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80" indent="285840">
              <a:lnSpc>
                <a:spcPct val="90000"/>
              </a:lnSpc>
              <a:spcBef>
                <a:spcPts val="1375"/>
              </a:spcBef>
              <a:buClr>
                <a:srgbClr val="f38e3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erci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  <a:ea typeface="Arial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rea cifrei de aface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  <a:ea typeface="Arial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rea num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  <a:ea typeface="Arial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ului de clien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  <a:ea typeface="Arial"/>
              </a:rPr>
              <a:t>ţ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fectarea negativ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  <a:ea typeface="Arial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a reputa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  <a:ea typeface="Arial"/>
              </a:rPr>
              <a:t>ţ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ei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  <a:ea typeface="Arial"/>
              </a:rPr>
              <a:t>ş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 imagin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80" indent="285840">
              <a:lnSpc>
                <a:spcPct val="120000"/>
              </a:lnSpc>
              <a:buClr>
                <a:srgbClr val="f38e3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ci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c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  <a:ea typeface="Arial"/>
              </a:rPr>
              <a:t>ţ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i negative din partea personalului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  <a:ea typeface="Arial"/>
              </a:rPr>
              <a:t>ş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 a comunit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  <a:ea typeface="Arial"/>
              </a:rPr>
              <a:t>ăţ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80" indent="285840">
              <a:lnSpc>
                <a:spcPct val="90000"/>
              </a:lnSpc>
              <a:spcBef>
                <a:spcPts val="1375"/>
              </a:spcBef>
              <a:buClr>
                <a:srgbClr val="f38e3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rid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anc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  <a:ea typeface="Arial"/>
              </a:rPr>
              <a:t>ţ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uni administrative sau pen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7920" y="75960"/>
            <a:ext cx="839484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portunit</a:t>
            </a:r>
            <a:r>
              <a:rPr b="1" lang="ro-RO" sz="3000" spc="-1" strike="noStrike">
                <a:solidFill>
                  <a:srgbClr val="ffffff"/>
                </a:solidFill>
                <a:latin typeface="Arial"/>
              </a:rPr>
              <a:t>ăţ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 de  mediu </a:t>
            </a:r>
            <a:br>
              <a:rPr sz="3000"/>
            </a:br>
            <a:r>
              <a:rPr b="1" lang="ro-RO" sz="30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n industria de petrol </a:t>
            </a:r>
            <a:r>
              <a:rPr b="1" lang="ro-RO" sz="30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 gaz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60560" y="1919160"/>
            <a:ext cx="703584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f38e3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canisme flexibile ale Protocolului de la Kyo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f38e3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 management corect al aplic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i Directivei UE privind schema de comercializare cu drepturi de emisie (EU-ETS transpus de HG 780/200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f38e3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e proiecte de mediu de la Fondul de Mediu sau Program Opera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onal Sectorial Mediu (POS Mediu) –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 anumite condi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64680" y="290520"/>
            <a:ext cx="839484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otocolul de la Kyoto (1997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74560" y="1655280"/>
            <a:ext cx="78552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p:  reducerea emisiilor de gaze cu efect de ser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u 5.2% la nivel global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tre anii 2008 – 201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canisme/instrumente flexibil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70240" indent="-284400">
              <a:lnSpc>
                <a:spcPct val="120000"/>
              </a:lnSpc>
              <a:spcBef>
                <a:spcPts val="249"/>
              </a:spcBef>
              <a:buClr>
                <a:srgbClr val="f38e3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38e31"/>
                </a:solidFill>
                <a:uFillTx/>
                <a:latin typeface="Arial"/>
              </a:rPr>
              <a:t>Implementare </a:t>
            </a:r>
            <a:r>
              <a:rPr b="1" lang="ro-RO" sz="2000" spc="-1" strike="noStrike" u="sng">
                <a:solidFill>
                  <a:srgbClr val="f38e31"/>
                </a:solidFill>
                <a:uFillTx/>
                <a:latin typeface="Arial"/>
              </a:rPr>
              <a:t>î</a:t>
            </a:r>
            <a:r>
              <a:rPr b="1" lang="en-US" sz="2000" spc="-1" strike="noStrike" u="sng">
                <a:solidFill>
                  <a:srgbClr val="f38e31"/>
                </a:solidFill>
                <a:uFillTx/>
                <a:latin typeface="Arial"/>
              </a:rPr>
              <a:t>n comun - Joint implementation (J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70240" indent="-284400">
              <a:lnSpc>
                <a:spcPct val="12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canism de dezvoltare “curat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” - Clean development  mechanism (CD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70240" indent="-284400">
              <a:lnSpc>
                <a:spcPct val="12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er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er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onal de emisii - International emissions trade (IE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dustrii: energie, industria chimic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ciment, rafin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i, ind. metalurgie, celuloz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 h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â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tie, aluminiu, alte industrii consumatoare de energi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6T11:11:06Z</dcterms:created>
  <dc:creator>amandakemp</dc:creator>
  <dc:description/>
  <dc:language>en-US</dc:language>
  <cp:lastModifiedBy>KPMG</cp:lastModifiedBy>
  <dcterms:modified xsi:type="dcterms:W3CDTF">2009-05-27T14:32:37Z</dcterms:modified>
  <cp:revision>233</cp:revision>
  <dc:subject/>
  <dc:title>Proposals Document/Presentation Workshop</dc:title>
</cp:coreProperties>
</file>